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EFB-483D-48E3-9E82-928E2C6F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52C-A97B-48E5-AA01-8912F0A6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00F-2C43-467A-98AA-50D91F1B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EA8-5D0B-4EA5-9E81-D38C4567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756-98C4-4ADA-A671-9E87FF84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5E6-ED21-44B7-9E7B-1DA0F461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B1B-B3BE-445F-A0AD-D8C12A6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179-5C25-49B5-BEEC-0766338C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2B4-79B4-4824-814A-F4222628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5EC-91E9-4A81-A81D-275870D3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D17-72EE-41FE-8A1E-2B1402A0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CD1-18D4-4ADB-A258-45FB1567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FC04-44FA-40AE-AF4A-E2CF7FBBF5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371600"/>
            <a:ext cx="83818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自然资源总量丰富人均不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4196520" y="59850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山东淄博临淄一中       杨永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52280" y="0"/>
          <a:ext cx="8839440" cy="48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0"/>
                    <a:ext cx="88394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753920" y="480060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上述资料，你认为在日常生活中还应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样保护资源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23840" y="547056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废旧电池回收统一处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节约用水、用电等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2608200"/>
          <a:ext cx="5638680" cy="424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8200"/>
                    <a:ext cx="563868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 txBox="1"/>
          <p:nvPr/>
        </p:nvSpPr>
        <p:spPr>
          <a:xfrm>
            <a:off x="0" y="228600"/>
            <a:ext cx="457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追本溯源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7014600" y="-261720"/>
            <a:ext cx="139932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生活用品最终来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然界的哪种资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84080" y="219384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自然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对人类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有利用价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土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阳光、矿产、森林、水和水能等等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7120" y="13557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然资源的概念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7000" y="34894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列事物属于自然资源的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0600" y="4251240"/>
            <a:ext cx="84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水、阳光、草地、动物、森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40" y="4937040"/>
            <a:ext cx="710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麦、雷电、玉米、核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380880"/>
          <a:ext cx="914400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8088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673440" y="52419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述资源哪一种资源与其它的资源不同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有什么不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0080" y="5927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矿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6360" y="3641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分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304812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41880" y="251460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较短时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更新、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或能够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循环使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48160" y="4448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矿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资源等，总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些就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些；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15843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自然资源可以分为哪两类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47760" y="2530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可再生资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3640" y="4816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非可再生资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4400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2280" y="449568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再生资源如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利用恰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就能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永续利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94680" y="371808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图中可知可再生资源具有什么特性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531828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3182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976000" y="-9216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据图判断可再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资源是取之不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之不竭的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1828800"/>
            <a:ext cx="3751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再生资源如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不被合理利用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保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就可能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其“永续利用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特性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成为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可再生资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49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770120" y="492120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据材料分析我国自然资源的基本国情及成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126040" y="97488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资源总量丰富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人均不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59560" y="954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自然资源国情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67000" y="3240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自然资源国情的成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3240" y="41544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地大物博，人口众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3:01:30Z</dcterms:created>
  <dc:creator>yyh</dc:creator>
  <dc:description/>
  <dc:language>en-US</dc:language>
  <cp:lastModifiedBy>y</cp:lastModifiedBy>
  <dcterms:modified xsi:type="dcterms:W3CDTF">2008-01-23T07:47:19Z</dcterms:modified>
  <cp:revision>10</cp:revision>
  <dc:subject/>
  <dc:title>PowerPoint 演示文稿</dc:title>
</cp:coreProperties>
</file>