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793D-A9E5-4BA7-B3F0-94B2AD58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C0F-78BE-4935-8651-CF19BFAF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1D7-F204-4284-91E8-F5EB2642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05F-A503-4130-AE69-E775A21A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99DF-7298-4F1E-AB1A-AEEB9864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9FC5-4BC7-4BAE-9A09-2E75B117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A315-6F05-4E61-985A-5A2CB0CC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28AE-D988-4749-98D9-2DB374CB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A9CA9-570E-4620-8F5F-B08A70AB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AA33-47EF-4231-943B-55984FAB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7333-B3DD-4065-BCF1-E00C3F8A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995-5158-4E39-BAE3-6F736CBA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FDBA-1819-4D69-B487-BFB6FDD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6384-7E96-496F-969A-F03C057E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C03B-3A15-4400-831B-3B563E7C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9ED3-9569-4D9F-A357-DA80600A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A9B9-1E16-4E86-8517-D897C09D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DCC-31AB-40A0-9FD7-AB26867C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9D5-3C4D-4D7A-8BA1-78256BA5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684-04E2-4969-9B5C-A93AB1F39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AF3-2101-455C-A5DD-AB759390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3A93-CCC8-4EFD-8898-BB1B0280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6B4-84CB-4215-9158-DB1802D1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EF9-36C9-4D58-AD6E-4FBAE3DD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391B-C822-431A-AE6B-131BA07D7DE7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FC0D-86D4-478A-95A7-F5EE452247F5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多民族的大家庭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20520" y="5445000"/>
            <a:ext cx="30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制作：河北唐山友谊中学  魏金兰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0556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关于民族自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780084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我国各少数民族在中央政府的帮助和领导下，政治、经济、文化生活面貌变化很大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各民族团结在党中央的领导下参政议政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少数民族代表4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746440" cy="2819160"/>
          </a:xfrm>
          <a:prstGeom prst="rect">
            <a:avLst/>
          </a:prstGeom>
          <a:ln w="0">
            <a:noFill/>
          </a:ln>
        </p:spPr>
      </p:pic>
      <p:pic>
        <p:nvPicPr>
          <p:cNvPr id="311" name="少数民族代表5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48006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少数民族代表6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80769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板书设计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第三节  多民族的大家庭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一、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56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民族                   二、民族的分布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我国的民族结构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分布的总情况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灿烂的民族文化            汉族遍布全国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我国的民族政策            东部和中部比较集中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少数民族的分布：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大杂居，小聚居，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主要在西南、西北和东北边疆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                                      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关于“民族自治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295280" y="5486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56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个民族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什么是少数民族？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在我国，汉族人口最多，约占全国人口总数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1%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，另外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55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个民族人口比较少，约占全国人口总数的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9%,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被称为“少数民族”。                                             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我国的民族构成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请看图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，”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我国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55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少数民族的名称，人口和主要分布地区“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找出人口最多的少数民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口在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400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万人以上的少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数民族有哪些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人口最少的民族是哪一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3366"/>
                </a:solidFill>
                <a:latin typeface="Times New Roman"/>
              </a:rPr>
              <a:t>个？有多少人口？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6" name="中国民族分布2" descr=""/>
          <p:cNvPicPr/>
          <p:nvPr/>
        </p:nvPicPr>
        <p:blipFill>
          <a:blip r:embed="rId1"/>
          <a:srcRect l="0" t="4483" r="0" b="11510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243000"/>
            <a:ext cx="8229600" cy="67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灿烂的民族文化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7958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请展示你所找到的关于我国少数民族文化生活习惯的资料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东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西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西南地区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结论：我国各民族都有自己独特的风俗习惯，丰富多彩的文化艺术和传统的体育活动，大多数民族都有自己的语言，还有少数民族有自己的文字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63360"/>
            <a:ext cx="81532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我国的民族政策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怎样和少数民族的朋友相处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你说说你生活中的发现</a:t>
            </a:r>
            <a:r>
              <a:rPr b="0" lang="zh-CN" sz="32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二、民族的分布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民族分布的特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总的分布情况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3366"/>
                </a:solidFill>
                <a:latin typeface="Times New Roman"/>
              </a:rPr>
              <a:t>少数民族的分布（请你联系你生活中的发现，并联系你的课本或者一切能利用上的资源，来说说你的结论）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324480" y="44956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3794"/>
                </a:moveTo>
                <a:lnTo>
                  <a:pt x="24276" y="10800"/>
                </a:lnTo>
                <a:lnTo>
                  <a:pt x="1026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02:06:30Z</dcterms:created>
  <dc:creator>liumingu</dc:creator>
  <dc:description/>
  <dc:language>en-US</dc:language>
  <cp:lastModifiedBy>y</cp:lastModifiedBy>
  <dcterms:modified xsi:type="dcterms:W3CDTF">2008-04-28T07:17:59Z</dcterms:modified>
  <cp:revision>7</cp:revision>
  <dc:subject/>
  <dc:title>多民族的大家庭</dc:title>
</cp:coreProperties>
</file>