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B7F5-C432-4C8B-8D0A-BA8BB323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87A2-53B7-4D3E-BD9C-BAAFD345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57E-BFCE-410B-B93B-4602A1F0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1389-E054-4E7F-ACF5-6AC72067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F07A-03A7-4276-AD07-21175B44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5D1E-DECF-4F8F-8E19-0FC1C5BF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E9C3-E31F-4FF6-B3B3-D627616A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F21E-75D5-4FC4-AF0C-8AA0325E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0EAA-CE73-4E3D-8534-C97ABDCB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2467-3036-4C14-A954-62595471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2A59-65A4-4931-B8DE-73C0B692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53B-9D95-481D-8B47-1D1A36DD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75DB-6EBE-40EC-8037-74BBDB85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5D70-00B8-449F-94B1-BB193727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F732-C26F-4A2A-A885-5FDCFC83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C861-5E3B-4C41-B478-7922B94A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39D0-009E-4506-8E69-786CD303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61A-4FA0-46E6-A04F-4BA9E802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CC0-CDD2-4BA5-944A-9A593071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EA6-FE05-4AB1-B9C2-7DA5C621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B8EA-4238-48DB-A511-00F5D051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62F-D236-4513-B835-51E8948A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B8C3-A207-469B-988F-52C66C18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5AD-F080-468C-822E-3801C70D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8ACA-367C-459F-A7D4-0BC2A79FC1F5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1EFE-EE3E-4FD8-B1DA-DBD75BE9B57B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多民族的大家庭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20520" y="54450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制作：河北唐山友谊中学  魏金兰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0556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关于民族自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780084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我国各少数民族在中央政府的帮助和领导下，政治、经济、文化生活面貌变化很大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各民族团结在党中央的领导下参政议政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0" name="少数民族代表4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2746440" cy="2819160"/>
          </a:xfrm>
          <a:prstGeom prst="rect">
            <a:avLst/>
          </a:prstGeom>
          <a:ln w="0">
            <a:noFill/>
          </a:ln>
        </p:spPr>
      </p:pic>
      <p:pic>
        <p:nvPicPr>
          <p:cNvPr id="311" name="少数民族代表5" descr=""/>
          <p:cNvPicPr/>
          <p:nvPr/>
        </p:nvPicPr>
        <p:blipFill>
          <a:blip r:embed="rId2"/>
          <a:stretch/>
        </p:blipFill>
        <p:spPr>
          <a:xfrm>
            <a:off x="3886200" y="2362320"/>
            <a:ext cx="48006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少数民族代表6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07696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板书设计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            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第三节  多民族的大家庭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一、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56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个民族                   二、民族的分布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我国的民族结构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分布的总情况：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灿烂的民族文化            汉族遍布全国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我国的民族政策            东部和中部比较集中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少数民族的分布：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大杂居，小聚居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主要在西南、西北和东北边疆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关于“民族自治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295280" y="5486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56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个民族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什么是少数民族？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在我国，汉族人口最多，约占全国人口总数的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91%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，另外的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55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个民族人口比较少，约占全国人口总数的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9%,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被称为“少数民族”。                           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我国的民族构成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请看图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，”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我国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55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个少数民族的名称，人口和主要分布地区“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找出人口最多的少数民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人口在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400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万人以上的少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数民族有哪些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人口最少的民族是哪一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个？有多少人口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6" name="中国民族分布2" descr=""/>
          <p:cNvPicPr/>
          <p:nvPr/>
        </p:nvPicPr>
        <p:blipFill>
          <a:blip r:embed="rId1"/>
          <a:srcRect l="0" t="4483" r="0" b="11510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0880" y="243000"/>
            <a:ext cx="8229600" cy="67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灿烂的民族文化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7958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请展示你所找到的关于我国少数民族文化生活习惯的资料！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东北地区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西北地区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西南地区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结论：我国各民族都有自己独特的风俗习惯，丰富多彩的文化艺术和传统的体育活动，大多数民族都有自己的语言，还有少数民族有自己的文字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63360"/>
            <a:ext cx="81532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我国的民族政策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怎样和少数民族的朋友相处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你说说你生活中的发现</a:t>
            </a:r>
            <a:r>
              <a:rPr b="0" lang="zh-CN" sz="32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二、民族的分布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民族分布的特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总的分布情况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少数民族的分布（请你联系你生活中的发现，并联系你的课本或者一切能利用上的资源，来说说你的结论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6324480" y="44956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02:06:30Z</dcterms:created>
  <dc:creator>liumingu</dc:creator>
  <dc:description/>
  <dc:language>en-US</dc:language>
  <cp:lastModifiedBy>y</cp:lastModifiedBy>
  <dcterms:modified xsi:type="dcterms:W3CDTF">2008-04-28T07:17:59Z</dcterms:modified>
  <cp:revision>7</cp:revision>
  <dc:subject/>
  <dc:title>多民族的大家庭</dc:title>
</cp:coreProperties>
</file>