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91E8-2853-468D-806D-F406C929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DCB-5929-45C2-B2B3-4304A0F8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0A7-3F21-47F4-A81D-9324015D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24B-2264-4E94-B608-36734427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8410-9870-43DA-A983-AA1A271A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EF1A-8A17-410C-B51C-73D928CE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A36D-187E-4F00-9D4B-D39BE51D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7F7D-7BED-4BB9-8BAA-AD39C43F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6057-872A-4525-B745-03C66EF6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C2AF-D909-46CF-A4E2-E1924856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8B20-396D-4F34-A586-2BC5A1B8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CC7-75AB-4698-8DB2-76D39ACB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F9FA-678E-450B-AC46-1B73AF83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FC3A-7382-4CC8-9D88-893A8131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E095-4494-4CCF-A287-0A8A58B5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D0E6-E1C4-47DD-B226-F4C10423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7418-45CA-4576-81E2-E1129911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68C-B111-443A-8859-8C698253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D9C-3394-4867-B2A1-2BF94E2C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F41-2E5E-4B10-A53B-A27BA63F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AA7-FB20-4873-A6C3-0C99AEBC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E8C-A338-4186-94B5-E97CA679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0CE-FA72-4B87-95CC-5A083B48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930-EBFC-4452-98FA-02D6CE3C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03A0-9BEE-4088-A8DC-BE5C9BFE1C94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7E5E-760D-4409-8997-1AAB56D5B7F7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多民族的大家庭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20520" y="54450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制作：河北唐山友谊中学  魏金兰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0556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关于民族自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780084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我国各少数民族在中央政府的帮助和领导下，政治、经济、文化生活面貌变化很大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各民族团结在党中央的领导下参政议政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少数民族代表4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746440" cy="2819160"/>
          </a:xfrm>
          <a:prstGeom prst="rect">
            <a:avLst/>
          </a:prstGeom>
          <a:ln w="0">
            <a:noFill/>
          </a:ln>
        </p:spPr>
      </p:pic>
      <p:pic>
        <p:nvPicPr>
          <p:cNvPr id="311" name="少数民族代表5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48006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少数民族代表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板书设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第三节  多民族的大家庭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一、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56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个民族                   二、民族的分布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我国的民族结构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分布的总情况：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灿烂的民族文化            汉族遍布全国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我国的民族政策            东部和中部比较集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少数民族的分布：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大杂居，小聚居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主要在西南、西北和东北边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关于“民族自治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295280" y="5486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56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个民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什么是少数民族？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在我国，汉族人口最多，约占全国人口总数的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91%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，另外的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55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个民族人口比较少，约占全国人口总数的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9%,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被称为“少数民族”。                           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我国的民族构成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请看图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，”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我国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55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个少数民族的名称，人口和主要分布地区“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找出人口最多的少数民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人口在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400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万人以上的少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数民族有哪些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人口最少的民族是哪一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个？有多少人口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6" name="中国民族分布2" descr=""/>
          <p:cNvPicPr/>
          <p:nvPr/>
        </p:nvPicPr>
        <p:blipFill>
          <a:blip r:embed="rId1"/>
          <a:srcRect l="0" t="4483" r="0" b="11510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0880" y="243000"/>
            <a:ext cx="8229600" cy="67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灿烂的民族文化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7958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请展示你所找到的关于我国少数民族文化生活习惯的资料！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东北地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西北地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西南地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结论：我国各民族都有自己独特的风俗习惯，丰富多彩的文化艺术和传统的体育活动，大多数民族都有自己的语言，还有少数民族有自己的文字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63360"/>
            <a:ext cx="81532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我国的民族政策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怎样和少数民族的朋友相处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你说说你生活中的发现</a:t>
            </a:r>
            <a:r>
              <a:rPr b="0" lang="zh-CN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二、民族的分布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民族分布的特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总的分布情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少数民族的分布（请你联系你生活中的发现，并联系你的课本或者一切能利用上的资源，来说说你的结论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324480" y="44956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2:06:30Z</dcterms:created>
  <dc:creator>liumingu</dc:creator>
  <dc:description/>
  <dc:language>en-US</dc:language>
  <cp:lastModifiedBy>y</cp:lastModifiedBy>
  <dcterms:modified xsi:type="dcterms:W3CDTF">2008-04-28T07:17:59Z</dcterms:modified>
  <cp:revision>7</cp:revision>
  <dc:subject/>
  <dc:title>多民族的大家庭</dc:title>
</cp:coreProperties>
</file>