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CBE-89E0-467B-A395-7733A9DE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46B-2F8A-417E-955A-C06CDDDB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DF1-DCCC-4C62-A8B9-6FEA0426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719-EDE9-418A-B0DB-D0975FD8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98B3-30DE-4996-A0CE-FF063F72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9547-3FCD-4C42-8643-6391FF2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7938-212A-4468-B5DC-A90DFB57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6EB3-58B9-4886-9442-7F934FCE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5AF5-EC81-4EDF-9531-AEADB342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8309-9A3D-4CE1-B99D-8FE9D434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5634-5FD5-4C66-A59F-67FB851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4E1-C46E-4C2B-B278-402D0DF3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BA03-53D4-4136-AF26-386B0B12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36F5-2CCF-4360-8A2D-7C7FC5BB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81E6-80F8-411E-A2C2-17F71461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BC92-CDC0-4D96-831A-761697B4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BC8E-7913-470E-A1F8-47349682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C6E-F698-4E84-A38E-16263163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BAE-9418-4585-92E9-E3825980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286-BD54-436D-8B96-41A8161A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814-9FE8-4B13-AEA1-E712F894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688-932E-4B10-914B-055E78D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FE2-68E6-45DB-A5E3-83396FC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D7D-4FA1-4F74-A342-24DB460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E175-754B-4369-977E-29F155606A67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5D9-05B7-4009-95FA-34C8D48C2EC9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多民族的大家庭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20520" y="54450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制作：河北唐山友谊中学  魏金兰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055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关于民族自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80084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我国各少数民族在中央政府的帮助和领导下，政治、经济、文化生活面貌变化很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各民族团结在党中央的领导下参政议政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少数民族代表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746440" cy="2819160"/>
          </a:xfrm>
          <a:prstGeom prst="rect">
            <a:avLst/>
          </a:prstGeom>
          <a:ln w="0">
            <a:noFill/>
          </a:ln>
        </p:spPr>
      </p:pic>
      <p:pic>
        <p:nvPicPr>
          <p:cNvPr id="311" name="少数民族代表5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48006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少数民族代表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板书设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第三节  多民族的大家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一、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56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民族                   二、民族的分布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我国的民族结构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分布的总情况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灿烂的民族文化            汉族遍布全国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我国的民族政策            东部和中部比较集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少数民族的分布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大杂居，小聚居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主要在西南、西北和东北边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关于“民族自治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295280" y="5486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56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个民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什么是少数民族？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在我国，汉族人口最多，约占全国人口总数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1%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另外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55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个民族人口比较少，约占全国人口总数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%,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被称为“少数民族”。                           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我国的民族构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请看图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，”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我国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55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少数民族的名称，人口和主要分布地区“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找出人口最多的少数民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口在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400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万人以上的少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数民族有哪些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口最少的民族是哪一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？有多少人口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中国民族分布2" descr=""/>
          <p:cNvPicPr/>
          <p:nvPr/>
        </p:nvPicPr>
        <p:blipFill>
          <a:blip r:embed="rId1"/>
          <a:srcRect l="0" t="4483" r="0" b="11510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243000"/>
            <a:ext cx="8229600" cy="67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灿烂的民族文化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7958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请展示你所找到的关于我国少数民族文化生活习惯的资料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东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西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西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结论：我国各民族都有自己独特的风俗习惯，丰富多彩的文化艺术和传统的体育活动，大多数民族都有自己的语言，还有少数民族有自己的文字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63360"/>
            <a:ext cx="81532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我国的民族政策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怎样和少数民族的朋友相处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你说说你生活中的发现</a:t>
            </a:r>
            <a:r>
              <a:rPr b="0" lang="zh-CN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二、民族的分布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民族分布的特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总的分布情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少数民族的分布（请你联系你生活中的发现，并联系你的课本或者一切能利用上的资源，来说说你的结论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324480" y="44956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2:06:30Z</dcterms:created>
  <dc:creator>liumingu</dc:creator>
  <dc:description/>
  <dc:language>en-US</dc:language>
  <cp:lastModifiedBy>y</cp:lastModifiedBy>
  <dcterms:modified xsi:type="dcterms:W3CDTF">2008-04-28T07:17:59Z</dcterms:modified>
  <cp:revision>7</cp:revision>
  <dc:subject/>
  <dc:title>多民族的大家庭</dc:title>
</cp:coreProperties>
</file>