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C85-BDC5-4432-8422-D147BBC6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859-2713-419D-BDF3-097F2091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927-2858-4819-8FEB-74009F70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EBC-3A2A-4120-98F3-07B856DE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94E6-7762-4801-8B1C-8C07A62A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486C-BFFF-402F-B087-A3119425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9851-26D7-4F53-90C2-F0970640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339B-6E78-4975-9B5D-DB23C6EF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3153-6F39-41EE-91BD-C8FFCEB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7108-4C09-44B0-81F2-CB199530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1206-3D43-49F7-895F-F5711596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728-4565-4740-8BB9-2050E04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5B6A-E233-47A8-BF0D-340FAF7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2BF1-698E-40B7-969D-FB2AEB81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D95D-B338-43C7-92F2-E7FF5C96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DC9F-B935-495B-9C35-5C46C1A9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F5D3-E764-4780-80E4-693898AF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EB2-350A-4848-A418-4EC63B43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314-7C55-4BEB-87F4-0C60C68B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06A-0B4A-4347-9DAB-B95F3B13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089-3EB0-427C-BE76-7A7F9DF0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3DB-13A9-481A-912C-274F51C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F34-B035-4241-90B3-D9EF4FC8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833-43FC-490D-81F7-3EFA42DE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8248-53D7-430C-A51D-B9DDAEA59D3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016B-4334-4E3C-B476-FA496458DBEA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0120" y="1541520"/>
            <a:ext cx="3524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第一节 自然资源总量丰富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人均不足  复习课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4920" y="4616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山东省高青县实验中学   郑宝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92200" y="895320"/>
            <a:ext cx="6248520" cy="8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四、回扣目标 当堂达标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057400"/>
            <a:ext cx="82818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自然资源分为两大类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对于可再生资源，如果利用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并且注意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便能够实现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；对于非可再生资源，我们应该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我国自然资源的特征是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920880"/>
            <a:ext cx="136836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答案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0560" y="1895400"/>
            <a:ext cx="844416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自然资源分为两大类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可再生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和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非可再生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对于可再生资源，如果利用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合理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并且注意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保护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培育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便能够实现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永续利用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；对于非可再生资源，我们应该十分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珍惜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  节约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使用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我国自然资源的特征是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总量丰富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 人均不足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86960" y="1268280"/>
            <a:ext cx="4112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一、出示目标  整体建构</a:t>
            </a: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43840" y="228600"/>
            <a:ext cx="1802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黑体"/>
              </a:rPr>
              <a:t>学习目标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752480"/>
            <a:ext cx="80881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知道什么是自然资源（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定义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），以及自然资源的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分类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了解自然资源与人类生产生活的密切联系和重要性，以及中国资源丰富，人均不足（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特点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），且破坏严重的国情现状。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8200" y="3484440"/>
            <a:ext cx="7850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懂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6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、会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7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、对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8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、熟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9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38560" y="855720"/>
            <a:ext cx="2009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方法指导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200" y="471024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只知对不知错，算是半对； 既知对又知错，才是全对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2117880"/>
            <a:ext cx="7200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合作学习互为资源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37360" y="228600"/>
            <a:ext cx="2212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二、合作探究  成果展示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573360"/>
            <a:ext cx="226836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什么是自然资源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5229360"/>
            <a:ext cx="2513160" cy="625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资源丰富，人均不足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8840" y="1992240"/>
            <a:ext cx="156024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保护措施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5241960"/>
            <a:ext cx="220968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自然资源与我们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98840" y="2457360"/>
            <a:ext cx="146844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___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再生资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03600" y="2457360"/>
            <a:ext cx="141120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__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再生资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4160" y="5084640"/>
            <a:ext cx="1509840" cy="854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数据说明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文字说明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74960" y="5706720"/>
            <a:ext cx="1354320" cy="69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689120" y="4082760"/>
            <a:ext cx="1185840" cy="11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74960" y="4313160"/>
            <a:ext cx="1015920" cy="9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90880" y="2922480"/>
            <a:ext cx="1017720" cy="69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229280" y="5950080"/>
            <a:ext cx="1998360" cy="45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214800" y="2922480"/>
            <a:ext cx="676080" cy="69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03600" y="6402240"/>
            <a:ext cx="400212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第一节 自然资源总量丰富 人均不足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51400" y="3618000"/>
            <a:ext cx="1096920" cy="69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分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205000"/>
            <a:ext cx="177948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举例说明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89120" y="2707920"/>
            <a:ext cx="3240" cy="90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093000" y="4313160"/>
            <a:ext cx="279360" cy="84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857240" y="1297080"/>
            <a:ext cx="588960" cy="93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857240" y="1066680"/>
            <a:ext cx="0" cy="116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348920" y="1297080"/>
            <a:ext cx="507960" cy="93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03600" y="1531800"/>
            <a:ext cx="67932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定义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51400" y="1531800"/>
            <a:ext cx="67788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利用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74600" y="1992240"/>
            <a:ext cx="50796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82920" y="1992240"/>
            <a:ext cx="50796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68760" y="1531800"/>
            <a:ext cx="67644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定义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6560" y="1531800"/>
            <a:ext cx="67644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利用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736880" y="1992240"/>
            <a:ext cx="33948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1992240"/>
            <a:ext cx="67968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886200"/>
            <a:ext cx="1192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丰富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809880"/>
            <a:ext cx="1001880" cy="4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不足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58160" y="3886200"/>
            <a:ext cx="11858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短缺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372360" y="4312800"/>
            <a:ext cx="738000" cy="91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4149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380000" y="5516640"/>
            <a:ext cx="33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278840" y="2457360"/>
            <a:ext cx="339480" cy="116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三、课堂训练  能力提升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360" y="2127240"/>
            <a:ext cx="831672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下列选项中，全部属于自然资源的一组是（     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A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森林 水稻 煤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B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耕地、淡水、铁矿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C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石油 闪电 工矿用地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D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野生动物、草地、噪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716840"/>
            <a:ext cx="835344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对于可再生资源开发利用，正确的是（   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A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节约利用，综合利用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B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寻找新的代替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C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保护和促进更新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D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极大限度地加以利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1999440"/>
            <a:ext cx="847404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我国自然资源人均资源占有量不断减少的主要原因是（   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A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自然资源总量有限，难以大量增加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B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自然资源不可再生，用一点少一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C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自然资源开采的速度太慢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D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我国人口仍在不断增加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3:59:49Z</dcterms:created>
  <dc:creator>zh</dc:creator>
  <dc:description/>
  <dc:language>en-US</dc:language>
  <cp:lastModifiedBy>y</cp:lastModifiedBy>
  <dcterms:modified xsi:type="dcterms:W3CDTF">2008-01-23T06:37:07Z</dcterms:modified>
  <cp:revision>15</cp:revision>
  <dc:subject/>
  <dc:title>PowerPoint 演示文稿</dc:title>
</cp:coreProperties>
</file>