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C7D-BF24-4804-AE27-B5EBB74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523-E844-4882-AFA6-28DEC84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F77-B7D9-4609-924A-6EBE8AE4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A4F-469B-4EC0-9343-62175E5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F23-8A02-4EE2-B959-1873259A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3073-3644-44F4-824B-43187E8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77A8-1C07-480C-A933-8F18A79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E669-989D-466A-BADE-B940619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7AAB-8C6C-464E-B569-343430E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762-A3ED-46AA-84F3-8672D5CC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9347-BA93-40EB-8D37-46C77B5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8CF-AEC2-47E6-8303-4D7B89B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19F-8273-408C-B241-CA138F4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AA21-DB38-49A1-A65F-742DEF0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746-5DE8-4BFB-ACE5-6BCB2EE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2713-A97C-49E6-8E00-9CD87F3A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626D-0243-4289-B9ED-B3EA8872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914-EE8D-459A-BE49-0FEE621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981-AF46-43DF-B58C-CA4127C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448-428E-49EB-B6EC-6B435C0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602-D974-4BF3-9AA9-FF24572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3F8-86E2-42A2-A451-79F5475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BF2-930C-40B2-BB7F-3259EA0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E43-876D-401C-85A8-214604E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93CF-5A65-4AEA-A4FE-BA96FD1239B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547-4836-4A60-B548-7D51AF8B060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0120" y="1541520"/>
            <a:ext cx="3524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第一节 自然资源总量丰富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人均不足  复习课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4920" y="4616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山东省高青县实验中学   郑宝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92200" y="895320"/>
            <a:ext cx="6248520" cy="8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四、回扣目标 当堂达标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057400"/>
            <a:ext cx="8281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920880"/>
            <a:ext cx="13683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答案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0560" y="1895400"/>
            <a:ext cx="84441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非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合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保护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培育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永续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十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珍惜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 节约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使用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总量丰富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人均不足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86960" y="1268280"/>
            <a:ext cx="4112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一、出示目标  整体建构</a:t>
            </a: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43840" y="228600"/>
            <a:ext cx="1802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黑体"/>
              </a:rPr>
              <a:t>学习目标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52480"/>
            <a:ext cx="80881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知道什么是自然资源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定义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以及自然资源的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分类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了解自然资源与人类生产生活的密切联系和重要性，以及中国资源丰富，人均不足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特点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且破坏严重的国情现状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8200" y="3484440"/>
            <a:ext cx="7850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懂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6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会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7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对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8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熟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9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855720"/>
            <a:ext cx="2009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方法指导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200" y="471024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只知对不知错，算是半对； 既知对又知错，才是全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2117880"/>
            <a:ext cx="7200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合作学习互为资源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37360" y="228600"/>
            <a:ext cx="2212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二、合作探究  成果展示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226836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什么是自然资源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5229360"/>
            <a:ext cx="2513160" cy="625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资源丰富，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8840" y="1992240"/>
            <a:ext cx="156024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保护措施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5241960"/>
            <a:ext cx="220968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自然资源与我们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8840" y="2457360"/>
            <a:ext cx="1468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3600" y="2457360"/>
            <a:ext cx="141120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4160" y="5084640"/>
            <a:ext cx="1509840" cy="854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数据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文字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74960" y="5706720"/>
            <a:ext cx="135432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689120" y="4082760"/>
            <a:ext cx="1185840" cy="11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74960" y="4313160"/>
            <a:ext cx="1015920" cy="9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90880" y="2922480"/>
            <a:ext cx="101772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29280" y="5950080"/>
            <a:ext cx="1998360" cy="45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14800" y="2922480"/>
            <a:ext cx="67608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3600" y="6402240"/>
            <a:ext cx="400212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第一节 自然资源总量丰富 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1400" y="3618000"/>
            <a:ext cx="109692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05000"/>
            <a:ext cx="177948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举例说明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89120" y="2707920"/>
            <a:ext cx="3240" cy="90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93000" y="4313160"/>
            <a:ext cx="279360" cy="84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857240" y="1297080"/>
            <a:ext cx="588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57240" y="1066680"/>
            <a:ext cx="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348920" y="1297080"/>
            <a:ext cx="507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3600" y="1531800"/>
            <a:ext cx="67932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1400" y="1531800"/>
            <a:ext cx="67788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7460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8292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687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65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36880" y="1992240"/>
            <a:ext cx="3394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1992240"/>
            <a:ext cx="6796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886200"/>
            <a:ext cx="1192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丰富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809880"/>
            <a:ext cx="1001880" cy="4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足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58160" y="3886200"/>
            <a:ext cx="11858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短缺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72360" y="4312800"/>
            <a:ext cx="738000" cy="91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4149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380000" y="5516640"/>
            <a:ext cx="33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278840" y="2457360"/>
            <a:ext cx="33948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三、课堂训练  能力提升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360" y="2127240"/>
            <a:ext cx="83167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下列选项中，全部属于自然资源的一组是（  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森林 水稻 煤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耕地、淡水、铁矿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石油 闪电 工矿用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野生动物、草地、噪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6840"/>
            <a:ext cx="83534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对于可再生资源开发利用，正确的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节约利用，综合利用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寻找新的代替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保护和促进更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极大限度地加以利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999440"/>
            <a:ext cx="84740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自然资源人均资源占有量不断减少的主要原因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总量有限，难以大量增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不可再生，用一点少一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开采的速度太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人口仍在不断增加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59:49Z</dcterms:created>
  <dc:creator>zh</dc:creator>
  <dc:description/>
  <dc:language>en-US</dc:language>
  <cp:lastModifiedBy>y</cp:lastModifiedBy>
  <dcterms:modified xsi:type="dcterms:W3CDTF">2008-01-23T06:37:07Z</dcterms:modified>
  <cp:revision>15</cp:revision>
  <dc:subject/>
  <dc:title>PowerPoint 演示文稿</dc:title>
</cp:coreProperties>
</file>