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9B6-BC49-4AB1-A881-043B22C5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0B3-9367-4580-A811-E94DB8A0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EFD-EED6-45BD-9371-37E2A7BD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42C-6AC6-456C-887F-3480D8DC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171D-A103-4205-BC2D-8DA208C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3D42-20F8-4536-A25A-596490B0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2938-C91A-412A-A12A-1071EC70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9117-F5B4-4E2A-8E41-D27511FF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6DEA-1098-4E66-A74C-31B53649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EF4C-5FF0-471F-A1AC-0D52CFAC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4865-ED0A-412F-90C5-072464BE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948-AF9E-4AEB-B1A7-312FE81C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5CA0-2DF4-427D-9A3D-A0FC9B8A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6CE29-0AD2-4DAB-B399-851DFC20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BBEB-F358-47CE-A73E-54356813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1DEB-5959-4157-B92A-36DCED71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2A4B-30BA-4C39-9C4C-BF3AE824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DBF6-01F6-45A6-9D58-D6AB0854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BF02-0CFA-49AE-B58C-C5215A6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8DEC-9AF4-474C-8166-AD09616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20FB-0E61-480A-A94A-9BD75C88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D219-1308-42B4-B14E-E1AD0E6E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1522-08E5-4ACA-8FF8-BB2929D8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7AB8-F70F-45D1-B9CC-C97D724F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0C06-1A3D-4BF4-B0EA-6438D7E9DACE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3173-8DCF-495C-B658-358A53F11894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940120" y="1541520"/>
            <a:ext cx="352440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第一节 自然资源总量丰富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人均不足  复习课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54920" y="461628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Times New Roman"/>
                <a:ea typeface="华文行楷"/>
              </a:rPr>
              <a:t>山东省高青县实验中学   郑宝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92200" y="895320"/>
            <a:ext cx="6248520" cy="87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四、回扣目标 当堂达标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2057400"/>
            <a:ext cx="82818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39640" y="920880"/>
            <a:ext cx="1368360" cy="779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答案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0560" y="1895400"/>
            <a:ext cx="844416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然资源分为两大类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非可再生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资源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对于可再生资源，如果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合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并且注意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保护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培育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便能够实现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永续利用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；对于非可再生资源，我们应该十分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珍惜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和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 节约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使用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国自然资源的特征是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总量丰富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Times New Roman"/>
              </a:rPr>
              <a:t> 人均不足</a:t>
            </a:r>
            <a:r>
              <a:rPr b="1" lang="zh-CN" sz="3600" spc="-1" strike="noStrike" u="sng">
                <a:solidFill>
                  <a:srgbClr val="5b5249"/>
                </a:solidFill>
                <a:uFillTx/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86960" y="1268280"/>
            <a:ext cx="41126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一、出示目标  整体建构</a:t>
            </a:r>
            <a:r>
              <a:rPr b="0" lang="zh-CN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43840" y="228600"/>
            <a:ext cx="1802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黑体"/>
              </a:rPr>
              <a:t>学习目标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1752480"/>
            <a:ext cx="80881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知道什么是自然资源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定义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以及自然资源的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分类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了解自然资源与人类生产生活的密切联系和重要性，以及中国资源丰富，人均不足（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特点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），且破坏严重的国情现状。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8200" y="3484440"/>
            <a:ext cx="7850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懂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6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会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7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对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8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、熟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90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分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38560" y="855720"/>
            <a:ext cx="20095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学习方法指导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8200" y="4710240"/>
            <a:ext cx="8497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只知对不知错，算是半对； 既知对又知错，才是全对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2117880"/>
            <a:ext cx="72007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合作学习互为资源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37360" y="228600"/>
            <a:ext cx="22122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二、合作探究  成果展示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360" y="3573360"/>
            <a:ext cx="226836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什么是自然资源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5229360"/>
            <a:ext cx="2513160" cy="6253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资源丰富，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8840" y="1992240"/>
            <a:ext cx="156024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保护措施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5241960"/>
            <a:ext cx="220968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自然资源与我们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98840" y="2457360"/>
            <a:ext cx="1468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03600" y="2457360"/>
            <a:ext cx="141120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__</a:t>
            </a: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再生资源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4160" y="5084640"/>
            <a:ext cx="1509840" cy="8542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数据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文字说明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74960" y="5706720"/>
            <a:ext cx="1354320" cy="695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1689120" y="4082760"/>
            <a:ext cx="1185840" cy="1158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74960" y="4313160"/>
            <a:ext cx="1015920" cy="9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90880" y="2922480"/>
            <a:ext cx="101772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229280" y="5950080"/>
            <a:ext cx="1998360" cy="452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214800" y="2922480"/>
            <a:ext cx="676080" cy="695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3600" y="6402240"/>
            <a:ext cx="4002120" cy="465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第一节 自然资源总量丰富 人均不足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1400" y="3618000"/>
            <a:ext cx="1096920" cy="69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分类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2205000"/>
            <a:ext cx="177948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举例说明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89120" y="2707920"/>
            <a:ext cx="3240" cy="90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6093000" y="4313160"/>
            <a:ext cx="279360" cy="84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857240" y="1297080"/>
            <a:ext cx="588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857240" y="1066680"/>
            <a:ext cx="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348920" y="1297080"/>
            <a:ext cx="507960" cy="930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03600" y="1531800"/>
            <a:ext cx="67932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51400" y="1531800"/>
            <a:ext cx="67788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87460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82920" y="1992240"/>
            <a:ext cx="50796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687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定义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6560" y="1531800"/>
            <a:ext cx="676440" cy="460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利用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736880" y="1992240"/>
            <a:ext cx="3394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1992240"/>
            <a:ext cx="679680" cy="46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3886200"/>
            <a:ext cx="119232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丰富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809880"/>
            <a:ext cx="1001880" cy="4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不足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58160" y="3886200"/>
            <a:ext cx="1185840" cy="4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</a:rPr>
              <a:t>短缺？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372360" y="4312800"/>
            <a:ext cx="738000" cy="916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96360" y="41497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7380000" y="5516640"/>
            <a:ext cx="33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278840" y="2457360"/>
            <a:ext cx="339480" cy="116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三、课堂训练  能力提升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360" y="2127240"/>
            <a:ext cx="831672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下列选项中，全部属于自然资源的一组是（  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森林 水稻 煤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耕地、淡水、铁矿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石油 闪电 工矿用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野生动物、草地、噪声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1716840"/>
            <a:ext cx="83534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对于可再生资源开发利用，正确的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节约利用，综合利用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寻找新的代替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保护和促进更新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极大限度地加以利用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1999440"/>
            <a:ext cx="847404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自然资源人均资源占有量不断减少的主要原因是（   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A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总量有限，难以大量增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B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不可再生，用一点少一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C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自然资源开采的速度太慢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D.</a:t>
            </a:r>
            <a:r>
              <a:rPr b="0" lang="zh-CN" sz="4000" spc="-1" strike="noStrike">
                <a:solidFill>
                  <a:srgbClr val="5b5249"/>
                </a:solidFill>
                <a:latin typeface="黑体"/>
                <a:ea typeface="黑体"/>
              </a:rPr>
              <a:t>我国人口仍在不断增加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3:59:49Z</dcterms:created>
  <dc:creator>zh</dc:creator>
  <dc:description/>
  <dc:language>en-US</dc:language>
  <cp:lastModifiedBy>y</cp:lastModifiedBy>
  <dcterms:modified xsi:type="dcterms:W3CDTF">2008-01-23T06:37:07Z</dcterms:modified>
  <cp:revision>15</cp:revision>
  <dc:subject/>
  <dc:title>PowerPoint 演示文稿</dc:title>
</cp:coreProperties>
</file>