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9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25.gif" ContentType="image/gif"/>
  <Override PartName="/ppt/media/image5.jpeg" ContentType="image/jpeg"/>
  <Override PartName="/ppt/media/image4.jpeg" ContentType="image/jpeg"/>
  <Override PartName="/ppt/media/image28.jpeg" ContentType="image/jpeg"/>
  <Override PartName="/ppt/media/image27.jpeg" ContentType="image/jpeg"/>
  <Override PartName="/ppt/media/image24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3D1-8654-4BEC-8CF7-DD6E51BF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7D9-4FF9-4BC4-A5DB-A5DC37C6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C64-69A6-4F56-A617-E164675F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438-25AA-4853-978C-9BE70F81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5F9-A66C-462C-922F-C8B3A64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547-C672-4CF2-AF24-DD3D0675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8A7-6162-4905-81A4-C1A1C7D5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FC3-4DD7-48C6-AE03-014F8C5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360-DCA4-43C3-8CC5-965A37A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173-46EB-405B-9243-2076448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600-7F64-4349-B0EC-E0E80188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4DD-4B57-419C-83F8-183D1D8F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D404-95C7-4F71-AD0E-090657D22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73080"/>
            <a:ext cx="3888000" cy="566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6165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东尼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波拉约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4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566100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雕塑《安泰俄斯和赫拉克勒斯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7628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谁知道这个故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132000" y="981000"/>
            <a:ext cx="5040360" cy="533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国土地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经济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什么影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395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国人口与土地的供需矛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库教育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62504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陆地面积是世界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而人口占世界总人口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人均土地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顷，只及世界平均数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耕地面积为世界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人均不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顷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18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亩），不及世界人均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/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森林蓄积量居世界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人均森林面积仅相当于世界平均水平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.8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人均森林蓄积量相当于世界人均水平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5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*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草地面积总量虽占世界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位，但人均草地只及世界水平的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5877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我国土地资源总量丰富，人均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2746" t="4497" r="1579" b="22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87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2602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0720" y="3141720"/>
            <a:ext cx="4642920" cy="3715920"/>
            <a:chOff x="4500720" y="3141720"/>
            <a:chExt cx="4642920" cy="371592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rcRect l="1644" t="2047" r="2480" b="1271"/>
            <a:stretch/>
          </p:blipFill>
          <p:spPr>
            <a:xfrm>
              <a:off x="4500720" y="3141720"/>
              <a:ext cx="4642920" cy="37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781600" y="3220200"/>
              <a:ext cx="31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60093"/>
                  </a:solidFill>
                  <a:latin typeface="Arial"/>
                  <a:ea typeface="楷体_GB2312"/>
                </a:rPr>
                <a:t>我国的气候类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900000" y="4941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我国土地资源类型齐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260280"/>
            <a:ext cx="13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63640" y="0"/>
            <a:ext cx="5976720" cy="6732000"/>
            <a:chOff x="1763640" y="0"/>
            <a:chExt cx="5976720" cy="6732000"/>
          </a:xfrm>
        </p:grpSpPr>
        <p:sp>
          <p:nvSpPr>
            <p:cNvPr id="138" name=""/>
            <p:cNvSpPr/>
            <p:nvPr/>
          </p:nvSpPr>
          <p:spPr>
            <a:xfrm>
              <a:off x="1763640" y="0"/>
              <a:ext cx="5976720" cy="5888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1160" y="935280"/>
              <a:ext cx="4080960" cy="40208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1160" y="29923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99160" y="2804760"/>
              <a:ext cx="199332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282480" y="2992320"/>
              <a:ext cx="1516320" cy="252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99160" y="2992320"/>
              <a:ext cx="2087640" cy="19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99160" y="1028160"/>
              <a:ext cx="664920" cy="19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6360" y="1683720"/>
              <a:ext cx="2160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可利用草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32.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736000">
              <a:off x="5056200" y="2169720"/>
              <a:ext cx="14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00"/>
                  </a:solidFill>
                  <a:latin typeface="Arial"/>
                </a:rPr>
                <a:t>林地</a:t>
              </a:r>
              <a:r>
                <a:rPr b="1" lang="zh-CN" sz="2400" spc="-1" strike="noStrike">
                  <a:solidFill>
                    <a:srgbClr val="993300"/>
                  </a:solidFill>
                  <a:latin typeface="Arial"/>
                </a:rPr>
                <a:t>16.6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99000" y="2905920"/>
              <a:ext cx="146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工矿交通城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用地、内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水域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15.7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0440" y="3458160"/>
              <a:ext cx="1802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沙漠石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永久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雪、冰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21.6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58760" y="2984040"/>
              <a:ext cx="1426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ff33"/>
                  </a:solidFill>
                  <a:latin typeface="Arial"/>
                </a:rPr>
                <a:t>耕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ff33"/>
                  </a:solidFill>
                  <a:latin typeface="Arial"/>
                </a:rPr>
                <a:t>13.5</a:t>
              </a:r>
              <a:r>
                <a:rPr b="1" lang="zh-CN" sz="2400" spc="-1" strike="noStrike">
                  <a:solidFill>
                    <a:srgbClr val="66ff33"/>
                  </a:solidFill>
                  <a:latin typeface="Arial"/>
                </a:rPr>
                <a:t>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7160" y="621144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国土地利用结构的百分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6760" y="5090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难利用的土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90640" y="4341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21480" y="2097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44200" y="321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2000" y="694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56720" y="3221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50920" y="5229360"/>
            <a:ext cx="26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我国土地资源构成不合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260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.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国的耕地后备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052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耕地后备资源是指自然条件较好，但尚未被开垦的宜耕土地。我国绝大部分的宜耕土地早被辟为耕地，而且由于人多地少和不合理的开垦，现有的耕地还有一部分要退垦还林还草或还湖，因此我国扩大耕地的潜力不大。而且我国除沙漠戈壁、石山高寒荒漠等难利用的土地外，真正未利用的荒地很少。全国后备土地资源总量仅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万公顷，这些宜耕土地大多是天然草场和林地，而且主要分布在东北、西北等边远地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6021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我国耕地后备资源匮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50920" y="260280"/>
            <a:ext cx="13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5445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我国人口分布不均人地矛盾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260280"/>
            <a:ext cx="8642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资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与世界部分国家人均耕地面积的比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99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图教学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6165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我国人均耕地占有量少，人与耕地矛盾尤为突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669000"/>
            <a:ext cx="381636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34136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97880" y="1692360"/>
            <a:ext cx="8201520" cy="4284720"/>
            <a:chOff x="497880" y="1692360"/>
            <a:chExt cx="8201520" cy="4284720"/>
          </a:xfrm>
        </p:grpSpPr>
        <p:sp>
          <p:nvSpPr>
            <p:cNvPr id="169" name=""/>
            <p:cNvSpPr/>
            <p:nvPr/>
          </p:nvSpPr>
          <p:spPr>
            <a:xfrm>
              <a:off x="942840" y="5589720"/>
              <a:ext cx="7756560" cy="47520"/>
            </a:xfrm>
            <a:custGeom>
              <a:avLst/>
              <a:gdLst/>
              <a:ahLst/>
              <a:rect l="l" t="t" r="r" b="b"/>
              <a:pathLst>
                <a:path w="4886" h="30">
                  <a:moveTo>
                    <a:pt x="0" y="30"/>
                  </a:moveTo>
                  <a:lnTo>
                    <a:pt x="53" y="0"/>
                  </a:lnTo>
                  <a:lnTo>
                    <a:pt x="4886" y="0"/>
                  </a:lnTo>
                  <a:lnTo>
                    <a:pt x="483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2840" y="1749600"/>
              <a:ext cx="84240" cy="3887640"/>
            </a:xfrm>
            <a:custGeom>
              <a:avLst/>
              <a:gdLst/>
              <a:ahLst/>
              <a:rect l="l" t="t" r="r" b="b"/>
              <a:pathLst>
                <a:path w="53" h="2449">
                  <a:moveTo>
                    <a:pt x="0" y="2449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2419"/>
                  </a:lnTo>
                  <a:lnTo>
                    <a:pt x="0" y="244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7080" y="1749600"/>
              <a:ext cx="7672320" cy="38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2840" y="5589720"/>
              <a:ext cx="7756560" cy="47520"/>
            </a:xfrm>
            <a:custGeom>
              <a:avLst/>
              <a:gdLst/>
              <a:ahLst/>
              <a:rect l="l" t="t" r="r" b="b"/>
              <a:pathLst>
                <a:path w="732" h="5">
                  <a:moveTo>
                    <a:pt x="0" y="5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2840" y="5105520"/>
              <a:ext cx="7756560" cy="56880"/>
            </a:xfrm>
            <a:custGeom>
              <a:avLst/>
              <a:gdLst/>
              <a:ahLst/>
              <a:rect l="l" t="t" r="r" b="b"/>
              <a:pathLst>
                <a:path w="732" h="6">
                  <a:moveTo>
                    <a:pt x="0" y="6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2840" y="4622760"/>
              <a:ext cx="7756560" cy="55440"/>
            </a:xfrm>
            <a:custGeom>
              <a:avLst/>
              <a:gdLst/>
              <a:ahLst/>
              <a:rect l="l" t="t" r="r" b="b"/>
              <a:pathLst>
                <a:path w="732" h="6">
                  <a:moveTo>
                    <a:pt x="0" y="6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2840" y="4148280"/>
              <a:ext cx="7756560" cy="56880"/>
            </a:xfrm>
            <a:custGeom>
              <a:avLst/>
              <a:gdLst/>
              <a:ahLst/>
              <a:rect l="l" t="t" r="r" b="b"/>
              <a:pathLst>
                <a:path w="732" h="6">
                  <a:moveTo>
                    <a:pt x="0" y="6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2840" y="3664080"/>
              <a:ext cx="7756560" cy="56880"/>
            </a:xfrm>
            <a:custGeom>
              <a:avLst/>
              <a:gdLst/>
              <a:ahLst/>
              <a:rect l="l" t="t" r="r" b="b"/>
              <a:pathLst>
                <a:path w="732" h="6">
                  <a:moveTo>
                    <a:pt x="0" y="6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42840" y="3181320"/>
              <a:ext cx="7756560" cy="57240"/>
            </a:xfrm>
            <a:custGeom>
              <a:avLst/>
              <a:gdLst/>
              <a:ahLst/>
              <a:rect l="l" t="t" r="r" b="b"/>
              <a:pathLst>
                <a:path w="732" h="6">
                  <a:moveTo>
                    <a:pt x="0" y="6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42840" y="2706840"/>
              <a:ext cx="7756560" cy="56880"/>
            </a:xfrm>
            <a:custGeom>
              <a:avLst/>
              <a:gdLst/>
              <a:ahLst/>
              <a:rect l="l" t="t" r="r" b="b"/>
              <a:pathLst>
                <a:path w="732" h="6">
                  <a:moveTo>
                    <a:pt x="0" y="6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42840" y="2224080"/>
              <a:ext cx="7756560" cy="57240"/>
            </a:xfrm>
            <a:custGeom>
              <a:avLst/>
              <a:gdLst/>
              <a:ahLst/>
              <a:rect l="l" t="t" r="r" b="b"/>
              <a:pathLst>
                <a:path w="732" h="6">
                  <a:moveTo>
                    <a:pt x="0" y="6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42840" y="1749600"/>
              <a:ext cx="7756560" cy="47520"/>
            </a:xfrm>
            <a:custGeom>
              <a:avLst/>
              <a:gdLst/>
              <a:ahLst/>
              <a:rect l="l" t="t" r="r" b="b"/>
              <a:pathLst>
                <a:path w="732" h="5">
                  <a:moveTo>
                    <a:pt x="0" y="5"/>
                  </a:moveTo>
                  <a:lnTo>
                    <a:pt x="8" y="0"/>
                  </a:lnTo>
                  <a:lnTo>
                    <a:pt x="7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42840" y="5589720"/>
              <a:ext cx="7756560" cy="47520"/>
            </a:xfrm>
            <a:custGeom>
              <a:avLst/>
              <a:gdLst/>
              <a:ahLst/>
              <a:rect l="l" t="t" r="r" b="b"/>
              <a:pathLst>
                <a:path w="4886" h="30">
                  <a:moveTo>
                    <a:pt x="4886" y="0"/>
                  </a:moveTo>
                  <a:lnTo>
                    <a:pt x="4832" y="30"/>
                  </a:lnTo>
                  <a:lnTo>
                    <a:pt x="0" y="30"/>
                  </a:lnTo>
                  <a:lnTo>
                    <a:pt x="53" y="0"/>
                  </a:lnTo>
                  <a:lnTo>
                    <a:pt x="4886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42840" y="1749600"/>
              <a:ext cx="84240" cy="3887640"/>
            </a:xfrm>
            <a:custGeom>
              <a:avLst/>
              <a:gdLst/>
              <a:ahLst/>
              <a:rect l="l" t="t" r="r" b="b"/>
              <a:pathLst>
                <a:path w="53" h="2449">
                  <a:moveTo>
                    <a:pt x="0" y="2449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2419"/>
                  </a:lnTo>
                  <a:lnTo>
                    <a:pt x="0" y="244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7080" y="1749600"/>
              <a:ext cx="7672320" cy="384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8080" y="5029200"/>
              <a:ext cx="72720" cy="608040"/>
            </a:xfrm>
            <a:custGeom>
              <a:avLst/>
              <a:gdLst/>
              <a:ahLst/>
              <a:rect l="l" t="t" r="r" b="b"/>
              <a:pathLst>
                <a:path w="46" h="383">
                  <a:moveTo>
                    <a:pt x="0" y="383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35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5e707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33640" y="5086440"/>
              <a:ext cx="244440" cy="55080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5029200"/>
              <a:ext cx="317160" cy="57240"/>
            </a:xfrm>
            <a:custGeom>
              <a:avLst/>
              <a:gdLst/>
              <a:ahLst/>
              <a:rect l="l" t="t" r="r" b="b"/>
              <a:pathLst>
                <a:path w="200" h="36">
                  <a:moveTo>
                    <a:pt x="154" y="36"/>
                  </a:moveTo>
                  <a:lnTo>
                    <a:pt x="200" y="0"/>
                  </a:lnTo>
                  <a:lnTo>
                    <a:pt x="47" y="0"/>
                  </a:lnTo>
                  <a:lnTo>
                    <a:pt x="0" y="36"/>
                  </a:lnTo>
                  <a:lnTo>
                    <a:pt x="154" y="36"/>
                  </a:lnTo>
                  <a:close/>
                </a:path>
              </a:pathLst>
            </a:custGeom>
            <a:solidFill>
              <a:srgbClr val="8ca8aa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68520" y="4024440"/>
              <a:ext cx="85680" cy="1612800"/>
            </a:xfrm>
            <a:custGeom>
              <a:avLst/>
              <a:gdLst/>
              <a:ahLst/>
              <a:rect l="l" t="t" r="r" b="b"/>
              <a:pathLst>
                <a:path w="54" h="1016">
                  <a:moveTo>
                    <a:pt x="0" y="1016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986"/>
                  </a:lnTo>
                  <a:lnTo>
                    <a:pt x="0" y="1016"/>
                  </a:lnTo>
                  <a:close/>
                </a:path>
              </a:pathLst>
            </a:custGeom>
            <a:solidFill>
              <a:srgbClr val="5e707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25520" y="4081320"/>
              <a:ext cx="243000" cy="155592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5520" y="4024440"/>
              <a:ext cx="328680" cy="56880"/>
            </a:xfrm>
            <a:custGeom>
              <a:avLst/>
              <a:gdLst/>
              <a:ahLst/>
              <a:rect l="l" t="t" r="r" b="b"/>
              <a:pathLst>
                <a:path w="207" h="36">
                  <a:moveTo>
                    <a:pt x="153" y="36"/>
                  </a:moveTo>
                  <a:lnTo>
                    <a:pt x="207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3" y="36"/>
                  </a:lnTo>
                  <a:close/>
                </a:path>
              </a:pathLst>
            </a:custGeom>
            <a:solidFill>
              <a:srgbClr val="8ca8aa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60760" y="5200560"/>
              <a:ext cx="84240" cy="436680"/>
            </a:xfrm>
            <a:custGeom>
              <a:avLst/>
              <a:gdLst/>
              <a:ahLst/>
              <a:rect l="l" t="t" r="r" b="b"/>
              <a:pathLst>
                <a:path w="53" h="275">
                  <a:moveTo>
                    <a:pt x="0" y="275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24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5e707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16320" y="5257800"/>
              <a:ext cx="244440" cy="37944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16320" y="5200560"/>
              <a:ext cx="328680" cy="57240"/>
            </a:xfrm>
            <a:custGeom>
              <a:avLst/>
              <a:gdLst/>
              <a:ahLst/>
              <a:rect l="l" t="t" r="r" b="b"/>
              <a:pathLst>
                <a:path w="207" h="36">
                  <a:moveTo>
                    <a:pt x="154" y="36"/>
                  </a:moveTo>
                  <a:lnTo>
                    <a:pt x="207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4" y="36"/>
                  </a:lnTo>
                  <a:close/>
                </a:path>
              </a:pathLst>
            </a:custGeom>
            <a:solidFill>
              <a:srgbClr val="8ca8aa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62360" y="5342040"/>
              <a:ext cx="73080" cy="295200"/>
            </a:xfrm>
            <a:custGeom>
              <a:avLst/>
              <a:gdLst/>
              <a:ahLst/>
              <a:rect l="l" t="t" r="r" b="b"/>
              <a:pathLst>
                <a:path w="46" h="186">
                  <a:moveTo>
                    <a:pt x="0" y="186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15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5e707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7920" y="5398920"/>
              <a:ext cx="244440" cy="23832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7920" y="5342040"/>
              <a:ext cx="317520" cy="56880"/>
            </a:xfrm>
            <a:custGeom>
              <a:avLst/>
              <a:gdLst/>
              <a:ahLst/>
              <a:rect l="l" t="t" r="r" b="b"/>
              <a:pathLst>
                <a:path w="200" h="36">
                  <a:moveTo>
                    <a:pt x="154" y="36"/>
                  </a:moveTo>
                  <a:lnTo>
                    <a:pt x="200" y="0"/>
                  </a:lnTo>
                  <a:lnTo>
                    <a:pt x="47" y="0"/>
                  </a:lnTo>
                  <a:lnTo>
                    <a:pt x="0" y="36"/>
                  </a:lnTo>
                  <a:lnTo>
                    <a:pt x="154" y="36"/>
                  </a:lnTo>
                  <a:close/>
                </a:path>
              </a:pathLst>
            </a:custGeom>
            <a:solidFill>
              <a:srgbClr val="8ca8aa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53160" y="3522600"/>
              <a:ext cx="85680" cy="2114640"/>
            </a:xfrm>
            <a:custGeom>
              <a:avLst/>
              <a:gdLst/>
              <a:ahLst/>
              <a:rect l="l" t="t" r="r" b="b"/>
              <a:pathLst>
                <a:path w="54" h="1332">
                  <a:moveTo>
                    <a:pt x="0" y="1332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1302"/>
                  </a:lnTo>
                  <a:lnTo>
                    <a:pt x="0" y="1332"/>
                  </a:lnTo>
                  <a:close/>
                </a:path>
              </a:pathLst>
            </a:custGeom>
            <a:solidFill>
              <a:srgbClr val="5e707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0160" y="3579840"/>
              <a:ext cx="243000" cy="205740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10160" y="3522600"/>
              <a:ext cx="328680" cy="57240"/>
            </a:xfrm>
            <a:custGeom>
              <a:avLst/>
              <a:gdLst/>
              <a:ahLst/>
              <a:rect l="l" t="t" r="r" b="b"/>
              <a:pathLst>
                <a:path w="207" h="36">
                  <a:moveTo>
                    <a:pt x="153" y="36"/>
                  </a:moveTo>
                  <a:lnTo>
                    <a:pt x="207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3" y="36"/>
                  </a:lnTo>
                  <a:close/>
                </a:path>
              </a:pathLst>
            </a:custGeom>
            <a:solidFill>
              <a:srgbClr val="8ca8aa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5400" y="4821120"/>
              <a:ext cx="83880" cy="816120"/>
            </a:xfrm>
            <a:custGeom>
              <a:avLst/>
              <a:gdLst/>
              <a:ahLst/>
              <a:rect l="l" t="t" r="r" b="b"/>
              <a:pathLst>
                <a:path w="53" h="514">
                  <a:moveTo>
                    <a:pt x="0" y="514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48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5e707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00960" y="4869000"/>
              <a:ext cx="244440" cy="76824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00960" y="4821120"/>
              <a:ext cx="328320" cy="47880"/>
            </a:xfrm>
            <a:custGeom>
              <a:avLst/>
              <a:gdLst/>
              <a:ahLst/>
              <a:rect l="l" t="t" r="r" b="b"/>
              <a:pathLst>
                <a:path w="207" h="30">
                  <a:moveTo>
                    <a:pt x="154" y="30"/>
                  </a:moveTo>
                  <a:lnTo>
                    <a:pt x="207" y="0"/>
                  </a:lnTo>
                  <a:lnTo>
                    <a:pt x="54" y="0"/>
                  </a:lnTo>
                  <a:lnTo>
                    <a:pt x="0" y="30"/>
                  </a:lnTo>
                  <a:lnTo>
                    <a:pt x="154" y="30"/>
                  </a:lnTo>
                  <a:close/>
                </a:path>
              </a:pathLst>
            </a:custGeom>
            <a:solidFill>
              <a:srgbClr val="8ca8aa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47000" y="2004840"/>
              <a:ext cx="73080" cy="3632400"/>
            </a:xfrm>
            <a:custGeom>
              <a:avLst/>
              <a:gdLst/>
              <a:ahLst/>
              <a:rect l="l" t="t" r="r" b="b"/>
              <a:pathLst>
                <a:path w="46" h="2288">
                  <a:moveTo>
                    <a:pt x="0" y="2288"/>
                  </a:moveTo>
                  <a:lnTo>
                    <a:pt x="0" y="36"/>
                  </a:lnTo>
                  <a:lnTo>
                    <a:pt x="46" y="0"/>
                  </a:lnTo>
                  <a:lnTo>
                    <a:pt x="46" y="2258"/>
                  </a:lnTo>
                  <a:lnTo>
                    <a:pt x="0" y="2288"/>
                  </a:lnTo>
                  <a:close/>
                </a:path>
              </a:pathLst>
            </a:custGeom>
            <a:solidFill>
              <a:srgbClr val="5e7072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02560" y="2062080"/>
              <a:ext cx="244440" cy="3575160"/>
            </a:xfrm>
            <a:prstGeom prst="rect">
              <a:avLst/>
            </a:prstGeom>
            <a:solidFill>
              <a:srgbClr val="bbe0e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2560" y="2004840"/>
              <a:ext cx="317520" cy="57240"/>
            </a:xfrm>
            <a:custGeom>
              <a:avLst/>
              <a:gdLst/>
              <a:ahLst/>
              <a:rect l="l" t="t" r="r" b="b"/>
              <a:pathLst>
                <a:path w="200" h="36">
                  <a:moveTo>
                    <a:pt x="154" y="36"/>
                  </a:moveTo>
                  <a:lnTo>
                    <a:pt x="200" y="0"/>
                  </a:lnTo>
                  <a:lnTo>
                    <a:pt x="47" y="0"/>
                  </a:lnTo>
                  <a:lnTo>
                    <a:pt x="0" y="36"/>
                  </a:lnTo>
                  <a:lnTo>
                    <a:pt x="154" y="36"/>
                  </a:lnTo>
                  <a:close/>
                </a:path>
              </a:pathLst>
            </a:custGeom>
            <a:solidFill>
              <a:srgbClr val="8ca8aa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42840" y="1796760"/>
              <a:ext cx="1800" cy="384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942480" y="5637240"/>
              <a:ext cx="6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942480" y="5162400"/>
              <a:ext cx="6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942480" y="4678200"/>
              <a:ext cx="6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942480" y="4205160"/>
              <a:ext cx="6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942480" y="3720960"/>
              <a:ext cx="6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942480" y="3238560"/>
              <a:ext cx="6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942480" y="2763720"/>
              <a:ext cx="63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942480" y="2281320"/>
              <a:ext cx="6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42480" y="1797120"/>
              <a:ext cx="63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640" y="55324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7880" y="505764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7880" y="457524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7880" y="410040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7880" y="361800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640" y="31338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7880" y="265896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7880" y="217656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7880" y="169236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42840" y="5637240"/>
              <a:ext cx="7670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42840" y="558000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44800" y="558000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37040" y="558000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7480" y="558000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9080" y="558000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21320" y="558000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12120" y="5580000"/>
              <a:ext cx="144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13720" y="5580000"/>
              <a:ext cx="1800" cy="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21920" y="5702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世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4160" y="5702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美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16120" y="5702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印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6560" y="5702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中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17440" y="57024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俄罗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00400" y="57024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巴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09840" y="5702400"/>
              <a:ext cx="41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加拿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1197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根据上述资料与已有知识，从有利和不利两方面，简要评价我国土地资源的优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2637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4149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76360" y="2637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总量丰富、类型齐全，有利于多种经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386064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均占有量少，各类土地资源比例不合理（耕地、林地少，难利用土地比重大），后备资源不足，人地矛盾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6200" y="5805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分珍惜和合理利用每一寸土地，切实保护耕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643280" y="3716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秦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60cfa"/>
                </a:solidFill>
                <a:latin typeface="Arial"/>
              </a:rPr>
              <a:t>淮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18900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作学习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国土地分布有什地区差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63705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765000"/>
          <a:ext cx="9144000" cy="6116760"/>
        </p:xfrm>
        <a:graphic>
          <a:graphicData uri="http://schemas.openxmlformats.org/drawingml/2006/table">
            <a:tbl>
              <a:tblPr/>
              <a:tblGrid>
                <a:gridCol w="1886040"/>
                <a:gridCol w="2038320"/>
                <a:gridCol w="2663640"/>
                <a:gridCol w="2556000"/>
              </a:tblGrid>
              <a:tr h="689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土地资源类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分布地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季风区、非季风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干湿地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地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耕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林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草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难利用土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建设用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人类生活、生产的区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1763640" y="1350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我国土地资源的分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季风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24360" y="25495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湿润、半湿润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234936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原、盆地及低缓的丘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6836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季风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0072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湿润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3600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林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4653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非季风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24360" y="465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干旱、半干旱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59640" y="46386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原、山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非季风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558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干旱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5373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盆地、高原、高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2078280" cy="266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3280" y="981000"/>
            <a:ext cx="410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什么是土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地是山川之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地是万物之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地是人类衣食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地是一切财富之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有的物华天宝都是土生土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地是过去的一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是将来的全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544680"/>
            <a:ext cx="8381880" cy="57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76500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00"/>
                </a:solidFill>
                <a:latin typeface="Arial"/>
              </a:rPr>
              <a:t>土地资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516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疆克拉玛依独山子一中  徐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549360"/>
            <a:ext cx="0" cy="579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教版八年级上册第三章中国的自然资源第二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98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一课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4572000" cy="3535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grpSp>
        <p:nvGrpSpPr>
          <p:cNvPr id="268" name=""/>
          <p:cNvGrpSpPr/>
          <p:nvPr/>
        </p:nvGrpSpPr>
        <p:grpSpPr>
          <a:xfrm>
            <a:off x="4608360" y="3429000"/>
            <a:ext cx="4571640" cy="3428640"/>
            <a:chOff x="4608360" y="3429000"/>
            <a:chExt cx="4571640" cy="342864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rcRect l="1644" t="2047" r="2480" b="1271"/>
            <a:stretch/>
          </p:blipFill>
          <p:spPr>
            <a:xfrm>
              <a:off x="4608360" y="3429000"/>
              <a:ext cx="457164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869440" y="3501360"/>
              <a:ext cx="30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60093"/>
                  </a:solidFill>
                  <a:latin typeface="Arial"/>
                </a:rPr>
                <a:t>我国的气候类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95280" y="981000"/>
          <a:ext cx="428472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428472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356000" y="981000"/>
          <a:ext cx="4356360" cy="430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981000"/>
                    <a:ext cx="435636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5435640" y="37893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地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378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3572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6360" y="26859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5812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24224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981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南方、北方水资源与土地资源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2920" y="486900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读图思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水土配合是否合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0360" y="765000"/>
            <a:ext cx="446544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39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做生活中的有心人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/>
          <p:nvPr/>
        </p:nvSpPr>
        <p:spPr>
          <a:xfrm>
            <a:off x="3995640" y="1484280"/>
            <a:ext cx="4681800" cy="4681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们身边的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地利用都合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?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咱们自己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没有直接或间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破坏土地资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的行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1225440" cy="208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8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797360"/>
            <a:ext cx="9144000" cy="1632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拓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咱们学校或你家所在的小区的土地利用你有什么合理化建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和你的好朋友们一起也完成一个简单的规划图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0720" cy="38163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lastslide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56000" y="177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98600"/>
                </a:solidFill>
                <a:latin typeface="Arial"/>
              </a:rPr>
              <a:t>谢谢大家，再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33440" y="0"/>
            <a:ext cx="8099280" cy="6521400"/>
            <a:chOff x="433440" y="0"/>
            <a:chExt cx="8099280" cy="65214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433440" y="0"/>
              <a:ext cx="8099280" cy="65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058160" y="35002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89440" y="177336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49800" y="3860640"/>
              <a:ext cx="9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1800" y="26028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5911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家将如何利用这一片片土地来发展咱们的未来事业？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友情提示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结合各地的地形、气候及社会经济等条件考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41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的地盘我做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1484280"/>
            <a:ext cx="4751280" cy="3673440"/>
            <a:chOff x="0" y="1484280"/>
            <a:chExt cx="4751280" cy="367344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0" y="1484280"/>
              <a:ext cx="475128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851280" y="342900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59280" y="2492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95800" y="3657600"/>
              <a:ext cx="5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64000" y="1628640"/>
              <a:ext cx="5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grpSp>
        <p:nvGrpSpPr>
          <p:cNvPr id="68" name=""/>
          <p:cNvGrpSpPr/>
          <p:nvPr/>
        </p:nvGrpSpPr>
        <p:grpSpPr>
          <a:xfrm>
            <a:off x="4608360" y="3429000"/>
            <a:ext cx="4571640" cy="3428640"/>
            <a:chOff x="4608360" y="3429000"/>
            <a:chExt cx="4571640" cy="3428640"/>
          </a:xfrm>
        </p:grpSpPr>
        <p:pic>
          <p:nvPicPr>
            <p:cNvPr id="69" name="" descr=""/>
            <p:cNvPicPr/>
            <p:nvPr/>
          </p:nvPicPr>
          <p:blipFill>
            <a:blip r:embed="rId3"/>
            <a:srcRect l="1644" t="2047" r="2480" b="1271"/>
            <a:stretch/>
          </p:blipFill>
          <p:spPr>
            <a:xfrm>
              <a:off x="4608360" y="3429000"/>
              <a:ext cx="457164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869440" y="3501360"/>
              <a:ext cx="30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60093"/>
                  </a:solidFill>
                  <a:latin typeface="Arial"/>
                </a:rPr>
                <a:t>我国的气候类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95280" y="476280"/>
            <a:ext cx="22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描绘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000" y="537372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地制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333360"/>
            <a:ext cx="5940000" cy="4824000"/>
            <a:chOff x="0" y="333360"/>
            <a:chExt cx="5940000" cy="48240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333360"/>
              <a:ext cx="5940000" cy="48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815000" y="2887200"/>
              <a:ext cx="5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4640" y="1657080"/>
              <a:ext cx="63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20560" y="31874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55720" y="52272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2"/>
          <a:srcRect l="18204" t="31755" r="3478" b="3470"/>
          <a:stretch/>
        </p:blipFill>
        <p:spPr>
          <a:xfrm>
            <a:off x="5146560" y="2133720"/>
            <a:ext cx="3795840" cy="3959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76720" y="870120"/>
            <a:ext cx="3921120" cy="1239840"/>
          </a:xfrm>
          <a:prstGeom prst="borderCallout1">
            <a:avLst>
              <a:gd name="adj1" fmla="val -1994"/>
              <a:gd name="adj2" fmla="val -1328"/>
              <a:gd name="adj3" fmla="val 20970"/>
              <a:gd name="adj4" fmla="val -1328"/>
            </a:avLst>
          </a:prstGeom>
          <a:solidFill>
            <a:srgbClr val="d5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里是山区，地形复杂不利于耕作，但气候湿润、森林茂密，可发展林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5445000"/>
            <a:ext cx="2160720" cy="981360"/>
          </a:xfrm>
          <a:prstGeom prst="cloudCallout">
            <a:avLst>
              <a:gd name="adj1" fmla="val 103856"/>
              <a:gd name="adj2" fmla="val -169092"/>
            </a:avLst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5940000" cy="4824000"/>
            <a:chOff x="0" y="0"/>
            <a:chExt cx="5940000" cy="48240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940000" cy="48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815000" y="2553840"/>
              <a:ext cx="5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24640" y="1323720"/>
              <a:ext cx="63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0560" y="285408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55720" y="18936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55640" y="5516640"/>
            <a:ext cx="2160720" cy="981000"/>
          </a:xfrm>
          <a:prstGeom prst="cloudCallout">
            <a:avLst>
              <a:gd name="adj1" fmla="val 120902"/>
              <a:gd name="adj2" fmla="val -22459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608360" cy="446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42960"/>
            <a:ext cx="3961080" cy="914400"/>
          </a:xfrm>
          <a:prstGeom prst="borderCallout1">
            <a:avLst>
              <a:gd name="adj1" fmla="val -4424"/>
              <a:gd name="adj2" fmla="val 23400"/>
              <a:gd name="adj3" fmla="val 20977"/>
              <a:gd name="adj4" fmla="val 23400"/>
            </a:avLst>
          </a:prstGeom>
          <a:solidFill>
            <a:srgbClr val="ffff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里水草肥美，人们在这里放牧牛、羊，发展畜牧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203640" y="0"/>
            <a:ext cx="5940000" cy="4824000"/>
            <a:chOff x="3203640" y="0"/>
            <a:chExt cx="5940000" cy="482400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3203640" y="0"/>
              <a:ext cx="5940000" cy="48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018640" y="2553840"/>
              <a:ext cx="5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28280" y="1323720"/>
              <a:ext cx="63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24200" y="285408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59360" y="18936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5976720" cy="374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1654200"/>
            <a:ext cx="6048360" cy="1290600"/>
          </a:xfrm>
          <a:prstGeom prst="borderCallout1">
            <a:avLst>
              <a:gd name="adj1" fmla="val 25313"/>
              <a:gd name="adj2" fmla="val 22875"/>
              <a:gd name="adj3" fmla="val 408"/>
              <a:gd name="adj4" fmla="val 22875"/>
            </a:avLst>
          </a:prstGeom>
          <a:solidFill>
            <a:srgbClr val="abffa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里地势低平，土壤肥沃，气候湿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们在这里种植水稻、油菜等农作物，发展种植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5229360"/>
            <a:ext cx="2160720" cy="981000"/>
          </a:xfrm>
          <a:prstGeom prst="cloudCallout">
            <a:avLst>
              <a:gd name="adj1" fmla="val -84166"/>
              <a:gd name="adj2" fmla="val -23640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耕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824360" cy="3600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3284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浦东国际机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4968720" cy="380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56000" y="393372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东方明珠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4969080" cy="381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4920" y="47973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滨江大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059280" y="2276640"/>
            <a:ext cx="5041800" cy="3608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24360" y="51577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海科技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708360" y="2924280"/>
            <a:ext cx="5221440" cy="367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03640" y="59500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金茂大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476280"/>
            <a:ext cx="2411280" cy="1054080"/>
          </a:xfrm>
          <a:prstGeom prst="cloudCallout">
            <a:avLst>
              <a:gd name="adj1" fmla="val -230250"/>
              <a:gd name="adj2" fmla="val 399546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设用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50920" y="260280"/>
            <a:ext cx="5041800" cy="4032360"/>
            <a:chOff x="250920" y="260280"/>
            <a:chExt cx="5041800" cy="40323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250920" y="260280"/>
              <a:ext cx="504180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50920" y="618120"/>
              <a:ext cx="103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沙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042920" y="1341360"/>
            <a:ext cx="5327640" cy="4032000"/>
            <a:chOff x="1042920" y="1341360"/>
            <a:chExt cx="5327640" cy="403200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1042920" y="1341360"/>
              <a:ext cx="532764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166360" y="1559520"/>
              <a:ext cx="107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戈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651640" y="189000"/>
            <a:ext cx="3492360" cy="1270080"/>
          </a:xfrm>
          <a:prstGeom prst="cloudCallout">
            <a:avLst>
              <a:gd name="adj1" fmla="val -124134"/>
              <a:gd name="adj2" fmla="val 895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难利用的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68360" y="2276640"/>
            <a:ext cx="5042160" cy="3816360"/>
            <a:chOff x="2268360" y="2276640"/>
            <a:chExt cx="5042160" cy="38163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268360" y="2276640"/>
              <a:ext cx="504216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338920" y="2276640"/>
              <a:ext cx="23292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冰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石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1440" y="3068640"/>
            <a:ext cx="5111280" cy="3528720"/>
            <a:chOff x="3781440" y="3068640"/>
            <a:chExt cx="5111280" cy="352872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3781440" y="3069720"/>
              <a:ext cx="511128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067160" y="3068640"/>
              <a:ext cx="182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雪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1:11:18Z</dcterms:created>
  <dc:creator>xuhui</dc:creator>
  <dc:description/>
  <dc:language>en-US</dc:language>
  <cp:lastModifiedBy>xuhui</cp:lastModifiedBy>
  <dcterms:modified xsi:type="dcterms:W3CDTF">2008-01-19T16:43:02Z</dcterms:modified>
  <cp:revision>51</cp:revision>
  <dc:subject/>
  <dc:title>幻灯片 1</dc:title>
</cp:coreProperties>
</file>