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arrow.wav" ContentType="audio/x-wav"/>
  <Override PartName="/ppt/media/image13.jpeg" ContentType="image/jpeg"/>
  <Override PartName="/ppt/media/image34.jpeg" ContentType="image/jpeg"/>
  <Override PartName="/ppt/media/image7.gif" ContentType="image/gif"/>
  <Override PartName="/ppt/media/image29.jpeg" ContentType="image/jpeg"/>
  <Override PartName="/ppt/media/image28.jpeg" ContentType="image/jpeg"/>
  <Override PartName="/ppt/media/whoosh.wav" ContentType="audio/x-wav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png" ContentType="image/png"/>
  <Override PartName="/ppt/media/image6.jpeg" ContentType="image/jpeg"/>
  <Override PartName="/ppt/media/image27.jpeg" ContentType="image/jpeg"/>
  <Override PartName="/ppt/media/image8.gif" ContentType="image/gif"/>
  <Override PartName="/ppt/media/image15.png" ContentType="image/png"/>
  <Override PartName="/ppt/media/image18.jpeg" ContentType="image/jpe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  <p:custShowLst>
    <p:custShow name="自定义放映1" id="0">
      <p:sldLst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D3B6-CE79-4BF5-915E-82440987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803-BD58-4FCC-BFB6-E2576C3F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6DF20-4313-46A8-A9CA-FF497567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FDE57-99B6-4BD5-9B8A-C5901A93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9636B-64AF-4771-95B9-13DD2F40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79F52-836A-42D7-AC0A-00F08F86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9640F-AAC0-45C7-B477-B5E9A8A5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1665C-A4DB-4087-8F58-D8EC2EE3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3A77F-BA75-4E7C-9298-FCCE8A02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314C6-4BB4-4D25-88AF-7F60F49A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F22E8-FE2A-449C-BD01-FF625C12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40AF1-8A67-4F1C-A5D2-22563548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2BA2-5BE0-4294-A0BF-18D9B16D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147DD-28EF-4318-8508-227E84AC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9A83B-2C83-4D41-A996-89C9A2BA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24A52-8577-4471-8445-40E0E6D1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26AE1-2914-4D84-BCE3-F55D43E0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753BA-66F9-4FF9-9447-5D4B4172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C097B-5E1C-45E8-B8D9-0ECBE309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40E9F-251E-433C-AB99-576C8CC2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D0CEE-F760-49F0-838C-B3DF3227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8294B-9923-4181-96E0-0FFC42CF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2B022-B458-4103-B218-1F8E8D17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E5F6-C9CD-4130-8E06-7633B407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B049C-D0B0-464C-83FC-9ECF7DDB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E565-CDD3-4DA2-B1BB-750FA253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3815-6B19-40CB-923F-7E20F63C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9E95-B70C-4FC7-8FA3-3EB1F38C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10E7-3DDB-43A7-95FF-7EAB5CDF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0E61-FC74-4EB3-9A7F-80E7B095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767E-FE13-4024-82F7-D17925A7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2E5C-0846-4EB2-A3DB-05BA8AF7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DD11-E187-4C6F-A764-22C5C41B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7975-60B0-4791-9E7A-3571DFDE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14FE-9073-4649-8973-EBCAC776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4BFF-EDA8-4136-9479-DC9FA5FF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18AE-7697-4CC1-8AA6-BB33BD58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2D09-A3C4-4DD4-8A54-6ECA6668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71059-825C-4B24-9A82-33838EA8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B9053-55B5-4F37-95BE-0BD18C2B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A7689-B3A4-4280-831C-1C5A4C0D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1DD50-EB07-421D-86AA-33DD427D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51BA3-CDBF-4868-8D66-F2019B81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9D0A-61FC-4378-A916-9168F170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18367-E513-46E3-9F01-FABD3EC4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16E9F-361E-4438-8D50-28ECA04F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DD889-1A0F-4FC9-8A50-F670F084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6847A-62BE-45FA-A010-B3A1799F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B61DD-609B-462A-995B-DE368381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CF300-F90B-4F0C-B4EE-084BC5FC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9880A-1DB9-415A-AC09-862BB35A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569C6-9902-4C7B-902D-830EAE5C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6A937-3165-4FB6-AD0A-980FB3D0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48DE4-2730-48A1-8422-F46679DC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DC96-F8A1-4303-8BBA-9414ADC5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CF733-B965-4881-9948-490B8072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E089C-D27A-4191-8C5B-8B71FAA2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33F38-97CF-4BC9-83BF-FF5329B1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C78A6-F01D-4C9E-8C4F-C1171B40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078AE-C6B2-49B9-9659-8C833F31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A353D-A3E9-42D9-8233-A068FDA6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815C6-DC0A-4755-91DC-B3A12DDE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752AD-3678-428A-926F-A8EEC554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C1FE8-5EEE-4E54-9FC7-1A764356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2F36D-C42D-4C06-B75C-780DF2F8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D495-780B-400B-815E-7A85EE8B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52EAE-9BCB-47C7-A62F-0F6CF9D7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C2738-7E27-4E59-94A0-EAD66209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3B900-DCA5-44C6-AA37-6F6560CD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8E73B-0B77-4777-85AB-9DD6CFCB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A74E6-2D66-4489-B0B9-1B7E7F75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056A8-9045-4467-91E2-34170693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55286-6FE6-45BD-A69E-16DBD7ED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83025-0C4A-48E1-9821-5F650D4E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58227-2F8A-45ED-9F41-FD788CA2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B57E6-83F0-4D92-B44A-113EDFB7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4E3C-C62F-47A6-9EAE-573880B7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64E47-C2D0-4B0B-A909-8F9D0F23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F39B8-D83A-4344-BCC6-72AF6E69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4F253-77FF-452E-81B1-8EF643F1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E2C6C-99A3-4CD7-BD92-9716FCDA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01FD6-0DF3-4D37-B348-C530DFF0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5BD93-A97C-4901-830A-AB4C6BD7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54AD7-7BA0-4E15-ACC5-70D22B4A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3725A-CE4E-42D3-ABDA-FDE3895F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4EE88-7AB4-44B5-A253-25F93E18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9C495-BBD9-4F5F-BD08-C280CF36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75F-17F4-42F8-B0A1-6E1BA195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CE093-3FED-4215-A26A-F6EBEF2E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50FA9-8826-45FD-BBC4-CF46D8F6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91B82-0E1B-417F-A0EC-D24D1019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11404-2C41-4334-AD44-239AFEF1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AC8E4-FFEA-4D6E-AB64-AB3CF739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BC1A0-C2C9-4AFC-BD07-F4561BE0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B53B8-2017-4949-8FF7-6E8196B0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AD633-713B-41F9-896A-AD484FAC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A8FB7-2935-49F0-B30A-4BD8E145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0DD8F-A9FD-4461-B1A9-3F9BE42A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F7AB-E23E-4299-BA0E-4D8F74F3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7A84A-3125-4DDC-81AB-14C7D300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9B485-FEF6-430B-A5A9-7B825F72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0461A-7D4C-429A-8102-CC34D895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76FB5-6692-4373-BC03-D424651E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790EE-C4CB-476C-A765-C0D4EBF4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6E8BC-D638-401D-AB68-07DBE962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FAFD2-7B63-4999-BAC8-FC65F4D9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DB265-AA76-4E6C-8F0A-1FB7233B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875C1-154B-40BB-8E5C-41BC7DFF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38201-DB97-4B17-A74D-83BCAFCC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BD3-27CD-4570-9FBE-2994939C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F2197-A838-4063-84AC-C3F4A3F8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551AA-D285-4EE3-98C9-E2DAC63A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0F87C-FB2F-4945-8EFC-B477D7B3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F07E7-8738-4547-A393-17745FFA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0354E-32D5-420A-93BF-1BD83DC6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4ED9E-F89E-4A3F-B52C-4A3B14D4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12984-AB8E-4512-89A0-A1FC725D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E0869-98E2-465E-82E4-2458B869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11F9B-9EE1-4FA4-9711-2478883A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D4139-A8F6-4948-BB98-97BA2110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B9F2-AA58-4EB9-9C29-46F73D0213E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BAE2-D65E-4866-B62E-E73EE4B42F09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A2B6-CCFC-4952-BB38-0BBA908F09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CB31-E0DD-4825-80AA-DD1EF81FD777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3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DEF5-52F6-4281-AE7D-152E7396E533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9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8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1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E685-0FFF-4BFF-BB1B-EA4AD1C72B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0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03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15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34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52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2556-4542-4BF1-BA2C-A37D4824D6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1105-F292-4786-8CF8-48481CEE9EC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51B6-62A1-4A9F-9979-5D0037C66CA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E4E0-EDC7-4A5D-B69E-B47CCD9247A5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audio" Target="../media/whoosh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image" Target="../media/image9.jpeg"/><Relationship Id="rId5" Type="http://schemas.openxmlformats.org/officeDocument/2006/relationships/image" Target="../media/image12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235880" y="971640"/>
            <a:ext cx="48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华文隶书"/>
                <a:ea typeface="华文隶书"/>
              </a:rPr>
              <a:t>义务教育新课标实验教科书  八年级 地理</a:t>
            </a:r>
            <a:r>
              <a:rPr b="1" lang="zh-CN" sz="2400" spc="-1" strike="noStrike">
                <a:solidFill>
                  <a:srgbClr val="800080"/>
                </a:solidFill>
                <a:latin typeface="华文隶书"/>
                <a:ea typeface="华文隶书"/>
              </a:rPr>
              <a:t>(</a:t>
            </a:r>
            <a:r>
              <a:rPr b="1" lang="zh-CN" sz="2400" spc="-1" strike="noStrike">
                <a:solidFill>
                  <a:srgbClr val="800080"/>
                </a:solidFill>
                <a:latin typeface="华文隶书"/>
                <a:ea typeface="华文隶书"/>
              </a:rPr>
              <a:t>上</a:t>
            </a:r>
            <a:r>
              <a:rPr b="1" lang="zh-CN" sz="2400" spc="-1" strike="noStrike">
                <a:solidFill>
                  <a:srgbClr val="800080"/>
                </a:solidFill>
                <a:latin typeface="华文隶书"/>
                <a:ea typeface="华文隶书"/>
              </a:rPr>
              <a:t>)</a:t>
            </a:r>
            <a:r>
              <a:rPr b="1" lang="zh-CN" sz="2400" spc="-1" strike="noStrike">
                <a:solidFill>
                  <a:srgbClr val="800080"/>
                </a:solidFill>
                <a:latin typeface="经典圆叠黑"/>
                <a:ea typeface="经典圆叠黑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7720" y="494496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华文行楷"/>
                <a:ea typeface="华文行楷"/>
              </a:rPr>
              <a:t>主讲</a:t>
            </a:r>
            <a:r>
              <a:rPr b="1" lang="zh-CN" sz="2400" spc="-1" strike="noStrike">
                <a:solidFill>
                  <a:srgbClr val="800080"/>
                </a:solidFill>
                <a:latin typeface="华文行楷"/>
                <a:ea typeface="华文行楷"/>
              </a:rPr>
              <a:t>:  </a:t>
            </a:r>
            <a:r>
              <a:rPr b="1" lang="zh-CN" sz="2400" spc="-1" strike="noStrike">
                <a:solidFill>
                  <a:srgbClr val="800080"/>
                </a:solidFill>
                <a:latin typeface="华文行楷"/>
                <a:ea typeface="华文行楷"/>
              </a:rPr>
              <a:t>竹溪县实验中学  李文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930320" y="2708280"/>
            <a:ext cx="4968720" cy="1009800"/>
            <a:chOff x="1930320" y="2708280"/>
            <a:chExt cx="4968720" cy="1009800"/>
          </a:xfrm>
        </p:grpSpPr>
        <p:sp>
          <p:nvSpPr>
            <p:cNvPr id="569" name=""/>
            <p:cNvSpPr/>
            <p:nvPr/>
          </p:nvSpPr>
          <p:spPr>
            <a:xfrm>
              <a:off x="2146320" y="2709720"/>
              <a:ext cx="4752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经典圆叠黑"/>
                  <a:ea typeface="经典圆叠黑"/>
                </a:rPr>
                <a:t>滔  滔  黄  河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28960" y="2708280"/>
              <a:ext cx="4752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9933"/>
                  </a:solidFill>
                  <a:latin typeface="经典圆叠黑"/>
                  <a:ea typeface="经典圆叠黑"/>
                </a:rPr>
                <a:t>滔  滔  黄  河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930320" y="2708280"/>
              <a:ext cx="4752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66"/>
                  </a:solidFill>
                  <a:latin typeface="经典圆叠黑"/>
                  <a:ea typeface="经典圆叠黑"/>
                </a:rPr>
                <a:t>滔  滔  黄  河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3"/>
          <a:stretch/>
        </p:blipFill>
        <p:spPr>
          <a:xfrm>
            <a:off x="8028000" y="5500800"/>
            <a:ext cx="104760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8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8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395280" y="2062080"/>
            <a:ext cx="8429760" cy="3672000"/>
          </a:xfrm>
          <a:prstGeom prst="rect">
            <a:avLst/>
          </a:prstGeom>
          <a:ln w="0">
            <a:noFill/>
          </a:ln>
        </p:spPr>
      </p:pic>
      <p:grpSp>
        <p:nvGrpSpPr>
          <p:cNvPr id="659" name=""/>
          <p:cNvGrpSpPr/>
          <p:nvPr/>
        </p:nvGrpSpPr>
        <p:grpSpPr>
          <a:xfrm>
            <a:off x="1776240" y="3224160"/>
            <a:ext cx="1104840" cy="971640"/>
            <a:chOff x="1776240" y="3224160"/>
            <a:chExt cx="1104840" cy="971640"/>
          </a:xfrm>
        </p:grpSpPr>
        <p:sp>
          <p:nvSpPr>
            <p:cNvPr id="660" name=""/>
            <p:cNvSpPr/>
            <p:nvPr/>
          </p:nvSpPr>
          <p:spPr>
            <a:xfrm>
              <a:off x="2195280" y="3643200"/>
              <a:ext cx="685800" cy="552600"/>
            </a:xfrm>
            <a:custGeom>
              <a:avLst/>
              <a:gdLst/>
              <a:ahLst/>
              <a:rect l="l" t="t" r="r" b="b"/>
              <a:pathLst>
                <a:path w="432" h="348">
                  <a:moveTo>
                    <a:pt x="12" y="0"/>
                  </a:moveTo>
                  <a:cubicBezTo>
                    <a:pt x="8" y="16"/>
                    <a:pt x="0" y="32"/>
                    <a:pt x="0" y="48"/>
                  </a:cubicBezTo>
                  <a:cubicBezTo>
                    <a:pt x="0" y="193"/>
                    <a:pt x="190" y="207"/>
                    <a:pt x="288" y="240"/>
                  </a:cubicBezTo>
                  <a:cubicBezTo>
                    <a:pt x="327" y="253"/>
                    <a:pt x="396" y="300"/>
                    <a:pt x="396" y="300"/>
                  </a:cubicBezTo>
                  <a:cubicBezTo>
                    <a:pt x="423" y="341"/>
                    <a:pt x="410" y="326"/>
                    <a:pt x="432" y="348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776240" y="3224160"/>
              <a:ext cx="1009800" cy="876240"/>
            </a:xfrm>
            <a:custGeom>
              <a:avLst/>
              <a:gdLst/>
              <a:ahLst/>
              <a:rect l="l" t="t" r="r" b="b"/>
              <a:pathLst>
                <a:path w="636" h="552">
                  <a:moveTo>
                    <a:pt x="0" y="0"/>
                  </a:moveTo>
                  <a:cubicBezTo>
                    <a:pt x="75" y="25"/>
                    <a:pt x="120" y="85"/>
                    <a:pt x="180" y="132"/>
                  </a:cubicBezTo>
                  <a:cubicBezTo>
                    <a:pt x="203" y="150"/>
                    <a:pt x="225" y="171"/>
                    <a:pt x="252" y="180"/>
                  </a:cubicBezTo>
                  <a:cubicBezTo>
                    <a:pt x="264" y="184"/>
                    <a:pt x="277" y="186"/>
                    <a:pt x="288" y="192"/>
                  </a:cubicBezTo>
                  <a:cubicBezTo>
                    <a:pt x="326" y="213"/>
                    <a:pt x="355" y="250"/>
                    <a:pt x="396" y="264"/>
                  </a:cubicBezTo>
                  <a:cubicBezTo>
                    <a:pt x="408" y="268"/>
                    <a:pt x="421" y="270"/>
                    <a:pt x="432" y="276"/>
                  </a:cubicBezTo>
                  <a:cubicBezTo>
                    <a:pt x="485" y="306"/>
                    <a:pt x="520" y="341"/>
                    <a:pt x="576" y="360"/>
                  </a:cubicBezTo>
                  <a:cubicBezTo>
                    <a:pt x="631" y="443"/>
                    <a:pt x="615" y="405"/>
                    <a:pt x="636" y="468"/>
                  </a:cubicBezTo>
                  <a:cubicBezTo>
                    <a:pt x="622" y="536"/>
                    <a:pt x="624" y="508"/>
                    <a:pt x="624" y="552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2367000" y="4253040"/>
            <a:ext cx="731880" cy="628560"/>
          </a:xfrm>
          <a:custGeom>
            <a:avLst/>
            <a:gdLst/>
            <a:ahLst/>
            <a:rect l="l" t="t" r="r" b="b"/>
            <a:pathLst>
              <a:path w="461" h="396">
                <a:moveTo>
                  <a:pt x="0" y="360"/>
                </a:moveTo>
                <a:cubicBezTo>
                  <a:pt x="20" y="356"/>
                  <a:pt x="41" y="355"/>
                  <a:pt x="60" y="348"/>
                </a:cubicBezTo>
                <a:cubicBezTo>
                  <a:pt x="133" y="321"/>
                  <a:pt x="55" y="314"/>
                  <a:pt x="144" y="336"/>
                </a:cubicBezTo>
                <a:cubicBezTo>
                  <a:pt x="240" y="320"/>
                  <a:pt x="251" y="304"/>
                  <a:pt x="348" y="336"/>
                </a:cubicBezTo>
                <a:cubicBezTo>
                  <a:pt x="356" y="348"/>
                  <a:pt x="360" y="364"/>
                  <a:pt x="372" y="372"/>
                </a:cubicBezTo>
                <a:cubicBezTo>
                  <a:pt x="393" y="385"/>
                  <a:pt x="444" y="396"/>
                  <a:pt x="444" y="396"/>
                </a:cubicBezTo>
                <a:cubicBezTo>
                  <a:pt x="448" y="384"/>
                  <a:pt x="461" y="372"/>
                  <a:pt x="456" y="360"/>
                </a:cubicBezTo>
                <a:cubicBezTo>
                  <a:pt x="451" y="347"/>
                  <a:pt x="430" y="346"/>
                  <a:pt x="420" y="336"/>
                </a:cubicBezTo>
                <a:cubicBezTo>
                  <a:pt x="410" y="326"/>
                  <a:pt x="404" y="312"/>
                  <a:pt x="396" y="300"/>
                </a:cubicBezTo>
                <a:cubicBezTo>
                  <a:pt x="400" y="288"/>
                  <a:pt x="410" y="276"/>
                  <a:pt x="408" y="264"/>
                </a:cubicBezTo>
                <a:cubicBezTo>
                  <a:pt x="406" y="250"/>
                  <a:pt x="384" y="242"/>
                  <a:pt x="384" y="228"/>
                </a:cubicBezTo>
                <a:cubicBezTo>
                  <a:pt x="384" y="203"/>
                  <a:pt x="408" y="156"/>
                  <a:pt x="408" y="156"/>
                </a:cubicBezTo>
                <a:cubicBezTo>
                  <a:pt x="397" y="113"/>
                  <a:pt x="380" y="75"/>
                  <a:pt x="360" y="36"/>
                </a:cubicBezTo>
                <a:cubicBezTo>
                  <a:pt x="354" y="23"/>
                  <a:pt x="336" y="0"/>
                  <a:pt x="336" y="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129280" y="3338640"/>
            <a:ext cx="585720" cy="1258920"/>
          </a:xfrm>
          <a:custGeom>
            <a:avLst/>
            <a:gdLst/>
            <a:ahLst/>
            <a:rect l="l" t="t" r="r" b="b"/>
            <a:pathLst>
              <a:path w="369" h="793">
                <a:moveTo>
                  <a:pt x="300" y="0"/>
                </a:moveTo>
                <a:cubicBezTo>
                  <a:pt x="240" y="40"/>
                  <a:pt x="233" y="90"/>
                  <a:pt x="264" y="168"/>
                </a:cubicBezTo>
                <a:cubicBezTo>
                  <a:pt x="269" y="180"/>
                  <a:pt x="289" y="174"/>
                  <a:pt x="300" y="180"/>
                </a:cubicBezTo>
                <a:cubicBezTo>
                  <a:pt x="313" y="186"/>
                  <a:pt x="324" y="196"/>
                  <a:pt x="336" y="204"/>
                </a:cubicBezTo>
                <a:cubicBezTo>
                  <a:pt x="344" y="216"/>
                  <a:pt x="358" y="226"/>
                  <a:pt x="360" y="240"/>
                </a:cubicBezTo>
                <a:cubicBezTo>
                  <a:pt x="369" y="301"/>
                  <a:pt x="309" y="354"/>
                  <a:pt x="264" y="384"/>
                </a:cubicBezTo>
                <a:cubicBezTo>
                  <a:pt x="251" y="423"/>
                  <a:pt x="227" y="452"/>
                  <a:pt x="216" y="492"/>
                </a:cubicBezTo>
                <a:cubicBezTo>
                  <a:pt x="192" y="575"/>
                  <a:pt x="214" y="515"/>
                  <a:pt x="192" y="636"/>
                </a:cubicBezTo>
                <a:cubicBezTo>
                  <a:pt x="183" y="683"/>
                  <a:pt x="178" y="664"/>
                  <a:pt x="156" y="708"/>
                </a:cubicBezTo>
                <a:cubicBezTo>
                  <a:pt x="148" y="724"/>
                  <a:pt x="141" y="771"/>
                  <a:pt x="120" y="780"/>
                </a:cubicBezTo>
                <a:cubicBezTo>
                  <a:pt x="88" y="793"/>
                  <a:pt x="39" y="792"/>
                  <a:pt x="0" y="792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071880" y="4602240"/>
            <a:ext cx="1923840" cy="469800"/>
          </a:xfrm>
          <a:custGeom>
            <a:avLst/>
            <a:gdLst/>
            <a:ahLst/>
            <a:rect l="l" t="t" r="r" b="b"/>
            <a:pathLst>
              <a:path w="1212" h="296">
                <a:moveTo>
                  <a:pt x="0" y="32"/>
                </a:moveTo>
                <a:cubicBezTo>
                  <a:pt x="84" y="4"/>
                  <a:pt x="48" y="0"/>
                  <a:pt x="108" y="20"/>
                </a:cubicBezTo>
                <a:cubicBezTo>
                  <a:pt x="141" y="119"/>
                  <a:pt x="203" y="126"/>
                  <a:pt x="300" y="140"/>
                </a:cubicBezTo>
                <a:cubicBezTo>
                  <a:pt x="399" y="206"/>
                  <a:pt x="343" y="184"/>
                  <a:pt x="468" y="200"/>
                </a:cubicBezTo>
                <a:cubicBezTo>
                  <a:pt x="532" y="243"/>
                  <a:pt x="564" y="239"/>
                  <a:pt x="648" y="248"/>
                </a:cubicBezTo>
                <a:cubicBezTo>
                  <a:pt x="672" y="256"/>
                  <a:pt x="696" y="264"/>
                  <a:pt x="720" y="272"/>
                </a:cubicBezTo>
                <a:cubicBezTo>
                  <a:pt x="732" y="276"/>
                  <a:pt x="744" y="280"/>
                  <a:pt x="756" y="284"/>
                </a:cubicBezTo>
                <a:cubicBezTo>
                  <a:pt x="768" y="288"/>
                  <a:pt x="792" y="296"/>
                  <a:pt x="792" y="296"/>
                </a:cubicBezTo>
                <a:cubicBezTo>
                  <a:pt x="848" y="292"/>
                  <a:pt x="882" y="274"/>
                  <a:pt x="936" y="260"/>
                </a:cubicBezTo>
                <a:cubicBezTo>
                  <a:pt x="964" y="253"/>
                  <a:pt x="1003" y="240"/>
                  <a:pt x="1032" y="236"/>
                </a:cubicBezTo>
                <a:cubicBezTo>
                  <a:pt x="1060" y="232"/>
                  <a:pt x="1088" y="228"/>
                  <a:pt x="1116" y="224"/>
                </a:cubicBezTo>
                <a:cubicBezTo>
                  <a:pt x="1171" y="206"/>
                  <a:pt x="1139" y="212"/>
                  <a:pt x="1212" y="212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119320" y="3129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湟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043000" y="4195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洮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rot="862200">
            <a:off x="5601240" y="3408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汾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19520" y="4500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渭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19720" y="2671920"/>
            <a:ext cx="76320" cy="759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243400" y="2290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河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700600" y="4805280"/>
            <a:ext cx="76320" cy="763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624640" y="442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旧孟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-181080" y="561600"/>
            <a:ext cx="34689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隶书"/>
              </a:rPr>
              <a:t>黄河水系图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8" dur="1" fill="hold"/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064760" y="44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Arial"/>
                <a:ea typeface="方正姚体"/>
              </a:rPr>
              <a:t>长江、黄河概况对比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324000" y="765000"/>
          <a:ext cx="8743680" cy="5670720"/>
        </p:xfrm>
        <a:graphic>
          <a:graphicData uri="http://schemas.openxmlformats.org/drawingml/2006/table">
            <a:tbl>
              <a:tblPr/>
              <a:tblGrid>
                <a:gridCol w="1726920"/>
                <a:gridCol w="3587760"/>
                <a:gridCol w="3429000"/>
              </a:tblGrid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ff99"/>
                          </a:solidFill>
                          <a:latin typeface="Arial"/>
                          <a:ea typeface="宋体"/>
                        </a:rPr>
                        <a:t>长        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ff99"/>
                          </a:solidFill>
                          <a:latin typeface="Arial"/>
                          <a:ea typeface="宋体"/>
                        </a:rPr>
                        <a:t>黄        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"/>
          <p:cNvSpPr/>
          <p:nvPr/>
        </p:nvSpPr>
        <p:spPr>
          <a:xfrm>
            <a:off x="615636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580000" y="19051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"/>
                <a:ea typeface="宋体"/>
              </a:rPr>
              <a:t>青、巴颜喀拉山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580000" y="26067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ff9933"/>
                </a:solidFill>
                <a:latin typeface="Arial"/>
                <a:ea typeface="宋体"/>
              </a:rPr>
              <a:t>渤         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968880" y="3292560"/>
            <a:ext cx="7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"/>
                <a:ea typeface="宋体"/>
              </a:rPr>
              <a:t>青、川、甘、宁、内蒙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"/>
                <a:ea typeface="宋体"/>
              </a:rPr>
              <a:t>晋、陕、豫、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621400" y="4816440"/>
            <a:ext cx="370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"/>
                <a:ea typeface="宋体"/>
              </a:rPr>
              <a:t>75</a:t>
            </a:r>
            <a:r>
              <a:rPr b="1" lang="zh-CN" sz="2400" spc="-1" strike="noStrike">
                <a:solidFill>
                  <a:srgbClr val="ff9933"/>
                </a:solidFill>
                <a:latin typeface="Arial"/>
                <a:ea typeface="宋体"/>
              </a:rPr>
              <a:t>万平方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032520" y="5425920"/>
            <a:ext cx="239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"/>
                <a:ea typeface="宋体"/>
              </a:rPr>
              <a:t>5464</a:t>
            </a:r>
            <a:r>
              <a:rPr b="1" lang="zh-CN" sz="2400" spc="-1" strike="noStrike">
                <a:solidFill>
                  <a:srgbClr val="ff9933"/>
                </a:solidFill>
                <a:latin typeface="Arial"/>
                <a:ea typeface="宋体"/>
              </a:rPr>
              <a:t>千米，是我国第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"/>
                <a:ea typeface="宋体"/>
              </a:rPr>
              <a:t>长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773800" y="1890720"/>
            <a:ext cx="219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青藏高原上的唐古拉山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556000" y="263700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东        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162160" y="3276720"/>
            <a:ext cx="324792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青、藏、川、滇、渝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鄂、湘、赣、皖、苏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166840" y="4800600"/>
            <a:ext cx="354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万平方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65480" y="5415120"/>
            <a:ext cx="116820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63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千米，是我国第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长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68360" y="18921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Times New Roman"/>
                <a:ea typeface="宋体"/>
              </a:rPr>
              <a:t>发源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52360" y="26114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Times New Roman"/>
                <a:ea typeface="宋体"/>
              </a:rPr>
              <a:t>注入的大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68360" y="361476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Times New Roman"/>
                <a:ea typeface="宋体"/>
              </a:rPr>
              <a:t>干流流经的省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68360" y="4869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Times New Roman"/>
                <a:ea typeface="宋体"/>
              </a:rPr>
              <a:t>流域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50920" y="566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Times New Roman"/>
                <a:ea typeface="宋体"/>
              </a:rPr>
              <a:t>干流长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88440" y="404640"/>
            <a:ext cx="335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ae8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8ae8"/>
                </a:solidFill>
                <a:latin typeface="Arial"/>
                <a:ea typeface="隶书"/>
              </a:rPr>
              <a:t>江  南” 风 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2"/>
          <a:stretch/>
        </p:blipFill>
        <p:spPr>
          <a:xfrm>
            <a:off x="4861080" y="1268280"/>
            <a:ext cx="3598560" cy="215928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694" name="" descr=""/>
          <p:cNvPicPr/>
          <p:nvPr/>
        </p:nvPicPr>
        <p:blipFill>
          <a:blip r:embed="rId3"/>
          <a:stretch/>
        </p:blipFill>
        <p:spPr>
          <a:xfrm>
            <a:off x="612720" y="1270080"/>
            <a:ext cx="3598920" cy="2158920"/>
          </a:xfrm>
          <a:prstGeom prst="rect">
            <a:avLst/>
          </a:prstGeom>
          <a:ln w="9360">
            <a:solidFill>
              <a:srgbClr val="ff6699"/>
            </a:solidFill>
            <a:miter/>
          </a:ln>
        </p:spPr>
      </p:pic>
      <p:sp>
        <p:nvSpPr>
          <p:cNvPr id="695" name=""/>
          <p:cNvSpPr/>
          <p:nvPr/>
        </p:nvSpPr>
        <p:spPr>
          <a:xfrm>
            <a:off x="539640" y="1125360"/>
            <a:ext cx="3816360" cy="0"/>
          </a:xfrm>
          <a:prstGeom prst="line">
            <a:avLst/>
          </a:prstGeom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716360" y="3645000"/>
            <a:ext cx="3959280" cy="0"/>
          </a:xfrm>
          <a:prstGeom prst="line">
            <a:avLst/>
          </a:prstGeom>
          <a:ln w="9360">
            <a:solidFill>
              <a:srgbClr val="008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716360" y="3789360"/>
            <a:ext cx="3959280" cy="0"/>
          </a:xfrm>
          <a:prstGeom prst="line">
            <a:avLst/>
          </a:prstGeom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4"/>
          <a:stretch/>
        </p:blipFill>
        <p:spPr>
          <a:xfrm>
            <a:off x="612720" y="3645000"/>
            <a:ext cx="3598920" cy="21589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699" name=""/>
          <p:cNvSpPr/>
          <p:nvPr/>
        </p:nvSpPr>
        <p:spPr>
          <a:xfrm>
            <a:off x="5535720" y="41450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经典美黑简"/>
              </a:rPr>
              <a:t>塞上江南——宁夏平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505480" y="4890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经典美黑简"/>
              </a:rPr>
              <a:t>塞外江南——河套平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796000" y="2924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9612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735280" cy="2879640"/>
          </a:xfrm>
          <a:prstGeom prst="rect">
            <a:avLst/>
          </a:prstGeom>
          <a:ln w="9360">
            <a:solidFill>
              <a:srgbClr val="ff6699"/>
            </a:solidFill>
            <a:miter/>
          </a:ln>
        </p:spPr>
      </p:pic>
      <p:sp>
        <p:nvSpPr>
          <p:cNvPr id="704" name=""/>
          <p:cNvSpPr/>
          <p:nvPr/>
        </p:nvSpPr>
        <p:spPr>
          <a:xfrm>
            <a:off x="217440" y="403200"/>
            <a:ext cx="27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隶书"/>
              </a:rPr>
              <a:t>“ 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隶书"/>
              </a:rPr>
              <a:t>峡谷“ 风 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4000" y="1052640"/>
            <a:ext cx="360036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-252360" y="6021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08000" y="1700280"/>
            <a:ext cx="8964720" cy="316872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332000" y="7316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9612360" y="4653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157400" y="5235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经典趣体简"/>
              </a:rPr>
              <a:t>龙羊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110120" y="5229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经典趣体简"/>
              </a:rPr>
              <a:t>刘家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989760" y="5235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经典趣体简"/>
              </a:rPr>
              <a:t>青铜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19280" y="6524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6229440" y="1844640"/>
            <a:ext cx="2735280" cy="287964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715" name="" descr=""/>
          <p:cNvPicPr/>
          <p:nvPr/>
        </p:nvPicPr>
        <p:blipFill>
          <a:blip r:embed="rId3"/>
          <a:stretch/>
        </p:blipFill>
        <p:spPr>
          <a:xfrm>
            <a:off x="3203640" y="1844640"/>
            <a:ext cx="2735280" cy="287964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p:transition spd="slow">
    <p:split dir="out" orient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c9fcb"/>
            </a:gs>
            <a:gs pos="100000">
              <a:srgbClr val="74495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5398920" cy="180036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717" name="" descr=""/>
          <p:cNvPicPr/>
          <p:nvPr/>
        </p:nvPicPr>
        <p:blipFill>
          <a:blip r:embed="rId2"/>
          <a:stretch/>
        </p:blipFill>
        <p:spPr>
          <a:xfrm>
            <a:off x="325440" y="4581360"/>
            <a:ext cx="5398920" cy="180036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sp>
        <p:nvSpPr>
          <p:cNvPr id="718" name=""/>
          <p:cNvSpPr/>
          <p:nvPr/>
        </p:nvSpPr>
        <p:spPr>
          <a:xfrm>
            <a:off x="6443640" y="5950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04000" y="5950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227640" y="5877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132000" y="580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948360" y="5734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189920" y="98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33"/>
                </a:solidFill>
                <a:latin typeface="Arial"/>
                <a:ea typeface="黑体"/>
              </a:rPr>
              <a:t>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732720" y="1125360"/>
            <a:ext cx="1655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018560" y="1819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饱含泥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018560" y="3532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地上悬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018560" y="5203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决口之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451640" y="2565360"/>
            <a:ext cx="73080" cy="792360"/>
          </a:xfrm>
          <a:prstGeom prst="downArrow">
            <a:avLst>
              <a:gd name="adj1" fmla="val 50000"/>
              <a:gd name="adj2" fmla="val 27105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451640" y="4292640"/>
            <a:ext cx="73080" cy="792000"/>
          </a:xfrm>
          <a:prstGeom prst="downArrow">
            <a:avLst>
              <a:gd name="adj1" fmla="val 50000"/>
              <a:gd name="adj2" fmla="val 27093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324000" y="2492280"/>
            <a:ext cx="5400360" cy="1728720"/>
            <a:chOff x="324000" y="2492280"/>
            <a:chExt cx="5400360" cy="1728720"/>
          </a:xfrm>
        </p:grpSpPr>
        <p:pic>
          <p:nvPicPr>
            <p:cNvPr id="731" name="" descr=""/>
            <p:cNvPicPr/>
            <p:nvPr/>
          </p:nvPicPr>
          <p:blipFill>
            <a:blip r:embed="rId3"/>
            <a:stretch/>
          </p:blipFill>
          <p:spPr>
            <a:xfrm>
              <a:off x="2484360" y="2492280"/>
              <a:ext cx="3240000" cy="1728720"/>
            </a:xfrm>
            <a:prstGeom prst="rect">
              <a:avLst/>
            </a:prstGeom>
            <a:ln w="9360">
              <a:solidFill>
                <a:srgbClr val="ff0066"/>
              </a:solidFill>
              <a:miter/>
            </a:ln>
          </p:spPr>
        </p:pic>
        <p:pic>
          <p:nvPicPr>
            <p:cNvPr id="732" name="" descr=""/>
            <p:cNvPicPr/>
            <p:nvPr/>
          </p:nvPicPr>
          <p:blipFill>
            <a:blip r:embed="rId4"/>
            <a:stretch/>
          </p:blipFill>
          <p:spPr>
            <a:xfrm>
              <a:off x="324000" y="2492280"/>
              <a:ext cx="2152440" cy="1724040"/>
            </a:xfrm>
            <a:prstGeom prst="rect">
              <a:avLst/>
            </a:prstGeom>
            <a:ln w="9360">
              <a:solidFill>
                <a:srgbClr val="ff0066"/>
              </a:solidFill>
              <a:miter/>
            </a:ln>
          </p:spPr>
        </p:pic>
      </p:grpSp>
    </p:spTree>
  </p:cSld>
  <p:transition spd="slow"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7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77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770" fill="hold"/>
                                        <p:tgtEl>
                                          <p:spTgt spid="7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77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770" fill="hold"/>
                                        <p:tgtEl>
                                          <p:spTgt spid="7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9" dur="77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000"/>
                            </p:stCondLst>
                            <p:childTnLst>
                              <p:par>
                                <p:cTn id="4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280360" cy="266544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468360" y="692280"/>
            <a:ext cx="8280360" cy="532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68360" y="371628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经典圆叠黑"/>
                <a:ea typeface="经典圆叠黑"/>
              </a:rPr>
              <a:t>    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据历史记载，自公元前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602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年到新中国成立前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多年中黄河下游因洪水决口泛滥达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1500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多次，平均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年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次，下游改道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次，每次决口泛滥，都造成“江河横溢，人为鱼鳖”的凄惨景象。例如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1933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年黄河发大水，下游决漫堤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72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处，使河北、山东、河南三省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67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个县受灾而积达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12000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平方千米，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364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万人流离失所，无家可归，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18000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多人被夺去了生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1320" y="330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  <a:ea typeface="隶书"/>
              </a:rPr>
              <a:t>看 历 史 资 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883908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2" dur="1" fill="hold"/>
                                        <p:tgtEl>
                                          <p:spTgt spid="7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47600" y="1052640"/>
            <a:ext cx="3598920" cy="253512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4643280" y="3645000"/>
            <a:ext cx="3598920" cy="236700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3614040" y="1159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经典细隶书简"/>
                <a:ea typeface="经典细隶书简"/>
              </a:rPr>
              <a:t>水 利 枢 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4360" y="836640"/>
            <a:ext cx="7848360" cy="547380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03240" y="186516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cc66"/>
                </a:solidFill>
                <a:latin typeface="Times New Roman"/>
                <a:ea typeface="宋体"/>
              </a:rPr>
              <a:t>——   </a:t>
            </a:r>
            <a:r>
              <a:rPr b="1" i="1" lang="zh-CN" sz="2400" spc="-1" strike="noStrike">
                <a:solidFill>
                  <a:srgbClr val="ffcc66"/>
                </a:solidFill>
                <a:latin typeface="Times New Roman"/>
                <a:ea typeface="宋体"/>
              </a:rPr>
              <a:t>三门峡水利枢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406160" y="4673520"/>
            <a:ext cx="23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cc66"/>
                </a:solidFill>
                <a:latin typeface="Times New Roman"/>
                <a:ea typeface="宋体"/>
              </a:rPr>
              <a:t>小浪底水利枢纽    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925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0" dur="1925" fill="hold"/>
                                        <p:tgtEl>
                                          <p:spTgt spid="7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2" dur="1925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4" dur="1925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925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1925" fill="hold"/>
                                        <p:tgtEl>
                                          <p:spTgt spid="7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7" dur="1925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9" dur="1925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0"/>
                            </p:stCondLst>
                            <p:childTnLst>
                              <p:par>
                                <p:cTn id="4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d2bcf2"/>
            </a:solidFill>
            <a:miter/>
          </a:ln>
          <a:effectLst>
            <a:outerShdw dist="17819" dir="2700000" blurRad="0" rotWithShape="0">
              <a:srgbClr val="7d709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61160" y="1020240"/>
            <a:ext cx="789840" cy="46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经典细隶书简"/>
              </a:rPr>
              <a:t>滔  滔  黄  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295280" y="1305000"/>
            <a:ext cx="360360" cy="424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185920" y="110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经典美黑简"/>
              </a:rPr>
              <a:t>黄河的概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185920" y="2327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经典美黑简"/>
              </a:rPr>
              <a:t>黄河的奉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185920" y="3630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经典美黑简"/>
              </a:rPr>
              <a:t>黄河的忧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185920" y="5070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经典美黑简"/>
              </a:rPr>
              <a:t>黄河的治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03600" y="235584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经典圆叠黑"/>
              </a:rPr>
              <a:t>——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塑造平原、富蕴水能、提供水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581280" y="37339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经典圆叠黑"/>
              </a:rPr>
              <a:t>——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饱含泥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403600" y="509256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经典圆叠黑"/>
              </a:rPr>
              <a:t>——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加固堤防、保持水土、修建水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5486400" y="3886200"/>
            <a:ext cx="533520" cy="763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7229520" y="3886200"/>
            <a:ext cx="466560" cy="666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756" name=""/>
          <p:cNvSpPr/>
          <p:nvPr/>
        </p:nvSpPr>
        <p:spPr>
          <a:xfrm>
            <a:off x="6228000" y="3700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地上悬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17120" y="3700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决口之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372360" y="189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蓦然回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45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609480" y="3808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能力拓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90720" y="1371600"/>
            <a:ext cx="716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请同学们课后查阅资料，了解黄河凌汛的原因及景象；了解黄河断流的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253160" y="396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321440" y="1752480"/>
            <a:ext cx="5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宋体"/>
                <a:ea typeface="经典趣体简"/>
              </a:rPr>
              <a:t>自绘黄河水系图，巩固黄河源流概况。</a:t>
            </a:r>
            <a:r>
              <a:rPr b="1" i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8763120" cy="59436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860436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3266" fill="hold"/>
                                        <p:tgtEl>
                                          <p:spTgt spid="5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8763120" cy="59436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8686800" cy="59436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8839440" cy="60199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8763120" cy="59436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152280" y="4437000"/>
            <a:ext cx="2159280" cy="21589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581" name="" descr=""/>
          <p:cNvPicPr/>
          <p:nvPr/>
        </p:nvPicPr>
        <p:blipFill>
          <a:blip r:embed="rId3"/>
          <a:stretch/>
        </p:blipFill>
        <p:spPr>
          <a:xfrm>
            <a:off x="6832440" y="189000"/>
            <a:ext cx="2159280" cy="21589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582" name="" descr=""/>
          <p:cNvPicPr/>
          <p:nvPr/>
        </p:nvPicPr>
        <p:blipFill>
          <a:blip r:embed="rId4"/>
          <a:stretch/>
        </p:blipFill>
        <p:spPr>
          <a:xfrm>
            <a:off x="152280" y="190440"/>
            <a:ext cx="2159280" cy="21589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583" name="" descr=""/>
          <p:cNvPicPr/>
          <p:nvPr/>
        </p:nvPicPr>
        <p:blipFill>
          <a:blip r:embed="rId5"/>
          <a:stretch/>
        </p:blipFill>
        <p:spPr>
          <a:xfrm>
            <a:off x="6832440" y="4508640"/>
            <a:ext cx="2159280" cy="21589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584" name="" descr=""/>
          <p:cNvPicPr/>
          <p:nvPr/>
        </p:nvPicPr>
        <p:blipFill>
          <a:blip r:embed="rId6"/>
          <a:stretch/>
        </p:blipFill>
        <p:spPr>
          <a:xfrm>
            <a:off x="2414520" y="1523880"/>
            <a:ext cx="4318200" cy="39625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5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8077320" cy="4240440"/>
          </a:xfrm>
          <a:prstGeom prst="rect">
            <a:avLst/>
          </a:prstGeom>
          <a:ln w="0">
            <a:noFill/>
          </a:ln>
        </p:spPr>
      </p:pic>
      <p:grpSp>
        <p:nvGrpSpPr>
          <p:cNvPr id="587" name=""/>
          <p:cNvGrpSpPr/>
          <p:nvPr/>
        </p:nvGrpSpPr>
        <p:grpSpPr>
          <a:xfrm>
            <a:off x="554760" y="4040280"/>
            <a:ext cx="2014200" cy="1579320"/>
            <a:chOff x="554760" y="4040280"/>
            <a:chExt cx="2014200" cy="1579320"/>
          </a:xfrm>
        </p:grpSpPr>
        <p:sp>
          <p:nvSpPr>
            <p:cNvPr id="588" name=""/>
            <p:cNvSpPr/>
            <p:nvPr/>
          </p:nvSpPr>
          <p:spPr>
            <a:xfrm rot="1966200">
              <a:off x="990360" y="4419720"/>
              <a:ext cx="1447560" cy="15228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953000">
              <a:off x="533160" y="458604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9933"/>
                  </a:solidFill>
                  <a:latin typeface="Times New Roman"/>
                  <a:ea typeface="经典圆叠黑"/>
                </a:rPr>
                <a:t>巴颜喀拉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1314360" y="2362320"/>
            <a:ext cx="6210360" cy="2514600"/>
          </a:xfrm>
          <a:custGeom>
            <a:avLst/>
            <a:gdLst/>
            <a:ahLst/>
            <a:rect l="l" t="t" r="r" b="b"/>
            <a:pathLst>
              <a:path w="3912" h="1584">
                <a:moveTo>
                  <a:pt x="0" y="1121"/>
                </a:moveTo>
                <a:cubicBezTo>
                  <a:pt x="21" y="1124"/>
                  <a:pt x="91" y="1129"/>
                  <a:pt x="120" y="1145"/>
                </a:cubicBezTo>
                <a:cubicBezTo>
                  <a:pt x="145" y="1159"/>
                  <a:pt x="192" y="1212"/>
                  <a:pt x="192" y="1212"/>
                </a:cubicBezTo>
                <a:cubicBezTo>
                  <a:pt x="256" y="1201"/>
                  <a:pt x="287" y="1166"/>
                  <a:pt x="348" y="1181"/>
                </a:cubicBezTo>
                <a:cubicBezTo>
                  <a:pt x="417" y="1284"/>
                  <a:pt x="393" y="1285"/>
                  <a:pt x="504" y="1313"/>
                </a:cubicBezTo>
                <a:cubicBezTo>
                  <a:pt x="518" y="1355"/>
                  <a:pt x="511" y="1403"/>
                  <a:pt x="528" y="1445"/>
                </a:cubicBezTo>
                <a:cubicBezTo>
                  <a:pt x="539" y="1472"/>
                  <a:pt x="657" y="1496"/>
                  <a:pt x="684" y="1505"/>
                </a:cubicBezTo>
                <a:cubicBezTo>
                  <a:pt x="708" y="1501"/>
                  <a:pt x="733" y="1501"/>
                  <a:pt x="756" y="1493"/>
                </a:cubicBezTo>
                <a:cubicBezTo>
                  <a:pt x="770" y="1488"/>
                  <a:pt x="778" y="1470"/>
                  <a:pt x="792" y="1469"/>
                </a:cubicBezTo>
                <a:cubicBezTo>
                  <a:pt x="820" y="1466"/>
                  <a:pt x="848" y="1477"/>
                  <a:pt x="876" y="1481"/>
                </a:cubicBezTo>
                <a:cubicBezTo>
                  <a:pt x="900" y="1489"/>
                  <a:pt x="934" y="1484"/>
                  <a:pt x="948" y="1505"/>
                </a:cubicBezTo>
                <a:cubicBezTo>
                  <a:pt x="956" y="1517"/>
                  <a:pt x="961" y="1532"/>
                  <a:pt x="972" y="1541"/>
                </a:cubicBezTo>
                <a:cubicBezTo>
                  <a:pt x="982" y="1549"/>
                  <a:pt x="997" y="1547"/>
                  <a:pt x="1008" y="1553"/>
                </a:cubicBezTo>
                <a:cubicBezTo>
                  <a:pt x="1021" y="1559"/>
                  <a:pt x="1032" y="1569"/>
                  <a:pt x="1044" y="1577"/>
                </a:cubicBezTo>
                <a:cubicBezTo>
                  <a:pt x="1068" y="1573"/>
                  <a:pt x="1100" y="1584"/>
                  <a:pt x="1116" y="1565"/>
                </a:cubicBezTo>
                <a:cubicBezTo>
                  <a:pt x="1160" y="1513"/>
                  <a:pt x="1056" y="1477"/>
                  <a:pt x="1032" y="1469"/>
                </a:cubicBezTo>
                <a:cubicBezTo>
                  <a:pt x="986" y="1423"/>
                  <a:pt x="940" y="1408"/>
                  <a:pt x="888" y="1373"/>
                </a:cubicBezTo>
                <a:cubicBezTo>
                  <a:pt x="880" y="1361"/>
                  <a:pt x="870" y="1350"/>
                  <a:pt x="864" y="1337"/>
                </a:cubicBezTo>
                <a:cubicBezTo>
                  <a:pt x="858" y="1326"/>
                  <a:pt x="862" y="1308"/>
                  <a:pt x="852" y="1301"/>
                </a:cubicBezTo>
                <a:cubicBezTo>
                  <a:pt x="831" y="1286"/>
                  <a:pt x="780" y="1277"/>
                  <a:pt x="780" y="1277"/>
                </a:cubicBezTo>
                <a:cubicBezTo>
                  <a:pt x="726" y="1223"/>
                  <a:pt x="749" y="1257"/>
                  <a:pt x="720" y="1169"/>
                </a:cubicBezTo>
                <a:cubicBezTo>
                  <a:pt x="716" y="1157"/>
                  <a:pt x="708" y="1133"/>
                  <a:pt x="708" y="1133"/>
                </a:cubicBezTo>
                <a:cubicBezTo>
                  <a:pt x="716" y="1109"/>
                  <a:pt x="711" y="1075"/>
                  <a:pt x="732" y="1061"/>
                </a:cubicBezTo>
                <a:cubicBezTo>
                  <a:pt x="756" y="1045"/>
                  <a:pt x="804" y="1013"/>
                  <a:pt x="804" y="1013"/>
                </a:cubicBezTo>
                <a:cubicBezTo>
                  <a:pt x="812" y="1001"/>
                  <a:pt x="814" y="981"/>
                  <a:pt x="828" y="977"/>
                </a:cubicBezTo>
                <a:cubicBezTo>
                  <a:pt x="844" y="973"/>
                  <a:pt x="904" y="994"/>
                  <a:pt x="924" y="1001"/>
                </a:cubicBezTo>
                <a:cubicBezTo>
                  <a:pt x="940" y="997"/>
                  <a:pt x="956" y="987"/>
                  <a:pt x="972" y="989"/>
                </a:cubicBezTo>
                <a:cubicBezTo>
                  <a:pt x="1064" y="998"/>
                  <a:pt x="1019" y="1010"/>
                  <a:pt x="1080" y="1037"/>
                </a:cubicBezTo>
                <a:cubicBezTo>
                  <a:pt x="1103" y="1047"/>
                  <a:pt x="1152" y="1061"/>
                  <a:pt x="1152" y="1061"/>
                </a:cubicBezTo>
                <a:cubicBezTo>
                  <a:pt x="1184" y="1057"/>
                  <a:pt x="1219" y="1062"/>
                  <a:pt x="1248" y="1049"/>
                </a:cubicBezTo>
                <a:cubicBezTo>
                  <a:pt x="1260" y="1044"/>
                  <a:pt x="1252" y="1023"/>
                  <a:pt x="1260" y="1013"/>
                </a:cubicBezTo>
                <a:cubicBezTo>
                  <a:pt x="1269" y="1002"/>
                  <a:pt x="1282" y="992"/>
                  <a:pt x="1296" y="989"/>
                </a:cubicBezTo>
                <a:cubicBezTo>
                  <a:pt x="1331" y="980"/>
                  <a:pt x="1368" y="981"/>
                  <a:pt x="1404" y="977"/>
                </a:cubicBezTo>
                <a:cubicBezTo>
                  <a:pt x="1432" y="935"/>
                  <a:pt x="1452" y="921"/>
                  <a:pt x="1500" y="905"/>
                </a:cubicBezTo>
                <a:cubicBezTo>
                  <a:pt x="1470" y="860"/>
                  <a:pt x="1445" y="859"/>
                  <a:pt x="1428" y="809"/>
                </a:cubicBezTo>
                <a:cubicBezTo>
                  <a:pt x="1455" y="791"/>
                  <a:pt x="1467" y="778"/>
                  <a:pt x="1500" y="773"/>
                </a:cubicBezTo>
                <a:cubicBezTo>
                  <a:pt x="1564" y="763"/>
                  <a:pt x="1644" y="720"/>
                  <a:pt x="1644" y="720"/>
                </a:cubicBezTo>
                <a:cubicBezTo>
                  <a:pt x="1724" y="640"/>
                  <a:pt x="1697" y="755"/>
                  <a:pt x="1740" y="677"/>
                </a:cubicBezTo>
                <a:cubicBezTo>
                  <a:pt x="1788" y="591"/>
                  <a:pt x="1806" y="587"/>
                  <a:pt x="1836" y="497"/>
                </a:cubicBezTo>
                <a:cubicBezTo>
                  <a:pt x="1846" y="466"/>
                  <a:pt x="1860" y="401"/>
                  <a:pt x="1860" y="401"/>
                </a:cubicBezTo>
                <a:cubicBezTo>
                  <a:pt x="1856" y="365"/>
                  <a:pt x="1848" y="329"/>
                  <a:pt x="1848" y="293"/>
                </a:cubicBezTo>
                <a:cubicBezTo>
                  <a:pt x="1848" y="137"/>
                  <a:pt x="1932" y="0"/>
                  <a:pt x="2052" y="0"/>
                </a:cubicBezTo>
                <a:cubicBezTo>
                  <a:pt x="2226" y="58"/>
                  <a:pt x="2238" y="66"/>
                  <a:pt x="2508" y="77"/>
                </a:cubicBezTo>
                <a:cubicBezTo>
                  <a:pt x="2568" y="97"/>
                  <a:pt x="2597" y="139"/>
                  <a:pt x="2616" y="197"/>
                </a:cubicBezTo>
                <a:cubicBezTo>
                  <a:pt x="2605" y="254"/>
                  <a:pt x="2577" y="309"/>
                  <a:pt x="2568" y="365"/>
                </a:cubicBezTo>
                <a:cubicBezTo>
                  <a:pt x="2564" y="389"/>
                  <a:pt x="2566" y="415"/>
                  <a:pt x="2556" y="437"/>
                </a:cubicBezTo>
                <a:cubicBezTo>
                  <a:pt x="2549" y="453"/>
                  <a:pt x="2532" y="461"/>
                  <a:pt x="2520" y="473"/>
                </a:cubicBezTo>
                <a:cubicBezTo>
                  <a:pt x="2503" y="523"/>
                  <a:pt x="2503" y="505"/>
                  <a:pt x="2520" y="569"/>
                </a:cubicBezTo>
                <a:cubicBezTo>
                  <a:pt x="2527" y="593"/>
                  <a:pt x="2544" y="641"/>
                  <a:pt x="2544" y="641"/>
                </a:cubicBezTo>
                <a:cubicBezTo>
                  <a:pt x="2531" y="694"/>
                  <a:pt x="2517" y="742"/>
                  <a:pt x="2508" y="797"/>
                </a:cubicBezTo>
                <a:cubicBezTo>
                  <a:pt x="2516" y="936"/>
                  <a:pt x="2567" y="1147"/>
                  <a:pt x="2484" y="1272"/>
                </a:cubicBezTo>
                <a:cubicBezTo>
                  <a:pt x="2557" y="1296"/>
                  <a:pt x="2578" y="1277"/>
                  <a:pt x="2640" y="1236"/>
                </a:cubicBezTo>
                <a:cubicBezTo>
                  <a:pt x="2650" y="1229"/>
                  <a:pt x="2730" y="1195"/>
                  <a:pt x="2736" y="1193"/>
                </a:cubicBezTo>
                <a:cubicBezTo>
                  <a:pt x="2896" y="1202"/>
                  <a:pt x="3110" y="1252"/>
                  <a:pt x="3252" y="1157"/>
                </a:cubicBezTo>
                <a:cubicBezTo>
                  <a:pt x="3289" y="1101"/>
                  <a:pt x="3323" y="1052"/>
                  <a:pt x="3384" y="1032"/>
                </a:cubicBezTo>
                <a:cubicBezTo>
                  <a:pt x="3401" y="1006"/>
                  <a:pt x="3403" y="991"/>
                  <a:pt x="3420" y="965"/>
                </a:cubicBezTo>
                <a:cubicBezTo>
                  <a:pt x="3427" y="954"/>
                  <a:pt x="3504" y="931"/>
                  <a:pt x="3480" y="924"/>
                </a:cubicBezTo>
                <a:cubicBezTo>
                  <a:pt x="3489" y="913"/>
                  <a:pt x="3457" y="914"/>
                  <a:pt x="3468" y="905"/>
                </a:cubicBezTo>
                <a:cubicBezTo>
                  <a:pt x="3510" y="870"/>
                  <a:pt x="3531" y="866"/>
                  <a:pt x="3564" y="816"/>
                </a:cubicBezTo>
                <a:cubicBezTo>
                  <a:pt x="3580" y="792"/>
                  <a:pt x="3609" y="741"/>
                  <a:pt x="3636" y="732"/>
                </a:cubicBezTo>
                <a:cubicBezTo>
                  <a:pt x="3675" y="719"/>
                  <a:pt x="3668" y="675"/>
                  <a:pt x="3708" y="665"/>
                </a:cubicBezTo>
                <a:cubicBezTo>
                  <a:pt x="3756" y="653"/>
                  <a:pt x="3787" y="644"/>
                  <a:pt x="3828" y="617"/>
                </a:cubicBezTo>
                <a:cubicBezTo>
                  <a:pt x="3857" y="574"/>
                  <a:pt x="3889" y="532"/>
                  <a:pt x="3912" y="485"/>
                </a:cubicBezTo>
              </a:path>
            </a:pathLst>
          </a:custGeom>
          <a:noFill/>
          <a:ln w="76320">
            <a:solidFill>
              <a:srgbClr val="33ab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315200" y="2590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9933"/>
                </a:solidFill>
                <a:latin typeface="Times New Roman"/>
                <a:ea typeface="经典圆叠黑"/>
              </a:rPr>
              <a:t>渤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28800" y="304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宋体"/>
              </a:rPr>
              <a:t>黄河的发源地和注入的海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609480" y="1535040"/>
            <a:ext cx="8229600" cy="4321080"/>
          </a:xfrm>
          <a:prstGeom prst="rect">
            <a:avLst/>
          </a:prstGeom>
          <a:ln w="0">
            <a:noFill/>
          </a:ln>
        </p:spPr>
      </p:pic>
      <p:grpSp>
        <p:nvGrpSpPr>
          <p:cNvPr id="594" name=""/>
          <p:cNvGrpSpPr/>
          <p:nvPr/>
        </p:nvGrpSpPr>
        <p:grpSpPr>
          <a:xfrm>
            <a:off x="587520" y="2884320"/>
            <a:ext cx="2689200" cy="2828880"/>
            <a:chOff x="587520" y="2884320"/>
            <a:chExt cx="2689200" cy="2828880"/>
          </a:xfrm>
        </p:grpSpPr>
        <p:sp>
          <p:nvSpPr>
            <p:cNvPr id="595" name=""/>
            <p:cNvSpPr/>
            <p:nvPr/>
          </p:nvSpPr>
          <p:spPr>
            <a:xfrm>
              <a:off x="587520" y="2884320"/>
              <a:ext cx="2689200" cy="2828880"/>
            </a:xfrm>
            <a:custGeom>
              <a:avLst/>
              <a:gdLst/>
              <a:ahLst/>
              <a:rect l="l" t="t" r="r" b="b"/>
              <a:pathLst>
                <a:path w="1694" h="1782">
                  <a:moveTo>
                    <a:pt x="35" y="36"/>
                  </a:moveTo>
                  <a:cubicBezTo>
                    <a:pt x="46" y="47"/>
                    <a:pt x="75" y="33"/>
                    <a:pt x="95" y="36"/>
                  </a:cubicBezTo>
                  <a:cubicBezTo>
                    <a:pt x="115" y="39"/>
                    <a:pt x="180" y="47"/>
                    <a:pt x="205" y="39"/>
                  </a:cubicBezTo>
                  <a:cubicBezTo>
                    <a:pt x="253" y="44"/>
                    <a:pt x="356" y="52"/>
                    <a:pt x="409" y="63"/>
                  </a:cubicBezTo>
                  <a:cubicBezTo>
                    <a:pt x="449" y="71"/>
                    <a:pt x="517" y="123"/>
                    <a:pt x="517" y="123"/>
                  </a:cubicBezTo>
                  <a:cubicBezTo>
                    <a:pt x="560" y="187"/>
                    <a:pt x="569" y="258"/>
                    <a:pt x="637" y="303"/>
                  </a:cubicBezTo>
                  <a:cubicBezTo>
                    <a:pt x="653" y="299"/>
                    <a:pt x="647" y="276"/>
                    <a:pt x="661" y="267"/>
                  </a:cubicBezTo>
                  <a:cubicBezTo>
                    <a:pt x="701" y="240"/>
                    <a:pt x="706" y="193"/>
                    <a:pt x="721" y="159"/>
                  </a:cubicBezTo>
                  <a:cubicBezTo>
                    <a:pt x="727" y="146"/>
                    <a:pt x="745" y="155"/>
                    <a:pt x="757" y="147"/>
                  </a:cubicBezTo>
                  <a:cubicBezTo>
                    <a:pt x="773" y="151"/>
                    <a:pt x="789" y="154"/>
                    <a:pt x="805" y="159"/>
                  </a:cubicBezTo>
                  <a:cubicBezTo>
                    <a:pt x="829" y="166"/>
                    <a:pt x="911" y="156"/>
                    <a:pt x="911" y="156"/>
                  </a:cubicBezTo>
                  <a:cubicBezTo>
                    <a:pt x="997" y="127"/>
                    <a:pt x="956" y="153"/>
                    <a:pt x="1045" y="183"/>
                  </a:cubicBezTo>
                  <a:cubicBezTo>
                    <a:pt x="1075" y="273"/>
                    <a:pt x="1031" y="165"/>
                    <a:pt x="1093" y="243"/>
                  </a:cubicBezTo>
                  <a:cubicBezTo>
                    <a:pt x="1133" y="293"/>
                    <a:pt x="1100" y="270"/>
                    <a:pt x="1175" y="312"/>
                  </a:cubicBezTo>
                  <a:cubicBezTo>
                    <a:pt x="1230" y="343"/>
                    <a:pt x="1263" y="344"/>
                    <a:pt x="1321" y="363"/>
                  </a:cubicBezTo>
                  <a:cubicBezTo>
                    <a:pt x="1352" y="394"/>
                    <a:pt x="1449" y="425"/>
                    <a:pt x="1463" y="468"/>
                  </a:cubicBezTo>
                  <a:cubicBezTo>
                    <a:pt x="1467" y="480"/>
                    <a:pt x="1408" y="498"/>
                    <a:pt x="1417" y="507"/>
                  </a:cubicBezTo>
                  <a:cubicBezTo>
                    <a:pt x="1426" y="516"/>
                    <a:pt x="1441" y="515"/>
                    <a:pt x="1453" y="519"/>
                  </a:cubicBezTo>
                  <a:cubicBezTo>
                    <a:pt x="1477" y="511"/>
                    <a:pt x="1545" y="471"/>
                    <a:pt x="1559" y="492"/>
                  </a:cubicBezTo>
                  <a:cubicBezTo>
                    <a:pt x="1615" y="576"/>
                    <a:pt x="1625" y="651"/>
                    <a:pt x="1657" y="747"/>
                  </a:cubicBezTo>
                  <a:cubicBezTo>
                    <a:pt x="1662" y="763"/>
                    <a:pt x="1664" y="779"/>
                    <a:pt x="1669" y="795"/>
                  </a:cubicBezTo>
                  <a:cubicBezTo>
                    <a:pt x="1676" y="819"/>
                    <a:pt x="1693" y="867"/>
                    <a:pt x="1693" y="867"/>
                  </a:cubicBezTo>
                  <a:cubicBezTo>
                    <a:pt x="1679" y="965"/>
                    <a:pt x="1694" y="959"/>
                    <a:pt x="1609" y="987"/>
                  </a:cubicBezTo>
                  <a:cubicBezTo>
                    <a:pt x="1601" y="999"/>
                    <a:pt x="1591" y="1010"/>
                    <a:pt x="1585" y="1023"/>
                  </a:cubicBezTo>
                  <a:cubicBezTo>
                    <a:pt x="1579" y="1034"/>
                    <a:pt x="1581" y="1049"/>
                    <a:pt x="1573" y="1059"/>
                  </a:cubicBezTo>
                  <a:cubicBezTo>
                    <a:pt x="1552" y="1085"/>
                    <a:pt x="1518" y="1088"/>
                    <a:pt x="1489" y="1095"/>
                  </a:cubicBezTo>
                  <a:cubicBezTo>
                    <a:pt x="1469" y="1125"/>
                    <a:pt x="1460" y="1132"/>
                    <a:pt x="1453" y="1167"/>
                  </a:cubicBezTo>
                  <a:cubicBezTo>
                    <a:pt x="1447" y="1195"/>
                    <a:pt x="1452" y="1225"/>
                    <a:pt x="1441" y="1251"/>
                  </a:cubicBezTo>
                  <a:cubicBezTo>
                    <a:pt x="1435" y="1264"/>
                    <a:pt x="1417" y="1267"/>
                    <a:pt x="1405" y="1275"/>
                  </a:cubicBezTo>
                  <a:cubicBezTo>
                    <a:pt x="1322" y="1220"/>
                    <a:pt x="1360" y="1236"/>
                    <a:pt x="1297" y="1215"/>
                  </a:cubicBezTo>
                  <a:cubicBezTo>
                    <a:pt x="1277" y="1219"/>
                    <a:pt x="1254" y="1216"/>
                    <a:pt x="1237" y="1227"/>
                  </a:cubicBezTo>
                  <a:cubicBezTo>
                    <a:pt x="1218" y="1240"/>
                    <a:pt x="1224" y="1286"/>
                    <a:pt x="1237" y="1299"/>
                  </a:cubicBezTo>
                  <a:cubicBezTo>
                    <a:pt x="1285" y="1347"/>
                    <a:pt x="1333" y="1343"/>
                    <a:pt x="1381" y="1383"/>
                  </a:cubicBezTo>
                  <a:cubicBezTo>
                    <a:pt x="1419" y="1415"/>
                    <a:pt x="1435" y="1451"/>
                    <a:pt x="1477" y="1479"/>
                  </a:cubicBezTo>
                  <a:cubicBezTo>
                    <a:pt x="1449" y="1488"/>
                    <a:pt x="1418" y="1489"/>
                    <a:pt x="1393" y="1503"/>
                  </a:cubicBezTo>
                  <a:cubicBezTo>
                    <a:pt x="1378" y="1511"/>
                    <a:pt x="1370" y="1529"/>
                    <a:pt x="1357" y="1539"/>
                  </a:cubicBezTo>
                  <a:cubicBezTo>
                    <a:pt x="1334" y="1557"/>
                    <a:pt x="1309" y="1571"/>
                    <a:pt x="1285" y="1587"/>
                  </a:cubicBezTo>
                  <a:cubicBezTo>
                    <a:pt x="1273" y="1595"/>
                    <a:pt x="1249" y="1611"/>
                    <a:pt x="1249" y="1611"/>
                  </a:cubicBezTo>
                  <a:cubicBezTo>
                    <a:pt x="1150" y="1597"/>
                    <a:pt x="1034" y="1572"/>
                    <a:pt x="949" y="1515"/>
                  </a:cubicBezTo>
                  <a:cubicBezTo>
                    <a:pt x="925" y="1443"/>
                    <a:pt x="901" y="1371"/>
                    <a:pt x="877" y="1299"/>
                  </a:cubicBezTo>
                  <a:cubicBezTo>
                    <a:pt x="872" y="1285"/>
                    <a:pt x="853" y="1283"/>
                    <a:pt x="841" y="1275"/>
                  </a:cubicBezTo>
                  <a:cubicBezTo>
                    <a:pt x="817" y="1283"/>
                    <a:pt x="796" y="1287"/>
                    <a:pt x="779" y="1308"/>
                  </a:cubicBezTo>
                  <a:cubicBezTo>
                    <a:pt x="701" y="1406"/>
                    <a:pt x="834" y="1282"/>
                    <a:pt x="733" y="1383"/>
                  </a:cubicBezTo>
                  <a:cubicBezTo>
                    <a:pt x="698" y="1418"/>
                    <a:pt x="683" y="1440"/>
                    <a:pt x="635" y="1452"/>
                  </a:cubicBezTo>
                  <a:cubicBezTo>
                    <a:pt x="611" y="1524"/>
                    <a:pt x="589" y="1647"/>
                    <a:pt x="565" y="1719"/>
                  </a:cubicBezTo>
                  <a:cubicBezTo>
                    <a:pt x="560" y="1733"/>
                    <a:pt x="553" y="1731"/>
                    <a:pt x="529" y="1743"/>
                  </a:cubicBezTo>
                  <a:cubicBezTo>
                    <a:pt x="525" y="1755"/>
                    <a:pt x="491" y="1760"/>
                    <a:pt x="481" y="1767"/>
                  </a:cubicBezTo>
                  <a:cubicBezTo>
                    <a:pt x="460" y="1782"/>
                    <a:pt x="421" y="1755"/>
                    <a:pt x="421" y="1755"/>
                  </a:cubicBezTo>
                  <a:cubicBezTo>
                    <a:pt x="385" y="1749"/>
                    <a:pt x="339" y="1757"/>
                    <a:pt x="313" y="1731"/>
                  </a:cubicBezTo>
                  <a:cubicBezTo>
                    <a:pt x="304" y="1722"/>
                    <a:pt x="307" y="1706"/>
                    <a:pt x="301" y="1695"/>
                  </a:cubicBezTo>
                  <a:cubicBezTo>
                    <a:pt x="281" y="1655"/>
                    <a:pt x="277" y="1659"/>
                    <a:pt x="241" y="1635"/>
                  </a:cubicBezTo>
                  <a:cubicBezTo>
                    <a:pt x="180" y="1544"/>
                    <a:pt x="154" y="1572"/>
                    <a:pt x="25" y="1563"/>
                  </a:cubicBezTo>
                  <a:cubicBezTo>
                    <a:pt x="37" y="1383"/>
                    <a:pt x="23" y="948"/>
                    <a:pt x="23" y="972"/>
                  </a:cubicBezTo>
                  <a:cubicBezTo>
                    <a:pt x="35" y="312"/>
                    <a:pt x="0" y="463"/>
                    <a:pt x="13" y="51"/>
                  </a:cubicBezTo>
                  <a:cubicBezTo>
                    <a:pt x="15" y="0"/>
                    <a:pt x="47" y="84"/>
                    <a:pt x="35" y="36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103400" y="382248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9999"/>
                  </a:solidFill>
                  <a:latin typeface="Times New Roman"/>
                  <a:ea typeface="华文行楷"/>
                </a:rPr>
                <a:t>青   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55480" y="4879800"/>
            <a:ext cx="4187880" cy="1068120"/>
            <a:chOff x="555480" y="4879800"/>
            <a:chExt cx="4187880" cy="1068120"/>
          </a:xfrm>
        </p:grpSpPr>
        <p:sp>
          <p:nvSpPr>
            <p:cNvPr id="598" name=""/>
            <p:cNvSpPr/>
            <p:nvPr/>
          </p:nvSpPr>
          <p:spPr>
            <a:xfrm>
              <a:off x="555480" y="4879800"/>
              <a:ext cx="4187880" cy="1008000"/>
            </a:xfrm>
            <a:custGeom>
              <a:avLst/>
              <a:gdLst/>
              <a:ahLst/>
              <a:rect l="l" t="t" r="r" b="b"/>
              <a:pathLst>
                <a:path w="2638" h="635">
                  <a:moveTo>
                    <a:pt x="22" y="300"/>
                  </a:moveTo>
                  <a:cubicBezTo>
                    <a:pt x="134" y="309"/>
                    <a:pt x="171" y="296"/>
                    <a:pt x="250" y="348"/>
                  </a:cubicBezTo>
                  <a:cubicBezTo>
                    <a:pt x="274" y="384"/>
                    <a:pt x="298" y="420"/>
                    <a:pt x="322" y="456"/>
                  </a:cubicBezTo>
                  <a:cubicBezTo>
                    <a:pt x="338" y="480"/>
                    <a:pt x="394" y="504"/>
                    <a:pt x="394" y="504"/>
                  </a:cubicBezTo>
                  <a:cubicBezTo>
                    <a:pt x="434" y="500"/>
                    <a:pt x="476" y="505"/>
                    <a:pt x="514" y="492"/>
                  </a:cubicBezTo>
                  <a:cubicBezTo>
                    <a:pt x="548" y="481"/>
                    <a:pt x="542" y="399"/>
                    <a:pt x="550" y="360"/>
                  </a:cubicBezTo>
                  <a:cubicBezTo>
                    <a:pt x="564" y="296"/>
                    <a:pt x="581" y="263"/>
                    <a:pt x="634" y="228"/>
                  </a:cubicBezTo>
                  <a:cubicBezTo>
                    <a:pt x="642" y="216"/>
                    <a:pt x="647" y="201"/>
                    <a:pt x="658" y="192"/>
                  </a:cubicBezTo>
                  <a:cubicBezTo>
                    <a:pt x="668" y="184"/>
                    <a:pt x="685" y="189"/>
                    <a:pt x="694" y="180"/>
                  </a:cubicBezTo>
                  <a:cubicBezTo>
                    <a:pt x="713" y="161"/>
                    <a:pt x="711" y="127"/>
                    <a:pt x="730" y="108"/>
                  </a:cubicBezTo>
                  <a:cubicBezTo>
                    <a:pt x="758" y="80"/>
                    <a:pt x="800" y="49"/>
                    <a:pt x="838" y="36"/>
                  </a:cubicBezTo>
                  <a:cubicBezTo>
                    <a:pt x="935" y="68"/>
                    <a:pt x="897" y="167"/>
                    <a:pt x="958" y="228"/>
                  </a:cubicBezTo>
                  <a:cubicBezTo>
                    <a:pt x="1007" y="277"/>
                    <a:pt x="995" y="228"/>
                    <a:pt x="1066" y="276"/>
                  </a:cubicBezTo>
                  <a:cubicBezTo>
                    <a:pt x="1149" y="331"/>
                    <a:pt x="1111" y="315"/>
                    <a:pt x="1174" y="336"/>
                  </a:cubicBezTo>
                  <a:cubicBezTo>
                    <a:pt x="1195" y="333"/>
                    <a:pt x="1274" y="330"/>
                    <a:pt x="1306" y="312"/>
                  </a:cubicBezTo>
                  <a:cubicBezTo>
                    <a:pt x="1331" y="298"/>
                    <a:pt x="1351" y="273"/>
                    <a:pt x="1378" y="264"/>
                  </a:cubicBezTo>
                  <a:cubicBezTo>
                    <a:pt x="1477" y="231"/>
                    <a:pt x="1425" y="244"/>
                    <a:pt x="1534" y="228"/>
                  </a:cubicBezTo>
                  <a:cubicBezTo>
                    <a:pt x="1543" y="214"/>
                    <a:pt x="1572" y="177"/>
                    <a:pt x="1570" y="156"/>
                  </a:cubicBezTo>
                  <a:cubicBezTo>
                    <a:pt x="1567" y="131"/>
                    <a:pt x="1546" y="84"/>
                    <a:pt x="1546" y="84"/>
                  </a:cubicBezTo>
                  <a:cubicBezTo>
                    <a:pt x="1601" y="1"/>
                    <a:pt x="1567" y="21"/>
                    <a:pt x="1630" y="0"/>
                  </a:cubicBezTo>
                  <a:cubicBezTo>
                    <a:pt x="1705" y="25"/>
                    <a:pt x="1686" y="87"/>
                    <a:pt x="1750" y="108"/>
                  </a:cubicBezTo>
                  <a:cubicBezTo>
                    <a:pt x="1812" y="129"/>
                    <a:pt x="1840" y="120"/>
                    <a:pt x="1894" y="156"/>
                  </a:cubicBezTo>
                  <a:cubicBezTo>
                    <a:pt x="1938" y="287"/>
                    <a:pt x="1868" y="88"/>
                    <a:pt x="1930" y="228"/>
                  </a:cubicBezTo>
                  <a:cubicBezTo>
                    <a:pt x="1959" y="294"/>
                    <a:pt x="1940" y="323"/>
                    <a:pt x="2014" y="348"/>
                  </a:cubicBezTo>
                  <a:cubicBezTo>
                    <a:pt x="2054" y="341"/>
                    <a:pt x="2093" y="323"/>
                    <a:pt x="2134" y="324"/>
                  </a:cubicBezTo>
                  <a:cubicBezTo>
                    <a:pt x="2234" y="327"/>
                    <a:pt x="2434" y="348"/>
                    <a:pt x="2434" y="348"/>
                  </a:cubicBezTo>
                  <a:cubicBezTo>
                    <a:pt x="2497" y="369"/>
                    <a:pt x="2459" y="353"/>
                    <a:pt x="2542" y="408"/>
                  </a:cubicBezTo>
                  <a:cubicBezTo>
                    <a:pt x="2554" y="416"/>
                    <a:pt x="2566" y="424"/>
                    <a:pt x="2578" y="432"/>
                  </a:cubicBezTo>
                  <a:cubicBezTo>
                    <a:pt x="2590" y="440"/>
                    <a:pt x="2614" y="456"/>
                    <a:pt x="2614" y="456"/>
                  </a:cubicBezTo>
                  <a:cubicBezTo>
                    <a:pt x="2622" y="468"/>
                    <a:pt x="2638" y="478"/>
                    <a:pt x="2638" y="492"/>
                  </a:cubicBezTo>
                  <a:cubicBezTo>
                    <a:pt x="2638" y="517"/>
                    <a:pt x="2622" y="540"/>
                    <a:pt x="2614" y="564"/>
                  </a:cubicBezTo>
                  <a:cubicBezTo>
                    <a:pt x="2598" y="612"/>
                    <a:pt x="2614" y="596"/>
                    <a:pt x="2566" y="612"/>
                  </a:cubicBezTo>
                  <a:cubicBezTo>
                    <a:pt x="2481" y="584"/>
                    <a:pt x="2580" y="619"/>
                    <a:pt x="2410" y="624"/>
                  </a:cubicBezTo>
                  <a:cubicBezTo>
                    <a:pt x="2158" y="631"/>
                    <a:pt x="1894" y="620"/>
                    <a:pt x="1642" y="624"/>
                  </a:cubicBezTo>
                  <a:cubicBezTo>
                    <a:pt x="1170" y="620"/>
                    <a:pt x="698" y="619"/>
                    <a:pt x="226" y="612"/>
                  </a:cubicBezTo>
                  <a:cubicBezTo>
                    <a:pt x="162" y="611"/>
                    <a:pt x="88" y="635"/>
                    <a:pt x="34" y="600"/>
                  </a:cubicBezTo>
                  <a:cubicBezTo>
                    <a:pt x="0" y="578"/>
                    <a:pt x="24" y="520"/>
                    <a:pt x="22" y="480"/>
                  </a:cubicBezTo>
                  <a:cubicBezTo>
                    <a:pt x="20" y="420"/>
                    <a:pt x="22" y="360"/>
                    <a:pt x="22" y="300"/>
                  </a:cubicBez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209680" y="530532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9999"/>
                  </a:solidFill>
                  <a:latin typeface="Times New Roman"/>
                  <a:ea typeface="华文行楷"/>
                </a:rPr>
                <a:t>四   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1886040" y="1447920"/>
            <a:ext cx="6553080" cy="2325600"/>
            <a:chOff x="1886040" y="1447920"/>
            <a:chExt cx="6553080" cy="2325600"/>
          </a:xfrm>
        </p:grpSpPr>
        <p:sp>
          <p:nvSpPr>
            <p:cNvPr id="601" name=""/>
            <p:cNvSpPr/>
            <p:nvPr/>
          </p:nvSpPr>
          <p:spPr>
            <a:xfrm>
              <a:off x="1886040" y="1447920"/>
              <a:ext cx="6553080" cy="2325600"/>
            </a:xfrm>
            <a:custGeom>
              <a:avLst/>
              <a:gdLst/>
              <a:ahLst/>
              <a:rect l="l" t="t" r="r" b="b"/>
              <a:pathLst>
                <a:path w="4128" h="1465">
                  <a:moveTo>
                    <a:pt x="1080" y="1433"/>
                  </a:moveTo>
                  <a:cubicBezTo>
                    <a:pt x="1201" y="1393"/>
                    <a:pt x="1079" y="1399"/>
                    <a:pt x="1260" y="1385"/>
                  </a:cubicBezTo>
                  <a:cubicBezTo>
                    <a:pt x="1290" y="1340"/>
                    <a:pt x="1292" y="1283"/>
                    <a:pt x="1320" y="1241"/>
                  </a:cubicBezTo>
                  <a:cubicBezTo>
                    <a:pt x="1336" y="1217"/>
                    <a:pt x="1359" y="1196"/>
                    <a:pt x="1368" y="1169"/>
                  </a:cubicBezTo>
                  <a:cubicBezTo>
                    <a:pt x="1372" y="1157"/>
                    <a:pt x="1371" y="1142"/>
                    <a:pt x="1380" y="1133"/>
                  </a:cubicBezTo>
                  <a:cubicBezTo>
                    <a:pt x="1400" y="1113"/>
                    <a:pt x="1452" y="1085"/>
                    <a:pt x="1452" y="1085"/>
                  </a:cubicBezTo>
                  <a:cubicBezTo>
                    <a:pt x="1480" y="1089"/>
                    <a:pt x="1520" y="1074"/>
                    <a:pt x="1536" y="1097"/>
                  </a:cubicBezTo>
                  <a:cubicBezTo>
                    <a:pt x="1551" y="1118"/>
                    <a:pt x="1526" y="1148"/>
                    <a:pt x="1512" y="1169"/>
                  </a:cubicBezTo>
                  <a:cubicBezTo>
                    <a:pt x="1457" y="1252"/>
                    <a:pt x="1473" y="1214"/>
                    <a:pt x="1452" y="1277"/>
                  </a:cubicBezTo>
                  <a:cubicBezTo>
                    <a:pt x="1517" y="1321"/>
                    <a:pt x="1591" y="1293"/>
                    <a:pt x="1656" y="1337"/>
                  </a:cubicBezTo>
                  <a:cubicBezTo>
                    <a:pt x="1664" y="1349"/>
                    <a:pt x="1669" y="1364"/>
                    <a:pt x="1680" y="1373"/>
                  </a:cubicBezTo>
                  <a:cubicBezTo>
                    <a:pt x="1702" y="1392"/>
                    <a:pt x="1752" y="1421"/>
                    <a:pt x="1752" y="1421"/>
                  </a:cubicBezTo>
                  <a:cubicBezTo>
                    <a:pt x="1772" y="1417"/>
                    <a:pt x="1794" y="1419"/>
                    <a:pt x="1812" y="1409"/>
                  </a:cubicBezTo>
                  <a:cubicBezTo>
                    <a:pt x="1836" y="1395"/>
                    <a:pt x="1838" y="1358"/>
                    <a:pt x="1848" y="1337"/>
                  </a:cubicBezTo>
                  <a:cubicBezTo>
                    <a:pt x="1854" y="1324"/>
                    <a:pt x="1866" y="1314"/>
                    <a:pt x="1872" y="1301"/>
                  </a:cubicBezTo>
                  <a:cubicBezTo>
                    <a:pt x="1887" y="1266"/>
                    <a:pt x="1887" y="1225"/>
                    <a:pt x="1908" y="1193"/>
                  </a:cubicBezTo>
                  <a:cubicBezTo>
                    <a:pt x="1936" y="1150"/>
                    <a:pt x="2011" y="1051"/>
                    <a:pt x="2064" y="1037"/>
                  </a:cubicBezTo>
                  <a:cubicBezTo>
                    <a:pt x="2095" y="1029"/>
                    <a:pt x="2128" y="1029"/>
                    <a:pt x="2160" y="1025"/>
                  </a:cubicBezTo>
                  <a:cubicBezTo>
                    <a:pt x="2208" y="993"/>
                    <a:pt x="2254" y="974"/>
                    <a:pt x="2304" y="941"/>
                  </a:cubicBezTo>
                  <a:cubicBezTo>
                    <a:pt x="2316" y="933"/>
                    <a:pt x="2328" y="925"/>
                    <a:pt x="2340" y="917"/>
                  </a:cubicBezTo>
                  <a:cubicBezTo>
                    <a:pt x="2352" y="909"/>
                    <a:pt x="2376" y="893"/>
                    <a:pt x="2376" y="893"/>
                  </a:cubicBezTo>
                  <a:cubicBezTo>
                    <a:pt x="2416" y="773"/>
                    <a:pt x="2412" y="811"/>
                    <a:pt x="2568" y="797"/>
                  </a:cubicBezTo>
                  <a:cubicBezTo>
                    <a:pt x="2592" y="789"/>
                    <a:pt x="2616" y="781"/>
                    <a:pt x="2640" y="773"/>
                  </a:cubicBezTo>
                  <a:cubicBezTo>
                    <a:pt x="2664" y="765"/>
                    <a:pt x="2664" y="701"/>
                    <a:pt x="2664" y="701"/>
                  </a:cubicBezTo>
                  <a:cubicBezTo>
                    <a:pt x="2655" y="650"/>
                    <a:pt x="2642" y="618"/>
                    <a:pt x="2664" y="569"/>
                  </a:cubicBezTo>
                  <a:cubicBezTo>
                    <a:pt x="2676" y="543"/>
                    <a:pt x="2703" y="524"/>
                    <a:pt x="2712" y="497"/>
                  </a:cubicBezTo>
                  <a:cubicBezTo>
                    <a:pt x="2735" y="429"/>
                    <a:pt x="2729" y="401"/>
                    <a:pt x="2784" y="365"/>
                  </a:cubicBezTo>
                  <a:cubicBezTo>
                    <a:pt x="2792" y="377"/>
                    <a:pt x="2802" y="388"/>
                    <a:pt x="2808" y="401"/>
                  </a:cubicBezTo>
                  <a:cubicBezTo>
                    <a:pt x="2808" y="402"/>
                    <a:pt x="2826" y="479"/>
                    <a:pt x="2832" y="485"/>
                  </a:cubicBezTo>
                  <a:cubicBezTo>
                    <a:pt x="2841" y="494"/>
                    <a:pt x="2856" y="493"/>
                    <a:pt x="2868" y="497"/>
                  </a:cubicBezTo>
                  <a:cubicBezTo>
                    <a:pt x="2896" y="414"/>
                    <a:pt x="2970" y="423"/>
                    <a:pt x="3048" y="413"/>
                  </a:cubicBezTo>
                  <a:cubicBezTo>
                    <a:pt x="3117" y="390"/>
                    <a:pt x="3099" y="355"/>
                    <a:pt x="3120" y="293"/>
                  </a:cubicBezTo>
                  <a:cubicBezTo>
                    <a:pt x="3128" y="269"/>
                    <a:pt x="3168" y="277"/>
                    <a:pt x="3192" y="269"/>
                  </a:cubicBezTo>
                  <a:cubicBezTo>
                    <a:pt x="3204" y="265"/>
                    <a:pt x="3228" y="257"/>
                    <a:pt x="3228" y="257"/>
                  </a:cubicBezTo>
                  <a:cubicBezTo>
                    <a:pt x="3248" y="261"/>
                    <a:pt x="3270" y="259"/>
                    <a:pt x="3288" y="269"/>
                  </a:cubicBezTo>
                  <a:cubicBezTo>
                    <a:pt x="3301" y="276"/>
                    <a:pt x="3303" y="294"/>
                    <a:pt x="3312" y="305"/>
                  </a:cubicBezTo>
                  <a:cubicBezTo>
                    <a:pt x="3347" y="346"/>
                    <a:pt x="3340" y="338"/>
                    <a:pt x="3384" y="353"/>
                  </a:cubicBezTo>
                  <a:cubicBezTo>
                    <a:pt x="3355" y="441"/>
                    <a:pt x="3354" y="400"/>
                    <a:pt x="3372" y="473"/>
                  </a:cubicBezTo>
                  <a:cubicBezTo>
                    <a:pt x="3400" y="469"/>
                    <a:pt x="3428" y="465"/>
                    <a:pt x="3456" y="461"/>
                  </a:cubicBezTo>
                  <a:cubicBezTo>
                    <a:pt x="3492" y="457"/>
                    <a:pt x="3538" y="475"/>
                    <a:pt x="3564" y="449"/>
                  </a:cubicBezTo>
                  <a:cubicBezTo>
                    <a:pt x="3582" y="431"/>
                    <a:pt x="3540" y="377"/>
                    <a:pt x="3540" y="377"/>
                  </a:cubicBezTo>
                  <a:cubicBezTo>
                    <a:pt x="3544" y="345"/>
                    <a:pt x="3533" y="307"/>
                    <a:pt x="3552" y="281"/>
                  </a:cubicBezTo>
                  <a:cubicBezTo>
                    <a:pt x="3564" y="264"/>
                    <a:pt x="3630" y="313"/>
                    <a:pt x="3636" y="317"/>
                  </a:cubicBezTo>
                  <a:cubicBezTo>
                    <a:pt x="3659" y="312"/>
                    <a:pt x="3707" y="305"/>
                    <a:pt x="3732" y="293"/>
                  </a:cubicBezTo>
                  <a:cubicBezTo>
                    <a:pt x="3775" y="271"/>
                    <a:pt x="3793" y="237"/>
                    <a:pt x="3840" y="221"/>
                  </a:cubicBezTo>
                  <a:cubicBezTo>
                    <a:pt x="3909" y="118"/>
                    <a:pt x="3817" y="239"/>
                    <a:pt x="3900" y="173"/>
                  </a:cubicBezTo>
                  <a:cubicBezTo>
                    <a:pt x="3911" y="164"/>
                    <a:pt x="3915" y="148"/>
                    <a:pt x="3924" y="137"/>
                  </a:cubicBezTo>
                  <a:cubicBezTo>
                    <a:pt x="3980" y="70"/>
                    <a:pt x="4039" y="85"/>
                    <a:pt x="4128" y="77"/>
                  </a:cubicBezTo>
                  <a:cubicBezTo>
                    <a:pt x="4102" y="0"/>
                    <a:pt x="4059" y="39"/>
                    <a:pt x="3984" y="41"/>
                  </a:cubicBezTo>
                  <a:cubicBezTo>
                    <a:pt x="3640" y="48"/>
                    <a:pt x="3308" y="37"/>
                    <a:pt x="2964" y="41"/>
                  </a:cubicBezTo>
                  <a:cubicBezTo>
                    <a:pt x="2736" y="62"/>
                    <a:pt x="2988" y="53"/>
                    <a:pt x="2328" y="41"/>
                  </a:cubicBezTo>
                  <a:cubicBezTo>
                    <a:pt x="2290" y="155"/>
                    <a:pt x="2328" y="113"/>
                    <a:pt x="2184" y="185"/>
                  </a:cubicBezTo>
                  <a:cubicBezTo>
                    <a:pt x="2155" y="271"/>
                    <a:pt x="2217" y="207"/>
                    <a:pt x="2160" y="245"/>
                  </a:cubicBezTo>
                  <a:cubicBezTo>
                    <a:pt x="2124" y="299"/>
                    <a:pt x="2066" y="340"/>
                    <a:pt x="2016" y="365"/>
                  </a:cubicBezTo>
                  <a:cubicBezTo>
                    <a:pt x="1968" y="413"/>
                    <a:pt x="2003" y="347"/>
                    <a:pt x="1992" y="353"/>
                  </a:cubicBezTo>
                  <a:cubicBezTo>
                    <a:pt x="1868" y="422"/>
                    <a:pt x="1965" y="386"/>
                    <a:pt x="1884" y="413"/>
                  </a:cubicBezTo>
                  <a:cubicBezTo>
                    <a:pt x="1768" y="374"/>
                    <a:pt x="1620" y="365"/>
                    <a:pt x="1512" y="425"/>
                  </a:cubicBezTo>
                  <a:cubicBezTo>
                    <a:pt x="1450" y="460"/>
                    <a:pt x="1397" y="505"/>
                    <a:pt x="1332" y="533"/>
                  </a:cubicBezTo>
                  <a:cubicBezTo>
                    <a:pt x="1279" y="556"/>
                    <a:pt x="1207" y="562"/>
                    <a:pt x="1152" y="569"/>
                  </a:cubicBezTo>
                  <a:cubicBezTo>
                    <a:pt x="1140" y="565"/>
                    <a:pt x="1125" y="566"/>
                    <a:pt x="1116" y="557"/>
                  </a:cubicBezTo>
                  <a:cubicBezTo>
                    <a:pt x="1107" y="548"/>
                    <a:pt x="1117" y="523"/>
                    <a:pt x="1104" y="521"/>
                  </a:cubicBezTo>
                  <a:cubicBezTo>
                    <a:pt x="1079" y="517"/>
                    <a:pt x="1032" y="545"/>
                    <a:pt x="1032" y="545"/>
                  </a:cubicBezTo>
                  <a:cubicBezTo>
                    <a:pt x="887" y="530"/>
                    <a:pt x="986" y="534"/>
                    <a:pt x="876" y="497"/>
                  </a:cubicBezTo>
                  <a:cubicBezTo>
                    <a:pt x="830" y="482"/>
                    <a:pt x="713" y="425"/>
                    <a:pt x="660" y="401"/>
                  </a:cubicBezTo>
                  <a:cubicBezTo>
                    <a:pt x="491" y="326"/>
                    <a:pt x="320" y="349"/>
                    <a:pt x="132" y="341"/>
                  </a:cubicBezTo>
                  <a:cubicBezTo>
                    <a:pt x="59" y="323"/>
                    <a:pt x="136" y="346"/>
                    <a:pt x="48" y="317"/>
                  </a:cubicBezTo>
                  <a:cubicBezTo>
                    <a:pt x="36" y="313"/>
                    <a:pt x="60" y="329"/>
                    <a:pt x="0" y="305"/>
                  </a:cubicBezTo>
                  <a:cubicBezTo>
                    <a:pt x="19" y="381"/>
                    <a:pt x="37" y="422"/>
                    <a:pt x="60" y="497"/>
                  </a:cubicBezTo>
                  <a:cubicBezTo>
                    <a:pt x="67" y="521"/>
                    <a:pt x="76" y="545"/>
                    <a:pt x="84" y="569"/>
                  </a:cubicBezTo>
                  <a:cubicBezTo>
                    <a:pt x="88" y="581"/>
                    <a:pt x="96" y="605"/>
                    <a:pt x="96" y="605"/>
                  </a:cubicBezTo>
                  <a:cubicBezTo>
                    <a:pt x="100" y="653"/>
                    <a:pt x="94" y="703"/>
                    <a:pt x="108" y="749"/>
                  </a:cubicBezTo>
                  <a:cubicBezTo>
                    <a:pt x="112" y="761"/>
                    <a:pt x="131" y="761"/>
                    <a:pt x="144" y="761"/>
                  </a:cubicBezTo>
                  <a:cubicBezTo>
                    <a:pt x="197" y="761"/>
                    <a:pt x="261" y="742"/>
                    <a:pt x="312" y="725"/>
                  </a:cubicBezTo>
                  <a:cubicBezTo>
                    <a:pt x="364" y="731"/>
                    <a:pt x="420" y="709"/>
                    <a:pt x="420" y="773"/>
                  </a:cubicBezTo>
                  <a:cubicBezTo>
                    <a:pt x="420" y="814"/>
                    <a:pt x="360" y="881"/>
                    <a:pt x="360" y="881"/>
                  </a:cubicBezTo>
                  <a:cubicBezTo>
                    <a:pt x="381" y="944"/>
                    <a:pt x="349" y="922"/>
                    <a:pt x="432" y="977"/>
                  </a:cubicBezTo>
                  <a:cubicBezTo>
                    <a:pt x="444" y="985"/>
                    <a:pt x="516" y="1041"/>
                    <a:pt x="528" y="1049"/>
                  </a:cubicBezTo>
                  <a:cubicBezTo>
                    <a:pt x="540" y="1057"/>
                    <a:pt x="444" y="965"/>
                    <a:pt x="444" y="965"/>
                  </a:cubicBezTo>
                  <a:cubicBezTo>
                    <a:pt x="452" y="977"/>
                    <a:pt x="553" y="1088"/>
                    <a:pt x="564" y="1097"/>
                  </a:cubicBezTo>
                  <a:cubicBezTo>
                    <a:pt x="574" y="1105"/>
                    <a:pt x="555" y="1052"/>
                    <a:pt x="564" y="1061"/>
                  </a:cubicBezTo>
                  <a:cubicBezTo>
                    <a:pt x="573" y="1070"/>
                    <a:pt x="582" y="1086"/>
                    <a:pt x="588" y="1097"/>
                  </a:cubicBezTo>
                  <a:cubicBezTo>
                    <a:pt x="610" y="1141"/>
                    <a:pt x="640" y="1154"/>
                    <a:pt x="684" y="1169"/>
                  </a:cubicBezTo>
                  <a:cubicBezTo>
                    <a:pt x="692" y="1157"/>
                    <a:pt x="706" y="1147"/>
                    <a:pt x="708" y="1133"/>
                  </a:cubicBezTo>
                  <a:cubicBezTo>
                    <a:pt x="719" y="1053"/>
                    <a:pt x="659" y="1110"/>
                    <a:pt x="732" y="1061"/>
                  </a:cubicBezTo>
                  <a:cubicBezTo>
                    <a:pt x="788" y="1072"/>
                    <a:pt x="796" y="1082"/>
                    <a:pt x="852" y="1061"/>
                  </a:cubicBezTo>
                  <a:cubicBezTo>
                    <a:pt x="866" y="1056"/>
                    <a:pt x="875" y="1043"/>
                    <a:pt x="888" y="1037"/>
                  </a:cubicBezTo>
                  <a:cubicBezTo>
                    <a:pt x="911" y="1027"/>
                    <a:pt x="960" y="1013"/>
                    <a:pt x="960" y="1013"/>
                  </a:cubicBezTo>
                  <a:cubicBezTo>
                    <a:pt x="996" y="1017"/>
                    <a:pt x="1034" y="1048"/>
                    <a:pt x="1068" y="1061"/>
                  </a:cubicBezTo>
                  <a:cubicBezTo>
                    <a:pt x="1080" y="1066"/>
                    <a:pt x="1080" y="1048"/>
                    <a:pt x="1080" y="1061"/>
                  </a:cubicBezTo>
                  <a:cubicBezTo>
                    <a:pt x="1080" y="1113"/>
                    <a:pt x="1068" y="1109"/>
                    <a:pt x="1032" y="1133"/>
                  </a:cubicBezTo>
                  <a:cubicBezTo>
                    <a:pt x="979" y="1212"/>
                    <a:pt x="968" y="1285"/>
                    <a:pt x="996" y="1397"/>
                  </a:cubicBezTo>
                  <a:cubicBezTo>
                    <a:pt x="972" y="1349"/>
                    <a:pt x="1076" y="1465"/>
                    <a:pt x="1056" y="1445"/>
                  </a:cubicBezTo>
                  <a:cubicBezTo>
                    <a:pt x="1048" y="1437"/>
                    <a:pt x="1088" y="1441"/>
                    <a:pt x="1080" y="1433"/>
                  </a:cubicBezTo>
                  <a:close/>
                </a:path>
              </a:pathLst>
            </a:custGeom>
            <a:solidFill>
              <a:srgbClr val="66ff99"/>
            </a:solidFill>
            <a:ln w="1260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20488200">
              <a:off x="3657600" y="2045880"/>
              <a:ext cx="28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9999"/>
                  </a:solidFill>
                  <a:latin typeface="Times New Roman"/>
                  <a:ea typeface="华文行楷"/>
                </a:rPr>
                <a:t>内     蒙     古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5181480" y="2552760"/>
            <a:ext cx="1190520" cy="2179440"/>
            <a:chOff x="5181480" y="2552760"/>
            <a:chExt cx="1190520" cy="2179440"/>
          </a:xfrm>
        </p:grpSpPr>
        <p:sp>
          <p:nvSpPr>
            <p:cNvPr id="604" name=""/>
            <p:cNvSpPr/>
            <p:nvPr/>
          </p:nvSpPr>
          <p:spPr>
            <a:xfrm>
              <a:off x="5181480" y="2552760"/>
              <a:ext cx="1190520" cy="2179440"/>
            </a:xfrm>
            <a:custGeom>
              <a:avLst/>
              <a:gdLst/>
              <a:ahLst/>
              <a:rect l="l" t="t" r="r" b="b"/>
              <a:pathLst>
                <a:path w="750" h="1373">
                  <a:moveTo>
                    <a:pt x="193" y="281"/>
                  </a:moveTo>
                  <a:cubicBezTo>
                    <a:pt x="276" y="226"/>
                    <a:pt x="238" y="242"/>
                    <a:pt x="301" y="221"/>
                  </a:cubicBezTo>
                  <a:cubicBezTo>
                    <a:pt x="309" y="197"/>
                    <a:pt x="317" y="173"/>
                    <a:pt x="325" y="149"/>
                  </a:cubicBezTo>
                  <a:cubicBezTo>
                    <a:pt x="348" y="79"/>
                    <a:pt x="515" y="91"/>
                    <a:pt x="541" y="89"/>
                  </a:cubicBezTo>
                  <a:cubicBezTo>
                    <a:pt x="584" y="25"/>
                    <a:pt x="567" y="0"/>
                    <a:pt x="625" y="29"/>
                  </a:cubicBezTo>
                  <a:cubicBezTo>
                    <a:pt x="638" y="35"/>
                    <a:pt x="649" y="45"/>
                    <a:pt x="661" y="53"/>
                  </a:cubicBezTo>
                  <a:cubicBezTo>
                    <a:pt x="669" y="65"/>
                    <a:pt x="685" y="75"/>
                    <a:pt x="685" y="89"/>
                  </a:cubicBezTo>
                  <a:cubicBezTo>
                    <a:pt x="685" y="125"/>
                    <a:pt x="647" y="130"/>
                    <a:pt x="625" y="137"/>
                  </a:cubicBezTo>
                  <a:cubicBezTo>
                    <a:pt x="629" y="149"/>
                    <a:pt x="627" y="166"/>
                    <a:pt x="637" y="173"/>
                  </a:cubicBezTo>
                  <a:cubicBezTo>
                    <a:pt x="658" y="188"/>
                    <a:pt x="709" y="197"/>
                    <a:pt x="709" y="197"/>
                  </a:cubicBezTo>
                  <a:cubicBezTo>
                    <a:pt x="725" y="245"/>
                    <a:pt x="750" y="279"/>
                    <a:pt x="721" y="329"/>
                  </a:cubicBezTo>
                  <a:cubicBezTo>
                    <a:pt x="712" y="345"/>
                    <a:pt x="632" y="376"/>
                    <a:pt x="613" y="389"/>
                  </a:cubicBezTo>
                  <a:cubicBezTo>
                    <a:pt x="595" y="444"/>
                    <a:pt x="572" y="475"/>
                    <a:pt x="601" y="533"/>
                  </a:cubicBezTo>
                  <a:cubicBezTo>
                    <a:pt x="607" y="546"/>
                    <a:pt x="625" y="549"/>
                    <a:pt x="637" y="557"/>
                  </a:cubicBezTo>
                  <a:cubicBezTo>
                    <a:pt x="692" y="640"/>
                    <a:pt x="676" y="602"/>
                    <a:pt x="697" y="665"/>
                  </a:cubicBezTo>
                  <a:cubicBezTo>
                    <a:pt x="664" y="764"/>
                    <a:pt x="687" y="716"/>
                    <a:pt x="625" y="809"/>
                  </a:cubicBezTo>
                  <a:cubicBezTo>
                    <a:pt x="610" y="831"/>
                    <a:pt x="604" y="859"/>
                    <a:pt x="589" y="881"/>
                  </a:cubicBezTo>
                  <a:cubicBezTo>
                    <a:pt x="605" y="905"/>
                    <a:pt x="621" y="929"/>
                    <a:pt x="637" y="953"/>
                  </a:cubicBezTo>
                  <a:cubicBezTo>
                    <a:pt x="746" y="1116"/>
                    <a:pt x="562" y="1163"/>
                    <a:pt x="481" y="1217"/>
                  </a:cubicBezTo>
                  <a:cubicBezTo>
                    <a:pt x="444" y="1242"/>
                    <a:pt x="393" y="1225"/>
                    <a:pt x="349" y="1229"/>
                  </a:cubicBezTo>
                  <a:cubicBezTo>
                    <a:pt x="287" y="1322"/>
                    <a:pt x="328" y="1292"/>
                    <a:pt x="229" y="1325"/>
                  </a:cubicBezTo>
                  <a:cubicBezTo>
                    <a:pt x="217" y="1329"/>
                    <a:pt x="205" y="1333"/>
                    <a:pt x="193" y="1337"/>
                  </a:cubicBezTo>
                  <a:cubicBezTo>
                    <a:pt x="169" y="1345"/>
                    <a:pt x="145" y="1353"/>
                    <a:pt x="121" y="1361"/>
                  </a:cubicBezTo>
                  <a:cubicBezTo>
                    <a:pt x="109" y="1365"/>
                    <a:pt x="85" y="1373"/>
                    <a:pt x="85" y="1373"/>
                  </a:cubicBezTo>
                  <a:cubicBezTo>
                    <a:pt x="49" y="1361"/>
                    <a:pt x="0" y="1335"/>
                    <a:pt x="37" y="1289"/>
                  </a:cubicBezTo>
                  <a:cubicBezTo>
                    <a:pt x="46" y="1278"/>
                    <a:pt x="61" y="1273"/>
                    <a:pt x="73" y="1265"/>
                  </a:cubicBezTo>
                  <a:cubicBezTo>
                    <a:pt x="99" y="1187"/>
                    <a:pt x="99" y="1126"/>
                    <a:pt x="73" y="1049"/>
                  </a:cubicBezTo>
                  <a:cubicBezTo>
                    <a:pt x="83" y="950"/>
                    <a:pt x="102" y="858"/>
                    <a:pt x="121" y="761"/>
                  </a:cubicBezTo>
                  <a:cubicBezTo>
                    <a:pt x="117" y="737"/>
                    <a:pt x="114" y="713"/>
                    <a:pt x="109" y="689"/>
                  </a:cubicBezTo>
                  <a:cubicBezTo>
                    <a:pt x="106" y="677"/>
                    <a:pt x="97" y="666"/>
                    <a:pt x="97" y="653"/>
                  </a:cubicBezTo>
                  <a:cubicBezTo>
                    <a:pt x="97" y="574"/>
                    <a:pt x="134" y="489"/>
                    <a:pt x="157" y="413"/>
                  </a:cubicBezTo>
                  <a:cubicBezTo>
                    <a:pt x="169" y="373"/>
                    <a:pt x="177" y="331"/>
                    <a:pt x="193" y="293"/>
                  </a:cubicBezTo>
                  <a:cubicBezTo>
                    <a:pt x="199" y="280"/>
                    <a:pt x="217" y="271"/>
                    <a:pt x="217" y="257"/>
                  </a:cubicBezTo>
                  <a:cubicBezTo>
                    <a:pt x="217" y="246"/>
                    <a:pt x="201" y="273"/>
                    <a:pt x="193" y="281"/>
                  </a:cubicBezTo>
                  <a:close/>
                </a:path>
              </a:pathLst>
            </a:custGeom>
            <a:solidFill>
              <a:srgbClr val="f66b2c"/>
            </a:solidFill>
            <a:ln w="12600">
              <a:solidFill>
                <a:srgbClr val="f66b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2960280"/>
              <a:ext cx="68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9999"/>
                  </a:solidFill>
                  <a:latin typeface="Times New Roman"/>
                  <a:ea typeface="华文行楷"/>
                </a:rPr>
                <a:t>山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3948120" y="2960640"/>
            <a:ext cx="1591920" cy="2776680"/>
            <a:chOff x="3948120" y="2960640"/>
            <a:chExt cx="1591920" cy="2776680"/>
          </a:xfrm>
        </p:grpSpPr>
        <p:sp>
          <p:nvSpPr>
            <p:cNvPr id="607" name=""/>
            <p:cNvSpPr/>
            <p:nvPr/>
          </p:nvSpPr>
          <p:spPr>
            <a:xfrm>
              <a:off x="3948120" y="2960640"/>
              <a:ext cx="1591920" cy="2776680"/>
            </a:xfrm>
            <a:custGeom>
              <a:avLst/>
              <a:gdLst/>
              <a:ahLst/>
              <a:rect l="l" t="t" r="r" b="b"/>
              <a:pathLst>
                <a:path w="979" h="1749">
                  <a:moveTo>
                    <a:pt x="942" y="21"/>
                  </a:moveTo>
                  <a:cubicBezTo>
                    <a:pt x="910" y="10"/>
                    <a:pt x="902" y="0"/>
                    <a:pt x="870" y="21"/>
                  </a:cubicBezTo>
                  <a:cubicBezTo>
                    <a:pt x="856" y="30"/>
                    <a:pt x="850" y="51"/>
                    <a:pt x="834" y="57"/>
                  </a:cubicBezTo>
                  <a:cubicBezTo>
                    <a:pt x="804" y="68"/>
                    <a:pt x="770" y="65"/>
                    <a:pt x="738" y="69"/>
                  </a:cubicBezTo>
                  <a:cubicBezTo>
                    <a:pt x="659" y="95"/>
                    <a:pt x="654" y="160"/>
                    <a:pt x="618" y="225"/>
                  </a:cubicBezTo>
                  <a:cubicBezTo>
                    <a:pt x="597" y="263"/>
                    <a:pt x="560" y="292"/>
                    <a:pt x="546" y="333"/>
                  </a:cubicBezTo>
                  <a:cubicBezTo>
                    <a:pt x="536" y="362"/>
                    <a:pt x="533" y="382"/>
                    <a:pt x="510" y="405"/>
                  </a:cubicBezTo>
                  <a:cubicBezTo>
                    <a:pt x="466" y="449"/>
                    <a:pt x="417" y="435"/>
                    <a:pt x="354" y="441"/>
                  </a:cubicBezTo>
                  <a:cubicBezTo>
                    <a:pt x="342" y="445"/>
                    <a:pt x="327" y="444"/>
                    <a:pt x="318" y="453"/>
                  </a:cubicBezTo>
                  <a:cubicBezTo>
                    <a:pt x="298" y="473"/>
                    <a:pt x="270" y="525"/>
                    <a:pt x="270" y="525"/>
                  </a:cubicBezTo>
                  <a:cubicBezTo>
                    <a:pt x="279" y="553"/>
                    <a:pt x="278" y="585"/>
                    <a:pt x="294" y="609"/>
                  </a:cubicBezTo>
                  <a:cubicBezTo>
                    <a:pt x="310" y="633"/>
                    <a:pt x="388" y="652"/>
                    <a:pt x="402" y="657"/>
                  </a:cubicBezTo>
                  <a:cubicBezTo>
                    <a:pt x="444" y="671"/>
                    <a:pt x="473" y="681"/>
                    <a:pt x="510" y="705"/>
                  </a:cubicBezTo>
                  <a:cubicBezTo>
                    <a:pt x="538" y="788"/>
                    <a:pt x="555" y="824"/>
                    <a:pt x="510" y="945"/>
                  </a:cubicBezTo>
                  <a:cubicBezTo>
                    <a:pt x="501" y="969"/>
                    <a:pt x="462" y="961"/>
                    <a:pt x="438" y="969"/>
                  </a:cubicBezTo>
                  <a:cubicBezTo>
                    <a:pt x="426" y="973"/>
                    <a:pt x="402" y="981"/>
                    <a:pt x="402" y="981"/>
                  </a:cubicBezTo>
                  <a:cubicBezTo>
                    <a:pt x="368" y="1084"/>
                    <a:pt x="403" y="1056"/>
                    <a:pt x="282" y="1041"/>
                  </a:cubicBezTo>
                  <a:cubicBezTo>
                    <a:pt x="166" y="1053"/>
                    <a:pt x="157" y="1032"/>
                    <a:pt x="126" y="1125"/>
                  </a:cubicBezTo>
                  <a:cubicBezTo>
                    <a:pt x="164" y="1182"/>
                    <a:pt x="166" y="1197"/>
                    <a:pt x="150" y="1269"/>
                  </a:cubicBezTo>
                  <a:cubicBezTo>
                    <a:pt x="147" y="1283"/>
                    <a:pt x="130" y="1335"/>
                    <a:pt x="114" y="1341"/>
                  </a:cubicBezTo>
                  <a:cubicBezTo>
                    <a:pt x="84" y="1353"/>
                    <a:pt x="50" y="1349"/>
                    <a:pt x="18" y="1353"/>
                  </a:cubicBezTo>
                  <a:cubicBezTo>
                    <a:pt x="0" y="1408"/>
                    <a:pt x="18" y="1425"/>
                    <a:pt x="42" y="1473"/>
                  </a:cubicBezTo>
                  <a:cubicBezTo>
                    <a:pt x="48" y="1484"/>
                    <a:pt x="44" y="1502"/>
                    <a:pt x="54" y="1509"/>
                  </a:cubicBezTo>
                  <a:cubicBezTo>
                    <a:pt x="105" y="1546"/>
                    <a:pt x="231" y="1551"/>
                    <a:pt x="282" y="1557"/>
                  </a:cubicBezTo>
                  <a:cubicBezTo>
                    <a:pt x="336" y="1575"/>
                    <a:pt x="374" y="1624"/>
                    <a:pt x="426" y="1641"/>
                  </a:cubicBezTo>
                  <a:cubicBezTo>
                    <a:pt x="529" y="1675"/>
                    <a:pt x="365" y="1623"/>
                    <a:pt x="534" y="1665"/>
                  </a:cubicBezTo>
                  <a:cubicBezTo>
                    <a:pt x="582" y="1677"/>
                    <a:pt x="631" y="1697"/>
                    <a:pt x="678" y="1713"/>
                  </a:cubicBezTo>
                  <a:cubicBezTo>
                    <a:pt x="703" y="1721"/>
                    <a:pt x="725" y="1741"/>
                    <a:pt x="750" y="1749"/>
                  </a:cubicBezTo>
                  <a:cubicBezTo>
                    <a:pt x="746" y="1737"/>
                    <a:pt x="744" y="1724"/>
                    <a:pt x="738" y="1713"/>
                  </a:cubicBezTo>
                  <a:cubicBezTo>
                    <a:pt x="724" y="1688"/>
                    <a:pt x="690" y="1641"/>
                    <a:pt x="690" y="1641"/>
                  </a:cubicBezTo>
                  <a:cubicBezTo>
                    <a:pt x="694" y="1609"/>
                    <a:pt x="678" y="1567"/>
                    <a:pt x="702" y="1545"/>
                  </a:cubicBezTo>
                  <a:cubicBezTo>
                    <a:pt x="729" y="1521"/>
                    <a:pt x="779" y="1551"/>
                    <a:pt x="810" y="1533"/>
                  </a:cubicBezTo>
                  <a:cubicBezTo>
                    <a:pt x="823" y="1526"/>
                    <a:pt x="797" y="1506"/>
                    <a:pt x="786" y="1497"/>
                  </a:cubicBezTo>
                  <a:cubicBezTo>
                    <a:pt x="765" y="1480"/>
                    <a:pt x="736" y="1476"/>
                    <a:pt x="714" y="1461"/>
                  </a:cubicBezTo>
                  <a:cubicBezTo>
                    <a:pt x="706" y="1449"/>
                    <a:pt x="681" y="1436"/>
                    <a:pt x="690" y="1425"/>
                  </a:cubicBezTo>
                  <a:cubicBezTo>
                    <a:pt x="706" y="1405"/>
                    <a:pt x="762" y="1401"/>
                    <a:pt x="762" y="1401"/>
                  </a:cubicBezTo>
                  <a:cubicBezTo>
                    <a:pt x="830" y="1405"/>
                    <a:pt x="898" y="1421"/>
                    <a:pt x="966" y="1413"/>
                  </a:cubicBezTo>
                  <a:cubicBezTo>
                    <a:pt x="979" y="1412"/>
                    <a:pt x="979" y="1390"/>
                    <a:pt x="978" y="1377"/>
                  </a:cubicBezTo>
                  <a:cubicBezTo>
                    <a:pt x="971" y="1311"/>
                    <a:pt x="957" y="1308"/>
                    <a:pt x="918" y="1269"/>
                  </a:cubicBezTo>
                  <a:cubicBezTo>
                    <a:pt x="888" y="1179"/>
                    <a:pt x="929" y="1290"/>
                    <a:pt x="882" y="1197"/>
                  </a:cubicBezTo>
                  <a:cubicBezTo>
                    <a:pt x="876" y="1186"/>
                    <a:pt x="879" y="1170"/>
                    <a:pt x="870" y="1161"/>
                  </a:cubicBezTo>
                  <a:cubicBezTo>
                    <a:pt x="861" y="1152"/>
                    <a:pt x="846" y="1153"/>
                    <a:pt x="834" y="1149"/>
                  </a:cubicBezTo>
                  <a:cubicBezTo>
                    <a:pt x="826" y="1137"/>
                    <a:pt x="816" y="1126"/>
                    <a:pt x="810" y="1113"/>
                  </a:cubicBezTo>
                  <a:cubicBezTo>
                    <a:pt x="800" y="1090"/>
                    <a:pt x="786" y="1041"/>
                    <a:pt x="786" y="1041"/>
                  </a:cubicBezTo>
                  <a:cubicBezTo>
                    <a:pt x="806" y="981"/>
                    <a:pt x="826" y="1005"/>
                    <a:pt x="846" y="945"/>
                  </a:cubicBezTo>
                  <a:cubicBezTo>
                    <a:pt x="838" y="816"/>
                    <a:pt x="808" y="656"/>
                    <a:pt x="834" y="525"/>
                  </a:cubicBezTo>
                  <a:cubicBezTo>
                    <a:pt x="839" y="499"/>
                    <a:pt x="862" y="478"/>
                    <a:pt x="870" y="453"/>
                  </a:cubicBezTo>
                  <a:cubicBezTo>
                    <a:pt x="862" y="429"/>
                    <a:pt x="854" y="405"/>
                    <a:pt x="846" y="381"/>
                  </a:cubicBezTo>
                  <a:cubicBezTo>
                    <a:pt x="833" y="343"/>
                    <a:pt x="851" y="301"/>
                    <a:pt x="858" y="261"/>
                  </a:cubicBezTo>
                  <a:cubicBezTo>
                    <a:pt x="871" y="192"/>
                    <a:pt x="910" y="86"/>
                    <a:pt x="942" y="21"/>
                  </a:cubicBezTo>
                  <a:close/>
                </a:path>
              </a:pathLst>
            </a:custGeom>
            <a:solidFill>
              <a:srgbClr val="b1def5"/>
            </a:solidFill>
            <a:ln w="12600">
              <a:solidFill>
                <a:srgbClr val="b1def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28600" y="3979800"/>
              <a:ext cx="70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9999"/>
                  </a:solidFill>
                  <a:latin typeface="Times New Roman"/>
                  <a:ea typeface="华文行楷"/>
                </a:rPr>
                <a:t>陕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295960" y="3968640"/>
            <a:ext cx="1807920" cy="1792080"/>
            <a:chOff x="5295960" y="3968640"/>
            <a:chExt cx="1807920" cy="1792080"/>
          </a:xfrm>
        </p:grpSpPr>
        <p:sp>
          <p:nvSpPr>
            <p:cNvPr id="610" name=""/>
            <p:cNvSpPr/>
            <p:nvPr/>
          </p:nvSpPr>
          <p:spPr>
            <a:xfrm>
              <a:off x="5295960" y="3968640"/>
              <a:ext cx="1807920" cy="1792080"/>
            </a:xfrm>
            <a:custGeom>
              <a:avLst/>
              <a:gdLst/>
              <a:ahLst/>
              <a:rect l="l" t="t" r="r" b="b"/>
              <a:pathLst>
                <a:path w="1139" h="1129">
                  <a:moveTo>
                    <a:pt x="540" y="37"/>
                  </a:moveTo>
                  <a:cubicBezTo>
                    <a:pt x="651" y="0"/>
                    <a:pt x="666" y="79"/>
                    <a:pt x="756" y="109"/>
                  </a:cubicBezTo>
                  <a:cubicBezTo>
                    <a:pt x="780" y="101"/>
                    <a:pt x="804" y="93"/>
                    <a:pt x="828" y="85"/>
                  </a:cubicBezTo>
                  <a:cubicBezTo>
                    <a:pt x="840" y="81"/>
                    <a:pt x="864" y="73"/>
                    <a:pt x="864" y="73"/>
                  </a:cubicBezTo>
                  <a:cubicBezTo>
                    <a:pt x="880" y="77"/>
                    <a:pt x="899" y="75"/>
                    <a:pt x="912" y="85"/>
                  </a:cubicBezTo>
                  <a:cubicBezTo>
                    <a:pt x="940" y="108"/>
                    <a:pt x="915" y="182"/>
                    <a:pt x="900" y="205"/>
                  </a:cubicBezTo>
                  <a:cubicBezTo>
                    <a:pt x="891" y="219"/>
                    <a:pt x="876" y="229"/>
                    <a:pt x="864" y="241"/>
                  </a:cubicBezTo>
                  <a:cubicBezTo>
                    <a:pt x="868" y="277"/>
                    <a:pt x="857" y="318"/>
                    <a:pt x="876" y="349"/>
                  </a:cubicBezTo>
                  <a:cubicBezTo>
                    <a:pt x="890" y="370"/>
                    <a:pt x="923" y="368"/>
                    <a:pt x="948" y="373"/>
                  </a:cubicBezTo>
                  <a:cubicBezTo>
                    <a:pt x="1003" y="384"/>
                    <a:pt x="1034" y="391"/>
                    <a:pt x="1080" y="421"/>
                  </a:cubicBezTo>
                  <a:cubicBezTo>
                    <a:pt x="1095" y="467"/>
                    <a:pt x="1139" y="500"/>
                    <a:pt x="1104" y="553"/>
                  </a:cubicBezTo>
                  <a:cubicBezTo>
                    <a:pt x="1097" y="564"/>
                    <a:pt x="1080" y="561"/>
                    <a:pt x="1068" y="565"/>
                  </a:cubicBezTo>
                  <a:cubicBezTo>
                    <a:pt x="1056" y="561"/>
                    <a:pt x="1043" y="559"/>
                    <a:pt x="1032" y="553"/>
                  </a:cubicBezTo>
                  <a:cubicBezTo>
                    <a:pt x="1019" y="547"/>
                    <a:pt x="1010" y="526"/>
                    <a:pt x="996" y="529"/>
                  </a:cubicBezTo>
                  <a:cubicBezTo>
                    <a:pt x="982" y="532"/>
                    <a:pt x="978" y="552"/>
                    <a:pt x="972" y="565"/>
                  </a:cubicBezTo>
                  <a:cubicBezTo>
                    <a:pt x="938" y="643"/>
                    <a:pt x="958" y="687"/>
                    <a:pt x="888" y="733"/>
                  </a:cubicBezTo>
                  <a:cubicBezTo>
                    <a:pt x="869" y="789"/>
                    <a:pt x="863" y="809"/>
                    <a:pt x="924" y="829"/>
                  </a:cubicBezTo>
                  <a:cubicBezTo>
                    <a:pt x="944" y="889"/>
                    <a:pt x="970" y="877"/>
                    <a:pt x="1032" y="889"/>
                  </a:cubicBezTo>
                  <a:cubicBezTo>
                    <a:pt x="1040" y="901"/>
                    <a:pt x="1054" y="911"/>
                    <a:pt x="1056" y="925"/>
                  </a:cubicBezTo>
                  <a:cubicBezTo>
                    <a:pt x="1066" y="1012"/>
                    <a:pt x="1009" y="1040"/>
                    <a:pt x="948" y="1081"/>
                  </a:cubicBezTo>
                  <a:cubicBezTo>
                    <a:pt x="936" y="1089"/>
                    <a:pt x="924" y="1097"/>
                    <a:pt x="912" y="1105"/>
                  </a:cubicBezTo>
                  <a:cubicBezTo>
                    <a:pt x="900" y="1113"/>
                    <a:pt x="876" y="1129"/>
                    <a:pt x="876" y="1129"/>
                  </a:cubicBezTo>
                  <a:cubicBezTo>
                    <a:pt x="802" y="1104"/>
                    <a:pt x="751" y="1061"/>
                    <a:pt x="672" y="1045"/>
                  </a:cubicBezTo>
                  <a:cubicBezTo>
                    <a:pt x="648" y="937"/>
                    <a:pt x="660" y="901"/>
                    <a:pt x="372" y="901"/>
                  </a:cubicBezTo>
                  <a:cubicBezTo>
                    <a:pt x="351" y="899"/>
                    <a:pt x="276" y="874"/>
                    <a:pt x="264" y="865"/>
                  </a:cubicBezTo>
                  <a:cubicBezTo>
                    <a:pt x="241" y="847"/>
                    <a:pt x="216" y="833"/>
                    <a:pt x="192" y="817"/>
                  </a:cubicBezTo>
                  <a:cubicBezTo>
                    <a:pt x="180" y="809"/>
                    <a:pt x="156" y="793"/>
                    <a:pt x="156" y="793"/>
                  </a:cubicBezTo>
                  <a:cubicBezTo>
                    <a:pt x="127" y="705"/>
                    <a:pt x="151" y="635"/>
                    <a:pt x="48" y="601"/>
                  </a:cubicBezTo>
                  <a:cubicBezTo>
                    <a:pt x="19" y="515"/>
                    <a:pt x="38" y="550"/>
                    <a:pt x="0" y="493"/>
                  </a:cubicBezTo>
                  <a:cubicBezTo>
                    <a:pt x="59" y="473"/>
                    <a:pt x="115" y="480"/>
                    <a:pt x="168" y="445"/>
                  </a:cubicBezTo>
                  <a:cubicBezTo>
                    <a:pt x="232" y="349"/>
                    <a:pt x="148" y="465"/>
                    <a:pt x="228" y="385"/>
                  </a:cubicBezTo>
                  <a:cubicBezTo>
                    <a:pt x="238" y="375"/>
                    <a:pt x="239" y="354"/>
                    <a:pt x="252" y="349"/>
                  </a:cubicBezTo>
                  <a:cubicBezTo>
                    <a:pt x="282" y="337"/>
                    <a:pt x="316" y="341"/>
                    <a:pt x="348" y="337"/>
                  </a:cubicBezTo>
                  <a:cubicBezTo>
                    <a:pt x="447" y="304"/>
                    <a:pt x="399" y="327"/>
                    <a:pt x="492" y="265"/>
                  </a:cubicBezTo>
                  <a:cubicBezTo>
                    <a:pt x="503" y="258"/>
                    <a:pt x="517" y="259"/>
                    <a:pt x="528" y="253"/>
                  </a:cubicBezTo>
                  <a:cubicBezTo>
                    <a:pt x="553" y="239"/>
                    <a:pt x="600" y="205"/>
                    <a:pt x="600" y="205"/>
                  </a:cubicBezTo>
                  <a:cubicBezTo>
                    <a:pt x="585" y="146"/>
                    <a:pt x="574" y="87"/>
                    <a:pt x="540" y="37"/>
                  </a:cubicBezTo>
                  <a:close/>
                </a:path>
              </a:pathLst>
            </a:custGeom>
            <a:solidFill>
              <a:srgbClr val="bbcc18"/>
            </a:solidFill>
            <a:ln w="12600">
              <a:solidFill>
                <a:srgbClr val="bb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638680" y="45604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9999"/>
                  </a:solidFill>
                  <a:latin typeface="Times New Roman"/>
                  <a:ea typeface="华文行楷"/>
                </a:rPr>
                <a:t>河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651720" y="3254400"/>
            <a:ext cx="1985760" cy="1359000"/>
            <a:chOff x="6651720" y="3254400"/>
            <a:chExt cx="1985760" cy="1359000"/>
          </a:xfrm>
        </p:grpSpPr>
        <p:sp>
          <p:nvSpPr>
            <p:cNvPr id="613" name=""/>
            <p:cNvSpPr/>
            <p:nvPr/>
          </p:nvSpPr>
          <p:spPr>
            <a:xfrm>
              <a:off x="6651720" y="3254400"/>
              <a:ext cx="1985760" cy="1359000"/>
            </a:xfrm>
            <a:custGeom>
              <a:avLst/>
              <a:gdLst/>
              <a:ahLst/>
              <a:rect l="l" t="t" r="r" b="b"/>
              <a:pathLst>
                <a:path w="1251" h="856">
                  <a:moveTo>
                    <a:pt x="22" y="499"/>
                  </a:moveTo>
                  <a:cubicBezTo>
                    <a:pt x="34" y="463"/>
                    <a:pt x="46" y="427"/>
                    <a:pt x="58" y="391"/>
                  </a:cubicBezTo>
                  <a:cubicBezTo>
                    <a:pt x="67" y="364"/>
                    <a:pt x="97" y="346"/>
                    <a:pt x="106" y="319"/>
                  </a:cubicBezTo>
                  <a:cubicBezTo>
                    <a:pt x="111" y="304"/>
                    <a:pt x="145" y="175"/>
                    <a:pt x="154" y="163"/>
                  </a:cubicBezTo>
                  <a:cubicBezTo>
                    <a:pt x="194" y="113"/>
                    <a:pt x="272" y="131"/>
                    <a:pt x="322" y="103"/>
                  </a:cubicBezTo>
                  <a:cubicBezTo>
                    <a:pt x="347" y="89"/>
                    <a:pt x="394" y="67"/>
                    <a:pt x="394" y="67"/>
                  </a:cubicBezTo>
                  <a:cubicBezTo>
                    <a:pt x="701" y="86"/>
                    <a:pt x="535" y="0"/>
                    <a:pt x="598" y="175"/>
                  </a:cubicBezTo>
                  <a:cubicBezTo>
                    <a:pt x="611" y="212"/>
                    <a:pt x="621" y="247"/>
                    <a:pt x="658" y="259"/>
                  </a:cubicBezTo>
                  <a:cubicBezTo>
                    <a:pt x="670" y="263"/>
                    <a:pt x="742" y="235"/>
                    <a:pt x="742" y="235"/>
                  </a:cubicBezTo>
                  <a:lnTo>
                    <a:pt x="814" y="151"/>
                  </a:lnTo>
                  <a:cubicBezTo>
                    <a:pt x="814" y="151"/>
                    <a:pt x="802" y="151"/>
                    <a:pt x="802" y="151"/>
                  </a:cubicBezTo>
                  <a:cubicBezTo>
                    <a:pt x="885" y="96"/>
                    <a:pt x="871" y="76"/>
                    <a:pt x="934" y="55"/>
                  </a:cubicBezTo>
                  <a:cubicBezTo>
                    <a:pt x="966" y="59"/>
                    <a:pt x="982" y="103"/>
                    <a:pt x="1042" y="127"/>
                  </a:cubicBezTo>
                  <a:cubicBezTo>
                    <a:pt x="1114" y="133"/>
                    <a:pt x="1158" y="81"/>
                    <a:pt x="1222" y="115"/>
                  </a:cubicBezTo>
                  <a:cubicBezTo>
                    <a:pt x="1251" y="130"/>
                    <a:pt x="1230" y="186"/>
                    <a:pt x="1210" y="211"/>
                  </a:cubicBezTo>
                  <a:cubicBezTo>
                    <a:pt x="1195" y="230"/>
                    <a:pt x="1162" y="219"/>
                    <a:pt x="1138" y="223"/>
                  </a:cubicBezTo>
                  <a:cubicBezTo>
                    <a:pt x="1055" y="278"/>
                    <a:pt x="1093" y="262"/>
                    <a:pt x="1030" y="283"/>
                  </a:cubicBezTo>
                  <a:cubicBezTo>
                    <a:pt x="1018" y="302"/>
                    <a:pt x="976" y="364"/>
                    <a:pt x="958" y="391"/>
                  </a:cubicBezTo>
                  <a:cubicBezTo>
                    <a:pt x="950" y="403"/>
                    <a:pt x="934" y="427"/>
                    <a:pt x="934" y="427"/>
                  </a:cubicBezTo>
                  <a:cubicBezTo>
                    <a:pt x="910" y="423"/>
                    <a:pt x="885" y="408"/>
                    <a:pt x="862" y="415"/>
                  </a:cubicBezTo>
                  <a:cubicBezTo>
                    <a:pt x="833" y="423"/>
                    <a:pt x="859" y="479"/>
                    <a:pt x="862" y="487"/>
                  </a:cubicBezTo>
                  <a:cubicBezTo>
                    <a:pt x="802" y="527"/>
                    <a:pt x="846" y="487"/>
                    <a:pt x="790" y="571"/>
                  </a:cubicBezTo>
                  <a:cubicBezTo>
                    <a:pt x="730" y="679"/>
                    <a:pt x="804" y="621"/>
                    <a:pt x="718" y="679"/>
                  </a:cubicBezTo>
                  <a:cubicBezTo>
                    <a:pt x="662" y="763"/>
                    <a:pt x="694" y="735"/>
                    <a:pt x="634" y="775"/>
                  </a:cubicBezTo>
                  <a:cubicBezTo>
                    <a:pt x="603" y="821"/>
                    <a:pt x="591" y="829"/>
                    <a:pt x="538" y="811"/>
                  </a:cubicBezTo>
                  <a:cubicBezTo>
                    <a:pt x="514" y="815"/>
                    <a:pt x="490" y="817"/>
                    <a:pt x="466" y="823"/>
                  </a:cubicBezTo>
                  <a:cubicBezTo>
                    <a:pt x="441" y="829"/>
                    <a:pt x="394" y="847"/>
                    <a:pt x="394" y="847"/>
                  </a:cubicBezTo>
                  <a:cubicBezTo>
                    <a:pt x="378" y="843"/>
                    <a:pt x="360" y="844"/>
                    <a:pt x="346" y="835"/>
                  </a:cubicBezTo>
                  <a:cubicBezTo>
                    <a:pt x="237" y="763"/>
                    <a:pt x="404" y="826"/>
                    <a:pt x="286" y="787"/>
                  </a:cubicBezTo>
                  <a:cubicBezTo>
                    <a:pt x="266" y="791"/>
                    <a:pt x="244" y="789"/>
                    <a:pt x="226" y="799"/>
                  </a:cubicBezTo>
                  <a:cubicBezTo>
                    <a:pt x="168" y="832"/>
                    <a:pt x="281" y="780"/>
                    <a:pt x="310" y="799"/>
                  </a:cubicBezTo>
                  <a:cubicBezTo>
                    <a:pt x="318" y="811"/>
                    <a:pt x="256" y="798"/>
                    <a:pt x="250" y="811"/>
                  </a:cubicBezTo>
                  <a:cubicBezTo>
                    <a:pt x="244" y="822"/>
                    <a:pt x="199" y="820"/>
                    <a:pt x="190" y="811"/>
                  </a:cubicBezTo>
                  <a:cubicBezTo>
                    <a:pt x="181" y="802"/>
                    <a:pt x="269" y="798"/>
                    <a:pt x="262" y="787"/>
                  </a:cubicBezTo>
                  <a:cubicBezTo>
                    <a:pt x="253" y="773"/>
                    <a:pt x="204" y="856"/>
                    <a:pt x="190" y="847"/>
                  </a:cubicBezTo>
                  <a:cubicBezTo>
                    <a:pt x="152" y="822"/>
                    <a:pt x="58" y="811"/>
                    <a:pt x="58" y="811"/>
                  </a:cubicBezTo>
                  <a:cubicBezTo>
                    <a:pt x="40" y="784"/>
                    <a:pt x="0" y="737"/>
                    <a:pt x="34" y="703"/>
                  </a:cubicBezTo>
                  <a:cubicBezTo>
                    <a:pt x="43" y="694"/>
                    <a:pt x="70" y="659"/>
                    <a:pt x="82" y="655"/>
                  </a:cubicBezTo>
                  <a:cubicBezTo>
                    <a:pt x="118" y="619"/>
                    <a:pt x="113" y="580"/>
                    <a:pt x="46" y="535"/>
                  </a:cubicBezTo>
                  <a:cubicBezTo>
                    <a:pt x="38" y="523"/>
                    <a:pt x="22" y="499"/>
                    <a:pt x="22" y="499"/>
                  </a:cubicBezTo>
                  <a:close/>
                </a:path>
              </a:pathLst>
            </a:custGeom>
            <a:solidFill>
              <a:srgbClr val="f84c89"/>
            </a:solidFill>
            <a:ln w="12600">
              <a:solidFill>
                <a:srgbClr val="f84c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58000" y="3614760"/>
              <a:ext cx="129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9999"/>
                  </a:solidFill>
                  <a:latin typeface="Times New Roman"/>
                  <a:ea typeface="华文行楷"/>
                </a:rPr>
                <a:t>山东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7315200" y="2884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9999"/>
                </a:solidFill>
                <a:latin typeface="Times New Roman"/>
                <a:ea typeface="经典圆叠黑"/>
              </a:rPr>
              <a:t>渤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94280" y="4333680"/>
            <a:ext cx="1981440" cy="1527840"/>
            <a:chOff x="494280" y="4333680"/>
            <a:chExt cx="1981440" cy="1527840"/>
          </a:xfrm>
        </p:grpSpPr>
        <p:sp>
          <p:nvSpPr>
            <p:cNvPr id="617" name=""/>
            <p:cNvSpPr/>
            <p:nvPr/>
          </p:nvSpPr>
          <p:spPr>
            <a:xfrm rot="1966200">
              <a:off x="898200" y="4713120"/>
              <a:ext cx="1447560" cy="15228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953000">
              <a:off x="456120" y="48844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009999"/>
                  </a:solidFill>
                  <a:latin typeface="Times New Roman"/>
                  <a:ea typeface="经典圆叠黑"/>
                </a:rPr>
                <a:t>巴颜喀拉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63400" y="1873080"/>
            <a:ext cx="4313160" cy="3582720"/>
            <a:chOff x="563400" y="1873080"/>
            <a:chExt cx="4313160" cy="3582720"/>
          </a:xfrm>
        </p:grpSpPr>
        <p:grpSp>
          <p:nvGrpSpPr>
            <p:cNvPr id="620" name=""/>
            <p:cNvGrpSpPr/>
            <p:nvPr/>
          </p:nvGrpSpPr>
          <p:grpSpPr>
            <a:xfrm>
              <a:off x="563400" y="1873080"/>
              <a:ext cx="4313160" cy="3582720"/>
              <a:chOff x="563400" y="1873080"/>
              <a:chExt cx="4313160" cy="358272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563400" y="1873080"/>
                <a:ext cx="4313160" cy="3582720"/>
                <a:chOff x="563400" y="1873080"/>
                <a:chExt cx="4313160" cy="3582720"/>
              </a:xfrm>
            </p:grpSpPr>
            <p:grpSp>
              <p:nvGrpSpPr>
                <p:cNvPr id="622" name=""/>
                <p:cNvGrpSpPr/>
                <p:nvPr/>
              </p:nvGrpSpPr>
              <p:grpSpPr>
                <a:xfrm>
                  <a:off x="563400" y="1873080"/>
                  <a:ext cx="4313160" cy="3582720"/>
                  <a:chOff x="563400" y="1873080"/>
                  <a:chExt cx="4313160" cy="3582720"/>
                </a:xfrm>
              </p:grpSpPr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563400" y="1873080"/>
                    <a:ext cx="4313160" cy="3582720"/>
                    <a:chOff x="563400" y="1873080"/>
                    <a:chExt cx="4313160" cy="3582720"/>
                  </a:xfrm>
                </p:grpSpPr>
                <p:grpSp>
                  <p:nvGrpSpPr>
                    <p:cNvPr id="624" name=""/>
                    <p:cNvGrpSpPr/>
                    <p:nvPr/>
                  </p:nvGrpSpPr>
                  <p:grpSpPr>
                    <a:xfrm>
                      <a:off x="563400" y="1873080"/>
                      <a:ext cx="4313160" cy="3582720"/>
                      <a:chOff x="563400" y="1873080"/>
                      <a:chExt cx="4313160" cy="3582720"/>
                    </a:xfrm>
                  </p:grpSpPr>
                  <p:grpSp>
                    <p:nvGrpSpPr>
                      <p:cNvPr id="625" name=""/>
                      <p:cNvGrpSpPr/>
                      <p:nvPr/>
                    </p:nvGrpSpPr>
                    <p:grpSpPr>
                      <a:xfrm>
                        <a:off x="563400" y="1873080"/>
                        <a:ext cx="4313160" cy="3582720"/>
                        <a:chOff x="563400" y="1873080"/>
                        <a:chExt cx="4313160" cy="3582720"/>
                      </a:xfrm>
                    </p:grpSpPr>
                    <p:grpSp>
                      <p:nvGrpSpPr>
                        <p:cNvPr id="626" name=""/>
                        <p:cNvGrpSpPr/>
                        <p:nvPr/>
                      </p:nvGrpSpPr>
                      <p:grpSpPr>
                        <a:xfrm>
                          <a:off x="563400" y="1873080"/>
                          <a:ext cx="4313160" cy="3582720"/>
                          <a:chOff x="563400" y="1873080"/>
                          <a:chExt cx="4313160" cy="3582720"/>
                        </a:xfrm>
                      </p:grpSpPr>
                      <p:grpSp>
                        <p:nvGrpSpPr>
                          <p:cNvPr id="627" name=""/>
                          <p:cNvGrpSpPr/>
                          <p:nvPr/>
                        </p:nvGrpSpPr>
                        <p:grpSpPr>
                          <a:xfrm>
                            <a:off x="563400" y="1873080"/>
                            <a:ext cx="4313160" cy="3582720"/>
                            <a:chOff x="563400" y="1873080"/>
                            <a:chExt cx="4313160" cy="3582720"/>
                          </a:xfrm>
                        </p:grpSpPr>
                        <p:grpSp>
                          <p:nvGrpSpPr>
                            <p:cNvPr id="628" name=""/>
                            <p:cNvGrpSpPr/>
                            <p:nvPr/>
                          </p:nvGrpSpPr>
                          <p:grpSpPr>
                            <a:xfrm>
                              <a:off x="563400" y="1873080"/>
                              <a:ext cx="4313160" cy="3582720"/>
                              <a:chOff x="563400" y="1873080"/>
                              <a:chExt cx="4313160" cy="3582720"/>
                            </a:xfrm>
                          </p:grpSpPr>
                          <p:grpSp>
                            <p:nvGrpSpPr>
                              <p:cNvPr id="629" name=""/>
                              <p:cNvGrpSpPr/>
                              <p:nvPr/>
                            </p:nvGrpSpPr>
                            <p:grpSpPr>
                              <a:xfrm>
                                <a:off x="563400" y="1873080"/>
                                <a:ext cx="4313160" cy="3582720"/>
                                <a:chOff x="563400" y="1873080"/>
                                <a:chExt cx="4313160" cy="3582720"/>
                              </a:xfrm>
                            </p:grpSpPr>
                            <p:grpSp>
                              <p:nvGrpSpPr>
                                <p:cNvPr id="630" name=""/>
                                <p:cNvGrpSpPr/>
                                <p:nvPr/>
                              </p:nvGrpSpPr>
                              <p:grpSpPr>
                                <a:xfrm>
                                  <a:off x="563400" y="1873080"/>
                                  <a:ext cx="4313160" cy="3582720"/>
                                  <a:chOff x="563400" y="1873080"/>
                                  <a:chExt cx="4313160" cy="3582720"/>
                                </a:xfrm>
                              </p:grpSpPr>
                              <p:grpSp>
                                <p:nvGrpSpPr>
                                  <p:cNvPr id="63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3400" y="1873080"/>
                                    <a:ext cx="4313160" cy="3582720"/>
                                    <a:chOff x="563400" y="1873080"/>
                                    <a:chExt cx="4313160" cy="3582720"/>
                                  </a:xfrm>
                                </p:grpSpPr>
                                <p:grpSp>
                                  <p:nvGrpSpPr>
                                    <p:cNvPr id="632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563400" y="1873080"/>
                                      <a:ext cx="4313160" cy="3582720"/>
                                      <a:chOff x="563400" y="1873080"/>
                                      <a:chExt cx="4313160" cy="3582720"/>
                                    </a:xfrm>
                                  </p:grpSpPr>
                                  <p:sp>
                                    <p:nvSpPr>
                                      <p:cNvPr id="633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563400" y="1873080"/>
                                        <a:ext cx="3695760" cy="358272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2328" h="2251">
                                            <a:moveTo>
                                              <a:pt x="48" y="396"/>
                                            </a:moveTo>
                                            <a:cubicBezTo>
                                              <a:pt x="76" y="392"/>
                                              <a:pt x="81" y="392"/>
                                              <a:pt x="108" y="384"/>
                                            </a:cubicBezTo>
                                            <a:cubicBezTo>
                                              <a:pt x="160" y="368"/>
                                              <a:pt x="132" y="356"/>
                                              <a:pt x="168" y="324"/>
                                            </a:cubicBezTo>
                                            <a:cubicBezTo>
                                              <a:pt x="190" y="305"/>
                                              <a:pt x="220" y="296"/>
                                              <a:pt x="240" y="276"/>
                                            </a:cubicBezTo>
                                            <a:cubicBezTo>
                                              <a:pt x="252" y="264"/>
                                              <a:pt x="261" y="248"/>
                                              <a:pt x="276" y="240"/>
                                            </a:cubicBezTo>
                                            <a:cubicBezTo>
                                              <a:pt x="328" y="210"/>
                                              <a:pt x="450" y="208"/>
                                              <a:pt x="492" y="204"/>
                                            </a:cubicBezTo>
                                            <a:cubicBezTo>
                                              <a:pt x="530" y="195"/>
                                              <a:pt x="556" y="197"/>
                                              <a:pt x="576" y="156"/>
                                            </a:cubicBezTo>
                                            <a:cubicBezTo>
                                              <a:pt x="591" y="126"/>
                                              <a:pt x="577" y="83"/>
                                              <a:pt x="600" y="60"/>
                                            </a:cubicBezTo>
                                            <a:cubicBezTo>
                                              <a:pt x="641" y="19"/>
                                              <a:pt x="663" y="15"/>
                                              <a:pt x="708" y="0"/>
                                            </a:cubicBezTo>
                                            <a:cubicBezTo>
                                              <a:pt x="719" y="2"/>
                                              <a:pt x="798" y="16"/>
                                              <a:pt x="804" y="24"/>
                                            </a:cubicBezTo>
                                            <a:cubicBezTo>
                                              <a:pt x="819" y="45"/>
                                              <a:pt x="814" y="75"/>
                                              <a:pt x="828" y="96"/>
                                            </a:cubicBezTo>
                                            <a:cubicBezTo>
                                              <a:pt x="872" y="161"/>
                                              <a:pt x="893" y="213"/>
                                              <a:pt x="912" y="288"/>
                                            </a:cubicBezTo>
                                            <a:cubicBezTo>
                                              <a:pt x="917" y="369"/>
                                              <a:pt x="884" y="487"/>
                                              <a:pt x="972" y="516"/>
                                            </a:cubicBezTo>
                                            <a:cubicBezTo>
                                              <a:pt x="1036" y="495"/>
                                              <a:pt x="1099" y="472"/>
                                              <a:pt x="1164" y="456"/>
                                            </a:cubicBezTo>
                                            <a:cubicBezTo>
                                              <a:pt x="1196" y="460"/>
                                              <a:pt x="1234" y="449"/>
                                              <a:pt x="1260" y="468"/>
                                            </a:cubicBezTo>
                                            <a:cubicBezTo>
                                              <a:pt x="1273" y="478"/>
                                              <a:pt x="1253" y="500"/>
                                              <a:pt x="1248" y="516"/>
                                            </a:cubicBezTo>
                                            <a:cubicBezTo>
                                              <a:pt x="1232" y="571"/>
                                              <a:pt x="1231" y="560"/>
                                              <a:pt x="1188" y="624"/>
                                            </a:cubicBezTo>
                                            <a:cubicBezTo>
                                              <a:pt x="1180" y="636"/>
                                              <a:pt x="1164" y="660"/>
                                              <a:pt x="1164" y="660"/>
                                            </a:cubicBezTo>
                                            <a:cubicBezTo>
                                              <a:pt x="1176" y="664"/>
                                              <a:pt x="1189" y="666"/>
                                              <a:pt x="1200" y="672"/>
                                            </a:cubicBezTo>
                                            <a:cubicBezTo>
                                              <a:pt x="1225" y="686"/>
                                              <a:pt x="1272" y="720"/>
                                              <a:pt x="1272" y="720"/>
                                            </a:cubicBezTo>
                                            <a:cubicBezTo>
                                              <a:pt x="1309" y="775"/>
                                              <a:pt x="1358" y="818"/>
                                              <a:pt x="1404" y="864"/>
                                            </a:cubicBezTo>
                                            <a:cubicBezTo>
                                              <a:pt x="1426" y="886"/>
                                              <a:pt x="1512" y="888"/>
                                              <a:pt x="1548" y="900"/>
                                            </a:cubicBezTo>
                                            <a:cubicBezTo>
                                              <a:pt x="1556" y="888"/>
                                              <a:pt x="1572" y="878"/>
                                              <a:pt x="1572" y="864"/>
                                            </a:cubicBezTo>
                                            <a:cubicBezTo>
                                              <a:pt x="1572" y="839"/>
                                              <a:pt x="1548" y="792"/>
                                              <a:pt x="1548" y="792"/>
                                            </a:cubicBezTo>
                                            <a:cubicBezTo>
                                              <a:pt x="1605" y="754"/>
                                              <a:pt x="1570" y="763"/>
                                              <a:pt x="1656" y="792"/>
                                            </a:cubicBezTo>
                                            <a:cubicBezTo>
                                              <a:pt x="1668" y="796"/>
                                              <a:pt x="1692" y="804"/>
                                              <a:pt x="1692" y="804"/>
                                            </a:cubicBezTo>
                                            <a:cubicBezTo>
                                              <a:pt x="1728" y="792"/>
                                              <a:pt x="1764" y="780"/>
                                              <a:pt x="1800" y="768"/>
                                            </a:cubicBezTo>
                                            <a:cubicBezTo>
                                              <a:pt x="1812" y="764"/>
                                              <a:pt x="1836" y="756"/>
                                              <a:pt x="1836" y="756"/>
                                            </a:cubicBezTo>
                                            <a:cubicBezTo>
                                              <a:pt x="1848" y="760"/>
                                              <a:pt x="1863" y="759"/>
                                              <a:pt x="1872" y="768"/>
                                            </a:cubicBezTo>
                                            <a:cubicBezTo>
                                              <a:pt x="1901" y="797"/>
                                              <a:pt x="1883" y="884"/>
                                              <a:pt x="1860" y="912"/>
                                            </a:cubicBezTo>
                                            <a:cubicBezTo>
                                              <a:pt x="1851" y="923"/>
                                              <a:pt x="1836" y="928"/>
                                              <a:pt x="1824" y="936"/>
                                            </a:cubicBezTo>
                                            <a:cubicBezTo>
                                              <a:pt x="1816" y="960"/>
                                              <a:pt x="1808" y="984"/>
                                              <a:pt x="1800" y="1008"/>
                                            </a:cubicBezTo>
                                            <a:cubicBezTo>
                                              <a:pt x="1796" y="1020"/>
                                              <a:pt x="1788" y="1044"/>
                                              <a:pt x="1788" y="1044"/>
                                            </a:cubicBezTo>
                                            <a:cubicBezTo>
                                              <a:pt x="1809" y="1107"/>
                                              <a:pt x="1793" y="1069"/>
                                              <a:pt x="1848" y="1152"/>
                                            </a:cubicBezTo>
                                            <a:cubicBezTo>
                                              <a:pt x="1866" y="1179"/>
                                              <a:pt x="1852" y="1204"/>
                                              <a:pt x="1884" y="1224"/>
                                            </a:cubicBezTo>
                                            <a:cubicBezTo>
                                              <a:pt x="1884" y="1224"/>
                                              <a:pt x="1974" y="1254"/>
                                              <a:pt x="1992" y="1260"/>
                                            </a:cubicBezTo>
                                            <a:cubicBezTo>
                                              <a:pt x="2019" y="1269"/>
                                              <a:pt x="2064" y="1308"/>
                                              <a:pt x="2064" y="1308"/>
                                            </a:cubicBezTo>
                                            <a:cubicBezTo>
                                              <a:pt x="2072" y="1332"/>
                                              <a:pt x="2080" y="1356"/>
                                              <a:pt x="2088" y="1380"/>
                                            </a:cubicBezTo>
                                            <a:cubicBezTo>
                                              <a:pt x="2121" y="1479"/>
                                              <a:pt x="2068" y="1535"/>
                                              <a:pt x="2160" y="1596"/>
                                            </a:cubicBezTo>
                                            <a:cubicBezTo>
                                              <a:pt x="2168" y="1608"/>
                                              <a:pt x="2178" y="1619"/>
                                              <a:pt x="2184" y="1632"/>
                                            </a:cubicBezTo>
                                            <a:cubicBezTo>
                                              <a:pt x="2190" y="1643"/>
                                              <a:pt x="2187" y="1659"/>
                                              <a:pt x="2196" y="1668"/>
                                            </a:cubicBezTo>
                                            <a:cubicBezTo>
                                              <a:pt x="2205" y="1677"/>
                                              <a:pt x="2221" y="1674"/>
                                              <a:pt x="2232" y="1680"/>
                                            </a:cubicBezTo>
                                            <a:cubicBezTo>
                                              <a:pt x="2325" y="1727"/>
                                              <a:pt x="2214" y="1686"/>
                                              <a:pt x="2304" y="1716"/>
                                            </a:cubicBezTo>
                                            <a:cubicBezTo>
                                              <a:pt x="2328" y="1788"/>
                                              <a:pt x="2320" y="1724"/>
                                              <a:pt x="2280" y="1764"/>
                                            </a:cubicBezTo>
                                            <a:cubicBezTo>
                                              <a:pt x="2271" y="1773"/>
                                              <a:pt x="2272" y="1788"/>
                                              <a:pt x="2268" y="1800"/>
                                            </a:cubicBezTo>
                                            <a:cubicBezTo>
                                              <a:pt x="2272" y="1812"/>
                                              <a:pt x="2274" y="1825"/>
                                              <a:pt x="2280" y="1836"/>
                                            </a:cubicBezTo>
                                            <a:cubicBezTo>
                                              <a:pt x="2294" y="1861"/>
                                              <a:pt x="2328" y="1908"/>
                                              <a:pt x="2328" y="1908"/>
                                            </a:cubicBezTo>
                                            <a:cubicBezTo>
                                              <a:pt x="2296" y="2003"/>
                                              <a:pt x="2308" y="1955"/>
                                              <a:pt x="2292" y="2052"/>
                                            </a:cubicBezTo>
                                            <a:cubicBezTo>
                                              <a:pt x="2237" y="2015"/>
                                              <a:pt x="2186" y="1999"/>
                                              <a:pt x="2160" y="2076"/>
                                            </a:cubicBezTo>
                                            <a:cubicBezTo>
                                              <a:pt x="2185" y="2176"/>
                                              <a:pt x="2155" y="2077"/>
                                              <a:pt x="2196" y="2160"/>
                                            </a:cubicBezTo>
                                            <a:cubicBezTo>
                                              <a:pt x="2202" y="2171"/>
                                              <a:pt x="2219" y="2189"/>
                                              <a:pt x="2208" y="2196"/>
                                            </a:cubicBezTo>
                                            <a:cubicBezTo>
                                              <a:pt x="2194" y="2205"/>
                                              <a:pt x="2176" y="2188"/>
                                              <a:pt x="2160" y="2184"/>
                                            </a:cubicBezTo>
                                            <a:cubicBezTo>
                                              <a:pt x="2128" y="2188"/>
                                              <a:pt x="2172" y="2208"/>
                                              <a:pt x="2076" y="2220"/>
                                            </a:cubicBezTo>
                                            <a:cubicBezTo>
                                              <a:pt x="1990" y="2251"/>
                                              <a:pt x="2075" y="2248"/>
                                              <a:pt x="1992" y="2220"/>
                                            </a:cubicBezTo>
                                            <a:cubicBezTo>
                                              <a:pt x="1984" y="2208"/>
                                              <a:pt x="1978" y="2194"/>
                                              <a:pt x="1968" y="2184"/>
                                            </a:cubicBezTo>
                                            <a:cubicBezTo>
                                              <a:pt x="1958" y="2174"/>
                                              <a:pt x="1941" y="2171"/>
                                              <a:pt x="1932" y="2160"/>
                                            </a:cubicBezTo>
                                            <a:cubicBezTo>
                                              <a:pt x="1866" y="2078"/>
                                              <a:pt x="1994" y="2174"/>
                                              <a:pt x="1884" y="2088"/>
                                            </a:cubicBezTo>
                                            <a:cubicBezTo>
                                              <a:pt x="1861" y="2070"/>
                                              <a:pt x="1836" y="2056"/>
                                              <a:pt x="1812" y="2040"/>
                                            </a:cubicBezTo>
                                            <a:cubicBezTo>
                                              <a:pt x="1791" y="2026"/>
                                              <a:pt x="1740" y="2016"/>
                                              <a:pt x="1740" y="2016"/>
                                            </a:cubicBezTo>
                                            <a:cubicBezTo>
                                              <a:pt x="1716" y="1980"/>
                                              <a:pt x="1704" y="1944"/>
                                              <a:pt x="1680" y="1908"/>
                                            </a:cubicBezTo>
                                            <a:cubicBezTo>
                                              <a:pt x="1549" y="1923"/>
                                              <a:pt x="1539" y="1901"/>
                                              <a:pt x="1560" y="2028"/>
                                            </a:cubicBezTo>
                                            <a:cubicBezTo>
                                              <a:pt x="1556" y="2056"/>
                                              <a:pt x="1567" y="2091"/>
                                              <a:pt x="1548" y="2112"/>
                                            </a:cubicBezTo>
                                            <a:cubicBezTo>
                                              <a:pt x="1519" y="2145"/>
                                              <a:pt x="1470" y="2122"/>
                                              <a:pt x="1440" y="2112"/>
                                            </a:cubicBezTo>
                                            <a:cubicBezTo>
                                              <a:pt x="1396" y="2045"/>
                                              <a:pt x="1441" y="2098"/>
                                              <a:pt x="1380" y="2064"/>
                                            </a:cubicBezTo>
                                            <a:cubicBezTo>
                                              <a:pt x="1355" y="2050"/>
                                              <a:pt x="1308" y="2016"/>
                                              <a:pt x="1308" y="2016"/>
                                            </a:cubicBezTo>
                                            <a:cubicBezTo>
                                              <a:pt x="1300" y="2004"/>
                                              <a:pt x="1295" y="1989"/>
                                              <a:pt x="1284" y="1980"/>
                                            </a:cubicBezTo>
                                            <a:cubicBezTo>
                                              <a:pt x="1274" y="1972"/>
                                              <a:pt x="1255" y="1978"/>
                                              <a:pt x="1248" y="1968"/>
                                            </a:cubicBezTo>
                                            <a:cubicBezTo>
                                              <a:pt x="1233" y="1947"/>
                                              <a:pt x="1224" y="1896"/>
                                              <a:pt x="1224" y="1896"/>
                                            </a:cubicBezTo>
                                            <a:cubicBezTo>
                                              <a:pt x="1256" y="1849"/>
                                              <a:pt x="1236" y="1854"/>
                                              <a:pt x="1296" y="1872"/>
                                            </a:cubicBezTo>
                                            <a:cubicBezTo>
                                              <a:pt x="1320" y="1879"/>
                                              <a:pt x="1368" y="1896"/>
                                              <a:pt x="1368" y="1896"/>
                                            </a:cubicBezTo>
                                            <a:cubicBezTo>
                                              <a:pt x="1384" y="1892"/>
                                              <a:pt x="1402" y="1893"/>
                                              <a:pt x="1416" y="1884"/>
                                            </a:cubicBezTo>
                                            <a:cubicBezTo>
                                              <a:pt x="1469" y="1849"/>
                                              <a:pt x="1425" y="1767"/>
                                              <a:pt x="1464" y="1728"/>
                                            </a:cubicBezTo>
                                            <a:cubicBezTo>
                                              <a:pt x="1473" y="1719"/>
                                              <a:pt x="1489" y="1722"/>
                                              <a:pt x="1500" y="1716"/>
                                            </a:cubicBezTo>
                                            <a:cubicBezTo>
                                              <a:pt x="1513" y="1710"/>
                                              <a:pt x="1524" y="1700"/>
                                              <a:pt x="1536" y="1692"/>
                                            </a:cubicBezTo>
                                            <a:cubicBezTo>
                                              <a:pt x="1544" y="1680"/>
                                              <a:pt x="1554" y="1669"/>
                                              <a:pt x="1560" y="1656"/>
                                            </a:cubicBezTo>
                                            <a:cubicBezTo>
                                              <a:pt x="1566" y="1645"/>
                                              <a:pt x="1562" y="1628"/>
                                              <a:pt x="1572" y="1620"/>
                                            </a:cubicBezTo>
                                            <a:cubicBezTo>
                                              <a:pt x="1585" y="1610"/>
                                              <a:pt x="1604" y="1612"/>
                                              <a:pt x="1620" y="1608"/>
                                            </a:cubicBezTo>
                                            <a:cubicBezTo>
                                              <a:pt x="1632" y="1596"/>
                                              <a:pt x="1648" y="1587"/>
                                              <a:pt x="1656" y="1572"/>
                                            </a:cubicBezTo>
                                            <a:cubicBezTo>
                                              <a:pt x="1668" y="1550"/>
                                              <a:pt x="1680" y="1500"/>
                                              <a:pt x="1680" y="1500"/>
                                            </a:cubicBezTo>
                                            <a:cubicBezTo>
                                              <a:pt x="1671" y="1381"/>
                                              <a:pt x="1630" y="1257"/>
                                              <a:pt x="1560" y="1152"/>
                                            </a:cubicBezTo>
                                            <a:cubicBezTo>
                                              <a:pt x="1516" y="1156"/>
                                              <a:pt x="1496" y="1128"/>
                                              <a:pt x="1452" y="1128"/>
                                            </a:cubicBezTo>
                                            <a:cubicBezTo>
                                              <a:pt x="1379" y="1128"/>
                                              <a:pt x="1400" y="1084"/>
                                              <a:pt x="1368" y="1044"/>
                                            </a:cubicBezTo>
                                            <a:cubicBezTo>
                                              <a:pt x="1359" y="1033"/>
                                              <a:pt x="1344" y="1028"/>
                                              <a:pt x="1332" y="1020"/>
                                            </a:cubicBezTo>
                                            <a:cubicBezTo>
                                              <a:pt x="1324" y="1008"/>
                                              <a:pt x="1321" y="990"/>
                                              <a:pt x="1308" y="984"/>
                                            </a:cubicBezTo>
                                            <a:cubicBezTo>
                                              <a:pt x="1286" y="973"/>
                                              <a:pt x="1260" y="978"/>
                                              <a:pt x="1236" y="972"/>
                                            </a:cubicBezTo>
                                            <a:cubicBezTo>
                                              <a:pt x="1167" y="955"/>
                                              <a:pt x="1175" y="956"/>
                                              <a:pt x="1128" y="924"/>
                                            </a:cubicBezTo>
                                            <a:cubicBezTo>
                                              <a:pt x="1112" y="900"/>
                                              <a:pt x="1104" y="868"/>
                                              <a:pt x="1080" y="852"/>
                                            </a:cubicBezTo>
                                            <a:cubicBezTo>
                                              <a:pt x="958" y="771"/>
                                              <a:pt x="1037" y="806"/>
                                              <a:pt x="828" y="792"/>
                                            </a:cubicBezTo>
                                            <a:cubicBezTo>
                                              <a:pt x="777" y="775"/>
                                              <a:pt x="752" y="787"/>
                                              <a:pt x="708" y="816"/>
                                            </a:cubicBezTo>
                                            <a:cubicBezTo>
                                              <a:pt x="652" y="900"/>
                                              <a:pt x="684" y="872"/>
                                              <a:pt x="624" y="912"/>
                                            </a:cubicBezTo>
                                            <a:cubicBezTo>
                                              <a:pt x="583" y="902"/>
                                              <a:pt x="563" y="906"/>
                                              <a:pt x="540" y="864"/>
                                            </a:cubicBezTo>
                                            <a:cubicBezTo>
                                              <a:pt x="522" y="831"/>
                                              <a:pt x="531" y="783"/>
                                              <a:pt x="504" y="756"/>
                                            </a:cubicBezTo>
                                            <a:cubicBezTo>
                                              <a:pt x="450" y="702"/>
                                              <a:pt x="484" y="725"/>
                                              <a:pt x="396" y="696"/>
                                            </a:cubicBezTo>
                                            <a:cubicBezTo>
                                              <a:pt x="384" y="692"/>
                                              <a:pt x="360" y="684"/>
                                              <a:pt x="360" y="684"/>
                                            </a:cubicBezTo>
                                            <a:cubicBezTo>
                                              <a:pt x="280" y="688"/>
                                              <a:pt x="200" y="689"/>
                                              <a:pt x="120" y="696"/>
                                            </a:cubicBezTo>
                                            <a:cubicBezTo>
                                              <a:pt x="107" y="697"/>
                                              <a:pt x="95" y="714"/>
                                              <a:pt x="84" y="708"/>
                                            </a:cubicBezTo>
                                            <a:cubicBezTo>
                                              <a:pt x="73" y="702"/>
                                              <a:pt x="81" y="681"/>
                                              <a:pt x="72" y="672"/>
                                            </a:cubicBezTo>
                                            <a:cubicBezTo>
                                              <a:pt x="63" y="663"/>
                                              <a:pt x="48" y="664"/>
                                              <a:pt x="36" y="660"/>
                                            </a:cubicBezTo>
                                            <a:cubicBezTo>
                                              <a:pt x="3" y="561"/>
                                              <a:pt x="52" y="577"/>
                                              <a:pt x="36" y="468"/>
                                            </a:cubicBezTo>
                                            <a:cubicBezTo>
                                              <a:pt x="48" y="356"/>
                                              <a:pt x="0" y="396"/>
                                              <a:pt x="48" y="396"/>
                                            </a:cubicBezTo>
                                            <a:close/>
                                          </a:path>
                                        </a:pathLst>
                                      </a:custGeom>
                                      <a:solidFill>
                                        <a:srgbClr val="ffffcc"/>
                                      </a:solidFill>
                                      <a:ln w="12600">
                                        <a:solidFill>
                                          <a:srgbClr val="ffffcc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634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4087800" y="3799080"/>
                                        <a:ext cx="788760" cy="89748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497" h="564">
                                            <a:moveTo>
                                              <a:pt x="0" y="446"/>
                                            </a:moveTo>
                                            <a:cubicBezTo>
                                              <a:pt x="42" y="432"/>
                                              <a:pt x="38" y="441"/>
                                              <a:pt x="60" y="398"/>
                                            </a:cubicBezTo>
                                            <a:cubicBezTo>
                                              <a:pt x="66" y="387"/>
                                              <a:pt x="63" y="371"/>
                                              <a:pt x="72" y="362"/>
                                            </a:cubicBezTo>
                                            <a:cubicBezTo>
                                              <a:pt x="81" y="353"/>
                                              <a:pt x="97" y="356"/>
                                              <a:pt x="108" y="350"/>
                                            </a:cubicBezTo>
                                            <a:cubicBezTo>
                                              <a:pt x="121" y="344"/>
                                              <a:pt x="132" y="334"/>
                                              <a:pt x="144" y="326"/>
                                            </a:cubicBezTo>
                                            <a:cubicBezTo>
                                              <a:pt x="140" y="306"/>
                                              <a:pt x="142" y="284"/>
                                              <a:pt x="132" y="266"/>
                                            </a:cubicBezTo>
                                            <a:cubicBezTo>
                                              <a:pt x="125" y="253"/>
                                              <a:pt x="104" y="254"/>
                                              <a:pt x="96" y="242"/>
                                            </a:cubicBezTo>
                                            <a:cubicBezTo>
                                              <a:pt x="83" y="221"/>
                                              <a:pt x="80" y="194"/>
                                              <a:pt x="72" y="170"/>
                                            </a:cubicBezTo>
                                            <a:cubicBezTo>
                                              <a:pt x="68" y="158"/>
                                              <a:pt x="60" y="134"/>
                                              <a:pt x="60" y="134"/>
                                            </a:cubicBezTo>
                                            <a:cubicBezTo>
                                              <a:pt x="77" y="51"/>
                                              <a:pt x="87" y="29"/>
                                              <a:pt x="168" y="2"/>
                                            </a:cubicBezTo>
                                            <a:cubicBezTo>
                                              <a:pt x="184" y="6"/>
                                              <a:pt x="208" y="0"/>
                                              <a:pt x="216" y="14"/>
                                            </a:cubicBezTo>
                                            <a:cubicBezTo>
                                              <a:pt x="270" y="111"/>
                                              <a:pt x="183" y="98"/>
                                              <a:pt x="264" y="134"/>
                                            </a:cubicBezTo>
                                            <a:cubicBezTo>
                                              <a:pt x="264" y="134"/>
                                              <a:pt x="354" y="164"/>
                                              <a:pt x="372" y="170"/>
                                            </a:cubicBezTo>
                                            <a:cubicBezTo>
                                              <a:pt x="384" y="174"/>
                                              <a:pt x="396" y="178"/>
                                              <a:pt x="408" y="182"/>
                                            </a:cubicBezTo>
                                            <a:cubicBezTo>
                                              <a:pt x="420" y="186"/>
                                              <a:pt x="444" y="194"/>
                                              <a:pt x="444" y="194"/>
                                            </a:cubicBezTo>
                                            <a:cubicBezTo>
                                              <a:pt x="497" y="274"/>
                                              <a:pt x="476" y="226"/>
                                              <a:pt x="456" y="398"/>
                                            </a:cubicBezTo>
                                            <a:cubicBezTo>
                                              <a:pt x="455" y="411"/>
                                              <a:pt x="453" y="425"/>
                                              <a:pt x="444" y="434"/>
                                            </a:cubicBezTo>
                                            <a:cubicBezTo>
                                              <a:pt x="438" y="440"/>
                                              <a:pt x="360" y="458"/>
                                              <a:pt x="360" y="458"/>
                                            </a:cubicBezTo>
                                            <a:cubicBezTo>
                                              <a:pt x="348" y="466"/>
                                              <a:pt x="333" y="471"/>
                                              <a:pt x="324" y="482"/>
                                            </a:cubicBezTo>
                                            <a:cubicBezTo>
                                              <a:pt x="316" y="492"/>
                                              <a:pt x="310" y="506"/>
                                              <a:pt x="312" y="518"/>
                                            </a:cubicBezTo>
                                            <a:cubicBezTo>
                                              <a:pt x="314" y="532"/>
                                              <a:pt x="350" y="550"/>
                                              <a:pt x="336" y="554"/>
                                            </a:cubicBezTo>
                                            <a:cubicBezTo>
                                              <a:pt x="301" y="564"/>
                                              <a:pt x="264" y="546"/>
                                              <a:pt x="228" y="542"/>
                                            </a:cubicBezTo>
                                            <a:cubicBezTo>
                                              <a:pt x="129" y="509"/>
                                              <a:pt x="181" y="514"/>
                                              <a:pt x="72" y="530"/>
                                            </a:cubicBezTo>
                                            <a:cubicBezTo>
                                              <a:pt x="10" y="514"/>
                                              <a:pt x="0" y="512"/>
                                              <a:pt x="0" y="446"/>
                                            </a:cubicBezTo>
                                            <a:close/>
                                          </a:path>
                                        </a:pathLst>
                                      </a:custGeom>
                                      <a:solidFill>
                                        <a:srgbClr val="ffffcc"/>
                                      </a:solidFill>
                                      <a:ln w="12600">
                                        <a:solidFill>
                                          <a:srgbClr val="ffffcc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6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46240" y="2600280"/>
                                      <a:ext cx="2678040" cy="19389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687" h="1218">
                                          <a:moveTo>
                                            <a:pt x="0" y="54"/>
                                          </a:moveTo>
                                          <a:cubicBezTo>
                                            <a:pt x="67" y="76"/>
                                            <a:pt x="83" y="38"/>
                                            <a:pt x="144" y="18"/>
                                          </a:cubicBezTo>
                                          <a:cubicBezTo>
                                            <a:pt x="188" y="22"/>
                                            <a:pt x="243" y="0"/>
                                            <a:pt x="276" y="30"/>
                                          </a:cubicBezTo>
                                          <a:cubicBezTo>
                                            <a:pt x="300" y="52"/>
                                            <a:pt x="271" y="94"/>
                                            <a:pt x="264" y="126"/>
                                          </a:cubicBezTo>
                                          <a:cubicBezTo>
                                            <a:pt x="259" y="151"/>
                                            <a:pt x="240" y="198"/>
                                            <a:pt x="240" y="198"/>
                                          </a:cubicBezTo>
                                          <a:cubicBezTo>
                                            <a:pt x="248" y="210"/>
                                            <a:pt x="252" y="226"/>
                                            <a:pt x="264" y="234"/>
                                          </a:cubicBezTo>
                                          <a:cubicBezTo>
                                            <a:pt x="285" y="247"/>
                                            <a:pt x="315" y="244"/>
                                            <a:pt x="336" y="258"/>
                                          </a:cubicBezTo>
                                          <a:cubicBezTo>
                                            <a:pt x="348" y="266"/>
                                            <a:pt x="360" y="274"/>
                                            <a:pt x="372" y="282"/>
                                          </a:cubicBezTo>
                                          <a:cubicBezTo>
                                            <a:pt x="380" y="294"/>
                                            <a:pt x="390" y="305"/>
                                            <a:pt x="396" y="318"/>
                                          </a:cubicBezTo>
                                          <a:cubicBezTo>
                                            <a:pt x="402" y="329"/>
                                            <a:pt x="399" y="345"/>
                                            <a:pt x="408" y="354"/>
                                          </a:cubicBezTo>
                                          <a:cubicBezTo>
                                            <a:pt x="452" y="398"/>
                                            <a:pt x="504" y="406"/>
                                            <a:pt x="552" y="438"/>
                                          </a:cubicBezTo>
                                          <a:cubicBezTo>
                                            <a:pt x="612" y="418"/>
                                            <a:pt x="584" y="438"/>
                                            <a:pt x="612" y="354"/>
                                          </a:cubicBezTo>
                                          <a:cubicBezTo>
                                            <a:pt x="617" y="340"/>
                                            <a:pt x="636" y="338"/>
                                            <a:pt x="648" y="330"/>
                                          </a:cubicBezTo>
                                          <a:cubicBezTo>
                                            <a:pt x="708" y="350"/>
                                            <a:pt x="689" y="349"/>
                                            <a:pt x="780" y="330"/>
                                          </a:cubicBezTo>
                                          <a:cubicBezTo>
                                            <a:pt x="805" y="325"/>
                                            <a:pt x="852" y="306"/>
                                            <a:pt x="852" y="306"/>
                                          </a:cubicBezTo>
                                          <a:cubicBezTo>
                                            <a:pt x="882" y="312"/>
                                            <a:pt x="983" y="319"/>
                                            <a:pt x="936" y="378"/>
                                          </a:cubicBezTo>
                                          <a:cubicBezTo>
                                            <a:pt x="927" y="389"/>
                                            <a:pt x="912" y="394"/>
                                            <a:pt x="900" y="402"/>
                                          </a:cubicBezTo>
                                          <a:cubicBezTo>
                                            <a:pt x="892" y="426"/>
                                            <a:pt x="884" y="450"/>
                                            <a:pt x="876" y="474"/>
                                          </a:cubicBezTo>
                                          <a:cubicBezTo>
                                            <a:pt x="872" y="486"/>
                                            <a:pt x="864" y="510"/>
                                            <a:pt x="864" y="510"/>
                                          </a:cubicBezTo>
                                          <a:cubicBezTo>
                                            <a:pt x="867" y="552"/>
                                            <a:pt x="850" y="658"/>
                                            <a:pt x="900" y="702"/>
                                          </a:cubicBezTo>
                                          <a:cubicBezTo>
                                            <a:pt x="1029" y="815"/>
                                            <a:pt x="924" y="715"/>
                                            <a:pt x="1008" y="762"/>
                                          </a:cubicBezTo>
                                          <a:cubicBezTo>
                                            <a:pt x="1033" y="776"/>
                                            <a:pt x="1080" y="810"/>
                                            <a:pt x="1080" y="810"/>
                                          </a:cubicBezTo>
                                          <a:cubicBezTo>
                                            <a:pt x="1096" y="834"/>
                                            <a:pt x="1112" y="858"/>
                                            <a:pt x="1128" y="882"/>
                                          </a:cubicBezTo>
                                          <a:cubicBezTo>
                                            <a:pt x="1223" y="1025"/>
                                            <a:pt x="1070" y="1020"/>
                                            <a:pt x="1188" y="1098"/>
                                          </a:cubicBezTo>
                                          <a:cubicBezTo>
                                            <a:pt x="1207" y="1156"/>
                                            <a:pt x="1226" y="1199"/>
                                            <a:pt x="1284" y="1218"/>
                                          </a:cubicBezTo>
                                          <a:cubicBezTo>
                                            <a:pt x="1296" y="1210"/>
                                            <a:pt x="1311" y="1205"/>
                                            <a:pt x="1320" y="1194"/>
                                          </a:cubicBezTo>
                                          <a:cubicBezTo>
                                            <a:pt x="1367" y="1136"/>
                                            <a:pt x="1289" y="1172"/>
                                            <a:pt x="1368" y="1146"/>
                                          </a:cubicBezTo>
                                          <a:cubicBezTo>
                                            <a:pt x="1406" y="1089"/>
                                            <a:pt x="1419" y="1054"/>
                                            <a:pt x="1392" y="978"/>
                                          </a:cubicBezTo>
                                          <a:cubicBezTo>
                                            <a:pt x="1382" y="951"/>
                                            <a:pt x="1353" y="933"/>
                                            <a:pt x="1344" y="906"/>
                                          </a:cubicBezTo>
                                          <a:cubicBezTo>
                                            <a:pt x="1340" y="894"/>
                                            <a:pt x="1336" y="882"/>
                                            <a:pt x="1332" y="870"/>
                                          </a:cubicBezTo>
                                          <a:cubicBezTo>
                                            <a:pt x="1341" y="842"/>
                                            <a:pt x="1340" y="810"/>
                                            <a:pt x="1356" y="786"/>
                                          </a:cubicBezTo>
                                          <a:cubicBezTo>
                                            <a:pt x="1369" y="766"/>
                                            <a:pt x="1407" y="757"/>
                                            <a:pt x="1428" y="750"/>
                                          </a:cubicBezTo>
                                          <a:cubicBezTo>
                                            <a:pt x="1448" y="780"/>
                                            <a:pt x="1460" y="835"/>
                                            <a:pt x="1488" y="858"/>
                                          </a:cubicBezTo>
                                          <a:cubicBezTo>
                                            <a:pt x="1498" y="866"/>
                                            <a:pt x="1513" y="864"/>
                                            <a:pt x="1524" y="870"/>
                                          </a:cubicBezTo>
                                          <a:cubicBezTo>
                                            <a:pt x="1561" y="888"/>
                                            <a:pt x="1595" y="912"/>
                                            <a:pt x="1632" y="930"/>
                                          </a:cubicBezTo>
                                          <a:cubicBezTo>
                                            <a:pt x="1687" y="958"/>
                                            <a:pt x="1653" y="927"/>
                                            <a:pt x="1680" y="954"/>
                                          </a:cubicBezTo>
                                        </a:path>
                                      </a:pathLst>
                                    </a:custGeom>
                                    <a:noFill/>
                                    <a:ln w="57240">
                                      <a:solidFill>
                                        <a:srgbClr val="ffffcc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636" name=""/>
                                  <p:cNvSpPr/>
                                  <p:nvPr/>
                                </p:nvSpPr>
                                <p:spPr>
                                  <a:xfrm>
                                    <a:off x="2993760" y="3221280"/>
                                    <a:ext cx="77760" cy="730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49" h="46">
                                        <a:moveTo>
                                          <a:pt x="34" y="0"/>
                                        </a:moveTo>
                                        <a:cubicBezTo>
                                          <a:pt x="26" y="12"/>
                                          <a:pt x="0" y="26"/>
                                          <a:pt x="10" y="36"/>
                                        </a:cubicBezTo>
                                        <a:cubicBezTo>
                                          <a:pt x="20" y="46"/>
                                          <a:pt x="38" y="24"/>
                                          <a:pt x="46" y="12"/>
                                        </a:cubicBezTo>
                                        <a:cubicBezTo>
                                          <a:pt x="49" y="7"/>
                                          <a:pt x="38" y="4"/>
                                          <a:pt x="34" y="0"/>
                                        </a:cubicBez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339966"/>
                                  </a:solidFill>
                                  <a:ln w="76320">
                                    <a:solidFill>
                                      <a:srgbClr val="ffffcc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tIns="27360" bIns="273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637" name=""/>
                                <p:cNvSpPr/>
                                <p:nvPr/>
                              </p:nvSpPr>
                              <p:spPr>
                                <a:xfrm>
                                  <a:off x="3143160" y="3928680"/>
                                  <a:ext cx="76320" cy="4201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8" h="264">
                                      <a:moveTo>
                                        <a:pt x="0" y="0"/>
                                      </a:moveTo>
                                      <a:cubicBezTo>
                                        <a:pt x="29" y="88"/>
                                        <a:pt x="48" y="171"/>
                                        <a:pt x="48" y="26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12600">
                                  <a:solidFill>
                                    <a:srgbClr val="ffffcc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638" name=""/>
                              <p:cNvSpPr/>
                              <p:nvPr/>
                            </p:nvSpPr>
                            <p:spPr>
                              <a:xfrm>
                                <a:off x="3790800" y="3871440"/>
                                <a:ext cx="476280" cy="627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00" h="394">
                                    <a:moveTo>
                                      <a:pt x="0" y="0"/>
                                    </a:moveTo>
                                    <a:cubicBezTo>
                                      <a:pt x="36" y="54"/>
                                      <a:pt x="36" y="113"/>
                                      <a:pt x="72" y="168"/>
                                    </a:cubicBezTo>
                                    <a:cubicBezTo>
                                      <a:pt x="76" y="196"/>
                                      <a:pt x="73" y="226"/>
                                      <a:pt x="84" y="252"/>
                                    </a:cubicBezTo>
                                    <a:cubicBezTo>
                                      <a:pt x="90" y="265"/>
                                      <a:pt x="111" y="265"/>
                                      <a:pt x="120" y="276"/>
                                    </a:cubicBezTo>
                                    <a:cubicBezTo>
                                      <a:pt x="128" y="286"/>
                                      <a:pt x="126" y="301"/>
                                      <a:pt x="132" y="312"/>
                                    </a:cubicBezTo>
                                    <a:cubicBezTo>
                                      <a:pt x="146" y="337"/>
                                      <a:pt x="180" y="384"/>
                                      <a:pt x="180" y="384"/>
                                    </a:cubicBezTo>
                                    <a:cubicBezTo>
                                      <a:pt x="259" y="358"/>
                                      <a:pt x="181" y="394"/>
                                      <a:pt x="228" y="336"/>
                                    </a:cubicBezTo>
                                    <a:cubicBezTo>
                                      <a:pt x="237" y="325"/>
                                      <a:pt x="252" y="320"/>
                                      <a:pt x="264" y="312"/>
                                    </a:cubicBezTo>
                                    <a:cubicBezTo>
                                      <a:pt x="276" y="294"/>
                                      <a:pt x="300" y="265"/>
                                      <a:pt x="300" y="240"/>
                                    </a:cubicBezTo>
                                    <a:cubicBezTo>
                                      <a:pt x="300" y="204"/>
                                      <a:pt x="264" y="189"/>
                                      <a:pt x="264" y="156"/>
                                    </a:cubicBezTo>
                                  </a:path>
                                </a:pathLst>
                              </a:custGeom>
                              <a:noFill/>
                              <a:ln w="38160">
                                <a:solidFill>
                                  <a:srgbClr val="ffffcc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39" name=""/>
                            <p:cNvSpPr/>
                            <p:nvPr/>
                          </p:nvSpPr>
                          <p:spPr>
                            <a:xfrm>
                              <a:off x="4324320" y="3776040"/>
                              <a:ext cx="461880" cy="343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91" h="216">
                                  <a:moveTo>
                                    <a:pt x="0" y="0"/>
                                  </a:moveTo>
                                  <a:cubicBezTo>
                                    <a:pt x="93" y="19"/>
                                    <a:pt x="78" y="29"/>
                                    <a:pt x="108" y="120"/>
                                  </a:cubicBezTo>
                                  <a:cubicBezTo>
                                    <a:pt x="118" y="150"/>
                                    <a:pt x="208" y="155"/>
                                    <a:pt x="216" y="156"/>
                                  </a:cubicBezTo>
                                  <a:cubicBezTo>
                                    <a:pt x="291" y="206"/>
                                    <a:pt x="288" y="175"/>
                                    <a:pt x="288" y="216"/>
                                  </a:cubicBezTo>
                                </a:path>
                              </a:pathLst>
                            </a:custGeom>
                            <a:noFill/>
                            <a:ln w="38160">
                              <a:solidFill>
                                <a:srgbClr val="ffff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40" name=""/>
                          <p:cNvSpPr/>
                          <p:nvPr/>
                        </p:nvSpPr>
                        <p:spPr>
                          <a:xfrm>
                            <a:off x="2533680" y="2973600"/>
                            <a:ext cx="495000" cy="286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2" h="180">
                                <a:moveTo>
                                  <a:pt x="0" y="0"/>
                                </a:moveTo>
                                <a:cubicBezTo>
                                  <a:pt x="24" y="16"/>
                                  <a:pt x="48" y="32"/>
                                  <a:pt x="72" y="48"/>
                                </a:cubicBezTo>
                                <a:cubicBezTo>
                                  <a:pt x="84" y="56"/>
                                  <a:pt x="108" y="72"/>
                                  <a:pt x="108" y="72"/>
                                </a:cubicBezTo>
                                <a:cubicBezTo>
                                  <a:pt x="112" y="84"/>
                                  <a:pt x="112" y="98"/>
                                  <a:pt x="120" y="108"/>
                                </a:cubicBezTo>
                                <a:cubicBezTo>
                                  <a:pt x="143" y="137"/>
                                  <a:pt x="163" y="130"/>
                                  <a:pt x="192" y="144"/>
                                </a:cubicBezTo>
                                <a:cubicBezTo>
                                  <a:pt x="242" y="169"/>
                                  <a:pt x="253" y="180"/>
                                  <a:pt x="312" y="180"/>
                                </a:cubicBezTo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ffff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41" name=""/>
                        <p:cNvSpPr/>
                        <p:nvPr/>
                      </p:nvSpPr>
                      <p:spPr>
                        <a:xfrm>
                          <a:off x="3200400" y="3042360"/>
                          <a:ext cx="361800" cy="141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8" h="89">
                              <a:moveTo>
                                <a:pt x="0" y="53"/>
                              </a:moveTo>
                              <a:cubicBezTo>
                                <a:pt x="48" y="41"/>
                                <a:pt x="79" y="32"/>
                                <a:pt x="120" y="5"/>
                              </a:cubicBezTo>
                              <a:cubicBezTo>
                                <a:pt x="148" y="9"/>
                                <a:pt x="182" y="0"/>
                                <a:pt x="204" y="17"/>
                              </a:cubicBezTo>
                              <a:cubicBezTo>
                                <a:pt x="224" y="33"/>
                                <a:pt x="228" y="89"/>
                                <a:pt x="228" y="89"/>
                              </a:cubicBezTo>
                            </a:path>
                          </a:pathLst>
                        </a:custGeom>
                        <a:noFill/>
                        <a:ln w="57240">
                          <a:solidFill>
                            <a:srgbClr val="ff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642" name=""/>
                      <p:cNvSpPr/>
                      <p:nvPr/>
                    </p:nvSpPr>
                    <p:spPr>
                      <a:xfrm>
                        <a:off x="609480" y="2075040"/>
                        <a:ext cx="895320" cy="39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4" h="246">
                            <a:moveTo>
                              <a:pt x="564" y="0"/>
                            </a:moveTo>
                            <a:cubicBezTo>
                              <a:pt x="515" y="74"/>
                              <a:pt x="420" y="61"/>
                              <a:pt x="336" y="72"/>
                            </a:cubicBezTo>
                            <a:cubicBezTo>
                              <a:pt x="250" y="101"/>
                              <a:pt x="285" y="82"/>
                              <a:pt x="228" y="120"/>
                            </a:cubicBezTo>
                            <a:cubicBezTo>
                              <a:pt x="188" y="181"/>
                              <a:pt x="226" y="139"/>
                              <a:pt x="168" y="168"/>
                            </a:cubicBezTo>
                            <a:cubicBezTo>
                              <a:pt x="89" y="207"/>
                              <a:pt x="176" y="175"/>
                              <a:pt x="96" y="228"/>
                            </a:cubicBezTo>
                            <a:cubicBezTo>
                              <a:pt x="69" y="246"/>
                              <a:pt x="29" y="240"/>
                              <a:pt x="0" y="240"/>
                            </a:cubicBezTo>
                          </a:path>
                        </a:pathLst>
                      </a:custGeom>
                      <a:noFill/>
                      <a:ln w="57240">
                        <a:solidFill>
                          <a:srgbClr val="ff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43" name=""/>
                    <p:cNvSpPr/>
                    <p:nvPr/>
                  </p:nvSpPr>
                  <p:spPr>
                    <a:xfrm>
                      <a:off x="2465280" y="4799880"/>
                      <a:ext cx="220680" cy="18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9" h="114">
                          <a:moveTo>
                            <a:pt x="139" y="30"/>
                          </a:moveTo>
                          <a:cubicBezTo>
                            <a:pt x="51" y="1"/>
                            <a:pt x="92" y="0"/>
                            <a:pt x="19" y="18"/>
                          </a:cubicBezTo>
                          <a:cubicBezTo>
                            <a:pt x="0" y="74"/>
                            <a:pt x="19" y="66"/>
                            <a:pt x="43" y="114"/>
                          </a:cubicBezTo>
                        </a:path>
                      </a:pathLst>
                    </a:custGeom>
                    <a:noFill/>
                    <a:ln w="5724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4" name=""/>
                  <p:cNvSpPr/>
                  <p:nvPr/>
                </p:nvSpPr>
                <p:spPr>
                  <a:xfrm>
                    <a:off x="1218960" y="2400480"/>
                    <a:ext cx="685800" cy="64260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3600" spc="-1" strike="noStrike">
                        <a:solidFill>
                          <a:srgbClr val="009999"/>
                        </a:solidFill>
                        <a:latin typeface="Times New Roman"/>
                        <a:ea typeface="华文行楷"/>
                      </a:rPr>
                      <a:t>甘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276360" y="4312440"/>
                    <a:ext cx="685800" cy="64260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3600" spc="-1" strike="noStrike">
                        <a:solidFill>
                          <a:srgbClr val="009999"/>
                        </a:solidFill>
                        <a:latin typeface="Times New Roman"/>
                        <a:ea typeface="华文行楷"/>
                      </a:rPr>
                      <a:t>肃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6" name=""/>
                <p:cNvSpPr/>
                <p:nvPr/>
              </p:nvSpPr>
              <p:spPr>
                <a:xfrm>
                  <a:off x="4628880" y="4025880"/>
                  <a:ext cx="38160" cy="56880"/>
                </a:xfrm>
                <a:custGeom>
                  <a:avLst/>
                  <a:gdLst/>
                  <a:ahLst/>
                  <a:rect l="l" t="t" r="r" b="b"/>
                  <a:pathLst>
                    <a:path w="24" h="36">
                      <a:moveTo>
                        <a:pt x="0" y="0"/>
                      </a:moveTo>
                      <a:cubicBezTo>
                        <a:pt x="8" y="12"/>
                        <a:pt x="24" y="36"/>
                        <a:pt x="24" y="36"/>
                      </a:cubicBezTo>
                      <a:cubicBezTo>
                        <a:pt x="24" y="36"/>
                        <a:pt x="8" y="12"/>
                        <a:pt x="0" y="0"/>
                      </a:cubicBezTo>
                      <a:close/>
                    </a:path>
                  </a:pathLst>
                </a:custGeom>
                <a:solidFill>
                  <a:srgbClr val="339966"/>
                </a:solidFill>
                <a:ln w="7632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"/>
              <p:cNvSpPr/>
              <p:nvPr/>
            </p:nvSpPr>
            <p:spPr>
              <a:xfrm>
                <a:off x="4038480" y="4102560"/>
                <a:ext cx="247680" cy="412560"/>
              </a:xfrm>
              <a:custGeom>
                <a:avLst/>
                <a:gdLst/>
                <a:ahLst/>
                <a:rect l="l" t="t" r="r" b="b"/>
                <a:pathLst>
                  <a:path w="156" h="259">
                    <a:moveTo>
                      <a:pt x="0" y="216"/>
                    </a:moveTo>
                    <a:cubicBezTo>
                      <a:pt x="6" y="220"/>
                      <a:pt x="58" y="259"/>
                      <a:pt x="72" y="252"/>
                    </a:cubicBezTo>
                    <a:cubicBezTo>
                      <a:pt x="83" y="246"/>
                      <a:pt x="75" y="225"/>
                      <a:pt x="84" y="216"/>
                    </a:cubicBezTo>
                    <a:cubicBezTo>
                      <a:pt x="104" y="196"/>
                      <a:pt x="156" y="168"/>
                      <a:pt x="156" y="168"/>
                    </a:cubicBezTo>
                    <a:cubicBezTo>
                      <a:pt x="146" y="109"/>
                      <a:pt x="135" y="54"/>
                      <a:pt x="108" y="0"/>
                    </a:cubicBezTo>
                  </a:path>
                </a:pathLst>
              </a:custGeom>
              <a:noFill/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3886200" y="3826800"/>
              <a:ext cx="914400" cy="639360"/>
            </a:xfrm>
            <a:custGeom>
              <a:avLst/>
              <a:gdLst/>
              <a:ahLst/>
              <a:rect l="l" t="t" r="r" b="b"/>
              <a:pathLst>
                <a:path w="576" h="401">
                  <a:moveTo>
                    <a:pt x="0" y="293"/>
                  </a:moveTo>
                  <a:cubicBezTo>
                    <a:pt x="64" y="335"/>
                    <a:pt x="49" y="377"/>
                    <a:pt x="120" y="401"/>
                  </a:cubicBezTo>
                  <a:cubicBezTo>
                    <a:pt x="179" y="386"/>
                    <a:pt x="196" y="389"/>
                    <a:pt x="216" y="329"/>
                  </a:cubicBezTo>
                  <a:cubicBezTo>
                    <a:pt x="202" y="160"/>
                    <a:pt x="255" y="255"/>
                    <a:pt x="216" y="137"/>
                  </a:cubicBezTo>
                  <a:cubicBezTo>
                    <a:pt x="208" y="113"/>
                    <a:pt x="216" y="65"/>
                    <a:pt x="216" y="65"/>
                  </a:cubicBezTo>
                  <a:cubicBezTo>
                    <a:pt x="240" y="49"/>
                    <a:pt x="272" y="22"/>
                    <a:pt x="300" y="29"/>
                  </a:cubicBezTo>
                  <a:cubicBezTo>
                    <a:pt x="316" y="33"/>
                    <a:pt x="260" y="0"/>
                    <a:pt x="276" y="5"/>
                  </a:cubicBezTo>
                  <a:cubicBezTo>
                    <a:pt x="300" y="12"/>
                    <a:pt x="348" y="89"/>
                    <a:pt x="348" y="89"/>
                  </a:cubicBezTo>
                  <a:cubicBezTo>
                    <a:pt x="384" y="137"/>
                    <a:pt x="390" y="102"/>
                    <a:pt x="468" y="125"/>
                  </a:cubicBezTo>
                  <a:cubicBezTo>
                    <a:pt x="492" y="132"/>
                    <a:pt x="540" y="149"/>
                    <a:pt x="540" y="149"/>
                  </a:cubicBezTo>
                  <a:cubicBezTo>
                    <a:pt x="566" y="188"/>
                    <a:pt x="550" y="185"/>
                    <a:pt x="576" y="185"/>
                  </a:cubicBezTo>
                </a:path>
              </a:pathLst>
            </a:custGeom>
            <a:noFill/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543480" y="3189240"/>
            <a:ext cx="993600" cy="1295280"/>
            <a:chOff x="3543480" y="3189240"/>
            <a:chExt cx="993600" cy="1295280"/>
          </a:xfrm>
        </p:grpSpPr>
        <p:grpSp>
          <p:nvGrpSpPr>
            <p:cNvPr id="650" name=""/>
            <p:cNvGrpSpPr/>
            <p:nvPr/>
          </p:nvGrpSpPr>
          <p:grpSpPr>
            <a:xfrm>
              <a:off x="3543480" y="3189240"/>
              <a:ext cx="993600" cy="1295280"/>
              <a:chOff x="3543480" y="3189240"/>
              <a:chExt cx="993600" cy="1295280"/>
            </a:xfrm>
          </p:grpSpPr>
          <p:grpSp>
            <p:nvGrpSpPr>
              <p:cNvPr id="651" name=""/>
              <p:cNvGrpSpPr/>
              <p:nvPr/>
            </p:nvGrpSpPr>
            <p:grpSpPr>
              <a:xfrm>
                <a:off x="3543480" y="3189240"/>
                <a:ext cx="993600" cy="1295280"/>
                <a:chOff x="3543480" y="3189240"/>
                <a:chExt cx="993600" cy="129528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3543480" y="3189240"/>
                  <a:ext cx="993600" cy="1295280"/>
                </a:xfrm>
                <a:custGeom>
                  <a:avLst/>
                  <a:gdLst/>
                  <a:ahLst/>
                  <a:rect l="l" t="t" r="r" b="b"/>
                  <a:pathLst>
                    <a:path w="626" h="816">
                      <a:moveTo>
                        <a:pt x="0" y="348"/>
                      </a:moveTo>
                      <a:cubicBezTo>
                        <a:pt x="25" y="340"/>
                        <a:pt x="46" y="318"/>
                        <a:pt x="72" y="312"/>
                      </a:cubicBezTo>
                      <a:cubicBezTo>
                        <a:pt x="115" y="303"/>
                        <a:pt x="160" y="304"/>
                        <a:pt x="204" y="300"/>
                      </a:cubicBezTo>
                      <a:cubicBezTo>
                        <a:pt x="216" y="292"/>
                        <a:pt x="232" y="288"/>
                        <a:pt x="240" y="276"/>
                      </a:cubicBezTo>
                      <a:cubicBezTo>
                        <a:pt x="260" y="244"/>
                        <a:pt x="249" y="195"/>
                        <a:pt x="276" y="168"/>
                      </a:cubicBezTo>
                      <a:cubicBezTo>
                        <a:pt x="288" y="156"/>
                        <a:pt x="300" y="144"/>
                        <a:pt x="312" y="132"/>
                      </a:cubicBezTo>
                      <a:cubicBezTo>
                        <a:pt x="321" y="106"/>
                        <a:pt x="326" y="79"/>
                        <a:pt x="348" y="60"/>
                      </a:cubicBezTo>
                      <a:cubicBezTo>
                        <a:pt x="370" y="41"/>
                        <a:pt x="384" y="0"/>
                        <a:pt x="384" y="0"/>
                      </a:cubicBezTo>
                      <a:cubicBezTo>
                        <a:pt x="396" y="4"/>
                        <a:pt x="454" y="11"/>
                        <a:pt x="456" y="24"/>
                      </a:cubicBezTo>
                      <a:cubicBezTo>
                        <a:pt x="462" y="67"/>
                        <a:pt x="398" y="161"/>
                        <a:pt x="384" y="204"/>
                      </a:cubicBezTo>
                      <a:cubicBezTo>
                        <a:pt x="428" y="208"/>
                        <a:pt x="474" y="204"/>
                        <a:pt x="516" y="216"/>
                      </a:cubicBezTo>
                      <a:cubicBezTo>
                        <a:pt x="544" y="224"/>
                        <a:pt x="588" y="264"/>
                        <a:pt x="588" y="264"/>
                      </a:cubicBezTo>
                      <a:cubicBezTo>
                        <a:pt x="626" y="322"/>
                        <a:pt x="618" y="282"/>
                        <a:pt x="576" y="324"/>
                      </a:cubicBezTo>
                      <a:cubicBezTo>
                        <a:pt x="566" y="334"/>
                        <a:pt x="564" y="352"/>
                        <a:pt x="552" y="360"/>
                      </a:cubicBezTo>
                      <a:cubicBezTo>
                        <a:pt x="531" y="373"/>
                        <a:pt x="504" y="376"/>
                        <a:pt x="480" y="384"/>
                      </a:cubicBezTo>
                      <a:cubicBezTo>
                        <a:pt x="468" y="388"/>
                        <a:pt x="444" y="396"/>
                        <a:pt x="444" y="396"/>
                      </a:cubicBezTo>
                      <a:cubicBezTo>
                        <a:pt x="401" y="461"/>
                        <a:pt x="376" y="463"/>
                        <a:pt x="408" y="540"/>
                      </a:cubicBezTo>
                      <a:cubicBezTo>
                        <a:pt x="419" y="567"/>
                        <a:pt x="447" y="585"/>
                        <a:pt x="456" y="612"/>
                      </a:cubicBezTo>
                      <a:cubicBezTo>
                        <a:pt x="464" y="636"/>
                        <a:pt x="480" y="684"/>
                        <a:pt x="480" y="684"/>
                      </a:cubicBezTo>
                      <a:cubicBezTo>
                        <a:pt x="455" y="760"/>
                        <a:pt x="491" y="684"/>
                        <a:pt x="408" y="732"/>
                      </a:cubicBezTo>
                      <a:cubicBezTo>
                        <a:pt x="356" y="762"/>
                        <a:pt x="407" y="769"/>
                        <a:pt x="372" y="804"/>
                      </a:cubicBezTo>
                      <a:cubicBezTo>
                        <a:pt x="363" y="813"/>
                        <a:pt x="348" y="812"/>
                        <a:pt x="336" y="816"/>
                      </a:cubicBezTo>
                      <a:cubicBezTo>
                        <a:pt x="320" y="792"/>
                        <a:pt x="297" y="771"/>
                        <a:pt x="288" y="744"/>
                      </a:cubicBezTo>
                      <a:cubicBezTo>
                        <a:pt x="284" y="732"/>
                        <a:pt x="284" y="718"/>
                        <a:pt x="276" y="708"/>
                      </a:cubicBezTo>
                      <a:cubicBezTo>
                        <a:pt x="267" y="697"/>
                        <a:pt x="252" y="692"/>
                        <a:pt x="240" y="684"/>
                      </a:cubicBezTo>
                      <a:cubicBezTo>
                        <a:pt x="222" y="629"/>
                        <a:pt x="220" y="572"/>
                        <a:pt x="204" y="516"/>
                      </a:cubicBezTo>
                      <a:cubicBezTo>
                        <a:pt x="199" y="500"/>
                        <a:pt x="203" y="480"/>
                        <a:pt x="192" y="468"/>
                      </a:cubicBezTo>
                      <a:cubicBezTo>
                        <a:pt x="139" y="408"/>
                        <a:pt x="54" y="402"/>
                        <a:pt x="0" y="348"/>
                      </a:cubicBezTo>
                      <a:close/>
                    </a:path>
                  </a:pathLst>
                </a:custGeom>
                <a:solidFill>
                  <a:srgbClr val="9900cc"/>
                </a:solidFill>
                <a:ln w="1260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809880" y="3357360"/>
                  <a:ext cx="5331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9999"/>
                      </a:solidFill>
                      <a:latin typeface="Times New Roman"/>
                      <a:ea typeface="华文行楷"/>
                    </a:rPr>
                    <a:t>宁夏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4" name=""/>
              <p:cNvSpPr/>
              <p:nvPr/>
            </p:nvSpPr>
            <p:spPr>
              <a:xfrm>
                <a:off x="4019400" y="3189240"/>
                <a:ext cx="485280" cy="475920"/>
              </a:xfrm>
              <a:custGeom>
                <a:avLst/>
                <a:gdLst/>
                <a:ahLst/>
                <a:rect l="l" t="t" r="r" b="b"/>
                <a:pathLst>
                  <a:path w="306" h="300">
                    <a:moveTo>
                      <a:pt x="0" y="120"/>
                    </a:moveTo>
                    <a:cubicBezTo>
                      <a:pt x="19" y="62"/>
                      <a:pt x="38" y="19"/>
                      <a:pt x="96" y="0"/>
                    </a:cubicBezTo>
                    <a:cubicBezTo>
                      <a:pt x="112" y="4"/>
                      <a:pt x="131" y="2"/>
                      <a:pt x="144" y="12"/>
                    </a:cubicBezTo>
                    <a:cubicBezTo>
                      <a:pt x="185" y="45"/>
                      <a:pt x="131" y="157"/>
                      <a:pt x="108" y="192"/>
                    </a:cubicBezTo>
                    <a:cubicBezTo>
                      <a:pt x="161" y="227"/>
                      <a:pt x="217" y="220"/>
                      <a:pt x="276" y="240"/>
                    </a:cubicBezTo>
                    <a:cubicBezTo>
                      <a:pt x="305" y="283"/>
                      <a:pt x="306" y="263"/>
                      <a:pt x="288" y="300"/>
                    </a:cubicBezTo>
                  </a:path>
                </a:pathLst>
              </a:custGeom>
              <a:noFill/>
              <a:ln w="572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"/>
            <p:cNvSpPr/>
            <p:nvPr/>
          </p:nvSpPr>
          <p:spPr>
            <a:xfrm>
              <a:off x="3981240" y="3379680"/>
              <a:ext cx="37800" cy="5652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4" y="0"/>
                  </a:moveTo>
                  <a:cubicBezTo>
                    <a:pt x="16" y="12"/>
                    <a:pt x="0" y="36"/>
                    <a:pt x="0" y="36"/>
                  </a:cubicBezTo>
                  <a:cubicBezTo>
                    <a:pt x="0" y="36"/>
                    <a:pt x="16" y="12"/>
                    <a:pt x="24" y="0"/>
                  </a:cubicBezTo>
                  <a:close/>
                </a:path>
              </a:pathLst>
            </a:custGeom>
            <a:solidFill>
              <a:srgbClr val="339966"/>
            </a:solidFill>
            <a:ln w="572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1257480" y="2598840"/>
            <a:ext cx="6365520" cy="2624040"/>
          </a:xfrm>
          <a:custGeom>
            <a:avLst/>
            <a:gdLst/>
            <a:ahLst/>
            <a:rect l="l" t="t" r="r" b="b"/>
            <a:pathLst>
              <a:path w="4010" h="1653">
                <a:moveTo>
                  <a:pt x="0" y="1164"/>
                </a:moveTo>
                <a:cubicBezTo>
                  <a:pt x="69" y="1187"/>
                  <a:pt x="143" y="1195"/>
                  <a:pt x="204" y="1236"/>
                </a:cubicBezTo>
                <a:cubicBezTo>
                  <a:pt x="224" y="1232"/>
                  <a:pt x="245" y="1231"/>
                  <a:pt x="264" y="1224"/>
                </a:cubicBezTo>
                <a:cubicBezTo>
                  <a:pt x="337" y="1197"/>
                  <a:pt x="259" y="1190"/>
                  <a:pt x="348" y="1212"/>
                </a:cubicBezTo>
                <a:cubicBezTo>
                  <a:pt x="364" y="1236"/>
                  <a:pt x="416" y="1340"/>
                  <a:pt x="456" y="1356"/>
                </a:cubicBezTo>
                <a:cubicBezTo>
                  <a:pt x="482" y="1367"/>
                  <a:pt x="512" y="1364"/>
                  <a:pt x="540" y="1368"/>
                </a:cubicBezTo>
                <a:cubicBezTo>
                  <a:pt x="536" y="1400"/>
                  <a:pt x="528" y="1432"/>
                  <a:pt x="528" y="1464"/>
                </a:cubicBezTo>
                <a:cubicBezTo>
                  <a:pt x="528" y="1525"/>
                  <a:pt x="615" y="1525"/>
                  <a:pt x="660" y="1536"/>
                </a:cubicBezTo>
                <a:cubicBezTo>
                  <a:pt x="696" y="1532"/>
                  <a:pt x="732" y="1531"/>
                  <a:pt x="768" y="1524"/>
                </a:cubicBezTo>
                <a:cubicBezTo>
                  <a:pt x="793" y="1519"/>
                  <a:pt x="840" y="1500"/>
                  <a:pt x="840" y="1500"/>
                </a:cubicBezTo>
                <a:cubicBezTo>
                  <a:pt x="877" y="1509"/>
                  <a:pt x="896" y="1508"/>
                  <a:pt x="924" y="1536"/>
                </a:cubicBezTo>
                <a:cubicBezTo>
                  <a:pt x="934" y="1546"/>
                  <a:pt x="937" y="1563"/>
                  <a:pt x="948" y="1572"/>
                </a:cubicBezTo>
                <a:cubicBezTo>
                  <a:pt x="958" y="1580"/>
                  <a:pt x="973" y="1578"/>
                  <a:pt x="984" y="1584"/>
                </a:cubicBezTo>
                <a:cubicBezTo>
                  <a:pt x="1108" y="1653"/>
                  <a:pt x="1011" y="1617"/>
                  <a:pt x="1092" y="1644"/>
                </a:cubicBezTo>
                <a:cubicBezTo>
                  <a:pt x="1100" y="1632"/>
                  <a:pt x="1114" y="1622"/>
                  <a:pt x="1116" y="1608"/>
                </a:cubicBezTo>
                <a:cubicBezTo>
                  <a:pt x="1127" y="1518"/>
                  <a:pt x="1032" y="1480"/>
                  <a:pt x="972" y="1440"/>
                </a:cubicBezTo>
                <a:cubicBezTo>
                  <a:pt x="960" y="1432"/>
                  <a:pt x="948" y="1424"/>
                  <a:pt x="936" y="1416"/>
                </a:cubicBezTo>
                <a:cubicBezTo>
                  <a:pt x="915" y="1402"/>
                  <a:pt x="864" y="1392"/>
                  <a:pt x="864" y="1392"/>
                </a:cubicBezTo>
                <a:cubicBezTo>
                  <a:pt x="856" y="1368"/>
                  <a:pt x="848" y="1344"/>
                  <a:pt x="840" y="1320"/>
                </a:cubicBezTo>
                <a:cubicBezTo>
                  <a:pt x="836" y="1308"/>
                  <a:pt x="815" y="1314"/>
                  <a:pt x="804" y="1308"/>
                </a:cubicBezTo>
                <a:cubicBezTo>
                  <a:pt x="711" y="1261"/>
                  <a:pt x="822" y="1302"/>
                  <a:pt x="732" y="1272"/>
                </a:cubicBezTo>
                <a:cubicBezTo>
                  <a:pt x="707" y="1197"/>
                  <a:pt x="682" y="1125"/>
                  <a:pt x="780" y="1092"/>
                </a:cubicBezTo>
                <a:cubicBezTo>
                  <a:pt x="845" y="1027"/>
                  <a:pt x="908" y="1030"/>
                  <a:pt x="996" y="1020"/>
                </a:cubicBezTo>
                <a:cubicBezTo>
                  <a:pt x="1059" y="1041"/>
                  <a:pt x="1021" y="1025"/>
                  <a:pt x="1104" y="1080"/>
                </a:cubicBezTo>
                <a:cubicBezTo>
                  <a:pt x="1116" y="1088"/>
                  <a:pt x="1140" y="1104"/>
                  <a:pt x="1140" y="1104"/>
                </a:cubicBezTo>
                <a:cubicBezTo>
                  <a:pt x="1184" y="1100"/>
                  <a:pt x="1232" y="1111"/>
                  <a:pt x="1272" y="1092"/>
                </a:cubicBezTo>
                <a:cubicBezTo>
                  <a:pt x="1298" y="1080"/>
                  <a:pt x="1291" y="1024"/>
                  <a:pt x="1320" y="1020"/>
                </a:cubicBezTo>
                <a:cubicBezTo>
                  <a:pt x="1352" y="1016"/>
                  <a:pt x="1384" y="1012"/>
                  <a:pt x="1416" y="1008"/>
                </a:cubicBezTo>
                <a:cubicBezTo>
                  <a:pt x="1452" y="984"/>
                  <a:pt x="1488" y="972"/>
                  <a:pt x="1524" y="948"/>
                </a:cubicBezTo>
                <a:cubicBezTo>
                  <a:pt x="1520" y="932"/>
                  <a:pt x="1521" y="914"/>
                  <a:pt x="1512" y="900"/>
                </a:cubicBezTo>
                <a:cubicBezTo>
                  <a:pt x="1440" y="791"/>
                  <a:pt x="1503" y="958"/>
                  <a:pt x="1464" y="840"/>
                </a:cubicBezTo>
                <a:cubicBezTo>
                  <a:pt x="1468" y="828"/>
                  <a:pt x="1466" y="812"/>
                  <a:pt x="1476" y="804"/>
                </a:cubicBezTo>
                <a:cubicBezTo>
                  <a:pt x="1489" y="794"/>
                  <a:pt x="1508" y="797"/>
                  <a:pt x="1524" y="792"/>
                </a:cubicBezTo>
                <a:cubicBezTo>
                  <a:pt x="1524" y="792"/>
                  <a:pt x="1614" y="762"/>
                  <a:pt x="1632" y="756"/>
                </a:cubicBezTo>
                <a:cubicBezTo>
                  <a:pt x="1656" y="748"/>
                  <a:pt x="1680" y="740"/>
                  <a:pt x="1704" y="732"/>
                </a:cubicBezTo>
                <a:cubicBezTo>
                  <a:pt x="1716" y="728"/>
                  <a:pt x="1740" y="720"/>
                  <a:pt x="1740" y="720"/>
                </a:cubicBezTo>
                <a:cubicBezTo>
                  <a:pt x="1758" y="665"/>
                  <a:pt x="1787" y="675"/>
                  <a:pt x="1812" y="624"/>
                </a:cubicBezTo>
                <a:cubicBezTo>
                  <a:pt x="1847" y="554"/>
                  <a:pt x="1895" y="483"/>
                  <a:pt x="1920" y="408"/>
                </a:cubicBezTo>
                <a:cubicBezTo>
                  <a:pt x="1916" y="372"/>
                  <a:pt x="1914" y="336"/>
                  <a:pt x="1908" y="300"/>
                </a:cubicBezTo>
                <a:cubicBezTo>
                  <a:pt x="1906" y="288"/>
                  <a:pt x="1896" y="277"/>
                  <a:pt x="1896" y="264"/>
                </a:cubicBezTo>
                <a:cubicBezTo>
                  <a:pt x="1896" y="221"/>
                  <a:pt x="1925" y="93"/>
                  <a:pt x="1956" y="72"/>
                </a:cubicBezTo>
                <a:cubicBezTo>
                  <a:pt x="1980" y="56"/>
                  <a:pt x="2001" y="33"/>
                  <a:pt x="2028" y="24"/>
                </a:cubicBezTo>
                <a:cubicBezTo>
                  <a:pt x="2052" y="16"/>
                  <a:pt x="2124" y="0"/>
                  <a:pt x="2112" y="36"/>
                </a:cubicBezTo>
                <a:cubicBezTo>
                  <a:pt x="2235" y="48"/>
                  <a:pt x="2336" y="74"/>
                  <a:pt x="2460" y="84"/>
                </a:cubicBezTo>
                <a:cubicBezTo>
                  <a:pt x="2523" y="105"/>
                  <a:pt x="2585" y="119"/>
                  <a:pt x="2640" y="156"/>
                </a:cubicBezTo>
                <a:cubicBezTo>
                  <a:pt x="2648" y="168"/>
                  <a:pt x="2658" y="179"/>
                  <a:pt x="2664" y="192"/>
                </a:cubicBezTo>
                <a:cubicBezTo>
                  <a:pt x="2674" y="215"/>
                  <a:pt x="2688" y="264"/>
                  <a:pt x="2688" y="264"/>
                </a:cubicBezTo>
                <a:cubicBezTo>
                  <a:pt x="2632" y="348"/>
                  <a:pt x="2625" y="431"/>
                  <a:pt x="2568" y="516"/>
                </a:cubicBezTo>
                <a:cubicBezTo>
                  <a:pt x="2558" y="734"/>
                  <a:pt x="2592" y="1068"/>
                  <a:pt x="2556" y="1260"/>
                </a:cubicBezTo>
                <a:cubicBezTo>
                  <a:pt x="2555" y="1274"/>
                  <a:pt x="2540" y="1284"/>
                  <a:pt x="2532" y="1296"/>
                </a:cubicBezTo>
                <a:cubicBezTo>
                  <a:pt x="2540" y="1308"/>
                  <a:pt x="2542" y="1329"/>
                  <a:pt x="2556" y="1332"/>
                </a:cubicBezTo>
                <a:cubicBezTo>
                  <a:pt x="2584" y="1338"/>
                  <a:pt x="2614" y="1330"/>
                  <a:pt x="2640" y="1320"/>
                </a:cubicBezTo>
                <a:cubicBezTo>
                  <a:pt x="2667" y="1310"/>
                  <a:pt x="2688" y="1288"/>
                  <a:pt x="2712" y="1272"/>
                </a:cubicBezTo>
                <a:cubicBezTo>
                  <a:pt x="2748" y="1248"/>
                  <a:pt x="2832" y="1248"/>
                  <a:pt x="2868" y="1224"/>
                </a:cubicBezTo>
                <a:cubicBezTo>
                  <a:pt x="2958" y="1232"/>
                  <a:pt x="2968" y="1221"/>
                  <a:pt x="3048" y="1248"/>
                </a:cubicBezTo>
                <a:cubicBezTo>
                  <a:pt x="3090" y="1244"/>
                  <a:pt x="3204" y="1244"/>
                  <a:pt x="3252" y="1212"/>
                </a:cubicBezTo>
                <a:cubicBezTo>
                  <a:pt x="3335" y="1157"/>
                  <a:pt x="3297" y="1173"/>
                  <a:pt x="3360" y="1152"/>
                </a:cubicBezTo>
                <a:cubicBezTo>
                  <a:pt x="3398" y="1096"/>
                  <a:pt x="3415" y="1056"/>
                  <a:pt x="3468" y="1020"/>
                </a:cubicBezTo>
                <a:cubicBezTo>
                  <a:pt x="3487" y="962"/>
                  <a:pt x="3542" y="919"/>
                  <a:pt x="3600" y="900"/>
                </a:cubicBezTo>
                <a:cubicBezTo>
                  <a:pt x="3616" y="876"/>
                  <a:pt x="3596" y="852"/>
                  <a:pt x="3612" y="828"/>
                </a:cubicBezTo>
                <a:cubicBezTo>
                  <a:pt x="3619" y="817"/>
                  <a:pt x="3637" y="822"/>
                  <a:pt x="3648" y="816"/>
                </a:cubicBezTo>
                <a:cubicBezTo>
                  <a:pt x="3661" y="810"/>
                  <a:pt x="3673" y="801"/>
                  <a:pt x="3684" y="792"/>
                </a:cubicBezTo>
                <a:cubicBezTo>
                  <a:pt x="3723" y="760"/>
                  <a:pt x="3740" y="715"/>
                  <a:pt x="3780" y="684"/>
                </a:cubicBezTo>
                <a:cubicBezTo>
                  <a:pt x="3803" y="666"/>
                  <a:pt x="3828" y="652"/>
                  <a:pt x="3852" y="636"/>
                </a:cubicBezTo>
                <a:cubicBezTo>
                  <a:pt x="3873" y="622"/>
                  <a:pt x="3924" y="612"/>
                  <a:pt x="3924" y="612"/>
                </a:cubicBezTo>
                <a:cubicBezTo>
                  <a:pt x="3932" y="600"/>
                  <a:pt x="3937" y="585"/>
                  <a:pt x="3948" y="576"/>
                </a:cubicBezTo>
                <a:cubicBezTo>
                  <a:pt x="4010" y="527"/>
                  <a:pt x="3966" y="600"/>
                  <a:pt x="3996" y="540"/>
                </a:cubicBezTo>
              </a:path>
            </a:pathLst>
          </a:custGeom>
          <a:noFill/>
          <a:ln w="57240">
            <a:solidFill>
              <a:srgbClr val="72c5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28560" y="553680"/>
            <a:ext cx="3871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经典圆叠黑"/>
              </a:rPr>
              <a:t>黄河流经的省区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05:42:23Z</dcterms:created>
  <dc:creator>小帅</dc:creator>
  <dc:description/>
  <dc:language>en-US</dc:language>
  <cp:lastModifiedBy>y</cp:lastModifiedBy>
  <dcterms:modified xsi:type="dcterms:W3CDTF">2008-02-19T01:53:38Z</dcterms:modified>
  <cp:revision>32</cp:revision>
  <dc:subject/>
  <dc:title>幻灯片 1</dc:title>
</cp:coreProperties>
</file>