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B71-7602-43A7-81EC-C587E4CA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304-B224-4F68-A720-0999FD26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A23-D03B-43CC-8E67-BC8AA61E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899-E9C4-4F2A-96E2-95BBE1C6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EC71-BFDD-4ED6-B7D1-01E96535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5850-5345-4AA0-9009-002FA135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7221-98FA-4ACB-B0F3-ACA0D3AD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BC4A-6D90-4C54-8B30-0EAD9AA9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4A93-AF1A-406E-8398-19C0C2A1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0CEB-27FF-4136-8047-C32CE241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A554-5572-40D3-89D8-AF5107DA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D2B-D988-4D0B-8EC7-AE97070B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14BB-E9DB-49A3-87FC-34D93D15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7B14-3141-4794-827F-343BEA32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B2BC-6F71-497A-9B94-22A08CC0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F9F7-3E6C-47E7-AF73-7E91192F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402A-E6DD-4240-8A6D-72050EA9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962-FFB0-4220-828D-5A41923D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CD9-8585-405C-B299-08A33778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754-0467-43FD-B933-32DB4868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442-8B12-464E-A32A-254A25B1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2DA-796D-4E81-B768-4B0C676D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CCF-B30A-4471-9298-ECE1671D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0FA-E865-4581-A9BB-667E548B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7002-7186-40D2-9C67-D23F16B0898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4D04-7E04-4A9D-8275-F23385F6011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1828800"/>
            <a:ext cx="717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黑体"/>
              </a:rPr>
              <a:t>因地制宜发展农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4495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高青实验中学   蔡祖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2120" y="83808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讨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国农业的地区分布，主要表现为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东部与西部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主要农业部门）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南方与北方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耕作制度、熟制、主要农作物）的差异，那么，造成这种差异的主要原因是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457200" y="380880"/>
            <a:ext cx="8305560" cy="3644640"/>
            <a:chOff x="457200" y="380880"/>
            <a:chExt cx="8305560" cy="364464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57200" y="582480"/>
              <a:ext cx="83055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754640" y="380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64520" y="380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360" y="342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3504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09480" y="4572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.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四处最适合发展的农业部门是什么？说说你的理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38088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讨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处发展的农业部门能不能互换一下，说说你的理由。这样做可能产生什么样的后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们当地农民能不能种植香蕉、菠萝等水果？“橘生淮南则为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于淮北则为枳 ”你知道这句话的含义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下列地区适合发展何种农业：太行山区、华北平原、内蒙古草原、洞庭湖沿岸。你从哪些因素考虑的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0843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农业的因地制宜，就是根据当时的自然环境（地形、气候等）把要发展的农业生产部门或农作物，布局在适宜它本身发展、生长的有利的地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人类既可以对不利的环境进行改造，使之朝着有利的方向发展；同时不合理的行为也可能使得有利的环境变得不利。人类的生产活动一定要符合自然规律，这样才可能持续地发展下去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4183200" cy="5257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72000" y="39384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完成课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1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页活动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归纳：影响农业因地制宜的社会经济条件有哪些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2438280"/>
            <a:ext cx="4114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讨论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B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两处自然环境相差不大，但种植的农作物对换一下，农民的收入会增加还是减少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气候条件允许的前提下，如果种果树，应该安排在什么地方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00" y="1219320"/>
            <a:ext cx="1399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因地制宜发展农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78120" y="838080"/>
            <a:ext cx="428400" cy="5302440"/>
          </a:xfrm>
          <a:custGeom>
            <a:avLst/>
            <a:gdLst>
              <a:gd name="textAreaLeft" fmla="*/ 273600 w 428400"/>
              <a:gd name="textAreaRight" fmla="*/ 428760 w 428400"/>
              <a:gd name="textAreaTop" fmla="*/ 138240 h 5302440"/>
              <a:gd name="textAreaBottom" fmla="*/ 5164200 h 530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35240" y="1087560"/>
            <a:ext cx="264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农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我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35240" y="266076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农业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地区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06520" y="4317840"/>
            <a:ext cx="3214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展农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因地制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1219320"/>
            <a:ext cx="71280" cy="1076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76040"/>
              <a:gd name="textAreaBottom" fmla="*/ 1048320 h 107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64160" y="1087560"/>
            <a:ext cx="34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主要部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地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与我们生活的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2666880"/>
            <a:ext cx="142920" cy="1160640"/>
          </a:xfrm>
          <a:custGeom>
            <a:avLst/>
            <a:gdLst>
              <a:gd name="textAreaLeft" fmla="*/ 91440 w 142920"/>
              <a:gd name="textAreaRight" fmla="*/ 143280 w 142920"/>
              <a:gd name="textAreaTop" fmla="*/ 90720 h 1160640"/>
              <a:gd name="textAreaBottom" fmla="*/ 1069920 h 116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2666880"/>
            <a:ext cx="33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东西部的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南北方的差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4267080"/>
            <a:ext cx="214200" cy="1408320"/>
          </a:xfrm>
          <a:custGeom>
            <a:avLst/>
            <a:gdLst>
              <a:gd name="textAreaLeft" fmla="*/ 136800 w 214200"/>
              <a:gd name="textAreaRight" fmla="*/ 214560 w 214200"/>
              <a:gd name="textAreaTop" fmla="*/ 36720 h 1408320"/>
              <a:gd name="textAreaBottom" fmla="*/ 1371600 h 140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4419720"/>
            <a:ext cx="332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自然环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社会经济条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2560" y="685800"/>
            <a:ext cx="12776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新宋体"/>
                <a:ea typeface="新宋体"/>
              </a:rPr>
              <a:t>第四章 中国的经济发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76520" y="914400"/>
            <a:ext cx="8153280" cy="4572000"/>
            <a:chOff x="1676520" y="914400"/>
            <a:chExt cx="8153280" cy="4572000"/>
          </a:xfrm>
        </p:grpSpPr>
        <p:sp>
          <p:nvSpPr>
            <p:cNvPr id="85" name=""/>
            <p:cNvSpPr/>
            <p:nvPr/>
          </p:nvSpPr>
          <p:spPr>
            <a:xfrm>
              <a:off x="1676520" y="914400"/>
              <a:ext cx="457200" cy="45720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19160 h 4572000"/>
                <a:gd name="textAreaBottom" fmla="*/ 445284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7947"/>
                  </a:lnTo>
                  <a:cubicBezTo>
                    <a:pt x="10800" y="8847"/>
                    <a:pt x="5400" y="9747"/>
                    <a:pt x="0" y="9747"/>
                  </a:cubicBezTo>
                  <a:cubicBezTo>
                    <a:pt x="5400" y="9747"/>
                    <a:pt x="10800" y="10647"/>
                    <a:pt x="10800" y="1154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1012680"/>
              <a:ext cx="693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逐步完善的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交通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运输网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       —— 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经济发展的“先行官”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98760" y="2612880"/>
              <a:ext cx="733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因地制宜发展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农业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        —— 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经济发展的基础产业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75080" y="4219560"/>
              <a:ext cx="656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工业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的分布于发展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        ——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国民经济的主导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286640" y="5486400"/>
            <a:ext cx="1716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```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038480" cy="295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343400" y="304920"/>
            <a:ext cx="4495680" cy="302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14400" y="3429000"/>
            <a:ext cx="380988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029200" y="3505320"/>
            <a:ext cx="350352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2620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440" y="2544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5334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24720" y="566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3360" y="682560"/>
            <a:ext cx="823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从上面四幅图中，我们知道，农业主要的四个部门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主要劳动对象是有生命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获得的产品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本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797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高青县的主要农业部门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看看你能说出几种当地的主要的农产品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886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夏天，你一定吃过小炒 “炒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ga  la ”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贝类），你认为它出于哪个农业部门？   “烤羊肉串”羊肉来自哪个农业部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380880" y="380880"/>
            <a:ext cx="8382240" cy="327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从上面的对话中，你可以看出农业的地位是：农业是支撑国民经济建设与发展的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产业。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4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对比记忆： 交通运输业   工业的地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219320" y="304920"/>
            <a:ext cx="7013520" cy="5105160"/>
            <a:chOff x="1219320" y="304920"/>
            <a:chExt cx="7013520" cy="510516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219320" y="304920"/>
              <a:ext cx="692208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102080" y="827640"/>
              <a:ext cx="51912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71320" y="1643400"/>
              <a:ext cx="39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26320" y="37558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47800" y="166032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53160" y="3639600"/>
              <a:ext cx="1836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48120" y="3849480"/>
              <a:ext cx="27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8960" y="41454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76560" y="2458440"/>
              <a:ext cx="38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66000" y="3681000"/>
              <a:ext cx="38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56880" y="321516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5200" y="3098520"/>
              <a:ext cx="46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3360" y="24001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1040" y="26910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480" y="14083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1680" y="17028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5800" y="541008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你能说出图中红线是多少毫米等降水量线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处主要的农业部门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7621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能归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东西部农业有差异，东部主要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业，西部主要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业，东西部是以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毫米等降水量线为界。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5146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还知道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的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大牧区。这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季风区，降水少，地形主要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在利用过程中，可能存在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问题，造成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现象。课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页漫画《小草的哀求》给我留下了深刻的印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97840" y="5257800"/>
            <a:ext cx="20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还能说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447920" y="457200"/>
            <a:ext cx="6476400" cy="5409720"/>
            <a:chOff x="1447920" y="457200"/>
            <a:chExt cx="6476400" cy="540972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447920" y="457200"/>
              <a:ext cx="6476400" cy="54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078320" y="137916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98880" y="932400"/>
              <a:ext cx="34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78440" y="3036240"/>
              <a:ext cx="3970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36240" y="2519640"/>
              <a:ext cx="6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4240" y="3702960"/>
              <a:ext cx="51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29480" y="4991760"/>
              <a:ext cx="1839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73800" y="4785120"/>
              <a:ext cx="68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4920" y="310212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62120" y="457200"/>
            <a:ext cx="7995960" cy="5984640"/>
            <a:chOff x="762120" y="457200"/>
            <a:chExt cx="7995960" cy="5984640"/>
          </a:xfrm>
        </p:grpSpPr>
        <p:sp>
          <p:nvSpPr>
            <p:cNvPr id="136" name=""/>
            <p:cNvSpPr/>
            <p:nvPr/>
          </p:nvSpPr>
          <p:spPr>
            <a:xfrm>
              <a:off x="6168960" y="4203720"/>
              <a:ext cx="12949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68960" y="3454200"/>
              <a:ext cx="12949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68960" y="1955520"/>
              <a:ext cx="12949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68960" y="1206360"/>
              <a:ext cx="12949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68960" y="457200"/>
              <a:ext cx="12949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64240" y="3454200"/>
              <a:ext cx="1293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5120" y="3454200"/>
              <a:ext cx="1293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14640" y="3454200"/>
              <a:ext cx="18601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5000" y="3454200"/>
              <a:ext cx="8092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160" y="3454200"/>
              <a:ext cx="121248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4240" y="420372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75120" y="420372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14640" y="4203720"/>
              <a:ext cx="18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05000" y="4203720"/>
              <a:ext cx="80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4640" y="2705040"/>
              <a:ext cx="57430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5000" y="2705040"/>
              <a:ext cx="80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92160" y="2705040"/>
              <a:ext cx="1212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4240" y="1955520"/>
              <a:ext cx="1293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5120" y="1955520"/>
              <a:ext cx="12934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14640" y="1955520"/>
              <a:ext cx="18601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5000" y="1955520"/>
              <a:ext cx="80928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4240" y="120636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5120" y="120636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4640" y="1206360"/>
              <a:ext cx="18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5000" y="1206360"/>
              <a:ext cx="80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92160" y="1206360"/>
              <a:ext cx="121248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64240" y="45720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120" y="457200"/>
              <a:ext cx="1293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14640" y="457200"/>
              <a:ext cx="18601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5000" y="457200"/>
              <a:ext cx="80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92160" y="457200"/>
              <a:ext cx="12124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92160" y="457200"/>
              <a:ext cx="776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2160" y="1206360"/>
              <a:ext cx="77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2160" y="2705040"/>
              <a:ext cx="77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92160" y="3454200"/>
              <a:ext cx="77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2160" y="4952880"/>
              <a:ext cx="776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92160" y="457200"/>
              <a:ext cx="0" cy="44956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5000" y="457200"/>
              <a:ext cx="0" cy="449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14640" y="457200"/>
              <a:ext cx="0" cy="449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5120" y="457200"/>
              <a:ext cx="0" cy="22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68960" y="457200"/>
              <a:ext cx="0" cy="22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58080" y="457200"/>
              <a:ext cx="0" cy="44956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5000" y="1955520"/>
              <a:ext cx="655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05000" y="4203720"/>
              <a:ext cx="655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4240" y="457200"/>
              <a:ext cx="0" cy="22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5120" y="3454200"/>
              <a:ext cx="0" cy="149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68960" y="3454200"/>
              <a:ext cx="0" cy="149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4240" y="3454200"/>
              <a:ext cx="0" cy="149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0" y="1335960"/>
              <a:ext cx="729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北方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49920" y="2819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分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69800" y="25146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33360" y="785520"/>
              <a:ext cx="99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字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71560" y="738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地形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9600" y="7380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耕地类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11600" y="738000"/>
              <a:ext cx="97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熟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69080" y="7380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主要作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49800" y="1547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2160" y="217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43320" y="2895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49800" y="3654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24240" y="442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00320" y="2757240"/>
              <a:ext cx="54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一线，</a:t>
              </a:r>
              <a:r>
                <a:rPr b="0" lang="zh-CN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等温线，</a:t>
              </a:r>
              <a:r>
                <a:rPr b="0" lang="zh-CN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毫米等降水量线通过的地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24720" y="3588840"/>
              <a:ext cx="729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南方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2120" y="5128920"/>
              <a:ext cx="7924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通过对比，我国南北方的差异，主要在</a:t>
              </a:r>
              <a:r>
                <a:rPr b="1" lang="zh-CN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40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</a:rPr>
                <a:t>等方面。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</cp:lastModifiedBy>
  <dcterms:modified xsi:type="dcterms:W3CDTF">2008-05-06T07:06:4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