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267-5781-4E1D-9D25-522E072C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F46-CDF0-4EEE-9DCF-54827B8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095-1A29-4996-A7BC-3A6F507E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A41-F234-4D95-83BC-C689906E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438-1FD8-4AD6-AC2F-0B970464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043-752A-425D-BB3F-6E23F3B5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1A62-BB04-4EA5-98B6-C413CC1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FE8-EF87-4EB1-813D-1949687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BF0F-2CD4-465C-9F38-9612C46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FDE8-BD0A-45E8-A7A2-0FA61643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E22-8DB1-4360-A368-0306555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8E5-A198-4597-951E-398908A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64F8-D4BF-4347-87EF-3CE505F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777D-4F33-46A2-B9E1-5278451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56DE-EFB3-43AB-B261-9622623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E250-19C4-423C-8E70-DB19D535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777-B957-4B47-8095-60AB5CF6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F12-2CD9-43F3-847A-238A6421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805-58F1-46C9-8593-E3E5567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567-42CB-42D3-8C31-EC8AECF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896-EB4E-4C9D-8CEA-B0FA4648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DEF-FFD5-4F6D-B387-006461B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A29-A880-4A6B-8C3A-CDBA5BF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2A0-DA2A-443F-9CF4-16332FA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75A-A0A1-4C23-A3AC-6231672146E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799-C55E-4ABE-BA7F-1ACAF891615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1828800"/>
            <a:ext cx="71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因地制宜发展农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95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高青实验中学   蔡祖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83808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国农业的地区分布，主要表现为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东部与西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主要农业部门）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南方与北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耕作制度、熟制、主要农作物）的差异，那么，造成这种差异的主要原因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57200" y="380880"/>
            <a:ext cx="8305560" cy="3644640"/>
            <a:chOff x="457200" y="380880"/>
            <a:chExt cx="8305560" cy="36446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57200" y="582480"/>
              <a:ext cx="83055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75464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452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360" y="342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3504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09480" y="4572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四处最适合发展的农业部门是什么？说说你的理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3808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处发展的农业部门能不能互换一下，说说你的理由。这样做可能产生什么样的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当地农民能不能种植香蕉、菠萝等水果？“橘生淮南则为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于淮北则为枳 ”你知道这句话的含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列地区适合发展何种农业：太行山区、华北平原、内蒙古草原、洞庭湖沿岸。你从哪些因素考虑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0843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因地制宜，就是根据当时的自然环境（地形、气候等）把要发展的农业生产部门或农作物，布局在适宜它本身发展、生长的有利的地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类既可以对不利的环境进行改造，使之朝着有利的方向发展；同时不合理的行为也可能使得有利的环境变得不利。人类的生产活动一定要符合自然规律，这样才可能持续地发展下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183200" cy="5257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0" y="39384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完成课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页活动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归纳：影响农业因地制宜的社会经济条件有哪些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2438280"/>
            <a:ext cx="4114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两处自然环境相差不大，但种植的农作物对换一下，农民的收入会增加还是减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气候条件允许的前提下，如果种果树，应该安排在什么地方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00" y="1219320"/>
            <a:ext cx="1399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因地制宜发展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78120" y="838080"/>
            <a:ext cx="428400" cy="53024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38240 h 5302440"/>
              <a:gd name="textAreaBottom" fmla="*/ 5164200 h 530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35240" y="1087560"/>
            <a:ext cx="26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我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5240" y="266076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区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6520" y="4317840"/>
            <a:ext cx="3214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展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因地制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219320"/>
            <a:ext cx="71280" cy="1076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76040"/>
              <a:gd name="textAreaBottom" fmla="*/ 1048320 h 107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4160" y="1087560"/>
            <a:ext cx="34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主要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地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与我们生活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2666880"/>
            <a:ext cx="142920" cy="1160640"/>
          </a:xfrm>
          <a:custGeom>
            <a:avLst/>
            <a:gdLst>
              <a:gd name="textAreaLeft" fmla="*/ 91440 w 142920"/>
              <a:gd name="textAreaRight" fmla="*/ 143280 w 142920"/>
              <a:gd name="textAreaTop" fmla="*/ 90720 h 1160640"/>
              <a:gd name="textAreaBottom" fmla="*/ 1069920 h 116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666880"/>
            <a:ext cx="33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东西部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南北方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267080"/>
            <a:ext cx="214200" cy="1408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6720 h 1408320"/>
              <a:gd name="textAreaBottom" fmla="*/ 1371600 h 14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19720"/>
            <a:ext cx="33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自然环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社会经济条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2560" y="685800"/>
            <a:ext cx="1277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第四章 中国的经济发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76520" y="914400"/>
            <a:ext cx="8153280" cy="4572000"/>
            <a:chOff x="1676520" y="914400"/>
            <a:chExt cx="8153280" cy="4572000"/>
          </a:xfrm>
        </p:grpSpPr>
        <p:sp>
          <p:nvSpPr>
            <p:cNvPr id="85" name=""/>
            <p:cNvSpPr/>
            <p:nvPr/>
          </p:nvSpPr>
          <p:spPr>
            <a:xfrm>
              <a:off x="1676520" y="914400"/>
              <a:ext cx="457200" cy="4572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47"/>
                  </a:lnTo>
                  <a:cubicBezTo>
                    <a:pt x="10800" y="8847"/>
                    <a:pt x="5400" y="9747"/>
                    <a:pt x="0" y="9747"/>
                  </a:cubicBezTo>
                  <a:cubicBezTo>
                    <a:pt x="5400" y="9747"/>
                    <a:pt x="10800" y="10647"/>
                    <a:pt x="10800" y="115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012680"/>
              <a:ext cx="693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逐步完善的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交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运输网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“先行官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8760" y="2612880"/>
              <a:ext cx="733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因地制宜发展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农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基础产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5080" y="4219560"/>
              <a:ext cx="656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工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的分布于发展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国民经济的主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86640" y="5486400"/>
            <a:ext cx="171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```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03848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4495680" cy="302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38098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3505320"/>
            <a:ext cx="35035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620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440" y="2544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5334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720" y="566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3360" y="682560"/>
            <a:ext cx="82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上面四幅图中，我们知道，农业主要的四个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主要劳动对象是有生命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获得的产品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79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青县的主要农业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看看你能说出几种当地的主要的农产品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天，你一定吃过小炒 “炒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  la ”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贝类），你认为它出于哪个农业部门？   “烤羊肉串”羊肉来自哪个农业部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80880" y="380880"/>
            <a:ext cx="838224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上面的对话中，你可以看出农业的地位是：农业是支撑国民经济建设与发展的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产业。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4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比记忆： 交通运输业   工业的地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219320" y="304920"/>
            <a:ext cx="7013520" cy="5105160"/>
            <a:chOff x="1219320" y="304920"/>
            <a:chExt cx="7013520" cy="510516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219320" y="304920"/>
              <a:ext cx="692208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02080" y="827640"/>
              <a:ext cx="5191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1320" y="1643400"/>
              <a:ext cx="3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6320" y="3755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47800" y="166032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3160" y="3639600"/>
              <a:ext cx="1836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8120" y="3849480"/>
              <a:ext cx="27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8960" y="41454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6560" y="2458440"/>
              <a:ext cx="38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6000" y="3681000"/>
              <a:ext cx="38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56880" y="32151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3098520"/>
              <a:ext cx="46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3360" y="24001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1040" y="26910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480" y="14083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1680" y="1702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41008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能说出图中红线是多少毫米等降水量线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处主要的农业部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7621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归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东西部农业有差异，东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西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东西部是以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毫米等降水量线为界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514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知道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的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大牧区。这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季风区，降水少，地形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在利用过程中，可能存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，造成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象。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页漫画《小草的哀求》给我留下了深刻的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525780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能说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447920" y="457200"/>
            <a:ext cx="6476400" cy="5409720"/>
            <a:chOff x="1447920" y="457200"/>
            <a:chExt cx="6476400" cy="540972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447920" y="457200"/>
              <a:ext cx="6476400" cy="54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078320" y="137916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880" y="932400"/>
              <a:ext cx="34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3036240"/>
              <a:ext cx="397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6240" y="251964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4240" y="3702960"/>
              <a:ext cx="5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4991760"/>
              <a:ext cx="1839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3800" y="478512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4920" y="310212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2120" y="457200"/>
            <a:ext cx="7995960" cy="5984640"/>
            <a:chOff x="762120" y="457200"/>
            <a:chExt cx="7995960" cy="5984640"/>
          </a:xfrm>
        </p:grpSpPr>
        <p:sp>
          <p:nvSpPr>
            <p:cNvPr id="136" name=""/>
            <p:cNvSpPr/>
            <p:nvPr/>
          </p:nvSpPr>
          <p:spPr>
            <a:xfrm>
              <a:off x="6168960" y="420372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68960" y="345420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8960" y="195552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8960" y="120636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68960" y="45720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424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512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14640" y="345420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5000" y="345420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160" y="345420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424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512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420372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5000" y="420372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2705040"/>
              <a:ext cx="57430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5000" y="270504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2160" y="270504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424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512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195552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5000" y="195552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424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512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120636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5000" y="120636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2160" y="120636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24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12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14640" y="45720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5000" y="45720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2160" y="45720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2160" y="45720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2160" y="120636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2160" y="270504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345420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2160" y="495288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216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500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512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896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808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5000" y="19555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5000" y="42037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424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512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896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424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0" y="133596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9920" y="2819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分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9800" y="2514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360" y="785520"/>
              <a:ext cx="9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字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71560" y="738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地形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960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耕地类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1600" y="73800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熟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主要作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9800" y="154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2160" y="217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4332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49800" y="365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24240" y="442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0320" y="2757240"/>
              <a:ext cx="54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一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等温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毫米等降水量线通过的地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4720" y="358884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120" y="5128920"/>
              <a:ext cx="7924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通过对比，我国南北方的差异，主要在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等方面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</cp:lastModifiedBy>
  <dcterms:modified xsi:type="dcterms:W3CDTF">2008-05-06T07:06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