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8580-F35A-497F-975F-EB8B6BCE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1C4-677A-44F7-AA99-E9346991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756-81CF-47E0-B61D-9A5548D4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1B8-1992-44B2-9BD4-69C769CC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E9C8-9F48-409A-AAD0-3BEDA8A7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BBBD-3A50-445A-BAEF-A323B711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35D8-D97E-44D9-B0EF-01E9D040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FE79-B63D-4091-8A67-733E204E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258E-69D6-477C-BB7B-0B6810E2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C899-6A56-411E-BC24-E0F83258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D153-BF79-4EEF-A52A-A73869DB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D86-6E80-41CA-88D3-5CC0DF4D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F6A6-9B50-4A03-8AC7-91E70FC0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FB03-5DC7-4991-B714-1D8ABAFE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C747-2253-496D-95C7-CE404B83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ED5B-C8D7-479D-99E7-AE184BA0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58D4-DFB7-47E3-9D25-F7A927C9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220-FD0C-41BE-A321-3CB0FA6C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8B7-B0F4-4366-9641-806362FE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799-3331-45ED-8F7B-ABB84512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1A7-64EF-4B05-8189-928657CE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7A4-640B-40C5-A7A3-3775B54E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950-7267-4E38-85EA-7DF73E6B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297-D58D-4896-94B7-83EF18E3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0191-D521-424E-BB86-902318ED34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6471-BF02-4306-A34F-1136227857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2556000" y="2565360"/>
            <a:ext cx="42894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青藏地区和西北地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395280" y="189000"/>
            <a:ext cx="849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合作探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西北地区在发展中面临的主要生态环境问题是什么？其产生的原因有哪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应如何防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11280" y="37101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03280" y="2492280"/>
            <a:ext cx="289080" cy="2881440"/>
          </a:xfrm>
          <a:custGeom>
            <a:avLst/>
            <a:gdLst>
              <a:gd name="textAreaLeft" fmla="*/ 184680 w 289080"/>
              <a:gd name="textAreaRight" fmla="*/ 289080 w 28908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763640" y="234144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自然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35280" y="50785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人文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87640" y="1557360"/>
            <a:ext cx="71640" cy="1944720"/>
          </a:xfrm>
          <a:custGeom>
            <a:avLst/>
            <a:gdLst>
              <a:gd name="textAreaLeft" fmla="*/ 45720 w 71640"/>
              <a:gd name="textAreaRight" fmla="*/ 72000 w 71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276720" y="1628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前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76720" y="249228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动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276720" y="3357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物质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16360" y="4005360"/>
            <a:ext cx="288720" cy="2520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203640" y="393372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过度农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203640" y="458136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过度放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276720" y="53006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过度樵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76720" y="6021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水资源利用不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003640" y="3284640"/>
            <a:ext cx="41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防治：针对原因，做到因地制宜，坚持恢复地表植被，合理利用水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281880 w 684360"/>
              <a:gd name="textAreaRight" fmla="*/ 402480 w 684360"/>
              <a:gd name="textAreaTop" fmla="*/ 315000 h 765000"/>
              <a:gd name="textAreaBottom" fmla="*/ 450000 h 76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7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3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 txBox="1"/>
          <p:nvPr/>
        </p:nvSpPr>
        <p:spPr>
          <a:xfrm>
            <a:off x="2484360" y="2852640"/>
            <a:ext cx="4967280" cy="808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627280" y="404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青藏地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443640" y="404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西北地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36800" y="1773360"/>
            <a:ext cx="7902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自然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36800" y="4579920"/>
            <a:ext cx="7902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人文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71640" y="1268280"/>
            <a:ext cx="215640" cy="2232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187280" y="105264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地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187280" y="1844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气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58920" y="2565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水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58920" y="3357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植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124000" y="9079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海拔高、高原、雪山、波状起伏、边缘山高谷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24000" y="1700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高寒气候，夏季凉爽、冬季寒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97080" y="25002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冰川、湖泊、</a:t>
            </a:r>
            <a:r>
              <a:rPr b="0" lang="zh-CN" sz="2000" spc="-1" strike="noStrike">
                <a:solidFill>
                  <a:srgbClr val="e40000"/>
                </a:solidFill>
                <a:latin typeface="Arial"/>
              </a:rPr>
              <a:t>源头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、内外流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95640" y="33577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草原、荒漠，动植物耐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71640" y="3933720"/>
            <a:ext cx="215640" cy="2232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258920" y="3860640"/>
            <a:ext cx="100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农  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58920" y="4581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工矿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58920" y="5300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交  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58920" y="5805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人口、城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195640" y="37893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高寒牧业，畜种；河谷农业，一年一熟，作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95640" y="4581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西宁、柴达木、拉萨、林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268360" y="5300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公路网、航空网，青藏铁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340000" y="59500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较少，集中在河谷地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580000" y="9079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高原、盆地和山地，</a:t>
            </a:r>
            <a:r>
              <a:rPr b="0" lang="zh-CN" sz="2000" spc="-1" strike="noStrike">
                <a:solidFill>
                  <a:srgbClr val="e40000"/>
                </a:solidFill>
                <a:latin typeface="Arial"/>
              </a:rPr>
              <a:t>地形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80000" y="162864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温带</a:t>
            </a:r>
            <a:r>
              <a:rPr b="0" lang="zh-CN" sz="2000" spc="-1" strike="noStrike">
                <a:solidFill>
                  <a:srgbClr val="e40000"/>
                </a:solidFill>
                <a:latin typeface="Arial"/>
              </a:rPr>
              <a:t>大陆性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气候，干旱，降水东多西少，温差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80000" y="2492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河流稀少，多内流河、内流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651640" y="3213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自东向西为草原—荒漠草原—荒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80000" y="39258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畜牧业；绿洲农业，灌溉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80000" y="4581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钢铁、能源、有色金属工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80000" y="5300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</a:rPr>
              <a:t>铁路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、航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651640" y="580536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河谷、绿洲、铁路线工矿区，点状、带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4500720" y="6453360"/>
            <a:ext cx="358560" cy="404640"/>
          </a:xfrm>
          <a:prstGeom prst="smileyFace">
            <a:avLst>
              <a:gd name="adj" fmla="val 9282"/>
            </a:avLst>
          </a:prstGeom>
          <a:solidFill>
            <a:srgbClr val="e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2" action="ppaction://hlinksldjump"/>
          </p:cNvPr>
          <p:cNvSpPr/>
          <p:nvPr/>
        </p:nvSpPr>
        <p:spPr>
          <a:xfrm>
            <a:off x="8172360" y="6524640"/>
            <a:ext cx="647640" cy="33336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635280" y="2997360"/>
            <a:ext cx="172728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高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924360" y="1916280"/>
            <a:ext cx="1727280" cy="576000"/>
            <a:chOff x="3924360" y="1916280"/>
            <a:chExt cx="1727280" cy="576000"/>
          </a:xfrm>
        </p:grpSpPr>
        <p:sp>
          <p:nvSpPr>
            <p:cNvPr id="539" name=""/>
            <p:cNvSpPr/>
            <p:nvPr/>
          </p:nvSpPr>
          <p:spPr>
            <a:xfrm>
              <a:off x="3995640" y="1916280"/>
              <a:ext cx="1079640" cy="576000"/>
            </a:xfrm>
            <a:prstGeom prst="rect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24360" y="198900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自然环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 flipH="1">
            <a:off x="2989080" y="2205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1628640"/>
            <a:ext cx="2521080" cy="115272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雪山连绵，大河源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高原边缘，山高谷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148360" y="2133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5940360" y="1557360"/>
            <a:ext cx="2952720" cy="1368360"/>
            <a:chOff x="5940360" y="1557360"/>
            <a:chExt cx="2952720" cy="1368360"/>
          </a:xfrm>
        </p:grpSpPr>
        <p:sp>
          <p:nvSpPr>
            <p:cNvPr id="545" name=""/>
            <p:cNvSpPr/>
            <p:nvPr/>
          </p:nvSpPr>
          <p:spPr>
            <a:xfrm>
              <a:off x="5940360" y="1557360"/>
              <a:ext cx="2735280" cy="1368360"/>
            </a:xfrm>
            <a:prstGeom prst="rect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56360" y="1846440"/>
              <a:ext cx="2736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高原湖区，世界之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高山草原，荒漠广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 flipV="1">
            <a:off x="4572000" y="14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924360" y="836640"/>
            <a:ext cx="1439640" cy="576000"/>
            <a:chOff x="3924360" y="836640"/>
            <a:chExt cx="1439640" cy="576000"/>
          </a:xfrm>
        </p:grpSpPr>
        <p:sp>
          <p:nvSpPr>
            <p:cNvPr id="549" name=""/>
            <p:cNvSpPr/>
            <p:nvPr/>
          </p:nvSpPr>
          <p:spPr>
            <a:xfrm>
              <a:off x="3924360" y="836640"/>
              <a:ext cx="1439640" cy="576000"/>
            </a:xfrm>
            <a:prstGeom prst="rect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95640" y="97956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能源资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003640" y="0"/>
            <a:ext cx="3780000" cy="647640"/>
            <a:chOff x="5003640" y="0"/>
            <a:chExt cx="3780000" cy="647640"/>
          </a:xfrm>
        </p:grpSpPr>
        <p:sp>
          <p:nvSpPr>
            <p:cNvPr id="552" name=""/>
            <p:cNvSpPr/>
            <p:nvPr/>
          </p:nvSpPr>
          <p:spPr>
            <a:xfrm>
              <a:off x="5003640" y="0"/>
              <a:ext cx="3780000" cy="6476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19640" y="109440"/>
              <a:ext cx="32400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33"/>
                  </a:solidFill>
                  <a:latin typeface="Arial"/>
                </a:rPr>
                <a:t>太阳能、地热能、水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851280" y="4292640"/>
            <a:ext cx="1728720" cy="576360"/>
            <a:chOff x="3851280" y="4292640"/>
            <a:chExt cx="1728720" cy="576360"/>
          </a:xfrm>
        </p:grpSpPr>
        <p:sp>
          <p:nvSpPr>
            <p:cNvPr id="555" name=""/>
            <p:cNvSpPr/>
            <p:nvPr/>
          </p:nvSpPr>
          <p:spPr>
            <a:xfrm>
              <a:off x="3851280" y="4292640"/>
              <a:ext cx="1368360" cy="576360"/>
            </a:xfrm>
            <a:prstGeom prst="rect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24360" y="436572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人文环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5219640" y="45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724360" y="4292640"/>
            <a:ext cx="1368360" cy="647640"/>
            <a:chOff x="5724360" y="4292640"/>
            <a:chExt cx="1368360" cy="647640"/>
          </a:xfrm>
        </p:grpSpPr>
        <p:sp>
          <p:nvSpPr>
            <p:cNvPr id="559" name=""/>
            <p:cNvSpPr/>
            <p:nvPr/>
          </p:nvSpPr>
          <p:spPr>
            <a:xfrm>
              <a:off x="5724360" y="4292640"/>
              <a:ext cx="1368360" cy="647640"/>
            </a:xfrm>
            <a:prstGeom prst="rect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95640" y="442908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农业生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6948360" y="3141720"/>
            <a:ext cx="1729080" cy="12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高寒牧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河谷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276720" y="45813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124000" y="4221000"/>
            <a:ext cx="1368360" cy="648000"/>
            <a:chOff x="2124000" y="4221000"/>
            <a:chExt cx="1368360" cy="648000"/>
          </a:xfrm>
        </p:grpSpPr>
        <p:sp>
          <p:nvSpPr>
            <p:cNvPr id="564" name=""/>
            <p:cNvSpPr/>
            <p:nvPr/>
          </p:nvSpPr>
          <p:spPr>
            <a:xfrm>
              <a:off x="2124000" y="4221000"/>
              <a:ext cx="1152360" cy="648000"/>
            </a:xfrm>
            <a:prstGeom prst="rect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24000" y="435780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居民特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4284720" y="2492280"/>
            <a:ext cx="431640" cy="505080"/>
          </a:xfrm>
          <a:prstGeom prst="upArrow">
            <a:avLst>
              <a:gd name="adj1" fmla="val 50000"/>
              <a:gd name="adj2" fmla="val 29254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284720" y="364500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1765440" y="4508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39640" y="3933720"/>
            <a:ext cx="1224000" cy="115092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口稀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藏族为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219640" y="4869000"/>
            <a:ext cx="136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12000" y="6093000"/>
            <a:ext cx="1296720" cy="57600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科研旅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29440" y="4869000"/>
            <a:ext cx="2195640" cy="1150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自然风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历史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民族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402920" y="4869000"/>
            <a:ext cx="273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5950080"/>
            <a:ext cx="2233440" cy="74592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通以公路为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2764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780000" y="5589720"/>
            <a:ext cx="1368360" cy="28872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村庄、城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42764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6165720"/>
            <a:ext cx="2232000" cy="50328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布在河谷地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0920" y="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深化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7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70" fill="hold"/>
                                        <p:tgtEl>
                                          <p:spTgt spid="5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7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70" fill="hold"/>
                                        <p:tgtEl>
                                          <p:spTgt spid="5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132000" y="2924280"/>
            <a:ext cx="180036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干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22560" y="242100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419640" y="1628640"/>
            <a:ext cx="1223640" cy="79236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然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771640" y="1989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71640" y="1557360"/>
            <a:ext cx="1800000" cy="86364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植被：东西有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643280" y="20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435640" y="1628640"/>
            <a:ext cx="1728720" cy="79236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河流稀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内流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067280" y="98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74920" y="333360"/>
            <a:ext cx="1873440" cy="64764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沙漠广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风蚀地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922560" y="3860640"/>
            <a:ext cx="287640" cy="576360"/>
          </a:xfrm>
          <a:prstGeom prst="downArrow">
            <a:avLst>
              <a:gd name="adj1" fmla="val 50000"/>
              <a:gd name="adj2" fmla="val 50094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346560" y="4437000"/>
            <a:ext cx="1512720" cy="64764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文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85928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362560" y="4508640"/>
            <a:ext cx="1152720" cy="64908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农业生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51528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30920" y="4292640"/>
            <a:ext cx="2413080" cy="108108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草原广阔，天然牧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洲农业，灌溉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843280" y="4797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95640" y="4365720"/>
            <a:ext cx="647640" cy="93492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村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城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692360" y="4797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82560" y="4221000"/>
            <a:ext cx="1008000" cy="115272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呈点状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带状分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9564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706920" y="5516640"/>
            <a:ext cx="647640" cy="36036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700360" y="580536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6093000"/>
            <a:ext cx="2952720" cy="43164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铁路：沿绿洲、河谷延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356000" y="580536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43280" y="6165720"/>
            <a:ext cx="3456000" cy="35892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航空：地广人稀、陆上交通困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24000" y="333360"/>
            <a:ext cx="85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合作探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青藏铁路修建过程中遇到的难题有哪些？其意义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39640" y="3105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难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32000" y="2239920"/>
            <a:ext cx="73080" cy="2158920"/>
          </a:xfrm>
          <a:custGeom>
            <a:avLst/>
            <a:gdLst>
              <a:gd name="textAreaLeft" fmla="*/ 46800 w 73080"/>
              <a:gd name="textAreaRight" fmla="*/ 73440 w 7308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547640" y="223992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高寒缺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547640" y="317664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冻土广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47640" y="404028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生态环境脆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95640" y="31035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意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16360" y="1916280"/>
            <a:ext cx="360360" cy="28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73080 h 2808000"/>
              <a:gd name="textAreaBottom" fmla="*/ 2734920 h 28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219640" y="1844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路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219640" y="2708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经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21440" y="350028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社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19640" y="43657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生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rId1" action="ppaction://hlinksldjump"/>
          </p:cNvPr>
          <p:cNvSpPr/>
          <p:nvPr/>
        </p:nvSpPr>
        <p:spPr>
          <a:xfrm>
            <a:off x="8388360" y="5805360"/>
            <a:ext cx="43164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4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1:22:08Z</dcterms:created>
  <dc:creator>微软用户</dc:creator>
  <dc:description/>
  <dc:language>en-US</dc:language>
  <cp:lastModifiedBy>微软用户</cp:lastModifiedBy>
  <dcterms:modified xsi:type="dcterms:W3CDTF">2008-12-25T13:53:21Z</dcterms:modified>
  <cp:revision>26</cp:revision>
  <dc:subject/>
  <dc:title>幻灯片 1</dc:title>
</cp:coreProperties>
</file>