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8.jpeg" ContentType="image/jpeg"/>
  <Override PartName="/ppt/media/image9.png" ContentType="image/png"/>
  <Override PartName="/ppt/media/image1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243B3-C157-48CF-A168-1ECD8B09C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AF061-EED4-426C-B2CC-EF4EF65A2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872D1-3F6C-4474-9DBA-59B31432B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AA974-E40A-46FF-A942-08093E71F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D5CBB-CB23-45F5-AC93-0F6742DB7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45F25-6E05-4E8A-B9DA-1D5799FB1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78CE1-1A90-47B2-A92D-C301BB57A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7490E-B248-4361-97BB-4EAAB0675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3535A-E52B-439A-B02F-501596C84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E36EA-6C94-48A2-B9CC-F89E1DD5E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944BC-A7B3-4301-A8A9-C126986C2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F6A2A-24E7-44BF-8064-B6BD8A7A5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5e75"/>
            </a:gs>
            <a:gs pos="100000">
              <a:srgbClr val="33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51E03-4418-4EFD-B075-49FC18594DE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5e75"/>
            </a:gs>
            <a:gs pos="100000">
              <a:srgbClr val="33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宋体"/>
              </a:rPr>
              <a:t>唐山市友谊中学  魏金兰</a:t>
            </a:r>
            <a:br>
              <a:rPr sz="4800"/>
            </a:br>
            <a:r>
              <a:rPr b="1" lang="zh-CN" sz="4800" spc="-1" strike="noStrike">
                <a:solidFill>
                  <a:srgbClr val="ffff00"/>
                </a:solidFill>
                <a:latin typeface="宋体"/>
              </a:rPr>
              <a:t>感谢光临指导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64360" y="5661000"/>
            <a:ext cx="29700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64568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5e75"/>
            </a:gs>
            <a:gs pos="100000">
              <a:srgbClr val="33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我国四通八达的交通运输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48320" y="1412640"/>
            <a:ext cx="449568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看总体分布，在空间分布上哪里密集，哪里稀疏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（东密西疏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我国的交通运输网呈现这种特点的原因是什么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自然条件——可行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社会经济条件——必要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从这幅图上看，哪种交通运输方式最重要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铁路运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找一下我国还有没有哪些省区没有铁路线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没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1197000"/>
            <a:ext cx="4716360" cy="56610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6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" dur="20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6" dur="20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5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" dur="5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9" dur="500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1" dur="1000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6" dur="500"/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5e75"/>
            </a:gs>
            <a:gs pos="100000">
              <a:srgbClr val="33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389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了解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我国大陆上的第一条高速公路始建于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1984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年，从上海——嘉定，全长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19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千米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4800" spc="-1" strike="noStrike">
                <a:solidFill>
                  <a:srgbClr val="ffff00"/>
                </a:solidFill>
                <a:latin typeface="Arial"/>
              </a:rPr>
              <a:t>联系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经过唐山的高速公路为京沈高速公路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d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5e75"/>
            </a:gs>
            <a:gs pos="100000">
              <a:srgbClr val="33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9144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我国主要的铁路干线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五纵和三横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5e75"/>
            </a:gs>
            <a:gs pos="100000">
              <a:srgbClr val="33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-36360" y="-27000"/>
            <a:ext cx="9144000" cy="6858000"/>
          </a:xfrm>
          <a:prstGeom prst="rect">
            <a:avLst/>
          </a:prstGeom>
          <a:ln w="22320">
            <a:solidFill>
              <a:srgbClr val="ff0000"/>
            </a:solidFill>
            <a:miter/>
          </a:ln>
        </p:spPr>
      </p:pic>
      <p:sp>
        <p:nvSpPr>
          <p:cNvPr id="65" name=""/>
          <p:cNvSpPr/>
          <p:nvPr/>
        </p:nvSpPr>
        <p:spPr>
          <a:xfrm>
            <a:off x="6588000" y="2637000"/>
            <a:ext cx="997200" cy="1593720"/>
          </a:xfrm>
          <a:custGeom>
            <a:avLst/>
            <a:gdLst/>
            <a:ahLst/>
            <a:rect l="l" t="t" r="r" b="b"/>
            <a:pathLst>
              <a:path w="628" h="1004">
                <a:moveTo>
                  <a:pt x="0" y="0"/>
                </a:moveTo>
                <a:cubicBezTo>
                  <a:pt x="3" y="13"/>
                  <a:pt x="17" y="99"/>
                  <a:pt x="26" y="105"/>
                </a:cubicBezTo>
                <a:cubicBezTo>
                  <a:pt x="44" y="117"/>
                  <a:pt x="69" y="114"/>
                  <a:pt x="91" y="118"/>
                </a:cubicBezTo>
                <a:cubicBezTo>
                  <a:pt x="100" y="127"/>
                  <a:pt x="118" y="132"/>
                  <a:pt x="118" y="144"/>
                </a:cubicBezTo>
                <a:cubicBezTo>
                  <a:pt x="118" y="157"/>
                  <a:pt x="98" y="160"/>
                  <a:pt x="91" y="171"/>
                </a:cubicBezTo>
                <a:cubicBezTo>
                  <a:pt x="79" y="191"/>
                  <a:pt x="73" y="244"/>
                  <a:pt x="65" y="262"/>
                </a:cubicBezTo>
                <a:cubicBezTo>
                  <a:pt x="59" y="277"/>
                  <a:pt x="46" y="288"/>
                  <a:pt x="39" y="302"/>
                </a:cubicBezTo>
                <a:cubicBezTo>
                  <a:pt x="33" y="314"/>
                  <a:pt x="30" y="328"/>
                  <a:pt x="26" y="341"/>
                </a:cubicBezTo>
                <a:cubicBezTo>
                  <a:pt x="135" y="414"/>
                  <a:pt x="132" y="590"/>
                  <a:pt x="157" y="707"/>
                </a:cubicBezTo>
                <a:cubicBezTo>
                  <a:pt x="167" y="753"/>
                  <a:pt x="179" y="850"/>
                  <a:pt x="235" y="878"/>
                </a:cubicBezTo>
                <a:cubicBezTo>
                  <a:pt x="285" y="903"/>
                  <a:pt x="339" y="908"/>
                  <a:pt x="393" y="917"/>
                </a:cubicBezTo>
                <a:cubicBezTo>
                  <a:pt x="417" y="933"/>
                  <a:pt x="447" y="940"/>
                  <a:pt x="471" y="956"/>
                </a:cubicBezTo>
                <a:cubicBezTo>
                  <a:pt x="486" y="966"/>
                  <a:pt x="492" y="991"/>
                  <a:pt x="510" y="995"/>
                </a:cubicBezTo>
                <a:cubicBezTo>
                  <a:pt x="548" y="1004"/>
                  <a:pt x="589" y="995"/>
                  <a:pt x="628" y="995"/>
                </a:cubicBezTo>
              </a:path>
            </a:pathLst>
          </a:custGeom>
          <a:noFill/>
          <a:ln w="698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300720" y="2637000"/>
            <a:ext cx="349200" cy="3220920"/>
          </a:xfrm>
          <a:custGeom>
            <a:avLst/>
            <a:gdLst/>
            <a:ahLst/>
            <a:rect l="l" t="t" r="r" b="b"/>
            <a:pathLst>
              <a:path w="220" h="2029">
                <a:moveTo>
                  <a:pt x="181" y="0"/>
                </a:moveTo>
                <a:cubicBezTo>
                  <a:pt x="167" y="70"/>
                  <a:pt x="165" y="141"/>
                  <a:pt x="142" y="209"/>
                </a:cubicBezTo>
                <a:cubicBezTo>
                  <a:pt x="148" y="279"/>
                  <a:pt x="163" y="349"/>
                  <a:pt x="168" y="419"/>
                </a:cubicBezTo>
                <a:cubicBezTo>
                  <a:pt x="193" y="754"/>
                  <a:pt x="149" y="611"/>
                  <a:pt x="194" y="746"/>
                </a:cubicBezTo>
                <a:cubicBezTo>
                  <a:pt x="178" y="861"/>
                  <a:pt x="183" y="824"/>
                  <a:pt x="128" y="903"/>
                </a:cubicBezTo>
                <a:cubicBezTo>
                  <a:pt x="104" y="974"/>
                  <a:pt x="91" y="996"/>
                  <a:pt x="128" y="1099"/>
                </a:cubicBezTo>
                <a:cubicBezTo>
                  <a:pt x="138" y="1128"/>
                  <a:pt x="194" y="1165"/>
                  <a:pt x="194" y="1165"/>
                </a:cubicBezTo>
                <a:cubicBezTo>
                  <a:pt x="202" y="1196"/>
                  <a:pt x="220" y="1224"/>
                  <a:pt x="220" y="1256"/>
                </a:cubicBezTo>
                <a:cubicBezTo>
                  <a:pt x="220" y="1334"/>
                  <a:pt x="180" y="1388"/>
                  <a:pt x="128" y="1440"/>
                </a:cubicBezTo>
                <a:cubicBezTo>
                  <a:pt x="99" y="1527"/>
                  <a:pt x="142" y="1715"/>
                  <a:pt x="142" y="1715"/>
                </a:cubicBezTo>
                <a:cubicBezTo>
                  <a:pt x="127" y="1797"/>
                  <a:pt x="111" y="1882"/>
                  <a:pt x="24" y="1911"/>
                </a:cubicBezTo>
                <a:cubicBezTo>
                  <a:pt x="0" y="1984"/>
                  <a:pt x="7" y="1921"/>
                  <a:pt x="50" y="1976"/>
                </a:cubicBezTo>
                <a:cubicBezTo>
                  <a:pt x="59" y="1987"/>
                  <a:pt x="57" y="2003"/>
                  <a:pt x="63" y="2016"/>
                </a:cubicBezTo>
                <a:cubicBezTo>
                  <a:pt x="66" y="2022"/>
                  <a:pt x="72" y="2025"/>
                  <a:pt x="76" y="2029"/>
                </a:cubicBezTo>
              </a:path>
            </a:pathLst>
          </a:custGeom>
          <a:noFill/>
          <a:ln w="66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137280" y="2639880"/>
            <a:ext cx="430200" cy="3095640"/>
          </a:xfrm>
          <a:custGeom>
            <a:avLst/>
            <a:gdLst/>
            <a:ahLst/>
            <a:rect l="l" t="t" r="r" b="b"/>
            <a:pathLst>
              <a:path w="271" h="1950">
                <a:moveTo>
                  <a:pt x="271" y="0"/>
                </a:moveTo>
                <a:cubicBezTo>
                  <a:pt x="213" y="38"/>
                  <a:pt x="229" y="48"/>
                  <a:pt x="192" y="104"/>
                </a:cubicBezTo>
                <a:cubicBezTo>
                  <a:pt x="172" y="165"/>
                  <a:pt x="160" y="227"/>
                  <a:pt x="140" y="288"/>
                </a:cubicBezTo>
                <a:cubicBezTo>
                  <a:pt x="134" y="392"/>
                  <a:pt x="161" y="491"/>
                  <a:pt x="87" y="562"/>
                </a:cubicBezTo>
                <a:cubicBezTo>
                  <a:pt x="59" y="647"/>
                  <a:pt x="63" y="737"/>
                  <a:pt x="114" y="811"/>
                </a:cubicBezTo>
                <a:cubicBezTo>
                  <a:pt x="133" y="925"/>
                  <a:pt x="158" y="1035"/>
                  <a:pt x="127" y="1152"/>
                </a:cubicBezTo>
                <a:cubicBezTo>
                  <a:pt x="122" y="1170"/>
                  <a:pt x="62" y="1186"/>
                  <a:pt x="48" y="1191"/>
                </a:cubicBezTo>
                <a:cubicBezTo>
                  <a:pt x="34" y="1259"/>
                  <a:pt x="0" y="1483"/>
                  <a:pt x="0" y="1575"/>
                </a:cubicBezTo>
                <a:cubicBezTo>
                  <a:pt x="0" y="1667"/>
                  <a:pt x="41" y="1697"/>
                  <a:pt x="51" y="1742"/>
                </a:cubicBezTo>
                <a:cubicBezTo>
                  <a:pt x="61" y="1787"/>
                  <a:pt x="62" y="1815"/>
                  <a:pt x="61" y="1845"/>
                </a:cubicBezTo>
                <a:cubicBezTo>
                  <a:pt x="57" y="1871"/>
                  <a:pt x="41" y="1898"/>
                  <a:pt x="48" y="1924"/>
                </a:cubicBezTo>
                <a:cubicBezTo>
                  <a:pt x="52" y="1937"/>
                  <a:pt x="39" y="1914"/>
                  <a:pt x="51" y="1921"/>
                </a:cubicBezTo>
                <a:cubicBezTo>
                  <a:pt x="100" y="1950"/>
                  <a:pt x="64" y="1883"/>
                  <a:pt x="51" y="1883"/>
                </a:cubicBezTo>
              </a:path>
            </a:pathLst>
          </a:custGeom>
          <a:noFill/>
          <a:ln w="66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909800" y="1225440"/>
            <a:ext cx="5243400" cy="2562480"/>
          </a:xfrm>
          <a:custGeom>
            <a:avLst/>
            <a:gdLst/>
            <a:ahLst/>
            <a:rect l="l" t="t" r="r" b="b"/>
            <a:pathLst>
              <a:path w="3303" h="1614">
                <a:moveTo>
                  <a:pt x="3303" y="1481"/>
                </a:moveTo>
                <a:cubicBezTo>
                  <a:pt x="3209" y="1512"/>
                  <a:pt x="3239" y="1519"/>
                  <a:pt x="3162" y="1532"/>
                </a:cubicBezTo>
                <a:cubicBezTo>
                  <a:pt x="3108" y="1614"/>
                  <a:pt x="3158" y="1548"/>
                  <a:pt x="3047" y="1532"/>
                </a:cubicBezTo>
                <a:cubicBezTo>
                  <a:pt x="3018" y="1517"/>
                  <a:pt x="2950" y="1481"/>
                  <a:pt x="2931" y="1464"/>
                </a:cubicBezTo>
                <a:cubicBezTo>
                  <a:pt x="2910" y="1455"/>
                  <a:pt x="2934" y="1467"/>
                  <a:pt x="2919" y="1476"/>
                </a:cubicBezTo>
                <a:cubicBezTo>
                  <a:pt x="2891" y="1519"/>
                  <a:pt x="2885" y="1490"/>
                  <a:pt x="2842" y="1519"/>
                </a:cubicBezTo>
                <a:cubicBezTo>
                  <a:pt x="2803" y="1515"/>
                  <a:pt x="2762" y="1516"/>
                  <a:pt x="2724" y="1506"/>
                </a:cubicBezTo>
                <a:cubicBezTo>
                  <a:pt x="2709" y="1502"/>
                  <a:pt x="2699" y="1486"/>
                  <a:pt x="2685" y="1480"/>
                </a:cubicBezTo>
                <a:cubicBezTo>
                  <a:pt x="2669" y="1473"/>
                  <a:pt x="2650" y="1471"/>
                  <a:pt x="2633" y="1467"/>
                </a:cubicBezTo>
                <a:cubicBezTo>
                  <a:pt x="2614" y="1466"/>
                  <a:pt x="2628" y="1495"/>
                  <a:pt x="2573" y="1506"/>
                </a:cubicBezTo>
                <a:cubicBezTo>
                  <a:pt x="2518" y="1517"/>
                  <a:pt x="2408" y="1530"/>
                  <a:pt x="2305" y="1532"/>
                </a:cubicBezTo>
                <a:cubicBezTo>
                  <a:pt x="2187" y="1528"/>
                  <a:pt x="2070" y="1527"/>
                  <a:pt x="1952" y="1519"/>
                </a:cubicBezTo>
                <a:cubicBezTo>
                  <a:pt x="1892" y="1515"/>
                  <a:pt x="1891" y="1482"/>
                  <a:pt x="1860" y="1440"/>
                </a:cubicBezTo>
                <a:cubicBezTo>
                  <a:pt x="1841" y="1415"/>
                  <a:pt x="1838" y="1370"/>
                  <a:pt x="1808" y="1362"/>
                </a:cubicBezTo>
                <a:cubicBezTo>
                  <a:pt x="1742" y="1346"/>
                  <a:pt x="1773" y="1355"/>
                  <a:pt x="1716" y="1336"/>
                </a:cubicBezTo>
                <a:cubicBezTo>
                  <a:pt x="1645" y="1263"/>
                  <a:pt x="1707" y="1198"/>
                  <a:pt x="1664" y="1100"/>
                </a:cubicBezTo>
                <a:cubicBezTo>
                  <a:pt x="1661" y="1093"/>
                  <a:pt x="1540" y="1015"/>
                  <a:pt x="1520" y="1008"/>
                </a:cubicBezTo>
                <a:cubicBezTo>
                  <a:pt x="1483" y="953"/>
                  <a:pt x="1437" y="924"/>
                  <a:pt x="1376" y="904"/>
                </a:cubicBezTo>
                <a:cubicBezTo>
                  <a:pt x="1319" y="845"/>
                  <a:pt x="1386" y="906"/>
                  <a:pt x="1310" y="864"/>
                </a:cubicBezTo>
                <a:cubicBezTo>
                  <a:pt x="1251" y="832"/>
                  <a:pt x="1215" y="793"/>
                  <a:pt x="1153" y="773"/>
                </a:cubicBezTo>
                <a:cubicBezTo>
                  <a:pt x="1140" y="760"/>
                  <a:pt x="1128" y="745"/>
                  <a:pt x="1114" y="733"/>
                </a:cubicBezTo>
                <a:cubicBezTo>
                  <a:pt x="1102" y="723"/>
                  <a:pt x="1086" y="718"/>
                  <a:pt x="1075" y="707"/>
                </a:cubicBezTo>
                <a:cubicBezTo>
                  <a:pt x="1016" y="648"/>
                  <a:pt x="1086" y="680"/>
                  <a:pt x="1009" y="655"/>
                </a:cubicBezTo>
                <a:cubicBezTo>
                  <a:pt x="976" y="605"/>
                  <a:pt x="939" y="562"/>
                  <a:pt x="905" y="511"/>
                </a:cubicBezTo>
                <a:cubicBezTo>
                  <a:pt x="882" y="476"/>
                  <a:pt x="907" y="466"/>
                  <a:pt x="865" y="445"/>
                </a:cubicBezTo>
                <a:cubicBezTo>
                  <a:pt x="841" y="433"/>
                  <a:pt x="810" y="434"/>
                  <a:pt x="787" y="419"/>
                </a:cubicBezTo>
                <a:cubicBezTo>
                  <a:pt x="774" y="410"/>
                  <a:pt x="763" y="398"/>
                  <a:pt x="748" y="393"/>
                </a:cubicBezTo>
                <a:cubicBezTo>
                  <a:pt x="688" y="371"/>
                  <a:pt x="625" y="361"/>
                  <a:pt x="564" y="341"/>
                </a:cubicBezTo>
                <a:cubicBezTo>
                  <a:pt x="551" y="337"/>
                  <a:pt x="525" y="328"/>
                  <a:pt x="525" y="328"/>
                </a:cubicBezTo>
                <a:cubicBezTo>
                  <a:pt x="492" y="294"/>
                  <a:pt x="465" y="277"/>
                  <a:pt x="420" y="262"/>
                </a:cubicBezTo>
                <a:cubicBezTo>
                  <a:pt x="394" y="245"/>
                  <a:pt x="368" y="227"/>
                  <a:pt x="342" y="210"/>
                </a:cubicBezTo>
                <a:cubicBezTo>
                  <a:pt x="329" y="201"/>
                  <a:pt x="326" y="183"/>
                  <a:pt x="316" y="171"/>
                </a:cubicBezTo>
                <a:cubicBezTo>
                  <a:pt x="301" y="152"/>
                  <a:pt x="272" y="128"/>
                  <a:pt x="250" y="118"/>
                </a:cubicBezTo>
                <a:cubicBezTo>
                  <a:pt x="225" y="107"/>
                  <a:pt x="198" y="101"/>
                  <a:pt x="172" y="92"/>
                </a:cubicBezTo>
                <a:cubicBezTo>
                  <a:pt x="159" y="88"/>
                  <a:pt x="132" y="79"/>
                  <a:pt x="132" y="79"/>
                </a:cubicBezTo>
                <a:cubicBezTo>
                  <a:pt x="119" y="70"/>
                  <a:pt x="107" y="59"/>
                  <a:pt x="93" y="53"/>
                </a:cubicBezTo>
                <a:cubicBezTo>
                  <a:pt x="9" y="16"/>
                  <a:pt x="0" y="55"/>
                  <a:pt x="28" y="0"/>
                </a:cubicBezTo>
              </a:path>
            </a:pathLst>
          </a:custGeom>
          <a:noFill/>
          <a:ln w="66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284720" y="4149720"/>
            <a:ext cx="3311640" cy="1150920"/>
          </a:xfrm>
          <a:custGeom>
            <a:avLst/>
            <a:gdLst/>
            <a:ahLst/>
            <a:rect l="l" t="t" r="r" b="b"/>
            <a:pathLst>
              <a:path w="2086" h="725">
                <a:moveTo>
                  <a:pt x="2073" y="16"/>
                </a:moveTo>
                <a:cubicBezTo>
                  <a:pt x="1997" y="48"/>
                  <a:pt x="2086" y="0"/>
                  <a:pt x="2035" y="62"/>
                </a:cubicBezTo>
                <a:cubicBezTo>
                  <a:pt x="2028" y="71"/>
                  <a:pt x="2015" y="69"/>
                  <a:pt x="2006" y="74"/>
                </a:cubicBezTo>
                <a:cubicBezTo>
                  <a:pt x="1979" y="91"/>
                  <a:pt x="1971" y="105"/>
                  <a:pt x="1949" y="132"/>
                </a:cubicBezTo>
                <a:cubicBezTo>
                  <a:pt x="1938" y="171"/>
                  <a:pt x="1894" y="282"/>
                  <a:pt x="1852" y="295"/>
                </a:cubicBezTo>
                <a:cubicBezTo>
                  <a:pt x="1825" y="304"/>
                  <a:pt x="1795" y="303"/>
                  <a:pt x="1766" y="306"/>
                </a:cubicBezTo>
                <a:cubicBezTo>
                  <a:pt x="1713" y="328"/>
                  <a:pt x="1677" y="343"/>
                  <a:pt x="1622" y="353"/>
                </a:cubicBezTo>
                <a:cubicBezTo>
                  <a:pt x="1587" y="344"/>
                  <a:pt x="1561" y="374"/>
                  <a:pt x="1525" y="396"/>
                </a:cubicBezTo>
                <a:cubicBezTo>
                  <a:pt x="1513" y="403"/>
                  <a:pt x="1509" y="382"/>
                  <a:pt x="1497" y="388"/>
                </a:cubicBezTo>
                <a:cubicBezTo>
                  <a:pt x="1464" y="407"/>
                  <a:pt x="1426" y="409"/>
                  <a:pt x="1391" y="422"/>
                </a:cubicBezTo>
                <a:cubicBezTo>
                  <a:pt x="1264" y="416"/>
                  <a:pt x="1202" y="398"/>
                  <a:pt x="1094" y="422"/>
                </a:cubicBezTo>
                <a:cubicBezTo>
                  <a:pt x="1032" y="424"/>
                  <a:pt x="1072" y="444"/>
                  <a:pt x="1024" y="458"/>
                </a:cubicBezTo>
                <a:cubicBezTo>
                  <a:pt x="991" y="465"/>
                  <a:pt x="930" y="457"/>
                  <a:pt x="894" y="465"/>
                </a:cubicBezTo>
                <a:cubicBezTo>
                  <a:pt x="858" y="473"/>
                  <a:pt x="855" y="490"/>
                  <a:pt x="805" y="506"/>
                </a:cubicBezTo>
                <a:cubicBezTo>
                  <a:pt x="728" y="517"/>
                  <a:pt x="672" y="555"/>
                  <a:pt x="595" y="563"/>
                </a:cubicBezTo>
                <a:cubicBezTo>
                  <a:pt x="576" y="578"/>
                  <a:pt x="557" y="593"/>
                  <a:pt x="537" y="609"/>
                </a:cubicBezTo>
                <a:cubicBezTo>
                  <a:pt x="514" y="628"/>
                  <a:pt x="456" y="580"/>
                  <a:pt x="428" y="602"/>
                </a:cubicBezTo>
                <a:cubicBezTo>
                  <a:pt x="383" y="604"/>
                  <a:pt x="296" y="585"/>
                  <a:pt x="263" y="588"/>
                </a:cubicBezTo>
                <a:cubicBezTo>
                  <a:pt x="230" y="591"/>
                  <a:pt x="254" y="608"/>
                  <a:pt x="230" y="620"/>
                </a:cubicBezTo>
                <a:cubicBezTo>
                  <a:pt x="203" y="629"/>
                  <a:pt x="148" y="647"/>
                  <a:pt x="119" y="657"/>
                </a:cubicBezTo>
                <a:cubicBezTo>
                  <a:pt x="90" y="667"/>
                  <a:pt x="72" y="672"/>
                  <a:pt x="57" y="679"/>
                </a:cubicBezTo>
                <a:cubicBezTo>
                  <a:pt x="48" y="686"/>
                  <a:pt x="38" y="694"/>
                  <a:pt x="28" y="702"/>
                </a:cubicBezTo>
                <a:cubicBezTo>
                  <a:pt x="19" y="709"/>
                  <a:pt x="0" y="725"/>
                  <a:pt x="0" y="725"/>
                </a:cubicBezTo>
              </a:path>
            </a:pathLst>
          </a:custGeom>
          <a:noFill/>
          <a:ln w="66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448240" y="3483000"/>
            <a:ext cx="701640" cy="2049480"/>
          </a:xfrm>
          <a:custGeom>
            <a:avLst/>
            <a:gdLst/>
            <a:ahLst/>
            <a:rect l="l" t="t" r="r" b="b"/>
            <a:pathLst>
              <a:path w="442" h="1291">
                <a:moveTo>
                  <a:pt x="24" y="1276"/>
                </a:moveTo>
                <a:cubicBezTo>
                  <a:pt x="37" y="1250"/>
                  <a:pt x="0" y="1291"/>
                  <a:pt x="45" y="1276"/>
                </a:cubicBezTo>
                <a:cubicBezTo>
                  <a:pt x="55" y="1241"/>
                  <a:pt x="9" y="1231"/>
                  <a:pt x="17" y="1193"/>
                </a:cubicBezTo>
                <a:cubicBezTo>
                  <a:pt x="20" y="1154"/>
                  <a:pt x="48" y="1111"/>
                  <a:pt x="65" y="1043"/>
                </a:cubicBezTo>
                <a:cubicBezTo>
                  <a:pt x="77" y="960"/>
                  <a:pt x="72" y="852"/>
                  <a:pt x="120" y="782"/>
                </a:cubicBezTo>
                <a:cubicBezTo>
                  <a:pt x="146" y="701"/>
                  <a:pt x="126" y="816"/>
                  <a:pt x="182" y="731"/>
                </a:cubicBezTo>
                <a:cubicBezTo>
                  <a:pt x="216" y="679"/>
                  <a:pt x="162" y="707"/>
                  <a:pt x="227" y="686"/>
                </a:cubicBezTo>
                <a:cubicBezTo>
                  <a:pt x="256" y="605"/>
                  <a:pt x="216" y="703"/>
                  <a:pt x="272" y="618"/>
                </a:cubicBezTo>
                <a:cubicBezTo>
                  <a:pt x="314" y="555"/>
                  <a:pt x="246" y="609"/>
                  <a:pt x="318" y="562"/>
                </a:cubicBezTo>
                <a:cubicBezTo>
                  <a:pt x="330" y="487"/>
                  <a:pt x="351" y="420"/>
                  <a:pt x="374" y="347"/>
                </a:cubicBezTo>
                <a:cubicBezTo>
                  <a:pt x="396" y="280"/>
                  <a:pt x="374" y="346"/>
                  <a:pt x="397" y="279"/>
                </a:cubicBezTo>
                <a:cubicBezTo>
                  <a:pt x="401" y="268"/>
                  <a:pt x="408" y="246"/>
                  <a:pt x="408" y="246"/>
                </a:cubicBezTo>
                <a:cubicBezTo>
                  <a:pt x="412" y="186"/>
                  <a:pt x="442" y="0"/>
                  <a:pt x="442" y="0"/>
                </a:cubicBezTo>
              </a:path>
            </a:pathLst>
          </a:custGeom>
          <a:noFill/>
          <a:ln w="66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170240" y="4321080"/>
            <a:ext cx="547920" cy="955800"/>
          </a:xfrm>
          <a:custGeom>
            <a:avLst/>
            <a:gdLst/>
            <a:ahLst/>
            <a:rect l="l" t="t" r="r" b="b"/>
            <a:pathLst>
              <a:path w="345" h="602">
                <a:moveTo>
                  <a:pt x="332" y="0"/>
                </a:moveTo>
                <a:cubicBezTo>
                  <a:pt x="275" y="112"/>
                  <a:pt x="345" y="1"/>
                  <a:pt x="276" y="56"/>
                </a:cubicBezTo>
                <a:cubicBezTo>
                  <a:pt x="202" y="116"/>
                  <a:pt x="305" y="72"/>
                  <a:pt x="219" y="102"/>
                </a:cubicBezTo>
                <a:cubicBezTo>
                  <a:pt x="212" y="113"/>
                  <a:pt x="206" y="126"/>
                  <a:pt x="197" y="135"/>
                </a:cubicBezTo>
                <a:cubicBezTo>
                  <a:pt x="187" y="145"/>
                  <a:pt x="172" y="148"/>
                  <a:pt x="163" y="158"/>
                </a:cubicBezTo>
                <a:cubicBezTo>
                  <a:pt x="145" y="179"/>
                  <a:pt x="132" y="203"/>
                  <a:pt x="117" y="226"/>
                </a:cubicBezTo>
                <a:cubicBezTo>
                  <a:pt x="110" y="237"/>
                  <a:pt x="102" y="249"/>
                  <a:pt x="95" y="260"/>
                </a:cubicBezTo>
                <a:cubicBezTo>
                  <a:pt x="87" y="271"/>
                  <a:pt x="72" y="294"/>
                  <a:pt x="72" y="294"/>
                </a:cubicBezTo>
                <a:cubicBezTo>
                  <a:pt x="65" y="316"/>
                  <a:pt x="57" y="339"/>
                  <a:pt x="50" y="361"/>
                </a:cubicBezTo>
                <a:cubicBezTo>
                  <a:pt x="46" y="372"/>
                  <a:pt x="38" y="395"/>
                  <a:pt x="38" y="395"/>
                </a:cubicBezTo>
                <a:cubicBezTo>
                  <a:pt x="35" y="420"/>
                  <a:pt x="0" y="564"/>
                  <a:pt x="27" y="587"/>
                </a:cubicBezTo>
                <a:cubicBezTo>
                  <a:pt x="44" y="602"/>
                  <a:pt x="72" y="587"/>
                  <a:pt x="95" y="587"/>
                </a:cubicBezTo>
              </a:path>
            </a:pathLst>
          </a:custGeom>
          <a:noFill/>
          <a:ln w="66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711680" y="3639960"/>
            <a:ext cx="523800" cy="644760"/>
          </a:xfrm>
          <a:custGeom>
            <a:avLst/>
            <a:gdLst/>
            <a:ahLst/>
            <a:rect l="l" t="t" r="r" b="b"/>
            <a:pathLst>
              <a:path w="330" h="406">
                <a:moveTo>
                  <a:pt x="330" y="0"/>
                </a:moveTo>
                <a:cubicBezTo>
                  <a:pt x="326" y="11"/>
                  <a:pt x="326" y="25"/>
                  <a:pt x="319" y="34"/>
                </a:cubicBezTo>
                <a:cubicBezTo>
                  <a:pt x="311" y="45"/>
                  <a:pt x="295" y="47"/>
                  <a:pt x="285" y="56"/>
                </a:cubicBezTo>
                <a:cubicBezTo>
                  <a:pt x="253" y="82"/>
                  <a:pt x="250" y="92"/>
                  <a:pt x="228" y="124"/>
                </a:cubicBezTo>
                <a:cubicBezTo>
                  <a:pt x="213" y="170"/>
                  <a:pt x="195" y="188"/>
                  <a:pt x="149" y="203"/>
                </a:cubicBezTo>
                <a:cubicBezTo>
                  <a:pt x="142" y="214"/>
                  <a:pt x="137" y="227"/>
                  <a:pt x="127" y="237"/>
                </a:cubicBezTo>
                <a:cubicBezTo>
                  <a:pt x="117" y="247"/>
                  <a:pt x="102" y="249"/>
                  <a:pt x="93" y="259"/>
                </a:cubicBezTo>
                <a:cubicBezTo>
                  <a:pt x="85" y="268"/>
                  <a:pt x="88" y="283"/>
                  <a:pt x="81" y="293"/>
                </a:cubicBezTo>
                <a:cubicBezTo>
                  <a:pt x="72" y="306"/>
                  <a:pt x="58" y="315"/>
                  <a:pt x="48" y="327"/>
                </a:cubicBezTo>
                <a:cubicBezTo>
                  <a:pt x="0" y="389"/>
                  <a:pt x="2" y="369"/>
                  <a:pt x="2" y="406"/>
                </a:cubicBezTo>
              </a:path>
            </a:pathLst>
          </a:custGeom>
          <a:noFill/>
          <a:ln w="66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680000" y="2421000"/>
            <a:ext cx="2038320" cy="985680"/>
          </a:xfrm>
          <a:custGeom>
            <a:avLst/>
            <a:gdLst/>
            <a:ahLst/>
            <a:rect l="l" t="t" r="r" b="b"/>
            <a:pathLst>
              <a:path w="1284" h="621">
                <a:moveTo>
                  <a:pt x="1194" y="100"/>
                </a:moveTo>
                <a:cubicBezTo>
                  <a:pt x="1110" y="72"/>
                  <a:pt x="1284" y="146"/>
                  <a:pt x="1231" y="101"/>
                </a:cubicBezTo>
                <a:cubicBezTo>
                  <a:pt x="1211" y="84"/>
                  <a:pt x="1135" y="62"/>
                  <a:pt x="1118" y="56"/>
                </a:cubicBezTo>
                <a:cubicBezTo>
                  <a:pt x="1107" y="52"/>
                  <a:pt x="1084" y="45"/>
                  <a:pt x="1084" y="45"/>
                </a:cubicBezTo>
                <a:cubicBezTo>
                  <a:pt x="1041" y="52"/>
                  <a:pt x="1011" y="55"/>
                  <a:pt x="971" y="67"/>
                </a:cubicBezTo>
                <a:cubicBezTo>
                  <a:pt x="948" y="74"/>
                  <a:pt x="903" y="90"/>
                  <a:pt x="903" y="90"/>
                </a:cubicBezTo>
                <a:cubicBezTo>
                  <a:pt x="742" y="51"/>
                  <a:pt x="770" y="65"/>
                  <a:pt x="497" y="56"/>
                </a:cubicBezTo>
                <a:cubicBezTo>
                  <a:pt x="419" y="4"/>
                  <a:pt x="455" y="19"/>
                  <a:pt x="395" y="0"/>
                </a:cubicBezTo>
                <a:cubicBezTo>
                  <a:pt x="349" y="30"/>
                  <a:pt x="357" y="46"/>
                  <a:pt x="327" y="90"/>
                </a:cubicBezTo>
                <a:cubicBezTo>
                  <a:pt x="317" y="187"/>
                  <a:pt x="310" y="259"/>
                  <a:pt x="226" y="316"/>
                </a:cubicBezTo>
                <a:cubicBezTo>
                  <a:pt x="196" y="402"/>
                  <a:pt x="236" y="296"/>
                  <a:pt x="192" y="384"/>
                </a:cubicBezTo>
                <a:cubicBezTo>
                  <a:pt x="187" y="395"/>
                  <a:pt x="191" y="413"/>
                  <a:pt x="180" y="418"/>
                </a:cubicBezTo>
                <a:cubicBezTo>
                  <a:pt x="156" y="430"/>
                  <a:pt x="127" y="425"/>
                  <a:pt x="101" y="429"/>
                </a:cubicBezTo>
                <a:cubicBezTo>
                  <a:pt x="39" y="450"/>
                  <a:pt x="43" y="480"/>
                  <a:pt x="22" y="542"/>
                </a:cubicBezTo>
                <a:cubicBezTo>
                  <a:pt x="14" y="567"/>
                  <a:pt x="0" y="594"/>
                  <a:pt x="0" y="621"/>
                </a:cubicBezTo>
              </a:path>
            </a:pathLst>
          </a:custGeom>
          <a:noFill/>
          <a:ln w="66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380360" y="3429000"/>
            <a:ext cx="1297080" cy="431640"/>
          </a:xfrm>
          <a:prstGeom prst="wedgeRoundRectCallout">
            <a:avLst>
              <a:gd name="adj1" fmla="val -64074"/>
              <a:gd name="adj2" fmla="val 98527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京沪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732720" y="4797360"/>
            <a:ext cx="1224000" cy="432000"/>
          </a:xfrm>
          <a:prstGeom prst="wedgeRoundRectCallout">
            <a:avLst>
              <a:gd name="adj1" fmla="val -66342"/>
              <a:gd name="adj2" fmla="val 8456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京九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003640" y="5805360"/>
            <a:ext cx="1150920" cy="433440"/>
          </a:xfrm>
          <a:prstGeom prst="wedgeRoundRectCallout">
            <a:avLst>
              <a:gd name="adj1" fmla="val 46828"/>
              <a:gd name="adj2" fmla="val -202379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京广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4858560" y="4149000"/>
            <a:ext cx="1081080" cy="431640"/>
          </a:xfrm>
          <a:prstGeom prst="wedgeRoundRectCallout">
            <a:avLst>
              <a:gd name="adj1" fmla="val -61013"/>
              <a:gd name="adj2" fmla="val 97425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焦柳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2842560" y="4652280"/>
            <a:ext cx="1081080" cy="431640"/>
          </a:xfrm>
          <a:prstGeom prst="wedgeRoundRectCallout">
            <a:avLst>
              <a:gd name="adj1" fmla="val -84217"/>
              <a:gd name="adj2" fmla="val 16175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成昆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492360" y="3573360"/>
            <a:ext cx="1152720" cy="360360"/>
          </a:xfrm>
          <a:prstGeom prst="wedgeRoundRectCallout">
            <a:avLst>
              <a:gd name="adj1" fmla="val 74657"/>
              <a:gd name="adj2" fmla="val 70703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宝成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796000" y="1700280"/>
            <a:ext cx="1728720" cy="504720"/>
          </a:xfrm>
          <a:prstGeom prst="wedgeRoundRectCallout">
            <a:avLst>
              <a:gd name="adj1" fmla="val -52018"/>
              <a:gd name="adj2" fmla="val 111634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京包－包兰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692360" y="2348640"/>
            <a:ext cx="1798560" cy="576360"/>
          </a:xfrm>
          <a:prstGeom prst="wedgeRoundRectCallout">
            <a:avLst>
              <a:gd name="adj1" fmla="val 96245"/>
              <a:gd name="adj2" fmla="val -40912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陇海－兰新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484360" y="5950080"/>
            <a:ext cx="2448000" cy="718920"/>
          </a:xfrm>
          <a:prstGeom prst="wedgeRoundRectCallout">
            <a:avLst>
              <a:gd name="adj1" fmla="val 45916"/>
              <a:gd name="adj2" fmla="val -169425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沪杭－浙赣－湘黔－贵昆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365200" y="2933640"/>
            <a:ext cx="2089440" cy="1228680"/>
          </a:xfrm>
          <a:custGeom>
            <a:avLst/>
            <a:gdLst/>
            <a:ahLst/>
            <a:rect l="l" t="t" r="r" b="b"/>
            <a:pathLst>
              <a:path w="1316" h="774">
                <a:moveTo>
                  <a:pt x="1316" y="197"/>
                </a:moveTo>
                <a:cubicBezTo>
                  <a:pt x="1232" y="169"/>
                  <a:pt x="1218" y="143"/>
                  <a:pt x="1165" y="98"/>
                </a:cubicBezTo>
                <a:cubicBezTo>
                  <a:pt x="1145" y="81"/>
                  <a:pt x="1102" y="71"/>
                  <a:pt x="1085" y="65"/>
                </a:cubicBezTo>
                <a:cubicBezTo>
                  <a:pt x="1074" y="61"/>
                  <a:pt x="1052" y="65"/>
                  <a:pt x="1052" y="65"/>
                </a:cubicBezTo>
                <a:cubicBezTo>
                  <a:pt x="1009" y="72"/>
                  <a:pt x="1000" y="60"/>
                  <a:pt x="960" y="72"/>
                </a:cubicBezTo>
                <a:cubicBezTo>
                  <a:pt x="937" y="79"/>
                  <a:pt x="887" y="39"/>
                  <a:pt x="887" y="39"/>
                </a:cubicBezTo>
                <a:cubicBezTo>
                  <a:pt x="726" y="0"/>
                  <a:pt x="735" y="39"/>
                  <a:pt x="536" y="112"/>
                </a:cubicBezTo>
                <a:cubicBezTo>
                  <a:pt x="470" y="185"/>
                  <a:pt x="417" y="257"/>
                  <a:pt x="357" y="238"/>
                </a:cubicBezTo>
                <a:cubicBezTo>
                  <a:pt x="311" y="268"/>
                  <a:pt x="314" y="266"/>
                  <a:pt x="284" y="310"/>
                </a:cubicBezTo>
                <a:cubicBezTo>
                  <a:pt x="274" y="407"/>
                  <a:pt x="322" y="333"/>
                  <a:pt x="238" y="390"/>
                </a:cubicBezTo>
                <a:cubicBezTo>
                  <a:pt x="208" y="476"/>
                  <a:pt x="262" y="381"/>
                  <a:pt x="218" y="469"/>
                </a:cubicBezTo>
                <a:cubicBezTo>
                  <a:pt x="213" y="480"/>
                  <a:pt x="196" y="530"/>
                  <a:pt x="185" y="535"/>
                </a:cubicBezTo>
                <a:cubicBezTo>
                  <a:pt x="161" y="547"/>
                  <a:pt x="125" y="657"/>
                  <a:pt x="99" y="661"/>
                </a:cubicBezTo>
                <a:cubicBezTo>
                  <a:pt x="66" y="688"/>
                  <a:pt x="79" y="668"/>
                  <a:pt x="53" y="714"/>
                </a:cubicBezTo>
                <a:cubicBezTo>
                  <a:pt x="45" y="739"/>
                  <a:pt x="0" y="747"/>
                  <a:pt x="0" y="774"/>
                </a:cubicBezTo>
              </a:path>
            </a:pathLst>
          </a:custGeom>
          <a:noFill/>
          <a:ln w="66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1116000" y="3644280"/>
            <a:ext cx="1440000" cy="431640"/>
          </a:xfrm>
          <a:prstGeom prst="wedgeRoundRectCallout">
            <a:avLst>
              <a:gd name="adj1" fmla="val -65217"/>
              <a:gd name="adj2" fmla="val 96319"/>
              <a:gd name="adj3" fmla="val 16667"/>
            </a:avLst>
          </a:prstGeom>
          <a:solidFill>
            <a:srgbClr val="bbe0e3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青藏铁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" dur="3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" dur="3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" dur="3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3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5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3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0" dur="3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0" dur="3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0" dur="3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0" dur="3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0" dur="3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5e75"/>
            </a:gs>
            <a:gs pos="100000">
              <a:srgbClr val="33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6553080" y="5486400"/>
            <a:ext cx="304920" cy="30492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6400800" y="2133720"/>
            <a:ext cx="685800" cy="457200"/>
          </a:xfrm>
          <a:prstGeom prst="star5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414600" y="274320"/>
            <a:ext cx="2828880" cy="60948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92119"/>
                </a:solidFill>
                <a:latin typeface="Arial"/>
              </a:rPr>
              <a:t>五 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772400" y="1066680"/>
            <a:ext cx="304920" cy="30492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010280" y="5791320"/>
            <a:ext cx="228600" cy="2286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20120" y="3962520"/>
            <a:ext cx="228600" cy="2286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95880" y="3352680"/>
            <a:ext cx="228600" cy="2286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651640" y="5661000"/>
            <a:ext cx="228600" cy="2286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257800" y="3505320"/>
            <a:ext cx="228600" cy="2286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800600" y="4343400"/>
            <a:ext cx="228600" cy="2286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267080" y="5410080"/>
            <a:ext cx="304920" cy="30492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705720" y="2590920"/>
            <a:ext cx="304560" cy="30456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4419720" y="1371600"/>
            <a:ext cx="3566520" cy="4457880"/>
            <a:chOff x="4419720" y="1371600"/>
            <a:chExt cx="3566520" cy="4457880"/>
          </a:xfrm>
        </p:grpSpPr>
        <p:sp>
          <p:nvSpPr>
            <p:cNvPr id="99" name=""/>
            <p:cNvSpPr/>
            <p:nvPr/>
          </p:nvSpPr>
          <p:spPr>
            <a:xfrm>
              <a:off x="6248160" y="2438280"/>
              <a:ext cx="537840" cy="3264120"/>
            </a:xfrm>
            <a:custGeom>
              <a:avLst/>
              <a:gdLst/>
              <a:ahLst/>
              <a:rect l="l" t="t" r="r" b="b"/>
              <a:pathLst>
                <a:path w="339" h="2056">
                  <a:moveTo>
                    <a:pt x="339" y="0"/>
                  </a:moveTo>
                  <a:cubicBezTo>
                    <a:pt x="336" y="19"/>
                    <a:pt x="339" y="39"/>
                    <a:pt x="331" y="56"/>
                  </a:cubicBezTo>
                  <a:cubicBezTo>
                    <a:pt x="327" y="65"/>
                    <a:pt x="312" y="64"/>
                    <a:pt x="307" y="72"/>
                  </a:cubicBezTo>
                  <a:cubicBezTo>
                    <a:pt x="285" y="105"/>
                    <a:pt x="289" y="191"/>
                    <a:pt x="275" y="232"/>
                  </a:cubicBezTo>
                  <a:cubicBezTo>
                    <a:pt x="265" y="262"/>
                    <a:pt x="235" y="304"/>
                    <a:pt x="219" y="328"/>
                  </a:cubicBezTo>
                  <a:cubicBezTo>
                    <a:pt x="200" y="356"/>
                    <a:pt x="190" y="392"/>
                    <a:pt x="179" y="424"/>
                  </a:cubicBezTo>
                  <a:cubicBezTo>
                    <a:pt x="173" y="482"/>
                    <a:pt x="159" y="534"/>
                    <a:pt x="155" y="592"/>
                  </a:cubicBezTo>
                  <a:cubicBezTo>
                    <a:pt x="149" y="677"/>
                    <a:pt x="147" y="750"/>
                    <a:pt x="131" y="832"/>
                  </a:cubicBezTo>
                  <a:cubicBezTo>
                    <a:pt x="148" y="1163"/>
                    <a:pt x="137" y="1035"/>
                    <a:pt x="155" y="1216"/>
                  </a:cubicBezTo>
                  <a:cubicBezTo>
                    <a:pt x="149" y="1364"/>
                    <a:pt x="189" y="1437"/>
                    <a:pt x="59" y="1480"/>
                  </a:cubicBezTo>
                  <a:cubicBezTo>
                    <a:pt x="33" y="1515"/>
                    <a:pt x="29" y="1542"/>
                    <a:pt x="19" y="1584"/>
                  </a:cubicBezTo>
                  <a:cubicBezTo>
                    <a:pt x="22" y="1640"/>
                    <a:pt x="0" y="1708"/>
                    <a:pt x="35" y="1752"/>
                  </a:cubicBezTo>
                  <a:cubicBezTo>
                    <a:pt x="49" y="1770"/>
                    <a:pt x="83" y="1800"/>
                    <a:pt x="83" y="1800"/>
                  </a:cubicBezTo>
                  <a:cubicBezTo>
                    <a:pt x="102" y="1856"/>
                    <a:pt x="74" y="1791"/>
                    <a:pt x="123" y="1840"/>
                  </a:cubicBezTo>
                  <a:cubicBezTo>
                    <a:pt x="129" y="1846"/>
                    <a:pt x="126" y="1857"/>
                    <a:pt x="131" y="1864"/>
                  </a:cubicBezTo>
                  <a:cubicBezTo>
                    <a:pt x="137" y="1872"/>
                    <a:pt x="147" y="1875"/>
                    <a:pt x="155" y="1880"/>
                  </a:cubicBezTo>
                  <a:cubicBezTo>
                    <a:pt x="158" y="1888"/>
                    <a:pt x="157" y="1898"/>
                    <a:pt x="163" y="1904"/>
                  </a:cubicBezTo>
                  <a:cubicBezTo>
                    <a:pt x="169" y="1910"/>
                    <a:pt x="180" y="1907"/>
                    <a:pt x="187" y="1912"/>
                  </a:cubicBezTo>
                  <a:cubicBezTo>
                    <a:pt x="204" y="1924"/>
                    <a:pt x="218" y="1940"/>
                    <a:pt x="235" y="1952"/>
                  </a:cubicBezTo>
                  <a:cubicBezTo>
                    <a:pt x="250" y="2010"/>
                    <a:pt x="230" y="1963"/>
                    <a:pt x="267" y="2000"/>
                  </a:cubicBezTo>
                  <a:cubicBezTo>
                    <a:pt x="274" y="2007"/>
                    <a:pt x="276" y="2017"/>
                    <a:pt x="283" y="2024"/>
                  </a:cubicBezTo>
                  <a:cubicBezTo>
                    <a:pt x="290" y="2031"/>
                    <a:pt x="299" y="2035"/>
                    <a:pt x="307" y="2040"/>
                  </a:cubicBezTo>
                  <a:cubicBezTo>
                    <a:pt x="317" y="2046"/>
                    <a:pt x="339" y="2056"/>
                    <a:pt x="339" y="2056"/>
                  </a:cubicBezTo>
                </a:path>
              </a:pathLst>
            </a:custGeom>
            <a:noFill/>
            <a:ln w="38160">
              <a:solidFill>
                <a:srgbClr val="33cc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553080" y="2438280"/>
              <a:ext cx="521640" cy="3391200"/>
            </a:xfrm>
            <a:custGeom>
              <a:avLst/>
              <a:gdLst/>
              <a:ahLst/>
              <a:rect l="l" t="t" r="r" b="b"/>
              <a:pathLst>
                <a:path w="329" h="2136">
                  <a:moveTo>
                    <a:pt x="173" y="0"/>
                  </a:moveTo>
                  <a:cubicBezTo>
                    <a:pt x="166" y="50"/>
                    <a:pt x="161" y="101"/>
                    <a:pt x="149" y="150"/>
                  </a:cubicBezTo>
                  <a:cubicBezTo>
                    <a:pt x="143" y="174"/>
                    <a:pt x="131" y="222"/>
                    <a:pt x="131" y="222"/>
                  </a:cubicBezTo>
                  <a:cubicBezTo>
                    <a:pt x="136" y="298"/>
                    <a:pt x="145" y="343"/>
                    <a:pt x="161" y="414"/>
                  </a:cubicBezTo>
                  <a:cubicBezTo>
                    <a:pt x="159" y="476"/>
                    <a:pt x="158" y="538"/>
                    <a:pt x="155" y="600"/>
                  </a:cubicBezTo>
                  <a:cubicBezTo>
                    <a:pt x="154" y="625"/>
                    <a:pt x="137" y="672"/>
                    <a:pt x="137" y="672"/>
                  </a:cubicBezTo>
                  <a:cubicBezTo>
                    <a:pt x="145" y="742"/>
                    <a:pt x="139" y="708"/>
                    <a:pt x="155" y="774"/>
                  </a:cubicBezTo>
                  <a:cubicBezTo>
                    <a:pt x="160" y="793"/>
                    <a:pt x="178" y="814"/>
                    <a:pt x="185" y="834"/>
                  </a:cubicBezTo>
                  <a:cubicBezTo>
                    <a:pt x="180" y="864"/>
                    <a:pt x="172" y="943"/>
                    <a:pt x="161" y="966"/>
                  </a:cubicBezTo>
                  <a:cubicBezTo>
                    <a:pt x="153" y="984"/>
                    <a:pt x="136" y="997"/>
                    <a:pt x="125" y="1014"/>
                  </a:cubicBezTo>
                  <a:cubicBezTo>
                    <a:pt x="118" y="1025"/>
                    <a:pt x="118" y="1042"/>
                    <a:pt x="107" y="1050"/>
                  </a:cubicBezTo>
                  <a:cubicBezTo>
                    <a:pt x="93" y="1061"/>
                    <a:pt x="75" y="1066"/>
                    <a:pt x="59" y="1074"/>
                  </a:cubicBezTo>
                  <a:cubicBezTo>
                    <a:pt x="0" y="1163"/>
                    <a:pt x="43" y="1091"/>
                    <a:pt x="53" y="1350"/>
                  </a:cubicBezTo>
                  <a:cubicBezTo>
                    <a:pt x="55" y="1396"/>
                    <a:pt x="91" y="1543"/>
                    <a:pt x="119" y="1584"/>
                  </a:cubicBezTo>
                  <a:cubicBezTo>
                    <a:pt x="122" y="1623"/>
                    <a:pt x="123" y="1681"/>
                    <a:pt x="137" y="1722"/>
                  </a:cubicBezTo>
                  <a:cubicBezTo>
                    <a:pt x="144" y="1743"/>
                    <a:pt x="152" y="1739"/>
                    <a:pt x="167" y="1752"/>
                  </a:cubicBezTo>
                  <a:cubicBezTo>
                    <a:pt x="180" y="1763"/>
                    <a:pt x="203" y="1788"/>
                    <a:pt x="203" y="1788"/>
                  </a:cubicBezTo>
                  <a:cubicBezTo>
                    <a:pt x="215" y="1823"/>
                    <a:pt x="218" y="1860"/>
                    <a:pt x="227" y="1896"/>
                  </a:cubicBezTo>
                  <a:cubicBezTo>
                    <a:pt x="234" y="1924"/>
                    <a:pt x="254" y="1945"/>
                    <a:pt x="269" y="1968"/>
                  </a:cubicBezTo>
                  <a:cubicBezTo>
                    <a:pt x="280" y="1985"/>
                    <a:pt x="294" y="2063"/>
                    <a:pt x="299" y="2082"/>
                  </a:cubicBezTo>
                  <a:cubicBezTo>
                    <a:pt x="301" y="2090"/>
                    <a:pt x="299" y="2100"/>
                    <a:pt x="305" y="2106"/>
                  </a:cubicBezTo>
                  <a:cubicBezTo>
                    <a:pt x="326" y="2127"/>
                    <a:pt x="319" y="2116"/>
                    <a:pt x="329" y="2136"/>
                  </a:cubicBezTo>
                </a:path>
              </a:pathLst>
            </a:custGeom>
            <a:noFill/>
            <a:ln w="38160">
              <a:solidFill>
                <a:srgbClr val="33cc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857640" y="1371600"/>
              <a:ext cx="1128600" cy="1359000"/>
            </a:xfrm>
            <a:custGeom>
              <a:avLst/>
              <a:gdLst/>
              <a:ahLst/>
              <a:rect l="l" t="t" r="r" b="b"/>
              <a:pathLst>
                <a:path w="711" h="856">
                  <a:moveTo>
                    <a:pt x="15" y="720"/>
                  </a:moveTo>
                  <a:cubicBezTo>
                    <a:pt x="19" y="774"/>
                    <a:pt x="0" y="838"/>
                    <a:pt x="55" y="856"/>
                  </a:cubicBezTo>
                  <a:cubicBezTo>
                    <a:pt x="74" y="853"/>
                    <a:pt x="93" y="853"/>
                    <a:pt x="111" y="848"/>
                  </a:cubicBezTo>
                  <a:cubicBezTo>
                    <a:pt x="158" y="834"/>
                    <a:pt x="162" y="787"/>
                    <a:pt x="183" y="760"/>
                  </a:cubicBezTo>
                  <a:cubicBezTo>
                    <a:pt x="197" y="742"/>
                    <a:pt x="215" y="728"/>
                    <a:pt x="231" y="712"/>
                  </a:cubicBezTo>
                  <a:cubicBezTo>
                    <a:pt x="238" y="705"/>
                    <a:pt x="240" y="694"/>
                    <a:pt x="247" y="688"/>
                  </a:cubicBezTo>
                  <a:cubicBezTo>
                    <a:pt x="268" y="670"/>
                    <a:pt x="306" y="653"/>
                    <a:pt x="327" y="632"/>
                  </a:cubicBezTo>
                  <a:cubicBezTo>
                    <a:pt x="363" y="596"/>
                    <a:pt x="320" y="616"/>
                    <a:pt x="367" y="600"/>
                  </a:cubicBezTo>
                  <a:cubicBezTo>
                    <a:pt x="392" y="575"/>
                    <a:pt x="417" y="565"/>
                    <a:pt x="447" y="544"/>
                  </a:cubicBezTo>
                  <a:cubicBezTo>
                    <a:pt x="463" y="533"/>
                    <a:pt x="479" y="523"/>
                    <a:pt x="495" y="512"/>
                  </a:cubicBezTo>
                  <a:cubicBezTo>
                    <a:pt x="503" y="507"/>
                    <a:pt x="519" y="496"/>
                    <a:pt x="519" y="496"/>
                  </a:cubicBezTo>
                  <a:cubicBezTo>
                    <a:pt x="530" y="480"/>
                    <a:pt x="545" y="466"/>
                    <a:pt x="551" y="448"/>
                  </a:cubicBezTo>
                  <a:cubicBezTo>
                    <a:pt x="565" y="406"/>
                    <a:pt x="571" y="368"/>
                    <a:pt x="591" y="328"/>
                  </a:cubicBezTo>
                  <a:cubicBezTo>
                    <a:pt x="595" y="319"/>
                    <a:pt x="603" y="313"/>
                    <a:pt x="607" y="304"/>
                  </a:cubicBezTo>
                  <a:cubicBezTo>
                    <a:pt x="614" y="289"/>
                    <a:pt x="623" y="256"/>
                    <a:pt x="623" y="256"/>
                  </a:cubicBezTo>
                  <a:cubicBezTo>
                    <a:pt x="626" y="235"/>
                    <a:pt x="625" y="213"/>
                    <a:pt x="631" y="192"/>
                  </a:cubicBezTo>
                  <a:cubicBezTo>
                    <a:pt x="634" y="183"/>
                    <a:pt x="643" y="177"/>
                    <a:pt x="647" y="168"/>
                  </a:cubicBezTo>
                  <a:cubicBezTo>
                    <a:pt x="664" y="135"/>
                    <a:pt x="711" y="36"/>
                    <a:pt x="711" y="0"/>
                  </a:cubicBezTo>
                </a:path>
              </a:pathLst>
            </a:custGeom>
            <a:noFill/>
            <a:ln w="38160">
              <a:solidFill>
                <a:srgbClr val="33cc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857640" y="2514600"/>
              <a:ext cx="952200" cy="1609560"/>
            </a:xfrm>
            <a:custGeom>
              <a:avLst/>
              <a:gdLst/>
              <a:ahLst/>
              <a:rect l="l" t="t" r="r" b="b"/>
              <a:pathLst>
                <a:path w="600" h="1014">
                  <a:moveTo>
                    <a:pt x="0" y="0"/>
                  </a:moveTo>
                  <a:cubicBezTo>
                    <a:pt x="4" y="22"/>
                    <a:pt x="9" y="44"/>
                    <a:pt x="12" y="66"/>
                  </a:cubicBezTo>
                  <a:cubicBezTo>
                    <a:pt x="15" y="82"/>
                    <a:pt x="9" y="101"/>
                    <a:pt x="18" y="114"/>
                  </a:cubicBezTo>
                  <a:cubicBezTo>
                    <a:pt x="25" y="124"/>
                    <a:pt x="42" y="122"/>
                    <a:pt x="54" y="126"/>
                  </a:cubicBezTo>
                  <a:cubicBezTo>
                    <a:pt x="60" y="164"/>
                    <a:pt x="62" y="226"/>
                    <a:pt x="78" y="264"/>
                  </a:cubicBezTo>
                  <a:cubicBezTo>
                    <a:pt x="113" y="345"/>
                    <a:pt x="71" y="224"/>
                    <a:pt x="96" y="300"/>
                  </a:cubicBezTo>
                  <a:cubicBezTo>
                    <a:pt x="90" y="423"/>
                    <a:pt x="62" y="559"/>
                    <a:pt x="102" y="678"/>
                  </a:cubicBezTo>
                  <a:cubicBezTo>
                    <a:pt x="104" y="714"/>
                    <a:pt x="99" y="751"/>
                    <a:pt x="108" y="786"/>
                  </a:cubicBezTo>
                  <a:cubicBezTo>
                    <a:pt x="112" y="802"/>
                    <a:pt x="135" y="803"/>
                    <a:pt x="150" y="810"/>
                  </a:cubicBezTo>
                  <a:cubicBezTo>
                    <a:pt x="217" y="840"/>
                    <a:pt x="292" y="829"/>
                    <a:pt x="360" y="852"/>
                  </a:cubicBezTo>
                  <a:cubicBezTo>
                    <a:pt x="367" y="874"/>
                    <a:pt x="378" y="889"/>
                    <a:pt x="384" y="912"/>
                  </a:cubicBezTo>
                  <a:cubicBezTo>
                    <a:pt x="388" y="944"/>
                    <a:pt x="379" y="1002"/>
                    <a:pt x="414" y="1014"/>
                  </a:cubicBezTo>
                  <a:cubicBezTo>
                    <a:pt x="596" y="1008"/>
                    <a:pt x="534" y="1008"/>
                    <a:pt x="600" y="1008"/>
                  </a:cubicBezTo>
                </a:path>
              </a:pathLst>
            </a:custGeom>
            <a:noFill/>
            <a:ln w="38160">
              <a:solidFill>
                <a:srgbClr val="33cc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638680" y="3429000"/>
              <a:ext cx="604440" cy="2301840"/>
            </a:xfrm>
            <a:custGeom>
              <a:avLst/>
              <a:gdLst/>
              <a:ahLst/>
              <a:rect l="l" t="t" r="r" b="b"/>
              <a:pathLst>
                <a:path w="381" h="1450">
                  <a:moveTo>
                    <a:pt x="371" y="34"/>
                  </a:moveTo>
                  <a:cubicBezTo>
                    <a:pt x="350" y="96"/>
                    <a:pt x="381" y="0"/>
                    <a:pt x="359" y="166"/>
                  </a:cubicBezTo>
                  <a:cubicBezTo>
                    <a:pt x="355" y="198"/>
                    <a:pt x="328" y="222"/>
                    <a:pt x="311" y="250"/>
                  </a:cubicBezTo>
                  <a:cubicBezTo>
                    <a:pt x="300" y="317"/>
                    <a:pt x="307" y="335"/>
                    <a:pt x="245" y="370"/>
                  </a:cubicBezTo>
                  <a:cubicBezTo>
                    <a:pt x="240" y="397"/>
                    <a:pt x="236" y="422"/>
                    <a:pt x="227" y="448"/>
                  </a:cubicBezTo>
                  <a:cubicBezTo>
                    <a:pt x="220" y="586"/>
                    <a:pt x="267" y="718"/>
                    <a:pt x="131" y="766"/>
                  </a:cubicBezTo>
                  <a:cubicBezTo>
                    <a:pt x="37" y="800"/>
                    <a:pt x="114" y="774"/>
                    <a:pt x="65" y="790"/>
                  </a:cubicBezTo>
                  <a:cubicBezTo>
                    <a:pt x="0" y="888"/>
                    <a:pt x="50" y="805"/>
                    <a:pt x="59" y="1096"/>
                  </a:cubicBezTo>
                  <a:cubicBezTo>
                    <a:pt x="63" y="1217"/>
                    <a:pt x="83" y="1327"/>
                    <a:pt x="83" y="1450"/>
                  </a:cubicBezTo>
                </a:path>
              </a:pathLst>
            </a:custGeom>
            <a:noFill/>
            <a:ln w="38160">
              <a:solidFill>
                <a:srgbClr val="33cc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419720" y="3581280"/>
              <a:ext cx="1009440" cy="1936800"/>
            </a:xfrm>
            <a:custGeom>
              <a:avLst/>
              <a:gdLst/>
              <a:ahLst/>
              <a:rect l="l" t="t" r="r" b="b"/>
              <a:pathLst>
                <a:path w="636" h="1220">
                  <a:moveTo>
                    <a:pt x="636" y="0"/>
                  </a:moveTo>
                  <a:cubicBezTo>
                    <a:pt x="600" y="54"/>
                    <a:pt x="588" y="115"/>
                    <a:pt x="552" y="168"/>
                  </a:cubicBezTo>
                  <a:cubicBezTo>
                    <a:pt x="512" y="228"/>
                    <a:pt x="561" y="162"/>
                    <a:pt x="534" y="210"/>
                  </a:cubicBezTo>
                  <a:cubicBezTo>
                    <a:pt x="527" y="223"/>
                    <a:pt x="510" y="246"/>
                    <a:pt x="510" y="246"/>
                  </a:cubicBezTo>
                  <a:cubicBezTo>
                    <a:pt x="502" y="299"/>
                    <a:pt x="488" y="346"/>
                    <a:pt x="450" y="384"/>
                  </a:cubicBezTo>
                  <a:cubicBezTo>
                    <a:pt x="439" y="417"/>
                    <a:pt x="422" y="433"/>
                    <a:pt x="390" y="444"/>
                  </a:cubicBezTo>
                  <a:cubicBezTo>
                    <a:pt x="377" y="464"/>
                    <a:pt x="361" y="472"/>
                    <a:pt x="348" y="492"/>
                  </a:cubicBezTo>
                  <a:cubicBezTo>
                    <a:pt x="342" y="533"/>
                    <a:pt x="341" y="565"/>
                    <a:pt x="312" y="594"/>
                  </a:cubicBezTo>
                  <a:cubicBezTo>
                    <a:pt x="305" y="620"/>
                    <a:pt x="308" y="633"/>
                    <a:pt x="282" y="642"/>
                  </a:cubicBezTo>
                  <a:cubicBezTo>
                    <a:pt x="263" y="661"/>
                    <a:pt x="262" y="676"/>
                    <a:pt x="240" y="690"/>
                  </a:cubicBezTo>
                  <a:cubicBezTo>
                    <a:pt x="207" y="739"/>
                    <a:pt x="164" y="782"/>
                    <a:pt x="138" y="834"/>
                  </a:cubicBezTo>
                  <a:cubicBezTo>
                    <a:pt x="136" y="844"/>
                    <a:pt x="137" y="855"/>
                    <a:pt x="132" y="864"/>
                  </a:cubicBezTo>
                  <a:cubicBezTo>
                    <a:pt x="128" y="870"/>
                    <a:pt x="118" y="870"/>
                    <a:pt x="114" y="876"/>
                  </a:cubicBezTo>
                  <a:cubicBezTo>
                    <a:pt x="109" y="883"/>
                    <a:pt x="111" y="892"/>
                    <a:pt x="108" y="900"/>
                  </a:cubicBezTo>
                  <a:cubicBezTo>
                    <a:pt x="100" y="919"/>
                    <a:pt x="87" y="936"/>
                    <a:pt x="78" y="954"/>
                  </a:cubicBezTo>
                  <a:cubicBezTo>
                    <a:pt x="69" y="972"/>
                    <a:pt x="48" y="1008"/>
                    <a:pt x="48" y="1008"/>
                  </a:cubicBezTo>
                  <a:cubicBezTo>
                    <a:pt x="75" y="1048"/>
                    <a:pt x="30" y="1115"/>
                    <a:pt x="18" y="1158"/>
                  </a:cubicBezTo>
                  <a:cubicBezTo>
                    <a:pt x="4" y="1209"/>
                    <a:pt x="22" y="1168"/>
                    <a:pt x="0" y="1212"/>
                  </a:cubicBezTo>
                  <a:cubicBezTo>
                    <a:pt x="24" y="1220"/>
                    <a:pt x="12" y="1218"/>
                    <a:pt x="36" y="1218"/>
                  </a:cubicBezTo>
                </a:path>
              </a:pathLst>
            </a:custGeom>
            <a:noFill/>
            <a:ln w="38160">
              <a:solidFill>
                <a:srgbClr val="33cc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"/>
          <p:cNvSpPr/>
          <p:nvPr/>
        </p:nvSpPr>
        <p:spPr>
          <a:xfrm>
            <a:off x="7467480" y="54864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4419720" y="1371600"/>
            <a:ext cx="3566520" cy="4457880"/>
            <a:chOff x="4419720" y="1371600"/>
            <a:chExt cx="3566520" cy="4457880"/>
          </a:xfrm>
        </p:grpSpPr>
        <p:sp>
          <p:nvSpPr>
            <p:cNvPr id="107" name=""/>
            <p:cNvSpPr/>
            <p:nvPr/>
          </p:nvSpPr>
          <p:spPr>
            <a:xfrm>
              <a:off x="6248160" y="2438280"/>
              <a:ext cx="537840" cy="3264120"/>
            </a:xfrm>
            <a:custGeom>
              <a:avLst/>
              <a:gdLst/>
              <a:ahLst/>
              <a:rect l="l" t="t" r="r" b="b"/>
              <a:pathLst>
                <a:path w="339" h="2056">
                  <a:moveTo>
                    <a:pt x="339" y="0"/>
                  </a:moveTo>
                  <a:cubicBezTo>
                    <a:pt x="336" y="19"/>
                    <a:pt x="339" y="39"/>
                    <a:pt x="331" y="56"/>
                  </a:cubicBezTo>
                  <a:cubicBezTo>
                    <a:pt x="327" y="65"/>
                    <a:pt x="312" y="64"/>
                    <a:pt x="307" y="72"/>
                  </a:cubicBezTo>
                  <a:cubicBezTo>
                    <a:pt x="285" y="105"/>
                    <a:pt x="289" y="191"/>
                    <a:pt x="275" y="232"/>
                  </a:cubicBezTo>
                  <a:cubicBezTo>
                    <a:pt x="265" y="262"/>
                    <a:pt x="235" y="304"/>
                    <a:pt x="219" y="328"/>
                  </a:cubicBezTo>
                  <a:cubicBezTo>
                    <a:pt x="200" y="356"/>
                    <a:pt x="190" y="392"/>
                    <a:pt x="179" y="424"/>
                  </a:cubicBezTo>
                  <a:cubicBezTo>
                    <a:pt x="173" y="482"/>
                    <a:pt x="159" y="534"/>
                    <a:pt x="155" y="592"/>
                  </a:cubicBezTo>
                  <a:cubicBezTo>
                    <a:pt x="149" y="677"/>
                    <a:pt x="147" y="750"/>
                    <a:pt x="131" y="832"/>
                  </a:cubicBezTo>
                  <a:cubicBezTo>
                    <a:pt x="148" y="1163"/>
                    <a:pt x="137" y="1035"/>
                    <a:pt x="155" y="1216"/>
                  </a:cubicBezTo>
                  <a:cubicBezTo>
                    <a:pt x="149" y="1364"/>
                    <a:pt x="189" y="1437"/>
                    <a:pt x="59" y="1480"/>
                  </a:cubicBezTo>
                  <a:cubicBezTo>
                    <a:pt x="33" y="1515"/>
                    <a:pt x="29" y="1542"/>
                    <a:pt x="19" y="1584"/>
                  </a:cubicBezTo>
                  <a:cubicBezTo>
                    <a:pt x="22" y="1640"/>
                    <a:pt x="0" y="1708"/>
                    <a:pt x="35" y="1752"/>
                  </a:cubicBezTo>
                  <a:cubicBezTo>
                    <a:pt x="49" y="1770"/>
                    <a:pt x="83" y="1800"/>
                    <a:pt x="83" y="1800"/>
                  </a:cubicBezTo>
                  <a:cubicBezTo>
                    <a:pt x="102" y="1856"/>
                    <a:pt x="74" y="1791"/>
                    <a:pt x="123" y="1840"/>
                  </a:cubicBezTo>
                  <a:cubicBezTo>
                    <a:pt x="129" y="1846"/>
                    <a:pt x="126" y="1857"/>
                    <a:pt x="131" y="1864"/>
                  </a:cubicBezTo>
                  <a:cubicBezTo>
                    <a:pt x="137" y="1872"/>
                    <a:pt x="147" y="1875"/>
                    <a:pt x="155" y="1880"/>
                  </a:cubicBezTo>
                  <a:cubicBezTo>
                    <a:pt x="158" y="1888"/>
                    <a:pt x="157" y="1898"/>
                    <a:pt x="163" y="1904"/>
                  </a:cubicBezTo>
                  <a:cubicBezTo>
                    <a:pt x="169" y="1910"/>
                    <a:pt x="180" y="1907"/>
                    <a:pt x="187" y="1912"/>
                  </a:cubicBezTo>
                  <a:cubicBezTo>
                    <a:pt x="204" y="1924"/>
                    <a:pt x="218" y="1940"/>
                    <a:pt x="235" y="1952"/>
                  </a:cubicBezTo>
                  <a:cubicBezTo>
                    <a:pt x="250" y="2010"/>
                    <a:pt x="230" y="1963"/>
                    <a:pt x="267" y="2000"/>
                  </a:cubicBezTo>
                  <a:cubicBezTo>
                    <a:pt x="274" y="2007"/>
                    <a:pt x="276" y="2017"/>
                    <a:pt x="283" y="2024"/>
                  </a:cubicBezTo>
                  <a:cubicBezTo>
                    <a:pt x="290" y="2031"/>
                    <a:pt x="299" y="2035"/>
                    <a:pt x="307" y="2040"/>
                  </a:cubicBezTo>
                  <a:cubicBezTo>
                    <a:pt x="317" y="2046"/>
                    <a:pt x="339" y="2056"/>
                    <a:pt x="339" y="2056"/>
                  </a:cubicBezTo>
                </a:path>
              </a:pathLst>
            </a:custGeom>
            <a:noFill/>
            <a:ln w="38160">
              <a:solidFill>
                <a:srgbClr val="33cc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553080" y="2438280"/>
              <a:ext cx="521640" cy="3391200"/>
            </a:xfrm>
            <a:custGeom>
              <a:avLst/>
              <a:gdLst/>
              <a:ahLst/>
              <a:rect l="l" t="t" r="r" b="b"/>
              <a:pathLst>
                <a:path w="329" h="2136">
                  <a:moveTo>
                    <a:pt x="173" y="0"/>
                  </a:moveTo>
                  <a:cubicBezTo>
                    <a:pt x="166" y="50"/>
                    <a:pt x="161" y="101"/>
                    <a:pt x="149" y="150"/>
                  </a:cubicBezTo>
                  <a:cubicBezTo>
                    <a:pt x="143" y="174"/>
                    <a:pt x="131" y="222"/>
                    <a:pt x="131" y="222"/>
                  </a:cubicBezTo>
                  <a:cubicBezTo>
                    <a:pt x="136" y="298"/>
                    <a:pt x="145" y="343"/>
                    <a:pt x="161" y="414"/>
                  </a:cubicBezTo>
                  <a:cubicBezTo>
                    <a:pt x="159" y="476"/>
                    <a:pt x="158" y="538"/>
                    <a:pt x="155" y="600"/>
                  </a:cubicBezTo>
                  <a:cubicBezTo>
                    <a:pt x="154" y="625"/>
                    <a:pt x="137" y="672"/>
                    <a:pt x="137" y="672"/>
                  </a:cubicBezTo>
                  <a:cubicBezTo>
                    <a:pt x="145" y="742"/>
                    <a:pt x="139" y="708"/>
                    <a:pt x="155" y="774"/>
                  </a:cubicBezTo>
                  <a:cubicBezTo>
                    <a:pt x="160" y="793"/>
                    <a:pt x="178" y="814"/>
                    <a:pt x="185" y="834"/>
                  </a:cubicBezTo>
                  <a:cubicBezTo>
                    <a:pt x="180" y="864"/>
                    <a:pt x="172" y="943"/>
                    <a:pt x="161" y="966"/>
                  </a:cubicBezTo>
                  <a:cubicBezTo>
                    <a:pt x="153" y="984"/>
                    <a:pt x="136" y="997"/>
                    <a:pt x="125" y="1014"/>
                  </a:cubicBezTo>
                  <a:cubicBezTo>
                    <a:pt x="118" y="1025"/>
                    <a:pt x="118" y="1042"/>
                    <a:pt x="107" y="1050"/>
                  </a:cubicBezTo>
                  <a:cubicBezTo>
                    <a:pt x="93" y="1061"/>
                    <a:pt x="75" y="1066"/>
                    <a:pt x="59" y="1074"/>
                  </a:cubicBezTo>
                  <a:cubicBezTo>
                    <a:pt x="0" y="1163"/>
                    <a:pt x="43" y="1091"/>
                    <a:pt x="53" y="1350"/>
                  </a:cubicBezTo>
                  <a:cubicBezTo>
                    <a:pt x="55" y="1396"/>
                    <a:pt x="91" y="1543"/>
                    <a:pt x="119" y="1584"/>
                  </a:cubicBezTo>
                  <a:cubicBezTo>
                    <a:pt x="122" y="1623"/>
                    <a:pt x="123" y="1681"/>
                    <a:pt x="137" y="1722"/>
                  </a:cubicBezTo>
                  <a:cubicBezTo>
                    <a:pt x="144" y="1743"/>
                    <a:pt x="152" y="1739"/>
                    <a:pt x="167" y="1752"/>
                  </a:cubicBezTo>
                  <a:cubicBezTo>
                    <a:pt x="180" y="1763"/>
                    <a:pt x="203" y="1788"/>
                    <a:pt x="203" y="1788"/>
                  </a:cubicBezTo>
                  <a:cubicBezTo>
                    <a:pt x="215" y="1823"/>
                    <a:pt x="218" y="1860"/>
                    <a:pt x="227" y="1896"/>
                  </a:cubicBezTo>
                  <a:cubicBezTo>
                    <a:pt x="234" y="1924"/>
                    <a:pt x="254" y="1945"/>
                    <a:pt x="269" y="1968"/>
                  </a:cubicBezTo>
                  <a:cubicBezTo>
                    <a:pt x="280" y="1985"/>
                    <a:pt x="294" y="2063"/>
                    <a:pt x="299" y="2082"/>
                  </a:cubicBezTo>
                  <a:cubicBezTo>
                    <a:pt x="301" y="2090"/>
                    <a:pt x="299" y="2100"/>
                    <a:pt x="305" y="2106"/>
                  </a:cubicBezTo>
                  <a:cubicBezTo>
                    <a:pt x="326" y="2127"/>
                    <a:pt x="319" y="2116"/>
                    <a:pt x="329" y="2136"/>
                  </a:cubicBezTo>
                </a:path>
              </a:pathLst>
            </a:custGeom>
            <a:noFill/>
            <a:ln w="38160">
              <a:solidFill>
                <a:srgbClr val="33cc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57640" y="1371600"/>
              <a:ext cx="1128600" cy="1359000"/>
            </a:xfrm>
            <a:custGeom>
              <a:avLst/>
              <a:gdLst/>
              <a:ahLst/>
              <a:rect l="l" t="t" r="r" b="b"/>
              <a:pathLst>
                <a:path w="711" h="856">
                  <a:moveTo>
                    <a:pt x="15" y="720"/>
                  </a:moveTo>
                  <a:cubicBezTo>
                    <a:pt x="19" y="774"/>
                    <a:pt x="0" y="838"/>
                    <a:pt x="55" y="856"/>
                  </a:cubicBezTo>
                  <a:cubicBezTo>
                    <a:pt x="74" y="853"/>
                    <a:pt x="93" y="853"/>
                    <a:pt x="111" y="848"/>
                  </a:cubicBezTo>
                  <a:cubicBezTo>
                    <a:pt x="158" y="834"/>
                    <a:pt x="162" y="787"/>
                    <a:pt x="183" y="760"/>
                  </a:cubicBezTo>
                  <a:cubicBezTo>
                    <a:pt x="197" y="742"/>
                    <a:pt x="215" y="728"/>
                    <a:pt x="231" y="712"/>
                  </a:cubicBezTo>
                  <a:cubicBezTo>
                    <a:pt x="238" y="705"/>
                    <a:pt x="240" y="694"/>
                    <a:pt x="247" y="688"/>
                  </a:cubicBezTo>
                  <a:cubicBezTo>
                    <a:pt x="268" y="670"/>
                    <a:pt x="306" y="653"/>
                    <a:pt x="327" y="632"/>
                  </a:cubicBezTo>
                  <a:cubicBezTo>
                    <a:pt x="363" y="596"/>
                    <a:pt x="320" y="616"/>
                    <a:pt x="367" y="600"/>
                  </a:cubicBezTo>
                  <a:cubicBezTo>
                    <a:pt x="392" y="575"/>
                    <a:pt x="417" y="565"/>
                    <a:pt x="447" y="544"/>
                  </a:cubicBezTo>
                  <a:cubicBezTo>
                    <a:pt x="463" y="533"/>
                    <a:pt x="479" y="523"/>
                    <a:pt x="495" y="512"/>
                  </a:cubicBezTo>
                  <a:cubicBezTo>
                    <a:pt x="503" y="507"/>
                    <a:pt x="519" y="496"/>
                    <a:pt x="519" y="496"/>
                  </a:cubicBezTo>
                  <a:cubicBezTo>
                    <a:pt x="530" y="480"/>
                    <a:pt x="545" y="466"/>
                    <a:pt x="551" y="448"/>
                  </a:cubicBezTo>
                  <a:cubicBezTo>
                    <a:pt x="565" y="406"/>
                    <a:pt x="571" y="368"/>
                    <a:pt x="591" y="328"/>
                  </a:cubicBezTo>
                  <a:cubicBezTo>
                    <a:pt x="595" y="319"/>
                    <a:pt x="603" y="313"/>
                    <a:pt x="607" y="304"/>
                  </a:cubicBezTo>
                  <a:cubicBezTo>
                    <a:pt x="614" y="289"/>
                    <a:pt x="623" y="256"/>
                    <a:pt x="623" y="256"/>
                  </a:cubicBezTo>
                  <a:cubicBezTo>
                    <a:pt x="626" y="235"/>
                    <a:pt x="625" y="213"/>
                    <a:pt x="631" y="192"/>
                  </a:cubicBezTo>
                  <a:cubicBezTo>
                    <a:pt x="634" y="183"/>
                    <a:pt x="643" y="177"/>
                    <a:pt x="647" y="168"/>
                  </a:cubicBezTo>
                  <a:cubicBezTo>
                    <a:pt x="664" y="135"/>
                    <a:pt x="711" y="36"/>
                    <a:pt x="711" y="0"/>
                  </a:cubicBezTo>
                </a:path>
              </a:pathLst>
            </a:custGeom>
            <a:noFill/>
            <a:ln w="38160">
              <a:solidFill>
                <a:srgbClr val="33cc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857640" y="2514600"/>
              <a:ext cx="952200" cy="1609560"/>
            </a:xfrm>
            <a:custGeom>
              <a:avLst/>
              <a:gdLst/>
              <a:ahLst/>
              <a:rect l="l" t="t" r="r" b="b"/>
              <a:pathLst>
                <a:path w="600" h="1014">
                  <a:moveTo>
                    <a:pt x="0" y="0"/>
                  </a:moveTo>
                  <a:cubicBezTo>
                    <a:pt x="4" y="22"/>
                    <a:pt x="9" y="44"/>
                    <a:pt x="12" y="66"/>
                  </a:cubicBezTo>
                  <a:cubicBezTo>
                    <a:pt x="15" y="82"/>
                    <a:pt x="9" y="101"/>
                    <a:pt x="18" y="114"/>
                  </a:cubicBezTo>
                  <a:cubicBezTo>
                    <a:pt x="25" y="124"/>
                    <a:pt x="42" y="122"/>
                    <a:pt x="54" y="126"/>
                  </a:cubicBezTo>
                  <a:cubicBezTo>
                    <a:pt x="60" y="164"/>
                    <a:pt x="62" y="226"/>
                    <a:pt x="78" y="264"/>
                  </a:cubicBezTo>
                  <a:cubicBezTo>
                    <a:pt x="113" y="345"/>
                    <a:pt x="71" y="224"/>
                    <a:pt x="96" y="300"/>
                  </a:cubicBezTo>
                  <a:cubicBezTo>
                    <a:pt x="90" y="423"/>
                    <a:pt x="62" y="559"/>
                    <a:pt x="102" y="678"/>
                  </a:cubicBezTo>
                  <a:cubicBezTo>
                    <a:pt x="104" y="714"/>
                    <a:pt x="99" y="751"/>
                    <a:pt x="108" y="786"/>
                  </a:cubicBezTo>
                  <a:cubicBezTo>
                    <a:pt x="112" y="802"/>
                    <a:pt x="135" y="803"/>
                    <a:pt x="150" y="810"/>
                  </a:cubicBezTo>
                  <a:cubicBezTo>
                    <a:pt x="217" y="840"/>
                    <a:pt x="292" y="829"/>
                    <a:pt x="360" y="852"/>
                  </a:cubicBezTo>
                  <a:cubicBezTo>
                    <a:pt x="367" y="874"/>
                    <a:pt x="378" y="889"/>
                    <a:pt x="384" y="912"/>
                  </a:cubicBezTo>
                  <a:cubicBezTo>
                    <a:pt x="388" y="944"/>
                    <a:pt x="379" y="1002"/>
                    <a:pt x="414" y="1014"/>
                  </a:cubicBezTo>
                  <a:cubicBezTo>
                    <a:pt x="596" y="1008"/>
                    <a:pt x="534" y="1008"/>
                    <a:pt x="600" y="1008"/>
                  </a:cubicBezTo>
                </a:path>
              </a:pathLst>
            </a:custGeom>
            <a:noFill/>
            <a:ln w="38160">
              <a:solidFill>
                <a:srgbClr val="33cc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638680" y="3429000"/>
              <a:ext cx="604440" cy="2301840"/>
            </a:xfrm>
            <a:custGeom>
              <a:avLst/>
              <a:gdLst/>
              <a:ahLst/>
              <a:rect l="l" t="t" r="r" b="b"/>
              <a:pathLst>
                <a:path w="381" h="1450">
                  <a:moveTo>
                    <a:pt x="371" y="34"/>
                  </a:moveTo>
                  <a:cubicBezTo>
                    <a:pt x="350" y="96"/>
                    <a:pt x="381" y="0"/>
                    <a:pt x="359" y="166"/>
                  </a:cubicBezTo>
                  <a:cubicBezTo>
                    <a:pt x="355" y="198"/>
                    <a:pt x="328" y="222"/>
                    <a:pt x="311" y="250"/>
                  </a:cubicBezTo>
                  <a:cubicBezTo>
                    <a:pt x="300" y="317"/>
                    <a:pt x="307" y="335"/>
                    <a:pt x="245" y="370"/>
                  </a:cubicBezTo>
                  <a:cubicBezTo>
                    <a:pt x="240" y="397"/>
                    <a:pt x="236" y="422"/>
                    <a:pt x="227" y="448"/>
                  </a:cubicBezTo>
                  <a:cubicBezTo>
                    <a:pt x="220" y="586"/>
                    <a:pt x="267" y="718"/>
                    <a:pt x="131" y="766"/>
                  </a:cubicBezTo>
                  <a:cubicBezTo>
                    <a:pt x="37" y="800"/>
                    <a:pt x="114" y="774"/>
                    <a:pt x="65" y="790"/>
                  </a:cubicBezTo>
                  <a:cubicBezTo>
                    <a:pt x="0" y="888"/>
                    <a:pt x="50" y="805"/>
                    <a:pt x="59" y="1096"/>
                  </a:cubicBezTo>
                  <a:cubicBezTo>
                    <a:pt x="63" y="1217"/>
                    <a:pt x="83" y="1327"/>
                    <a:pt x="83" y="1450"/>
                  </a:cubicBezTo>
                </a:path>
              </a:pathLst>
            </a:custGeom>
            <a:noFill/>
            <a:ln w="38160">
              <a:solidFill>
                <a:srgbClr val="33cc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419720" y="3581280"/>
              <a:ext cx="1009440" cy="1936800"/>
            </a:xfrm>
            <a:custGeom>
              <a:avLst/>
              <a:gdLst/>
              <a:ahLst/>
              <a:rect l="l" t="t" r="r" b="b"/>
              <a:pathLst>
                <a:path w="636" h="1220">
                  <a:moveTo>
                    <a:pt x="636" y="0"/>
                  </a:moveTo>
                  <a:cubicBezTo>
                    <a:pt x="600" y="54"/>
                    <a:pt x="588" y="115"/>
                    <a:pt x="552" y="168"/>
                  </a:cubicBezTo>
                  <a:cubicBezTo>
                    <a:pt x="512" y="228"/>
                    <a:pt x="561" y="162"/>
                    <a:pt x="534" y="210"/>
                  </a:cubicBezTo>
                  <a:cubicBezTo>
                    <a:pt x="527" y="223"/>
                    <a:pt x="510" y="246"/>
                    <a:pt x="510" y="246"/>
                  </a:cubicBezTo>
                  <a:cubicBezTo>
                    <a:pt x="502" y="299"/>
                    <a:pt x="488" y="346"/>
                    <a:pt x="450" y="384"/>
                  </a:cubicBezTo>
                  <a:cubicBezTo>
                    <a:pt x="439" y="417"/>
                    <a:pt x="422" y="433"/>
                    <a:pt x="390" y="444"/>
                  </a:cubicBezTo>
                  <a:cubicBezTo>
                    <a:pt x="377" y="464"/>
                    <a:pt x="361" y="472"/>
                    <a:pt x="348" y="492"/>
                  </a:cubicBezTo>
                  <a:cubicBezTo>
                    <a:pt x="342" y="533"/>
                    <a:pt x="341" y="565"/>
                    <a:pt x="312" y="594"/>
                  </a:cubicBezTo>
                  <a:cubicBezTo>
                    <a:pt x="305" y="620"/>
                    <a:pt x="308" y="633"/>
                    <a:pt x="282" y="642"/>
                  </a:cubicBezTo>
                  <a:cubicBezTo>
                    <a:pt x="263" y="661"/>
                    <a:pt x="262" y="676"/>
                    <a:pt x="240" y="690"/>
                  </a:cubicBezTo>
                  <a:cubicBezTo>
                    <a:pt x="207" y="739"/>
                    <a:pt x="164" y="782"/>
                    <a:pt x="138" y="834"/>
                  </a:cubicBezTo>
                  <a:cubicBezTo>
                    <a:pt x="136" y="844"/>
                    <a:pt x="137" y="855"/>
                    <a:pt x="132" y="864"/>
                  </a:cubicBezTo>
                  <a:cubicBezTo>
                    <a:pt x="128" y="870"/>
                    <a:pt x="118" y="870"/>
                    <a:pt x="114" y="876"/>
                  </a:cubicBezTo>
                  <a:cubicBezTo>
                    <a:pt x="109" y="883"/>
                    <a:pt x="111" y="892"/>
                    <a:pt x="108" y="900"/>
                  </a:cubicBezTo>
                  <a:cubicBezTo>
                    <a:pt x="100" y="919"/>
                    <a:pt x="87" y="936"/>
                    <a:pt x="78" y="954"/>
                  </a:cubicBezTo>
                  <a:cubicBezTo>
                    <a:pt x="69" y="972"/>
                    <a:pt x="48" y="1008"/>
                    <a:pt x="48" y="1008"/>
                  </a:cubicBezTo>
                  <a:cubicBezTo>
                    <a:pt x="75" y="1048"/>
                    <a:pt x="30" y="1115"/>
                    <a:pt x="18" y="1158"/>
                  </a:cubicBezTo>
                  <a:cubicBezTo>
                    <a:pt x="4" y="1209"/>
                    <a:pt x="22" y="1168"/>
                    <a:pt x="0" y="1212"/>
                  </a:cubicBezTo>
                  <a:cubicBezTo>
                    <a:pt x="24" y="1220"/>
                    <a:pt x="12" y="1218"/>
                    <a:pt x="36" y="1218"/>
                  </a:cubicBezTo>
                </a:path>
              </a:pathLst>
            </a:custGeom>
            <a:noFill/>
            <a:ln w="38160">
              <a:solidFill>
                <a:srgbClr val="33cc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"/>
          <p:cNvSpPr/>
          <p:nvPr/>
        </p:nvSpPr>
        <p:spPr>
          <a:xfrm>
            <a:off x="5580000" y="1700280"/>
            <a:ext cx="1430280" cy="433440"/>
          </a:xfrm>
          <a:prstGeom prst="wedgeRectCallout">
            <a:avLst>
              <a:gd name="adj1" fmla="val 82629"/>
              <a:gd name="adj2" fmla="val 61722"/>
            </a:avLst>
          </a:prstGeom>
          <a:solidFill>
            <a:srgbClr val="009999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京哈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284720" y="2708280"/>
            <a:ext cx="1361880" cy="492120"/>
          </a:xfrm>
          <a:prstGeom prst="wedgeRectCallout">
            <a:avLst>
              <a:gd name="adj1" fmla="val 99648"/>
              <a:gd name="adj2" fmla="val 66129"/>
            </a:avLst>
          </a:prstGeom>
          <a:solidFill>
            <a:srgbClr val="009999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京广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740720" y="5013360"/>
            <a:ext cx="1224000" cy="647640"/>
          </a:xfrm>
          <a:prstGeom prst="wedgeRectCallout">
            <a:avLst>
              <a:gd name="adj1" fmla="val -120814"/>
              <a:gd name="adj2" fmla="val -35296"/>
            </a:avLst>
          </a:prstGeom>
          <a:solidFill>
            <a:srgbClr val="009999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京九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76720" y="3500280"/>
            <a:ext cx="1371600" cy="538200"/>
          </a:xfrm>
          <a:prstGeom prst="wedgeRectCallout">
            <a:avLst>
              <a:gd name="adj1" fmla="val 85416"/>
              <a:gd name="adj2" fmla="val 41444"/>
            </a:avLst>
          </a:prstGeom>
          <a:solidFill>
            <a:srgbClr val="0099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宝成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700360" y="4365720"/>
            <a:ext cx="1490760" cy="587160"/>
          </a:xfrm>
          <a:prstGeom prst="wedgeRectCallout">
            <a:avLst>
              <a:gd name="adj1" fmla="val 81310"/>
              <a:gd name="adj2" fmla="val 19458"/>
            </a:avLst>
          </a:prstGeom>
          <a:solidFill>
            <a:srgbClr val="0099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成昆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740720" y="2781360"/>
            <a:ext cx="1152360" cy="576360"/>
          </a:xfrm>
          <a:prstGeom prst="wedgeRectCallout">
            <a:avLst>
              <a:gd name="adj1" fmla="val -110328"/>
              <a:gd name="adj2" fmla="val 93527"/>
            </a:avLst>
          </a:prstGeom>
          <a:solidFill>
            <a:srgbClr val="009999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京沪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995640" y="5877000"/>
            <a:ext cx="1414440" cy="523800"/>
          </a:xfrm>
          <a:prstGeom prst="wedgeRectCallout">
            <a:avLst>
              <a:gd name="adj1" fmla="val 73569"/>
              <a:gd name="adj2" fmla="val -189393"/>
            </a:avLst>
          </a:prstGeom>
          <a:solidFill>
            <a:srgbClr val="009999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焦柳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129000" y="2362320"/>
            <a:ext cx="625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92119"/>
                </a:solidFill>
                <a:latin typeface="Times New Roman"/>
                <a:ea typeface="Times New Roman"/>
              </a:rPr>
              <a:t>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622560" y="4437000"/>
            <a:ext cx="622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92119"/>
                </a:solidFill>
                <a:latin typeface="Times New Roman"/>
                <a:ea typeface="Times New Roman"/>
              </a:rPr>
              <a:t>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140240" y="3352680"/>
            <a:ext cx="622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92119"/>
                </a:solidFill>
                <a:latin typeface="Times New Roman"/>
                <a:ea typeface="Times New Roman"/>
              </a:rPr>
              <a:t>③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444640" y="4038480"/>
            <a:ext cx="622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92119"/>
                </a:solidFill>
                <a:latin typeface="Times New Roman"/>
                <a:ea typeface="Times New Roman"/>
              </a:rPr>
              <a:t>④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682880" y="4419720"/>
            <a:ext cx="622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92119"/>
                </a:solidFill>
                <a:latin typeface="Times New Roman"/>
                <a:ea typeface="Times New Roman"/>
              </a:rPr>
              <a:t>⑤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427640" y="1341360"/>
            <a:ext cx="3566520" cy="4457880"/>
            <a:chOff x="4427640" y="1341360"/>
            <a:chExt cx="3566520" cy="4457880"/>
          </a:xfrm>
        </p:grpSpPr>
        <p:sp>
          <p:nvSpPr>
            <p:cNvPr id="126" name=""/>
            <p:cNvSpPr/>
            <p:nvPr/>
          </p:nvSpPr>
          <p:spPr>
            <a:xfrm>
              <a:off x="6256080" y="2408040"/>
              <a:ext cx="537840" cy="3264120"/>
            </a:xfrm>
            <a:custGeom>
              <a:avLst/>
              <a:gdLst/>
              <a:ahLst/>
              <a:rect l="l" t="t" r="r" b="b"/>
              <a:pathLst>
                <a:path w="339" h="2056">
                  <a:moveTo>
                    <a:pt x="339" y="0"/>
                  </a:moveTo>
                  <a:cubicBezTo>
                    <a:pt x="336" y="19"/>
                    <a:pt x="339" y="39"/>
                    <a:pt x="331" y="56"/>
                  </a:cubicBezTo>
                  <a:cubicBezTo>
                    <a:pt x="327" y="65"/>
                    <a:pt x="312" y="64"/>
                    <a:pt x="307" y="72"/>
                  </a:cubicBezTo>
                  <a:cubicBezTo>
                    <a:pt x="285" y="105"/>
                    <a:pt x="289" y="191"/>
                    <a:pt x="275" y="232"/>
                  </a:cubicBezTo>
                  <a:cubicBezTo>
                    <a:pt x="265" y="262"/>
                    <a:pt x="235" y="304"/>
                    <a:pt x="219" y="328"/>
                  </a:cubicBezTo>
                  <a:cubicBezTo>
                    <a:pt x="200" y="356"/>
                    <a:pt x="190" y="392"/>
                    <a:pt x="179" y="424"/>
                  </a:cubicBezTo>
                  <a:cubicBezTo>
                    <a:pt x="173" y="482"/>
                    <a:pt x="159" y="534"/>
                    <a:pt x="155" y="592"/>
                  </a:cubicBezTo>
                  <a:cubicBezTo>
                    <a:pt x="149" y="677"/>
                    <a:pt x="147" y="750"/>
                    <a:pt x="131" y="832"/>
                  </a:cubicBezTo>
                  <a:cubicBezTo>
                    <a:pt x="148" y="1163"/>
                    <a:pt x="137" y="1035"/>
                    <a:pt x="155" y="1216"/>
                  </a:cubicBezTo>
                  <a:cubicBezTo>
                    <a:pt x="149" y="1364"/>
                    <a:pt x="189" y="1437"/>
                    <a:pt x="59" y="1480"/>
                  </a:cubicBezTo>
                  <a:cubicBezTo>
                    <a:pt x="33" y="1515"/>
                    <a:pt x="29" y="1542"/>
                    <a:pt x="19" y="1584"/>
                  </a:cubicBezTo>
                  <a:cubicBezTo>
                    <a:pt x="22" y="1640"/>
                    <a:pt x="0" y="1708"/>
                    <a:pt x="35" y="1752"/>
                  </a:cubicBezTo>
                  <a:cubicBezTo>
                    <a:pt x="49" y="1770"/>
                    <a:pt x="83" y="1800"/>
                    <a:pt x="83" y="1800"/>
                  </a:cubicBezTo>
                  <a:cubicBezTo>
                    <a:pt x="102" y="1856"/>
                    <a:pt x="74" y="1791"/>
                    <a:pt x="123" y="1840"/>
                  </a:cubicBezTo>
                  <a:cubicBezTo>
                    <a:pt x="129" y="1846"/>
                    <a:pt x="126" y="1857"/>
                    <a:pt x="131" y="1864"/>
                  </a:cubicBezTo>
                  <a:cubicBezTo>
                    <a:pt x="137" y="1872"/>
                    <a:pt x="147" y="1875"/>
                    <a:pt x="155" y="1880"/>
                  </a:cubicBezTo>
                  <a:cubicBezTo>
                    <a:pt x="158" y="1888"/>
                    <a:pt x="157" y="1898"/>
                    <a:pt x="163" y="1904"/>
                  </a:cubicBezTo>
                  <a:cubicBezTo>
                    <a:pt x="169" y="1910"/>
                    <a:pt x="180" y="1907"/>
                    <a:pt x="187" y="1912"/>
                  </a:cubicBezTo>
                  <a:cubicBezTo>
                    <a:pt x="204" y="1924"/>
                    <a:pt x="218" y="1940"/>
                    <a:pt x="235" y="1952"/>
                  </a:cubicBezTo>
                  <a:cubicBezTo>
                    <a:pt x="250" y="2010"/>
                    <a:pt x="230" y="1963"/>
                    <a:pt x="267" y="2000"/>
                  </a:cubicBezTo>
                  <a:cubicBezTo>
                    <a:pt x="274" y="2007"/>
                    <a:pt x="276" y="2017"/>
                    <a:pt x="283" y="2024"/>
                  </a:cubicBezTo>
                  <a:cubicBezTo>
                    <a:pt x="290" y="2031"/>
                    <a:pt x="299" y="2035"/>
                    <a:pt x="307" y="2040"/>
                  </a:cubicBezTo>
                  <a:cubicBezTo>
                    <a:pt x="317" y="2046"/>
                    <a:pt x="339" y="2056"/>
                    <a:pt x="339" y="2056"/>
                  </a:cubicBezTo>
                </a:path>
              </a:pathLst>
            </a:custGeom>
            <a:noFill/>
            <a:ln w="76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561000" y="2408040"/>
              <a:ext cx="521640" cy="3391200"/>
            </a:xfrm>
            <a:custGeom>
              <a:avLst/>
              <a:gdLst/>
              <a:ahLst/>
              <a:rect l="l" t="t" r="r" b="b"/>
              <a:pathLst>
                <a:path w="329" h="2136">
                  <a:moveTo>
                    <a:pt x="173" y="0"/>
                  </a:moveTo>
                  <a:cubicBezTo>
                    <a:pt x="166" y="50"/>
                    <a:pt x="161" y="101"/>
                    <a:pt x="149" y="150"/>
                  </a:cubicBezTo>
                  <a:cubicBezTo>
                    <a:pt x="143" y="174"/>
                    <a:pt x="131" y="222"/>
                    <a:pt x="131" y="222"/>
                  </a:cubicBezTo>
                  <a:cubicBezTo>
                    <a:pt x="136" y="298"/>
                    <a:pt x="145" y="343"/>
                    <a:pt x="161" y="414"/>
                  </a:cubicBezTo>
                  <a:cubicBezTo>
                    <a:pt x="159" y="476"/>
                    <a:pt x="158" y="538"/>
                    <a:pt x="155" y="600"/>
                  </a:cubicBezTo>
                  <a:cubicBezTo>
                    <a:pt x="154" y="625"/>
                    <a:pt x="137" y="672"/>
                    <a:pt x="137" y="672"/>
                  </a:cubicBezTo>
                  <a:cubicBezTo>
                    <a:pt x="145" y="742"/>
                    <a:pt x="139" y="708"/>
                    <a:pt x="155" y="774"/>
                  </a:cubicBezTo>
                  <a:cubicBezTo>
                    <a:pt x="160" y="793"/>
                    <a:pt x="178" y="814"/>
                    <a:pt x="185" y="834"/>
                  </a:cubicBezTo>
                  <a:cubicBezTo>
                    <a:pt x="180" y="864"/>
                    <a:pt x="172" y="943"/>
                    <a:pt x="161" y="966"/>
                  </a:cubicBezTo>
                  <a:cubicBezTo>
                    <a:pt x="153" y="984"/>
                    <a:pt x="136" y="997"/>
                    <a:pt x="125" y="1014"/>
                  </a:cubicBezTo>
                  <a:cubicBezTo>
                    <a:pt x="118" y="1025"/>
                    <a:pt x="118" y="1042"/>
                    <a:pt x="107" y="1050"/>
                  </a:cubicBezTo>
                  <a:cubicBezTo>
                    <a:pt x="93" y="1061"/>
                    <a:pt x="75" y="1066"/>
                    <a:pt x="59" y="1074"/>
                  </a:cubicBezTo>
                  <a:cubicBezTo>
                    <a:pt x="0" y="1163"/>
                    <a:pt x="43" y="1091"/>
                    <a:pt x="53" y="1350"/>
                  </a:cubicBezTo>
                  <a:cubicBezTo>
                    <a:pt x="55" y="1396"/>
                    <a:pt x="91" y="1543"/>
                    <a:pt x="119" y="1584"/>
                  </a:cubicBezTo>
                  <a:cubicBezTo>
                    <a:pt x="122" y="1623"/>
                    <a:pt x="123" y="1681"/>
                    <a:pt x="137" y="1722"/>
                  </a:cubicBezTo>
                  <a:cubicBezTo>
                    <a:pt x="144" y="1743"/>
                    <a:pt x="152" y="1739"/>
                    <a:pt x="167" y="1752"/>
                  </a:cubicBezTo>
                  <a:cubicBezTo>
                    <a:pt x="180" y="1763"/>
                    <a:pt x="203" y="1788"/>
                    <a:pt x="203" y="1788"/>
                  </a:cubicBezTo>
                  <a:cubicBezTo>
                    <a:pt x="215" y="1823"/>
                    <a:pt x="218" y="1860"/>
                    <a:pt x="227" y="1896"/>
                  </a:cubicBezTo>
                  <a:cubicBezTo>
                    <a:pt x="234" y="1924"/>
                    <a:pt x="254" y="1945"/>
                    <a:pt x="269" y="1968"/>
                  </a:cubicBezTo>
                  <a:cubicBezTo>
                    <a:pt x="280" y="1985"/>
                    <a:pt x="294" y="2063"/>
                    <a:pt x="299" y="2082"/>
                  </a:cubicBezTo>
                  <a:cubicBezTo>
                    <a:pt x="301" y="2090"/>
                    <a:pt x="299" y="2100"/>
                    <a:pt x="305" y="2106"/>
                  </a:cubicBezTo>
                  <a:cubicBezTo>
                    <a:pt x="326" y="2127"/>
                    <a:pt x="319" y="2116"/>
                    <a:pt x="329" y="2136"/>
                  </a:cubicBezTo>
                </a:path>
              </a:pathLst>
            </a:custGeom>
            <a:noFill/>
            <a:ln w="76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865560" y="1341360"/>
              <a:ext cx="1128600" cy="1359000"/>
            </a:xfrm>
            <a:custGeom>
              <a:avLst/>
              <a:gdLst/>
              <a:ahLst/>
              <a:rect l="l" t="t" r="r" b="b"/>
              <a:pathLst>
                <a:path w="711" h="856">
                  <a:moveTo>
                    <a:pt x="15" y="720"/>
                  </a:moveTo>
                  <a:cubicBezTo>
                    <a:pt x="19" y="774"/>
                    <a:pt x="0" y="838"/>
                    <a:pt x="55" y="856"/>
                  </a:cubicBezTo>
                  <a:cubicBezTo>
                    <a:pt x="74" y="853"/>
                    <a:pt x="93" y="853"/>
                    <a:pt x="111" y="848"/>
                  </a:cubicBezTo>
                  <a:cubicBezTo>
                    <a:pt x="158" y="834"/>
                    <a:pt x="162" y="787"/>
                    <a:pt x="183" y="760"/>
                  </a:cubicBezTo>
                  <a:cubicBezTo>
                    <a:pt x="197" y="742"/>
                    <a:pt x="215" y="728"/>
                    <a:pt x="231" y="712"/>
                  </a:cubicBezTo>
                  <a:cubicBezTo>
                    <a:pt x="238" y="705"/>
                    <a:pt x="240" y="694"/>
                    <a:pt x="247" y="688"/>
                  </a:cubicBezTo>
                  <a:cubicBezTo>
                    <a:pt x="268" y="670"/>
                    <a:pt x="306" y="653"/>
                    <a:pt x="327" y="632"/>
                  </a:cubicBezTo>
                  <a:cubicBezTo>
                    <a:pt x="363" y="596"/>
                    <a:pt x="320" y="616"/>
                    <a:pt x="367" y="600"/>
                  </a:cubicBezTo>
                  <a:cubicBezTo>
                    <a:pt x="392" y="575"/>
                    <a:pt x="417" y="565"/>
                    <a:pt x="447" y="544"/>
                  </a:cubicBezTo>
                  <a:cubicBezTo>
                    <a:pt x="463" y="533"/>
                    <a:pt x="479" y="523"/>
                    <a:pt x="495" y="512"/>
                  </a:cubicBezTo>
                  <a:cubicBezTo>
                    <a:pt x="503" y="507"/>
                    <a:pt x="519" y="496"/>
                    <a:pt x="519" y="496"/>
                  </a:cubicBezTo>
                  <a:cubicBezTo>
                    <a:pt x="530" y="480"/>
                    <a:pt x="545" y="466"/>
                    <a:pt x="551" y="448"/>
                  </a:cubicBezTo>
                  <a:cubicBezTo>
                    <a:pt x="565" y="406"/>
                    <a:pt x="571" y="368"/>
                    <a:pt x="591" y="328"/>
                  </a:cubicBezTo>
                  <a:cubicBezTo>
                    <a:pt x="595" y="319"/>
                    <a:pt x="603" y="313"/>
                    <a:pt x="607" y="304"/>
                  </a:cubicBezTo>
                  <a:cubicBezTo>
                    <a:pt x="614" y="289"/>
                    <a:pt x="623" y="256"/>
                    <a:pt x="623" y="256"/>
                  </a:cubicBezTo>
                  <a:cubicBezTo>
                    <a:pt x="626" y="235"/>
                    <a:pt x="625" y="213"/>
                    <a:pt x="631" y="192"/>
                  </a:cubicBezTo>
                  <a:cubicBezTo>
                    <a:pt x="634" y="183"/>
                    <a:pt x="643" y="177"/>
                    <a:pt x="647" y="168"/>
                  </a:cubicBezTo>
                  <a:cubicBezTo>
                    <a:pt x="664" y="135"/>
                    <a:pt x="711" y="36"/>
                    <a:pt x="711" y="0"/>
                  </a:cubicBezTo>
                </a:path>
              </a:pathLst>
            </a:custGeom>
            <a:noFill/>
            <a:ln w="76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865560" y="2484360"/>
              <a:ext cx="952200" cy="1609560"/>
            </a:xfrm>
            <a:custGeom>
              <a:avLst/>
              <a:gdLst/>
              <a:ahLst/>
              <a:rect l="l" t="t" r="r" b="b"/>
              <a:pathLst>
                <a:path w="600" h="1014">
                  <a:moveTo>
                    <a:pt x="0" y="0"/>
                  </a:moveTo>
                  <a:cubicBezTo>
                    <a:pt x="4" y="22"/>
                    <a:pt x="9" y="44"/>
                    <a:pt x="12" y="66"/>
                  </a:cubicBezTo>
                  <a:cubicBezTo>
                    <a:pt x="15" y="82"/>
                    <a:pt x="9" y="101"/>
                    <a:pt x="18" y="114"/>
                  </a:cubicBezTo>
                  <a:cubicBezTo>
                    <a:pt x="25" y="124"/>
                    <a:pt x="42" y="122"/>
                    <a:pt x="54" y="126"/>
                  </a:cubicBezTo>
                  <a:cubicBezTo>
                    <a:pt x="60" y="164"/>
                    <a:pt x="62" y="226"/>
                    <a:pt x="78" y="264"/>
                  </a:cubicBezTo>
                  <a:cubicBezTo>
                    <a:pt x="113" y="345"/>
                    <a:pt x="71" y="224"/>
                    <a:pt x="96" y="300"/>
                  </a:cubicBezTo>
                  <a:cubicBezTo>
                    <a:pt x="90" y="423"/>
                    <a:pt x="62" y="559"/>
                    <a:pt x="102" y="678"/>
                  </a:cubicBezTo>
                  <a:cubicBezTo>
                    <a:pt x="104" y="714"/>
                    <a:pt x="99" y="751"/>
                    <a:pt x="108" y="786"/>
                  </a:cubicBezTo>
                  <a:cubicBezTo>
                    <a:pt x="112" y="802"/>
                    <a:pt x="135" y="803"/>
                    <a:pt x="150" y="810"/>
                  </a:cubicBezTo>
                  <a:cubicBezTo>
                    <a:pt x="217" y="840"/>
                    <a:pt x="292" y="829"/>
                    <a:pt x="360" y="852"/>
                  </a:cubicBezTo>
                  <a:cubicBezTo>
                    <a:pt x="367" y="874"/>
                    <a:pt x="378" y="889"/>
                    <a:pt x="384" y="912"/>
                  </a:cubicBezTo>
                  <a:cubicBezTo>
                    <a:pt x="388" y="944"/>
                    <a:pt x="379" y="1002"/>
                    <a:pt x="414" y="1014"/>
                  </a:cubicBezTo>
                  <a:cubicBezTo>
                    <a:pt x="596" y="1008"/>
                    <a:pt x="534" y="1008"/>
                    <a:pt x="600" y="1008"/>
                  </a:cubicBezTo>
                </a:path>
              </a:pathLst>
            </a:custGeom>
            <a:noFill/>
            <a:ln w="76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646600" y="3398760"/>
              <a:ext cx="604440" cy="2301840"/>
            </a:xfrm>
            <a:custGeom>
              <a:avLst/>
              <a:gdLst/>
              <a:ahLst/>
              <a:rect l="l" t="t" r="r" b="b"/>
              <a:pathLst>
                <a:path w="381" h="1450">
                  <a:moveTo>
                    <a:pt x="371" y="34"/>
                  </a:moveTo>
                  <a:cubicBezTo>
                    <a:pt x="350" y="96"/>
                    <a:pt x="381" y="0"/>
                    <a:pt x="359" y="166"/>
                  </a:cubicBezTo>
                  <a:cubicBezTo>
                    <a:pt x="355" y="198"/>
                    <a:pt x="328" y="222"/>
                    <a:pt x="311" y="250"/>
                  </a:cubicBezTo>
                  <a:cubicBezTo>
                    <a:pt x="300" y="317"/>
                    <a:pt x="307" y="335"/>
                    <a:pt x="245" y="370"/>
                  </a:cubicBezTo>
                  <a:cubicBezTo>
                    <a:pt x="240" y="397"/>
                    <a:pt x="236" y="422"/>
                    <a:pt x="227" y="448"/>
                  </a:cubicBezTo>
                  <a:cubicBezTo>
                    <a:pt x="220" y="586"/>
                    <a:pt x="267" y="718"/>
                    <a:pt x="131" y="766"/>
                  </a:cubicBezTo>
                  <a:cubicBezTo>
                    <a:pt x="37" y="800"/>
                    <a:pt x="114" y="774"/>
                    <a:pt x="65" y="790"/>
                  </a:cubicBezTo>
                  <a:cubicBezTo>
                    <a:pt x="0" y="888"/>
                    <a:pt x="50" y="805"/>
                    <a:pt x="59" y="1096"/>
                  </a:cubicBezTo>
                  <a:cubicBezTo>
                    <a:pt x="63" y="1217"/>
                    <a:pt x="83" y="1327"/>
                    <a:pt x="83" y="1450"/>
                  </a:cubicBezTo>
                </a:path>
              </a:pathLst>
            </a:custGeom>
            <a:noFill/>
            <a:ln w="76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427640" y="3551040"/>
              <a:ext cx="1009440" cy="1936800"/>
            </a:xfrm>
            <a:custGeom>
              <a:avLst/>
              <a:gdLst/>
              <a:ahLst/>
              <a:rect l="l" t="t" r="r" b="b"/>
              <a:pathLst>
                <a:path w="636" h="1220">
                  <a:moveTo>
                    <a:pt x="636" y="0"/>
                  </a:moveTo>
                  <a:cubicBezTo>
                    <a:pt x="600" y="54"/>
                    <a:pt x="588" y="115"/>
                    <a:pt x="552" y="168"/>
                  </a:cubicBezTo>
                  <a:cubicBezTo>
                    <a:pt x="512" y="228"/>
                    <a:pt x="561" y="162"/>
                    <a:pt x="534" y="210"/>
                  </a:cubicBezTo>
                  <a:cubicBezTo>
                    <a:pt x="527" y="223"/>
                    <a:pt x="510" y="246"/>
                    <a:pt x="510" y="246"/>
                  </a:cubicBezTo>
                  <a:cubicBezTo>
                    <a:pt x="502" y="299"/>
                    <a:pt x="488" y="346"/>
                    <a:pt x="450" y="384"/>
                  </a:cubicBezTo>
                  <a:cubicBezTo>
                    <a:pt x="439" y="417"/>
                    <a:pt x="422" y="433"/>
                    <a:pt x="390" y="444"/>
                  </a:cubicBezTo>
                  <a:cubicBezTo>
                    <a:pt x="377" y="464"/>
                    <a:pt x="361" y="472"/>
                    <a:pt x="348" y="492"/>
                  </a:cubicBezTo>
                  <a:cubicBezTo>
                    <a:pt x="342" y="533"/>
                    <a:pt x="341" y="565"/>
                    <a:pt x="312" y="594"/>
                  </a:cubicBezTo>
                  <a:cubicBezTo>
                    <a:pt x="305" y="620"/>
                    <a:pt x="308" y="633"/>
                    <a:pt x="282" y="642"/>
                  </a:cubicBezTo>
                  <a:cubicBezTo>
                    <a:pt x="263" y="661"/>
                    <a:pt x="262" y="676"/>
                    <a:pt x="240" y="690"/>
                  </a:cubicBezTo>
                  <a:cubicBezTo>
                    <a:pt x="207" y="739"/>
                    <a:pt x="164" y="782"/>
                    <a:pt x="138" y="834"/>
                  </a:cubicBezTo>
                  <a:cubicBezTo>
                    <a:pt x="136" y="844"/>
                    <a:pt x="137" y="855"/>
                    <a:pt x="132" y="864"/>
                  </a:cubicBezTo>
                  <a:cubicBezTo>
                    <a:pt x="128" y="870"/>
                    <a:pt x="118" y="870"/>
                    <a:pt x="114" y="876"/>
                  </a:cubicBezTo>
                  <a:cubicBezTo>
                    <a:pt x="109" y="883"/>
                    <a:pt x="111" y="892"/>
                    <a:pt x="108" y="900"/>
                  </a:cubicBezTo>
                  <a:cubicBezTo>
                    <a:pt x="100" y="919"/>
                    <a:pt x="87" y="936"/>
                    <a:pt x="78" y="954"/>
                  </a:cubicBezTo>
                  <a:cubicBezTo>
                    <a:pt x="69" y="972"/>
                    <a:pt x="48" y="1008"/>
                    <a:pt x="48" y="1008"/>
                  </a:cubicBezTo>
                  <a:cubicBezTo>
                    <a:pt x="75" y="1048"/>
                    <a:pt x="30" y="1115"/>
                    <a:pt x="18" y="1158"/>
                  </a:cubicBezTo>
                  <a:cubicBezTo>
                    <a:pt x="4" y="1209"/>
                    <a:pt x="22" y="1168"/>
                    <a:pt x="0" y="1212"/>
                  </a:cubicBezTo>
                  <a:cubicBezTo>
                    <a:pt x="24" y="1220"/>
                    <a:pt x="12" y="1218"/>
                    <a:pt x="36" y="1218"/>
                  </a:cubicBezTo>
                </a:path>
              </a:pathLst>
            </a:custGeom>
            <a:noFill/>
            <a:ln w="76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"/>
          <p:cNvSpPr/>
          <p:nvPr/>
        </p:nvSpPr>
        <p:spPr>
          <a:xfrm>
            <a:off x="6588000" y="5589720"/>
            <a:ext cx="216000" cy="2174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d"/>
  </p:transition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500"/>
                            </p:stCondLst>
                            <p:childTnLst>
                              <p:par>
                                <p:cTn id="233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2000"/>
                            </p:stCondLst>
                            <p:childTnLst>
                              <p:par>
                                <p:cTn id="236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39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10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66ff"/>
                                </p:to>
                              </p:animCl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3500"/>
                            </p:stCondLst>
                            <p:childTnLst>
                              <p:par>
                                <p:cTn id="2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500"/>
                            </p:stCondLst>
                            <p:childTnLst>
                              <p:par>
                                <p:cTn id="2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9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500"/>
                            </p:stCondLst>
                            <p:childTnLst>
                              <p:par>
                                <p:cTn id="29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5e75"/>
            </a:gs>
            <a:gs pos="100000">
              <a:srgbClr val="33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356000" y="260280"/>
            <a:ext cx="4788000" cy="63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观察京九线，回答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京九线经过哪些省区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京、津、冀、鲁、豫、皖、鄂、赣、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京九线经过哪些地形区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华北平原、长江中下游平原、东南丘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观察京沪线，回答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京沪线经过几个直辖市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北京、天津、上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0" y="88920"/>
            <a:ext cx="4151160" cy="676908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1611360" y="907920"/>
            <a:ext cx="593640" cy="5413680"/>
          </a:xfrm>
          <a:custGeom>
            <a:avLst/>
            <a:gdLst/>
            <a:ahLst/>
            <a:rect l="l" t="t" r="r" b="b"/>
            <a:pathLst>
              <a:path w="374" h="3410">
                <a:moveTo>
                  <a:pt x="337" y="0"/>
                </a:moveTo>
                <a:cubicBezTo>
                  <a:pt x="335" y="31"/>
                  <a:pt x="374" y="143"/>
                  <a:pt x="363" y="199"/>
                </a:cubicBezTo>
                <a:cubicBezTo>
                  <a:pt x="352" y="255"/>
                  <a:pt x="287" y="286"/>
                  <a:pt x="270" y="338"/>
                </a:cubicBezTo>
                <a:cubicBezTo>
                  <a:pt x="257" y="390"/>
                  <a:pt x="255" y="452"/>
                  <a:pt x="260" y="511"/>
                </a:cubicBezTo>
                <a:cubicBezTo>
                  <a:pt x="265" y="570"/>
                  <a:pt x="304" y="626"/>
                  <a:pt x="302" y="690"/>
                </a:cubicBezTo>
                <a:cubicBezTo>
                  <a:pt x="301" y="784"/>
                  <a:pt x="261" y="837"/>
                  <a:pt x="247" y="895"/>
                </a:cubicBezTo>
                <a:cubicBezTo>
                  <a:pt x="233" y="953"/>
                  <a:pt x="217" y="998"/>
                  <a:pt x="219" y="1039"/>
                </a:cubicBezTo>
                <a:cubicBezTo>
                  <a:pt x="221" y="1080"/>
                  <a:pt x="244" y="1110"/>
                  <a:pt x="260" y="1142"/>
                </a:cubicBezTo>
                <a:cubicBezTo>
                  <a:pt x="276" y="1174"/>
                  <a:pt x="307" y="1190"/>
                  <a:pt x="313" y="1230"/>
                </a:cubicBezTo>
                <a:cubicBezTo>
                  <a:pt x="305" y="1346"/>
                  <a:pt x="311" y="1344"/>
                  <a:pt x="297" y="1384"/>
                </a:cubicBezTo>
                <a:cubicBezTo>
                  <a:pt x="283" y="1424"/>
                  <a:pt x="246" y="1452"/>
                  <a:pt x="231" y="1470"/>
                </a:cubicBezTo>
                <a:cubicBezTo>
                  <a:pt x="216" y="1488"/>
                  <a:pt x="223" y="1463"/>
                  <a:pt x="205" y="1490"/>
                </a:cubicBezTo>
                <a:cubicBezTo>
                  <a:pt x="192" y="1517"/>
                  <a:pt x="137" y="1587"/>
                  <a:pt x="123" y="1629"/>
                </a:cubicBezTo>
                <a:cubicBezTo>
                  <a:pt x="109" y="1671"/>
                  <a:pt x="115" y="1708"/>
                  <a:pt x="123" y="1739"/>
                </a:cubicBezTo>
                <a:cubicBezTo>
                  <a:pt x="131" y="1770"/>
                  <a:pt x="140" y="1784"/>
                  <a:pt x="171" y="1814"/>
                </a:cubicBezTo>
                <a:cubicBezTo>
                  <a:pt x="187" y="1862"/>
                  <a:pt x="313" y="1923"/>
                  <a:pt x="313" y="1923"/>
                </a:cubicBezTo>
                <a:cubicBezTo>
                  <a:pt x="326" y="1974"/>
                  <a:pt x="363" y="2068"/>
                  <a:pt x="315" y="2102"/>
                </a:cubicBezTo>
                <a:cubicBezTo>
                  <a:pt x="321" y="2148"/>
                  <a:pt x="310" y="2175"/>
                  <a:pt x="315" y="2198"/>
                </a:cubicBezTo>
                <a:cubicBezTo>
                  <a:pt x="318" y="2222"/>
                  <a:pt x="347" y="2216"/>
                  <a:pt x="336" y="2246"/>
                </a:cubicBezTo>
                <a:cubicBezTo>
                  <a:pt x="325" y="2276"/>
                  <a:pt x="275" y="2331"/>
                  <a:pt x="250" y="2377"/>
                </a:cubicBezTo>
                <a:cubicBezTo>
                  <a:pt x="227" y="2423"/>
                  <a:pt x="197" y="2445"/>
                  <a:pt x="185" y="2521"/>
                </a:cubicBezTo>
                <a:cubicBezTo>
                  <a:pt x="168" y="2578"/>
                  <a:pt x="160" y="2663"/>
                  <a:pt x="151" y="2719"/>
                </a:cubicBezTo>
                <a:cubicBezTo>
                  <a:pt x="142" y="2775"/>
                  <a:pt x="125" y="2798"/>
                  <a:pt x="130" y="2857"/>
                </a:cubicBezTo>
                <a:cubicBezTo>
                  <a:pt x="111" y="2972"/>
                  <a:pt x="185" y="3022"/>
                  <a:pt x="184" y="3072"/>
                </a:cubicBezTo>
                <a:cubicBezTo>
                  <a:pt x="183" y="3122"/>
                  <a:pt x="140" y="3137"/>
                  <a:pt x="125" y="3158"/>
                </a:cubicBezTo>
                <a:cubicBezTo>
                  <a:pt x="110" y="3179"/>
                  <a:pt x="101" y="3186"/>
                  <a:pt x="92" y="3198"/>
                </a:cubicBezTo>
                <a:cubicBezTo>
                  <a:pt x="75" y="3204"/>
                  <a:pt x="75" y="3220"/>
                  <a:pt x="72" y="3231"/>
                </a:cubicBezTo>
                <a:cubicBezTo>
                  <a:pt x="69" y="3242"/>
                  <a:pt x="87" y="3249"/>
                  <a:pt x="76" y="3264"/>
                </a:cubicBezTo>
                <a:cubicBezTo>
                  <a:pt x="68" y="3279"/>
                  <a:pt x="14" y="3308"/>
                  <a:pt x="7" y="3323"/>
                </a:cubicBezTo>
                <a:cubicBezTo>
                  <a:pt x="0" y="3338"/>
                  <a:pt x="28" y="3343"/>
                  <a:pt x="32" y="3357"/>
                </a:cubicBezTo>
                <a:cubicBezTo>
                  <a:pt x="37" y="3367"/>
                  <a:pt x="25" y="3403"/>
                  <a:pt x="32" y="3410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133720" y="966960"/>
            <a:ext cx="1646280" cy="2606400"/>
          </a:xfrm>
          <a:custGeom>
            <a:avLst/>
            <a:gdLst/>
            <a:ahLst/>
            <a:rect l="l" t="t" r="r" b="b"/>
            <a:pathLst>
              <a:path w="1037" h="1642">
                <a:moveTo>
                  <a:pt x="0" y="0"/>
                </a:moveTo>
                <a:cubicBezTo>
                  <a:pt x="29" y="25"/>
                  <a:pt x="151" y="103"/>
                  <a:pt x="172" y="159"/>
                </a:cubicBezTo>
                <a:cubicBezTo>
                  <a:pt x="193" y="215"/>
                  <a:pt x="144" y="270"/>
                  <a:pt x="124" y="334"/>
                </a:cubicBezTo>
                <a:cubicBezTo>
                  <a:pt x="104" y="398"/>
                  <a:pt x="49" y="491"/>
                  <a:pt x="49" y="545"/>
                </a:cubicBezTo>
                <a:cubicBezTo>
                  <a:pt x="49" y="598"/>
                  <a:pt x="104" y="623"/>
                  <a:pt x="124" y="656"/>
                </a:cubicBezTo>
                <a:cubicBezTo>
                  <a:pt x="144" y="689"/>
                  <a:pt x="163" y="696"/>
                  <a:pt x="172" y="742"/>
                </a:cubicBezTo>
                <a:cubicBezTo>
                  <a:pt x="181" y="788"/>
                  <a:pt x="175" y="872"/>
                  <a:pt x="179" y="933"/>
                </a:cubicBezTo>
                <a:cubicBezTo>
                  <a:pt x="183" y="994"/>
                  <a:pt x="201" y="1068"/>
                  <a:pt x="199" y="1106"/>
                </a:cubicBezTo>
                <a:cubicBezTo>
                  <a:pt x="197" y="1144"/>
                  <a:pt x="168" y="1125"/>
                  <a:pt x="166" y="1160"/>
                </a:cubicBezTo>
                <a:cubicBezTo>
                  <a:pt x="164" y="1195"/>
                  <a:pt x="166" y="1274"/>
                  <a:pt x="186" y="1315"/>
                </a:cubicBezTo>
                <a:cubicBezTo>
                  <a:pt x="207" y="1356"/>
                  <a:pt x="242" y="1373"/>
                  <a:pt x="296" y="1409"/>
                </a:cubicBezTo>
                <a:cubicBezTo>
                  <a:pt x="350" y="1445"/>
                  <a:pt x="449" y="1501"/>
                  <a:pt x="510" y="1529"/>
                </a:cubicBezTo>
                <a:cubicBezTo>
                  <a:pt x="571" y="1557"/>
                  <a:pt x="599" y="1560"/>
                  <a:pt x="660" y="1576"/>
                </a:cubicBezTo>
                <a:cubicBezTo>
                  <a:pt x="721" y="1592"/>
                  <a:pt x="817" y="1614"/>
                  <a:pt x="879" y="1625"/>
                </a:cubicBezTo>
                <a:cubicBezTo>
                  <a:pt x="941" y="1636"/>
                  <a:pt x="1005" y="1638"/>
                  <a:pt x="1037" y="1642"/>
                </a:cubicBezTo>
              </a:path>
            </a:pathLst>
          </a:custGeom>
          <a:noFill/>
          <a:ln w="763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horz"/>
  </p:transition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5" dur="3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0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15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27" dur="5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10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10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38" dur="500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1" dur="500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1000" fill="hold"/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1000" fill="hold"/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5e75"/>
            </a:gs>
            <a:gs pos="100000">
              <a:srgbClr val="33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>
            <a:lum bright="3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354120" y="304920"/>
            <a:ext cx="2662200" cy="8395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三横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477120" y="5410080"/>
            <a:ext cx="304560" cy="30492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772400" y="1066680"/>
            <a:ext cx="304920" cy="30492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010280" y="5791320"/>
            <a:ext cx="228600" cy="2286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019920" y="3276720"/>
            <a:ext cx="228600" cy="2286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562720" y="5715000"/>
            <a:ext cx="228600" cy="2286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00600" y="4343400"/>
            <a:ext cx="228600" cy="2286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267080" y="5410080"/>
            <a:ext cx="304920" cy="30492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705720" y="2590920"/>
            <a:ext cx="304560" cy="30456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162920" y="2514600"/>
            <a:ext cx="228600" cy="2286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467480" y="3429000"/>
            <a:ext cx="228600" cy="2286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620120" y="3962520"/>
            <a:ext cx="228600" cy="2286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752480" y="1371600"/>
            <a:ext cx="228600" cy="2286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467480" y="4191120"/>
            <a:ext cx="228600" cy="2286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172200" y="4800600"/>
            <a:ext cx="228600" cy="2286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029200" y="5105520"/>
            <a:ext cx="228600" cy="2286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56360" y="2421000"/>
            <a:ext cx="538200" cy="3263760"/>
          </a:xfrm>
          <a:custGeom>
            <a:avLst/>
            <a:gdLst/>
            <a:ahLst/>
            <a:rect l="l" t="t" r="r" b="b"/>
            <a:pathLst>
              <a:path w="339" h="2056">
                <a:moveTo>
                  <a:pt x="339" y="0"/>
                </a:moveTo>
                <a:cubicBezTo>
                  <a:pt x="336" y="19"/>
                  <a:pt x="339" y="39"/>
                  <a:pt x="331" y="56"/>
                </a:cubicBezTo>
                <a:cubicBezTo>
                  <a:pt x="327" y="65"/>
                  <a:pt x="312" y="64"/>
                  <a:pt x="307" y="72"/>
                </a:cubicBezTo>
                <a:cubicBezTo>
                  <a:pt x="285" y="105"/>
                  <a:pt x="289" y="191"/>
                  <a:pt x="275" y="232"/>
                </a:cubicBezTo>
                <a:cubicBezTo>
                  <a:pt x="265" y="262"/>
                  <a:pt x="235" y="304"/>
                  <a:pt x="219" y="328"/>
                </a:cubicBezTo>
                <a:cubicBezTo>
                  <a:pt x="200" y="356"/>
                  <a:pt x="190" y="392"/>
                  <a:pt x="179" y="424"/>
                </a:cubicBezTo>
                <a:cubicBezTo>
                  <a:pt x="173" y="482"/>
                  <a:pt x="159" y="534"/>
                  <a:pt x="155" y="592"/>
                </a:cubicBezTo>
                <a:cubicBezTo>
                  <a:pt x="149" y="677"/>
                  <a:pt x="147" y="750"/>
                  <a:pt x="131" y="832"/>
                </a:cubicBezTo>
                <a:cubicBezTo>
                  <a:pt x="148" y="1163"/>
                  <a:pt x="137" y="1035"/>
                  <a:pt x="155" y="1216"/>
                </a:cubicBezTo>
                <a:cubicBezTo>
                  <a:pt x="149" y="1364"/>
                  <a:pt x="189" y="1437"/>
                  <a:pt x="59" y="1480"/>
                </a:cubicBezTo>
                <a:cubicBezTo>
                  <a:pt x="33" y="1515"/>
                  <a:pt x="29" y="1542"/>
                  <a:pt x="19" y="1584"/>
                </a:cubicBezTo>
                <a:cubicBezTo>
                  <a:pt x="22" y="1640"/>
                  <a:pt x="0" y="1708"/>
                  <a:pt x="35" y="1752"/>
                </a:cubicBezTo>
                <a:cubicBezTo>
                  <a:pt x="49" y="1770"/>
                  <a:pt x="83" y="1800"/>
                  <a:pt x="83" y="1800"/>
                </a:cubicBezTo>
                <a:cubicBezTo>
                  <a:pt x="102" y="1856"/>
                  <a:pt x="74" y="1791"/>
                  <a:pt x="123" y="1840"/>
                </a:cubicBezTo>
                <a:cubicBezTo>
                  <a:pt x="129" y="1846"/>
                  <a:pt x="126" y="1857"/>
                  <a:pt x="131" y="1864"/>
                </a:cubicBezTo>
                <a:cubicBezTo>
                  <a:pt x="137" y="1872"/>
                  <a:pt x="147" y="1875"/>
                  <a:pt x="155" y="1880"/>
                </a:cubicBezTo>
                <a:cubicBezTo>
                  <a:pt x="158" y="1888"/>
                  <a:pt x="157" y="1898"/>
                  <a:pt x="163" y="1904"/>
                </a:cubicBezTo>
                <a:cubicBezTo>
                  <a:pt x="169" y="1910"/>
                  <a:pt x="180" y="1907"/>
                  <a:pt x="187" y="1912"/>
                </a:cubicBezTo>
                <a:cubicBezTo>
                  <a:pt x="204" y="1924"/>
                  <a:pt x="218" y="1940"/>
                  <a:pt x="235" y="1952"/>
                </a:cubicBezTo>
                <a:cubicBezTo>
                  <a:pt x="250" y="2010"/>
                  <a:pt x="230" y="1963"/>
                  <a:pt x="267" y="2000"/>
                </a:cubicBezTo>
                <a:cubicBezTo>
                  <a:pt x="274" y="2007"/>
                  <a:pt x="276" y="2017"/>
                  <a:pt x="283" y="2024"/>
                </a:cubicBezTo>
                <a:cubicBezTo>
                  <a:pt x="290" y="2031"/>
                  <a:pt x="299" y="2035"/>
                  <a:pt x="307" y="2040"/>
                </a:cubicBezTo>
                <a:cubicBezTo>
                  <a:pt x="317" y="2046"/>
                  <a:pt x="339" y="2056"/>
                  <a:pt x="339" y="2056"/>
                </a:cubicBezTo>
              </a:path>
            </a:pathLst>
          </a:custGeom>
          <a:noFill/>
          <a:ln w="38160">
            <a:solidFill>
              <a:srgbClr val="33cc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443640" y="2421000"/>
            <a:ext cx="522360" cy="3390840"/>
          </a:xfrm>
          <a:custGeom>
            <a:avLst/>
            <a:gdLst/>
            <a:ahLst/>
            <a:rect l="l" t="t" r="r" b="b"/>
            <a:pathLst>
              <a:path w="329" h="2136">
                <a:moveTo>
                  <a:pt x="173" y="0"/>
                </a:moveTo>
                <a:cubicBezTo>
                  <a:pt x="166" y="50"/>
                  <a:pt x="161" y="101"/>
                  <a:pt x="149" y="150"/>
                </a:cubicBezTo>
                <a:cubicBezTo>
                  <a:pt x="143" y="174"/>
                  <a:pt x="131" y="222"/>
                  <a:pt x="131" y="222"/>
                </a:cubicBezTo>
                <a:cubicBezTo>
                  <a:pt x="136" y="298"/>
                  <a:pt x="145" y="343"/>
                  <a:pt x="161" y="414"/>
                </a:cubicBezTo>
                <a:cubicBezTo>
                  <a:pt x="159" y="476"/>
                  <a:pt x="158" y="538"/>
                  <a:pt x="155" y="600"/>
                </a:cubicBezTo>
                <a:cubicBezTo>
                  <a:pt x="154" y="625"/>
                  <a:pt x="137" y="672"/>
                  <a:pt x="137" y="672"/>
                </a:cubicBezTo>
                <a:cubicBezTo>
                  <a:pt x="145" y="742"/>
                  <a:pt x="139" y="708"/>
                  <a:pt x="155" y="774"/>
                </a:cubicBezTo>
                <a:cubicBezTo>
                  <a:pt x="160" y="793"/>
                  <a:pt x="178" y="814"/>
                  <a:pt x="185" y="834"/>
                </a:cubicBezTo>
                <a:cubicBezTo>
                  <a:pt x="180" y="864"/>
                  <a:pt x="172" y="943"/>
                  <a:pt x="161" y="966"/>
                </a:cubicBezTo>
                <a:cubicBezTo>
                  <a:pt x="153" y="984"/>
                  <a:pt x="136" y="997"/>
                  <a:pt x="125" y="1014"/>
                </a:cubicBezTo>
                <a:cubicBezTo>
                  <a:pt x="118" y="1025"/>
                  <a:pt x="118" y="1042"/>
                  <a:pt x="107" y="1050"/>
                </a:cubicBezTo>
                <a:cubicBezTo>
                  <a:pt x="93" y="1061"/>
                  <a:pt x="75" y="1066"/>
                  <a:pt x="59" y="1074"/>
                </a:cubicBezTo>
                <a:cubicBezTo>
                  <a:pt x="0" y="1163"/>
                  <a:pt x="43" y="1091"/>
                  <a:pt x="53" y="1350"/>
                </a:cubicBezTo>
                <a:cubicBezTo>
                  <a:pt x="55" y="1396"/>
                  <a:pt x="91" y="1543"/>
                  <a:pt x="119" y="1584"/>
                </a:cubicBezTo>
                <a:cubicBezTo>
                  <a:pt x="122" y="1623"/>
                  <a:pt x="123" y="1681"/>
                  <a:pt x="137" y="1722"/>
                </a:cubicBezTo>
                <a:cubicBezTo>
                  <a:pt x="144" y="1743"/>
                  <a:pt x="152" y="1739"/>
                  <a:pt x="167" y="1752"/>
                </a:cubicBezTo>
                <a:cubicBezTo>
                  <a:pt x="180" y="1763"/>
                  <a:pt x="203" y="1788"/>
                  <a:pt x="203" y="1788"/>
                </a:cubicBezTo>
                <a:cubicBezTo>
                  <a:pt x="215" y="1823"/>
                  <a:pt x="218" y="1860"/>
                  <a:pt x="227" y="1896"/>
                </a:cubicBezTo>
                <a:cubicBezTo>
                  <a:pt x="234" y="1924"/>
                  <a:pt x="254" y="1945"/>
                  <a:pt x="269" y="1968"/>
                </a:cubicBezTo>
                <a:cubicBezTo>
                  <a:pt x="280" y="1985"/>
                  <a:pt x="294" y="2063"/>
                  <a:pt x="299" y="2082"/>
                </a:cubicBezTo>
                <a:cubicBezTo>
                  <a:pt x="301" y="2090"/>
                  <a:pt x="299" y="2100"/>
                  <a:pt x="305" y="2106"/>
                </a:cubicBezTo>
                <a:cubicBezTo>
                  <a:pt x="326" y="2127"/>
                  <a:pt x="319" y="2116"/>
                  <a:pt x="329" y="2136"/>
                </a:cubicBezTo>
              </a:path>
            </a:pathLst>
          </a:custGeom>
          <a:noFill/>
          <a:ln w="38160">
            <a:solidFill>
              <a:srgbClr val="33cc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781680" y="1371600"/>
            <a:ext cx="1128960" cy="1359000"/>
          </a:xfrm>
          <a:custGeom>
            <a:avLst/>
            <a:gdLst/>
            <a:ahLst/>
            <a:rect l="l" t="t" r="r" b="b"/>
            <a:pathLst>
              <a:path w="711" h="856">
                <a:moveTo>
                  <a:pt x="15" y="720"/>
                </a:moveTo>
                <a:cubicBezTo>
                  <a:pt x="19" y="774"/>
                  <a:pt x="0" y="838"/>
                  <a:pt x="55" y="856"/>
                </a:cubicBezTo>
                <a:cubicBezTo>
                  <a:pt x="74" y="853"/>
                  <a:pt x="93" y="853"/>
                  <a:pt x="111" y="848"/>
                </a:cubicBezTo>
                <a:cubicBezTo>
                  <a:pt x="158" y="834"/>
                  <a:pt x="162" y="787"/>
                  <a:pt x="183" y="760"/>
                </a:cubicBezTo>
                <a:cubicBezTo>
                  <a:pt x="197" y="742"/>
                  <a:pt x="215" y="728"/>
                  <a:pt x="231" y="712"/>
                </a:cubicBezTo>
                <a:cubicBezTo>
                  <a:pt x="238" y="705"/>
                  <a:pt x="240" y="694"/>
                  <a:pt x="247" y="688"/>
                </a:cubicBezTo>
                <a:cubicBezTo>
                  <a:pt x="268" y="670"/>
                  <a:pt x="306" y="653"/>
                  <a:pt x="327" y="632"/>
                </a:cubicBezTo>
                <a:cubicBezTo>
                  <a:pt x="363" y="596"/>
                  <a:pt x="320" y="616"/>
                  <a:pt x="367" y="600"/>
                </a:cubicBezTo>
                <a:cubicBezTo>
                  <a:pt x="392" y="575"/>
                  <a:pt x="417" y="565"/>
                  <a:pt x="447" y="544"/>
                </a:cubicBezTo>
                <a:cubicBezTo>
                  <a:pt x="463" y="533"/>
                  <a:pt x="479" y="523"/>
                  <a:pt x="495" y="512"/>
                </a:cubicBezTo>
                <a:cubicBezTo>
                  <a:pt x="503" y="507"/>
                  <a:pt x="519" y="496"/>
                  <a:pt x="519" y="496"/>
                </a:cubicBezTo>
                <a:cubicBezTo>
                  <a:pt x="530" y="480"/>
                  <a:pt x="545" y="466"/>
                  <a:pt x="551" y="448"/>
                </a:cubicBezTo>
                <a:cubicBezTo>
                  <a:pt x="565" y="406"/>
                  <a:pt x="571" y="368"/>
                  <a:pt x="591" y="328"/>
                </a:cubicBezTo>
                <a:cubicBezTo>
                  <a:pt x="595" y="319"/>
                  <a:pt x="603" y="313"/>
                  <a:pt x="607" y="304"/>
                </a:cubicBezTo>
                <a:cubicBezTo>
                  <a:pt x="614" y="289"/>
                  <a:pt x="623" y="256"/>
                  <a:pt x="623" y="256"/>
                </a:cubicBezTo>
                <a:cubicBezTo>
                  <a:pt x="626" y="235"/>
                  <a:pt x="625" y="213"/>
                  <a:pt x="631" y="192"/>
                </a:cubicBezTo>
                <a:cubicBezTo>
                  <a:pt x="634" y="183"/>
                  <a:pt x="643" y="177"/>
                  <a:pt x="647" y="168"/>
                </a:cubicBezTo>
                <a:cubicBezTo>
                  <a:pt x="664" y="135"/>
                  <a:pt x="711" y="36"/>
                  <a:pt x="711" y="0"/>
                </a:cubicBezTo>
              </a:path>
            </a:pathLst>
          </a:custGeom>
          <a:noFill/>
          <a:ln w="38160">
            <a:solidFill>
              <a:srgbClr val="33cc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781680" y="2514600"/>
            <a:ext cx="952560" cy="1609560"/>
          </a:xfrm>
          <a:custGeom>
            <a:avLst/>
            <a:gdLst/>
            <a:ahLst/>
            <a:rect l="l" t="t" r="r" b="b"/>
            <a:pathLst>
              <a:path w="600" h="1014">
                <a:moveTo>
                  <a:pt x="0" y="0"/>
                </a:moveTo>
                <a:cubicBezTo>
                  <a:pt x="4" y="22"/>
                  <a:pt x="9" y="44"/>
                  <a:pt x="12" y="66"/>
                </a:cubicBezTo>
                <a:cubicBezTo>
                  <a:pt x="15" y="82"/>
                  <a:pt x="9" y="101"/>
                  <a:pt x="18" y="114"/>
                </a:cubicBezTo>
                <a:cubicBezTo>
                  <a:pt x="25" y="124"/>
                  <a:pt x="42" y="122"/>
                  <a:pt x="54" y="126"/>
                </a:cubicBezTo>
                <a:cubicBezTo>
                  <a:pt x="60" y="164"/>
                  <a:pt x="62" y="226"/>
                  <a:pt x="78" y="264"/>
                </a:cubicBezTo>
                <a:cubicBezTo>
                  <a:pt x="113" y="345"/>
                  <a:pt x="71" y="224"/>
                  <a:pt x="96" y="300"/>
                </a:cubicBezTo>
                <a:cubicBezTo>
                  <a:pt x="90" y="423"/>
                  <a:pt x="62" y="559"/>
                  <a:pt x="102" y="678"/>
                </a:cubicBezTo>
                <a:cubicBezTo>
                  <a:pt x="104" y="714"/>
                  <a:pt x="99" y="751"/>
                  <a:pt x="108" y="786"/>
                </a:cubicBezTo>
                <a:cubicBezTo>
                  <a:pt x="112" y="802"/>
                  <a:pt x="135" y="803"/>
                  <a:pt x="150" y="810"/>
                </a:cubicBezTo>
                <a:cubicBezTo>
                  <a:pt x="217" y="840"/>
                  <a:pt x="292" y="829"/>
                  <a:pt x="360" y="852"/>
                </a:cubicBezTo>
                <a:cubicBezTo>
                  <a:pt x="367" y="874"/>
                  <a:pt x="378" y="889"/>
                  <a:pt x="384" y="912"/>
                </a:cubicBezTo>
                <a:cubicBezTo>
                  <a:pt x="388" y="944"/>
                  <a:pt x="379" y="1002"/>
                  <a:pt x="414" y="1014"/>
                </a:cubicBezTo>
                <a:cubicBezTo>
                  <a:pt x="596" y="1008"/>
                  <a:pt x="534" y="1008"/>
                  <a:pt x="600" y="1008"/>
                </a:cubicBezTo>
              </a:path>
            </a:pathLst>
          </a:custGeom>
          <a:noFill/>
          <a:ln w="38160">
            <a:solidFill>
              <a:srgbClr val="33cc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562720" y="3429000"/>
            <a:ext cx="604800" cy="2301840"/>
          </a:xfrm>
          <a:custGeom>
            <a:avLst/>
            <a:gdLst/>
            <a:ahLst/>
            <a:rect l="l" t="t" r="r" b="b"/>
            <a:pathLst>
              <a:path w="381" h="1450">
                <a:moveTo>
                  <a:pt x="371" y="34"/>
                </a:moveTo>
                <a:cubicBezTo>
                  <a:pt x="350" y="96"/>
                  <a:pt x="381" y="0"/>
                  <a:pt x="359" y="166"/>
                </a:cubicBezTo>
                <a:cubicBezTo>
                  <a:pt x="355" y="198"/>
                  <a:pt x="328" y="222"/>
                  <a:pt x="311" y="250"/>
                </a:cubicBezTo>
                <a:cubicBezTo>
                  <a:pt x="300" y="317"/>
                  <a:pt x="307" y="335"/>
                  <a:pt x="245" y="370"/>
                </a:cubicBezTo>
                <a:cubicBezTo>
                  <a:pt x="240" y="397"/>
                  <a:pt x="236" y="422"/>
                  <a:pt x="227" y="448"/>
                </a:cubicBezTo>
                <a:cubicBezTo>
                  <a:pt x="220" y="586"/>
                  <a:pt x="267" y="718"/>
                  <a:pt x="131" y="766"/>
                </a:cubicBezTo>
                <a:cubicBezTo>
                  <a:pt x="37" y="800"/>
                  <a:pt x="114" y="774"/>
                  <a:pt x="65" y="790"/>
                </a:cubicBezTo>
                <a:cubicBezTo>
                  <a:pt x="0" y="888"/>
                  <a:pt x="50" y="805"/>
                  <a:pt x="59" y="1096"/>
                </a:cubicBezTo>
                <a:cubicBezTo>
                  <a:pt x="63" y="1217"/>
                  <a:pt x="83" y="1327"/>
                  <a:pt x="83" y="1450"/>
                </a:cubicBezTo>
              </a:path>
            </a:pathLst>
          </a:custGeom>
          <a:noFill/>
          <a:ln w="38160">
            <a:solidFill>
              <a:srgbClr val="33cc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356000" y="3573360"/>
            <a:ext cx="1009800" cy="1936800"/>
          </a:xfrm>
          <a:custGeom>
            <a:avLst/>
            <a:gdLst/>
            <a:ahLst/>
            <a:rect l="l" t="t" r="r" b="b"/>
            <a:pathLst>
              <a:path w="636" h="1220">
                <a:moveTo>
                  <a:pt x="636" y="0"/>
                </a:moveTo>
                <a:cubicBezTo>
                  <a:pt x="600" y="54"/>
                  <a:pt x="588" y="115"/>
                  <a:pt x="552" y="168"/>
                </a:cubicBezTo>
                <a:cubicBezTo>
                  <a:pt x="512" y="228"/>
                  <a:pt x="561" y="162"/>
                  <a:pt x="534" y="210"/>
                </a:cubicBezTo>
                <a:cubicBezTo>
                  <a:pt x="527" y="223"/>
                  <a:pt x="510" y="246"/>
                  <a:pt x="510" y="246"/>
                </a:cubicBezTo>
                <a:cubicBezTo>
                  <a:pt x="502" y="299"/>
                  <a:pt x="488" y="346"/>
                  <a:pt x="450" y="384"/>
                </a:cubicBezTo>
                <a:cubicBezTo>
                  <a:pt x="439" y="417"/>
                  <a:pt x="422" y="433"/>
                  <a:pt x="390" y="444"/>
                </a:cubicBezTo>
                <a:cubicBezTo>
                  <a:pt x="377" y="464"/>
                  <a:pt x="361" y="472"/>
                  <a:pt x="348" y="492"/>
                </a:cubicBezTo>
                <a:cubicBezTo>
                  <a:pt x="342" y="533"/>
                  <a:pt x="341" y="565"/>
                  <a:pt x="312" y="594"/>
                </a:cubicBezTo>
                <a:cubicBezTo>
                  <a:pt x="305" y="620"/>
                  <a:pt x="308" y="633"/>
                  <a:pt x="282" y="642"/>
                </a:cubicBezTo>
                <a:cubicBezTo>
                  <a:pt x="263" y="661"/>
                  <a:pt x="262" y="676"/>
                  <a:pt x="240" y="690"/>
                </a:cubicBezTo>
                <a:cubicBezTo>
                  <a:pt x="207" y="739"/>
                  <a:pt x="164" y="782"/>
                  <a:pt x="138" y="834"/>
                </a:cubicBezTo>
                <a:cubicBezTo>
                  <a:pt x="136" y="844"/>
                  <a:pt x="137" y="855"/>
                  <a:pt x="132" y="864"/>
                </a:cubicBezTo>
                <a:cubicBezTo>
                  <a:pt x="128" y="870"/>
                  <a:pt x="118" y="870"/>
                  <a:pt x="114" y="876"/>
                </a:cubicBezTo>
                <a:cubicBezTo>
                  <a:pt x="109" y="883"/>
                  <a:pt x="111" y="892"/>
                  <a:pt x="108" y="900"/>
                </a:cubicBezTo>
                <a:cubicBezTo>
                  <a:pt x="100" y="919"/>
                  <a:pt x="87" y="936"/>
                  <a:pt x="78" y="954"/>
                </a:cubicBezTo>
                <a:cubicBezTo>
                  <a:pt x="69" y="972"/>
                  <a:pt x="48" y="1008"/>
                  <a:pt x="48" y="1008"/>
                </a:cubicBezTo>
                <a:cubicBezTo>
                  <a:pt x="75" y="1048"/>
                  <a:pt x="30" y="1115"/>
                  <a:pt x="18" y="1158"/>
                </a:cubicBezTo>
                <a:cubicBezTo>
                  <a:pt x="4" y="1209"/>
                  <a:pt x="22" y="1168"/>
                  <a:pt x="0" y="1212"/>
                </a:cubicBezTo>
                <a:cubicBezTo>
                  <a:pt x="24" y="1220"/>
                  <a:pt x="12" y="1218"/>
                  <a:pt x="36" y="1218"/>
                </a:cubicBezTo>
              </a:path>
            </a:pathLst>
          </a:custGeom>
          <a:noFill/>
          <a:ln w="38160">
            <a:solidFill>
              <a:srgbClr val="33cc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524720" y="5157720"/>
            <a:ext cx="1295280" cy="623880"/>
          </a:xfrm>
          <a:prstGeom prst="wedgeRectCallout">
            <a:avLst>
              <a:gd name="adj1" fmla="val -89703"/>
              <a:gd name="adj2" fmla="val -133967"/>
            </a:avLst>
          </a:prstGeom>
          <a:solidFill>
            <a:srgbClr val="cc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浙赣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156360" y="6019920"/>
            <a:ext cx="1440000" cy="504720"/>
          </a:xfrm>
          <a:prstGeom prst="wedgeRectCallout">
            <a:avLst>
              <a:gd name="adj1" fmla="val -75467"/>
              <a:gd name="adj2" fmla="val -254402"/>
            </a:avLst>
          </a:prstGeom>
          <a:solidFill>
            <a:srgbClr val="cc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湘黔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211640" y="6172200"/>
            <a:ext cx="1224000" cy="685800"/>
          </a:xfrm>
          <a:prstGeom prst="wedgeRectCallout">
            <a:avLst>
              <a:gd name="adj1" fmla="val 5773"/>
              <a:gd name="adj2" fmla="val -181018"/>
            </a:avLst>
          </a:prstGeom>
          <a:solidFill>
            <a:srgbClr val="cc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贵昆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667640" y="4365720"/>
            <a:ext cx="1225440" cy="523800"/>
          </a:xfrm>
          <a:prstGeom prst="wedgeRectCallout">
            <a:avLst>
              <a:gd name="adj1" fmla="val -52592"/>
              <a:gd name="adj2" fmla="val -91212"/>
            </a:avLst>
          </a:prstGeom>
          <a:solidFill>
            <a:srgbClr val="cc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沪杭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211640" y="1341360"/>
            <a:ext cx="1368360" cy="563760"/>
          </a:xfrm>
          <a:prstGeom prst="wedgeRectCallout">
            <a:avLst>
              <a:gd name="adj1" fmla="val 5337"/>
              <a:gd name="adj2" fmla="val 211689"/>
            </a:avLst>
          </a:prstGeom>
          <a:solidFill>
            <a:srgbClr val="cc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包兰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203640" y="3860640"/>
            <a:ext cx="1198440" cy="559080"/>
          </a:xfrm>
          <a:prstGeom prst="wedgeRectCallout">
            <a:avLst>
              <a:gd name="adj1" fmla="val 167351"/>
              <a:gd name="adj2" fmla="val -60796"/>
            </a:avLst>
          </a:prstGeom>
          <a:solidFill>
            <a:srgbClr val="cc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陇海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476360" y="3068640"/>
            <a:ext cx="1190520" cy="504720"/>
          </a:xfrm>
          <a:prstGeom prst="wedgeRectCallout">
            <a:avLst>
              <a:gd name="adj1" fmla="val 134532"/>
              <a:gd name="adj2" fmla="val -126416"/>
            </a:avLst>
          </a:prstGeom>
          <a:solidFill>
            <a:srgbClr val="cc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兰新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1763640" y="1557360"/>
            <a:ext cx="5910120" cy="3999960"/>
            <a:chOff x="1763640" y="1557360"/>
            <a:chExt cx="5910120" cy="3999960"/>
          </a:xfrm>
        </p:grpSpPr>
        <p:sp>
          <p:nvSpPr>
            <p:cNvPr id="168" name=""/>
            <p:cNvSpPr/>
            <p:nvPr/>
          </p:nvSpPr>
          <p:spPr>
            <a:xfrm>
              <a:off x="4659120" y="2471400"/>
              <a:ext cx="1981440" cy="933120"/>
            </a:xfrm>
            <a:custGeom>
              <a:avLst/>
              <a:gdLst/>
              <a:ahLst/>
              <a:rect l="l" t="t" r="r" b="b"/>
              <a:pathLst>
                <a:path w="1248" h="588">
                  <a:moveTo>
                    <a:pt x="1248" y="0"/>
                  </a:moveTo>
                  <a:cubicBezTo>
                    <a:pt x="1163" y="21"/>
                    <a:pt x="1080" y="15"/>
                    <a:pt x="990" y="18"/>
                  </a:cubicBezTo>
                  <a:cubicBezTo>
                    <a:pt x="798" y="42"/>
                    <a:pt x="607" y="50"/>
                    <a:pt x="414" y="60"/>
                  </a:cubicBezTo>
                  <a:cubicBezTo>
                    <a:pt x="400" y="62"/>
                    <a:pt x="385" y="60"/>
                    <a:pt x="372" y="66"/>
                  </a:cubicBezTo>
                  <a:cubicBezTo>
                    <a:pt x="365" y="69"/>
                    <a:pt x="365" y="78"/>
                    <a:pt x="360" y="84"/>
                  </a:cubicBezTo>
                  <a:cubicBezTo>
                    <a:pt x="347" y="100"/>
                    <a:pt x="335" y="120"/>
                    <a:pt x="318" y="132"/>
                  </a:cubicBezTo>
                  <a:cubicBezTo>
                    <a:pt x="308" y="139"/>
                    <a:pt x="294" y="136"/>
                    <a:pt x="282" y="138"/>
                  </a:cubicBezTo>
                  <a:cubicBezTo>
                    <a:pt x="273" y="166"/>
                    <a:pt x="255" y="167"/>
                    <a:pt x="228" y="174"/>
                  </a:cubicBezTo>
                  <a:cubicBezTo>
                    <a:pt x="206" y="204"/>
                    <a:pt x="176" y="220"/>
                    <a:pt x="150" y="246"/>
                  </a:cubicBezTo>
                  <a:cubicBezTo>
                    <a:pt x="142" y="270"/>
                    <a:pt x="139" y="294"/>
                    <a:pt x="132" y="318"/>
                  </a:cubicBezTo>
                  <a:cubicBezTo>
                    <a:pt x="129" y="330"/>
                    <a:pt x="124" y="342"/>
                    <a:pt x="120" y="354"/>
                  </a:cubicBezTo>
                  <a:cubicBezTo>
                    <a:pt x="118" y="360"/>
                    <a:pt x="114" y="372"/>
                    <a:pt x="114" y="372"/>
                  </a:cubicBezTo>
                  <a:cubicBezTo>
                    <a:pt x="109" y="419"/>
                    <a:pt x="111" y="438"/>
                    <a:pt x="84" y="474"/>
                  </a:cubicBezTo>
                  <a:cubicBezTo>
                    <a:pt x="77" y="547"/>
                    <a:pt x="83" y="588"/>
                    <a:pt x="0" y="588"/>
                  </a:cubicBezTo>
                </a:path>
              </a:pathLst>
            </a:custGeom>
            <a:noFill/>
            <a:ln w="38160">
              <a:solidFill>
                <a:srgbClr val="33cc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659120" y="3462120"/>
              <a:ext cx="2814840" cy="286920"/>
            </a:xfrm>
            <a:custGeom>
              <a:avLst/>
              <a:gdLst/>
              <a:ahLst/>
              <a:rect l="l" t="t" r="r" b="b"/>
              <a:pathLst>
                <a:path w="1773" h="181">
                  <a:moveTo>
                    <a:pt x="1773" y="109"/>
                  </a:moveTo>
                  <a:cubicBezTo>
                    <a:pt x="1711" y="103"/>
                    <a:pt x="1657" y="102"/>
                    <a:pt x="1600" y="81"/>
                  </a:cubicBezTo>
                  <a:cubicBezTo>
                    <a:pt x="1509" y="84"/>
                    <a:pt x="1418" y="85"/>
                    <a:pt x="1327" y="91"/>
                  </a:cubicBezTo>
                  <a:cubicBezTo>
                    <a:pt x="1297" y="93"/>
                    <a:pt x="1267" y="115"/>
                    <a:pt x="1237" y="118"/>
                  </a:cubicBezTo>
                  <a:cubicBezTo>
                    <a:pt x="1152" y="127"/>
                    <a:pt x="1067" y="129"/>
                    <a:pt x="982" y="136"/>
                  </a:cubicBezTo>
                  <a:cubicBezTo>
                    <a:pt x="970" y="139"/>
                    <a:pt x="957" y="140"/>
                    <a:pt x="946" y="145"/>
                  </a:cubicBezTo>
                  <a:cubicBezTo>
                    <a:pt x="936" y="149"/>
                    <a:pt x="929" y="160"/>
                    <a:pt x="918" y="163"/>
                  </a:cubicBezTo>
                  <a:cubicBezTo>
                    <a:pt x="901" y="169"/>
                    <a:pt x="882" y="168"/>
                    <a:pt x="864" y="172"/>
                  </a:cubicBezTo>
                  <a:cubicBezTo>
                    <a:pt x="855" y="174"/>
                    <a:pt x="846" y="178"/>
                    <a:pt x="837" y="181"/>
                  </a:cubicBezTo>
                  <a:cubicBezTo>
                    <a:pt x="767" y="178"/>
                    <a:pt x="698" y="177"/>
                    <a:pt x="628" y="172"/>
                  </a:cubicBezTo>
                  <a:cubicBezTo>
                    <a:pt x="537" y="166"/>
                    <a:pt x="452" y="136"/>
                    <a:pt x="364" y="118"/>
                  </a:cubicBezTo>
                  <a:cubicBezTo>
                    <a:pt x="328" y="94"/>
                    <a:pt x="287" y="87"/>
                    <a:pt x="246" y="72"/>
                  </a:cubicBezTo>
                  <a:cubicBezTo>
                    <a:pt x="225" y="65"/>
                    <a:pt x="209" y="48"/>
                    <a:pt x="191" y="36"/>
                  </a:cubicBezTo>
                  <a:cubicBezTo>
                    <a:pt x="137" y="0"/>
                    <a:pt x="58" y="9"/>
                    <a:pt x="0" y="9"/>
                  </a:cubicBezTo>
                </a:path>
              </a:pathLst>
            </a:custGeom>
            <a:noFill/>
            <a:ln w="38160">
              <a:solidFill>
                <a:srgbClr val="33cc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763640" y="1557360"/>
              <a:ext cx="2886120" cy="1900080"/>
            </a:xfrm>
            <a:custGeom>
              <a:avLst/>
              <a:gdLst/>
              <a:ahLst/>
              <a:rect l="l" t="t" r="r" b="b"/>
              <a:pathLst>
                <a:path w="1818" h="1197">
                  <a:moveTo>
                    <a:pt x="1818" y="1197"/>
                  </a:moveTo>
                  <a:cubicBezTo>
                    <a:pt x="1804" y="1125"/>
                    <a:pt x="1777" y="1116"/>
                    <a:pt x="1727" y="1069"/>
                  </a:cubicBezTo>
                  <a:cubicBezTo>
                    <a:pt x="1709" y="1015"/>
                    <a:pt x="1732" y="1066"/>
                    <a:pt x="1691" y="1024"/>
                  </a:cubicBezTo>
                  <a:cubicBezTo>
                    <a:pt x="1650" y="982"/>
                    <a:pt x="1699" y="1005"/>
                    <a:pt x="1646" y="987"/>
                  </a:cubicBezTo>
                  <a:cubicBezTo>
                    <a:pt x="1603" y="946"/>
                    <a:pt x="1538" y="925"/>
                    <a:pt x="1482" y="906"/>
                  </a:cubicBezTo>
                  <a:cubicBezTo>
                    <a:pt x="1466" y="895"/>
                    <a:pt x="1454" y="877"/>
                    <a:pt x="1436" y="869"/>
                  </a:cubicBezTo>
                  <a:cubicBezTo>
                    <a:pt x="1422" y="863"/>
                    <a:pt x="1406" y="864"/>
                    <a:pt x="1391" y="860"/>
                  </a:cubicBezTo>
                  <a:cubicBezTo>
                    <a:pt x="1352" y="850"/>
                    <a:pt x="1311" y="837"/>
                    <a:pt x="1273" y="824"/>
                  </a:cubicBezTo>
                  <a:cubicBezTo>
                    <a:pt x="1276" y="815"/>
                    <a:pt x="1286" y="805"/>
                    <a:pt x="1282" y="796"/>
                  </a:cubicBezTo>
                  <a:cubicBezTo>
                    <a:pt x="1278" y="786"/>
                    <a:pt x="1265" y="782"/>
                    <a:pt x="1255" y="778"/>
                  </a:cubicBezTo>
                  <a:cubicBezTo>
                    <a:pt x="1228" y="766"/>
                    <a:pt x="1193" y="758"/>
                    <a:pt x="1164" y="751"/>
                  </a:cubicBezTo>
                  <a:cubicBezTo>
                    <a:pt x="1102" y="710"/>
                    <a:pt x="1041" y="669"/>
                    <a:pt x="982" y="624"/>
                  </a:cubicBezTo>
                  <a:cubicBezTo>
                    <a:pt x="962" y="609"/>
                    <a:pt x="933" y="612"/>
                    <a:pt x="909" y="606"/>
                  </a:cubicBezTo>
                  <a:cubicBezTo>
                    <a:pt x="863" y="573"/>
                    <a:pt x="812" y="575"/>
                    <a:pt x="764" y="551"/>
                  </a:cubicBezTo>
                  <a:cubicBezTo>
                    <a:pt x="696" y="517"/>
                    <a:pt x="777" y="546"/>
                    <a:pt x="709" y="524"/>
                  </a:cubicBezTo>
                  <a:cubicBezTo>
                    <a:pt x="678" y="491"/>
                    <a:pt x="662" y="480"/>
                    <a:pt x="618" y="469"/>
                  </a:cubicBezTo>
                  <a:cubicBezTo>
                    <a:pt x="598" y="410"/>
                    <a:pt x="626" y="468"/>
                    <a:pt x="582" y="433"/>
                  </a:cubicBezTo>
                  <a:cubicBezTo>
                    <a:pt x="574" y="426"/>
                    <a:pt x="572" y="414"/>
                    <a:pt x="564" y="406"/>
                  </a:cubicBezTo>
                  <a:cubicBezTo>
                    <a:pt x="556" y="398"/>
                    <a:pt x="545" y="394"/>
                    <a:pt x="537" y="387"/>
                  </a:cubicBezTo>
                  <a:cubicBezTo>
                    <a:pt x="489" y="345"/>
                    <a:pt x="471" y="313"/>
                    <a:pt x="409" y="296"/>
                  </a:cubicBezTo>
                  <a:cubicBezTo>
                    <a:pt x="370" y="270"/>
                    <a:pt x="339" y="253"/>
                    <a:pt x="300" y="233"/>
                  </a:cubicBezTo>
                  <a:cubicBezTo>
                    <a:pt x="272" y="219"/>
                    <a:pt x="253" y="195"/>
                    <a:pt x="227" y="178"/>
                  </a:cubicBezTo>
                  <a:cubicBezTo>
                    <a:pt x="211" y="131"/>
                    <a:pt x="199" y="154"/>
                    <a:pt x="164" y="124"/>
                  </a:cubicBezTo>
                  <a:cubicBezTo>
                    <a:pt x="135" y="99"/>
                    <a:pt x="123" y="72"/>
                    <a:pt x="91" y="51"/>
                  </a:cubicBezTo>
                  <a:cubicBezTo>
                    <a:pt x="74" y="0"/>
                    <a:pt x="46" y="15"/>
                    <a:pt x="0" y="15"/>
                  </a:cubicBezTo>
                </a:path>
              </a:pathLst>
            </a:custGeom>
            <a:noFill/>
            <a:ln w="38160">
              <a:solidFill>
                <a:srgbClr val="33cc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354560" y="4071600"/>
              <a:ext cx="3319200" cy="1485720"/>
            </a:xfrm>
            <a:custGeom>
              <a:avLst/>
              <a:gdLst/>
              <a:ahLst/>
              <a:rect l="l" t="t" r="r" b="b"/>
              <a:pathLst>
                <a:path w="2091" h="936">
                  <a:moveTo>
                    <a:pt x="2091" y="0"/>
                  </a:moveTo>
                  <a:cubicBezTo>
                    <a:pt x="2070" y="32"/>
                    <a:pt x="2054" y="42"/>
                    <a:pt x="2018" y="55"/>
                  </a:cubicBezTo>
                  <a:cubicBezTo>
                    <a:pt x="1992" y="81"/>
                    <a:pt x="1984" y="118"/>
                    <a:pt x="1955" y="136"/>
                  </a:cubicBezTo>
                  <a:cubicBezTo>
                    <a:pt x="1935" y="148"/>
                    <a:pt x="1912" y="155"/>
                    <a:pt x="1891" y="164"/>
                  </a:cubicBezTo>
                  <a:cubicBezTo>
                    <a:pt x="1873" y="217"/>
                    <a:pt x="1845" y="255"/>
                    <a:pt x="1791" y="273"/>
                  </a:cubicBezTo>
                  <a:cubicBezTo>
                    <a:pt x="1736" y="328"/>
                    <a:pt x="1693" y="366"/>
                    <a:pt x="1628" y="409"/>
                  </a:cubicBezTo>
                  <a:cubicBezTo>
                    <a:pt x="1596" y="430"/>
                    <a:pt x="1558" y="461"/>
                    <a:pt x="1518" y="464"/>
                  </a:cubicBezTo>
                  <a:cubicBezTo>
                    <a:pt x="1451" y="469"/>
                    <a:pt x="1385" y="470"/>
                    <a:pt x="1318" y="473"/>
                  </a:cubicBezTo>
                  <a:cubicBezTo>
                    <a:pt x="1215" y="499"/>
                    <a:pt x="1114" y="519"/>
                    <a:pt x="1009" y="536"/>
                  </a:cubicBezTo>
                  <a:cubicBezTo>
                    <a:pt x="1000" y="545"/>
                    <a:pt x="994" y="559"/>
                    <a:pt x="982" y="564"/>
                  </a:cubicBezTo>
                  <a:cubicBezTo>
                    <a:pt x="947" y="578"/>
                    <a:pt x="873" y="591"/>
                    <a:pt x="873" y="591"/>
                  </a:cubicBezTo>
                  <a:cubicBezTo>
                    <a:pt x="864" y="597"/>
                    <a:pt x="856" y="604"/>
                    <a:pt x="846" y="609"/>
                  </a:cubicBezTo>
                  <a:cubicBezTo>
                    <a:pt x="838" y="613"/>
                    <a:pt x="827" y="613"/>
                    <a:pt x="819" y="618"/>
                  </a:cubicBezTo>
                  <a:cubicBezTo>
                    <a:pt x="811" y="622"/>
                    <a:pt x="808" y="632"/>
                    <a:pt x="800" y="636"/>
                  </a:cubicBezTo>
                  <a:cubicBezTo>
                    <a:pt x="770" y="651"/>
                    <a:pt x="731" y="651"/>
                    <a:pt x="700" y="664"/>
                  </a:cubicBezTo>
                  <a:cubicBezTo>
                    <a:pt x="579" y="715"/>
                    <a:pt x="440" y="746"/>
                    <a:pt x="309" y="764"/>
                  </a:cubicBezTo>
                  <a:cubicBezTo>
                    <a:pt x="261" y="827"/>
                    <a:pt x="243" y="834"/>
                    <a:pt x="164" y="846"/>
                  </a:cubicBezTo>
                  <a:cubicBezTo>
                    <a:pt x="139" y="863"/>
                    <a:pt x="87" y="907"/>
                    <a:pt x="55" y="918"/>
                  </a:cubicBezTo>
                  <a:cubicBezTo>
                    <a:pt x="37" y="924"/>
                    <a:pt x="0" y="936"/>
                    <a:pt x="0" y="936"/>
                  </a:cubicBezTo>
                </a:path>
              </a:pathLst>
            </a:custGeom>
            <a:noFill/>
            <a:ln w="38160">
              <a:solidFill>
                <a:srgbClr val="33cc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640560" y="2471400"/>
              <a:ext cx="542880" cy="133200"/>
            </a:xfrm>
            <a:custGeom>
              <a:avLst/>
              <a:gdLst/>
              <a:ahLst/>
              <a:rect l="l" t="t" r="r" b="b"/>
              <a:pathLst>
                <a:path w="342" h="84">
                  <a:moveTo>
                    <a:pt x="0" y="0"/>
                  </a:moveTo>
                  <a:cubicBezTo>
                    <a:pt x="94" y="6"/>
                    <a:pt x="161" y="14"/>
                    <a:pt x="258" y="18"/>
                  </a:cubicBezTo>
                  <a:cubicBezTo>
                    <a:pt x="340" y="31"/>
                    <a:pt x="342" y="8"/>
                    <a:pt x="342" y="84"/>
                  </a:cubicBezTo>
                </a:path>
              </a:pathLst>
            </a:custGeom>
            <a:noFill/>
            <a:ln w="50760">
              <a:solidFill>
                <a:srgbClr val="33cc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5940360" y="1268280"/>
            <a:ext cx="1295640" cy="505080"/>
          </a:xfrm>
          <a:prstGeom prst="wedgeRectCallout">
            <a:avLst>
              <a:gd name="adj1" fmla="val -39703"/>
              <a:gd name="adj2" fmla="val 184907"/>
            </a:avLst>
          </a:prstGeom>
          <a:solidFill>
            <a:srgbClr val="cc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京包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1763640" y="1557360"/>
            <a:ext cx="5910120" cy="3999960"/>
            <a:chOff x="1763640" y="1557360"/>
            <a:chExt cx="5910120" cy="3999960"/>
          </a:xfrm>
        </p:grpSpPr>
        <p:sp>
          <p:nvSpPr>
            <p:cNvPr id="175" name=""/>
            <p:cNvSpPr/>
            <p:nvPr/>
          </p:nvSpPr>
          <p:spPr>
            <a:xfrm>
              <a:off x="4659120" y="2471400"/>
              <a:ext cx="1981440" cy="933120"/>
            </a:xfrm>
            <a:custGeom>
              <a:avLst/>
              <a:gdLst/>
              <a:ahLst/>
              <a:rect l="l" t="t" r="r" b="b"/>
              <a:pathLst>
                <a:path w="1248" h="588">
                  <a:moveTo>
                    <a:pt x="1248" y="0"/>
                  </a:moveTo>
                  <a:cubicBezTo>
                    <a:pt x="1163" y="21"/>
                    <a:pt x="1080" y="15"/>
                    <a:pt x="990" y="18"/>
                  </a:cubicBezTo>
                  <a:cubicBezTo>
                    <a:pt x="798" y="42"/>
                    <a:pt x="607" y="50"/>
                    <a:pt x="414" y="60"/>
                  </a:cubicBezTo>
                  <a:cubicBezTo>
                    <a:pt x="400" y="62"/>
                    <a:pt x="385" y="60"/>
                    <a:pt x="372" y="66"/>
                  </a:cubicBezTo>
                  <a:cubicBezTo>
                    <a:pt x="365" y="69"/>
                    <a:pt x="365" y="78"/>
                    <a:pt x="360" y="84"/>
                  </a:cubicBezTo>
                  <a:cubicBezTo>
                    <a:pt x="347" y="100"/>
                    <a:pt x="335" y="120"/>
                    <a:pt x="318" y="132"/>
                  </a:cubicBezTo>
                  <a:cubicBezTo>
                    <a:pt x="308" y="139"/>
                    <a:pt x="294" y="136"/>
                    <a:pt x="282" y="138"/>
                  </a:cubicBezTo>
                  <a:cubicBezTo>
                    <a:pt x="273" y="166"/>
                    <a:pt x="255" y="167"/>
                    <a:pt x="228" y="174"/>
                  </a:cubicBezTo>
                  <a:cubicBezTo>
                    <a:pt x="206" y="204"/>
                    <a:pt x="176" y="220"/>
                    <a:pt x="150" y="246"/>
                  </a:cubicBezTo>
                  <a:cubicBezTo>
                    <a:pt x="142" y="270"/>
                    <a:pt x="139" y="294"/>
                    <a:pt x="132" y="318"/>
                  </a:cubicBezTo>
                  <a:cubicBezTo>
                    <a:pt x="129" y="330"/>
                    <a:pt x="124" y="342"/>
                    <a:pt x="120" y="354"/>
                  </a:cubicBezTo>
                  <a:cubicBezTo>
                    <a:pt x="118" y="360"/>
                    <a:pt x="114" y="372"/>
                    <a:pt x="114" y="372"/>
                  </a:cubicBezTo>
                  <a:cubicBezTo>
                    <a:pt x="109" y="419"/>
                    <a:pt x="111" y="438"/>
                    <a:pt x="84" y="474"/>
                  </a:cubicBezTo>
                  <a:cubicBezTo>
                    <a:pt x="77" y="547"/>
                    <a:pt x="83" y="588"/>
                    <a:pt x="0" y="588"/>
                  </a:cubicBezTo>
                </a:path>
              </a:pathLst>
            </a:custGeom>
            <a:noFill/>
            <a:ln w="38160">
              <a:solidFill>
                <a:srgbClr val="33cc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659120" y="3462120"/>
              <a:ext cx="2814840" cy="286920"/>
            </a:xfrm>
            <a:custGeom>
              <a:avLst/>
              <a:gdLst/>
              <a:ahLst/>
              <a:rect l="l" t="t" r="r" b="b"/>
              <a:pathLst>
                <a:path w="1773" h="181">
                  <a:moveTo>
                    <a:pt x="1773" y="109"/>
                  </a:moveTo>
                  <a:cubicBezTo>
                    <a:pt x="1711" y="103"/>
                    <a:pt x="1657" y="102"/>
                    <a:pt x="1600" y="81"/>
                  </a:cubicBezTo>
                  <a:cubicBezTo>
                    <a:pt x="1509" y="84"/>
                    <a:pt x="1418" y="85"/>
                    <a:pt x="1327" y="91"/>
                  </a:cubicBezTo>
                  <a:cubicBezTo>
                    <a:pt x="1297" y="93"/>
                    <a:pt x="1267" y="115"/>
                    <a:pt x="1237" y="118"/>
                  </a:cubicBezTo>
                  <a:cubicBezTo>
                    <a:pt x="1152" y="127"/>
                    <a:pt x="1067" y="129"/>
                    <a:pt x="982" y="136"/>
                  </a:cubicBezTo>
                  <a:cubicBezTo>
                    <a:pt x="970" y="139"/>
                    <a:pt x="957" y="140"/>
                    <a:pt x="946" y="145"/>
                  </a:cubicBezTo>
                  <a:cubicBezTo>
                    <a:pt x="936" y="149"/>
                    <a:pt x="929" y="160"/>
                    <a:pt x="918" y="163"/>
                  </a:cubicBezTo>
                  <a:cubicBezTo>
                    <a:pt x="901" y="169"/>
                    <a:pt x="882" y="168"/>
                    <a:pt x="864" y="172"/>
                  </a:cubicBezTo>
                  <a:cubicBezTo>
                    <a:pt x="855" y="174"/>
                    <a:pt x="846" y="178"/>
                    <a:pt x="837" y="181"/>
                  </a:cubicBezTo>
                  <a:cubicBezTo>
                    <a:pt x="767" y="178"/>
                    <a:pt x="698" y="177"/>
                    <a:pt x="628" y="172"/>
                  </a:cubicBezTo>
                  <a:cubicBezTo>
                    <a:pt x="537" y="166"/>
                    <a:pt x="452" y="136"/>
                    <a:pt x="364" y="118"/>
                  </a:cubicBezTo>
                  <a:cubicBezTo>
                    <a:pt x="328" y="94"/>
                    <a:pt x="287" y="87"/>
                    <a:pt x="246" y="72"/>
                  </a:cubicBezTo>
                  <a:cubicBezTo>
                    <a:pt x="225" y="65"/>
                    <a:pt x="209" y="48"/>
                    <a:pt x="191" y="36"/>
                  </a:cubicBezTo>
                  <a:cubicBezTo>
                    <a:pt x="137" y="0"/>
                    <a:pt x="58" y="9"/>
                    <a:pt x="0" y="9"/>
                  </a:cubicBezTo>
                </a:path>
              </a:pathLst>
            </a:custGeom>
            <a:noFill/>
            <a:ln w="38160">
              <a:solidFill>
                <a:srgbClr val="33cc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763640" y="1557360"/>
              <a:ext cx="2886120" cy="1900080"/>
            </a:xfrm>
            <a:custGeom>
              <a:avLst/>
              <a:gdLst/>
              <a:ahLst/>
              <a:rect l="l" t="t" r="r" b="b"/>
              <a:pathLst>
                <a:path w="1818" h="1197">
                  <a:moveTo>
                    <a:pt x="1818" y="1197"/>
                  </a:moveTo>
                  <a:cubicBezTo>
                    <a:pt x="1804" y="1125"/>
                    <a:pt x="1777" y="1116"/>
                    <a:pt x="1727" y="1069"/>
                  </a:cubicBezTo>
                  <a:cubicBezTo>
                    <a:pt x="1709" y="1015"/>
                    <a:pt x="1732" y="1066"/>
                    <a:pt x="1691" y="1024"/>
                  </a:cubicBezTo>
                  <a:cubicBezTo>
                    <a:pt x="1650" y="982"/>
                    <a:pt x="1699" y="1005"/>
                    <a:pt x="1646" y="987"/>
                  </a:cubicBezTo>
                  <a:cubicBezTo>
                    <a:pt x="1603" y="946"/>
                    <a:pt x="1538" y="925"/>
                    <a:pt x="1482" y="906"/>
                  </a:cubicBezTo>
                  <a:cubicBezTo>
                    <a:pt x="1466" y="895"/>
                    <a:pt x="1454" y="877"/>
                    <a:pt x="1436" y="869"/>
                  </a:cubicBezTo>
                  <a:cubicBezTo>
                    <a:pt x="1422" y="863"/>
                    <a:pt x="1406" y="864"/>
                    <a:pt x="1391" y="860"/>
                  </a:cubicBezTo>
                  <a:cubicBezTo>
                    <a:pt x="1352" y="850"/>
                    <a:pt x="1311" y="837"/>
                    <a:pt x="1273" y="824"/>
                  </a:cubicBezTo>
                  <a:cubicBezTo>
                    <a:pt x="1276" y="815"/>
                    <a:pt x="1286" y="805"/>
                    <a:pt x="1282" y="796"/>
                  </a:cubicBezTo>
                  <a:cubicBezTo>
                    <a:pt x="1278" y="786"/>
                    <a:pt x="1265" y="782"/>
                    <a:pt x="1255" y="778"/>
                  </a:cubicBezTo>
                  <a:cubicBezTo>
                    <a:pt x="1228" y="766"/>
                    <a:pt x="1193" y="758"/>
                    <a:pt x="1164" y="751"/>
                  </a:cubicBezTo>
                  <a:cubicBezTo>
                    <a:pt x="1102" y="710"/>
                    <a:pt x="1041" y="669"/>
                    <a:pt x="982" y="624"/>
                  </a:cubicBezTo>
                  <a:cubicBezTo>
                    <a:pt x="962" y="609"/>
                    <a:pt x="933" y="612"/>
                    <a:pt x="909" y="606"/>
                  </a:cubicBezTo>
                  <a:cubicBezTo>
                    <a:pt x="863" y="573"/>
                    <a:pt x="812" y="575"/>
                    <a:pt x="764" y="551"/>
                  </a:cubicBezTo>
                  <a:cubicBezTo>
                    <a:pt x="696" y="517"/>
                    <a:pt x="777" y="546"/>
                    <a:pt x="709" y="524"/>
                  </a:cubicBezTo>
                  <a:cubicBezTo>
                    <a:pt x="678" y="491"/>
                    <a:pt x="662" y="480"/>
                    <a:pt x="618" y="469"/>
                  </a:cubicBezTo>
                  <a:cubicBezTo>
                    <a:pt x="598" y="410"/>
                    <a:pt x="626" y="468"/>
                    <a:pt x="582" y="433"/>
                  </a:cubicBezTo>
                  <a:cubicBezTo>
                    <a:pt x="574" y="426"/>
                    <a:pt x="572" y="414"/>
                    <a:pt x="564" y="406"/>
                  </a:cubicBezTo>
                  <a:cubicBezTo>
                    <a:pt x="556" y="398"/>
                    <a:pt x="545" y="394"/>
                    <a:pt x="537" y="387"/>
                  </a:cubicBezTo>
                  <a:cubicBezTo>
                    <a:pt x="489" y="345"/>
                    <a:pt x="471" y="313"/>
                    <a:pt x="409" y="296"/>
                  </a:cubicBezTo>
                  <a:cubicBezTo>
                    <a:pt x="370" y="270"/>
                    <a:pt x="339" y="253"/>
                    <a:pt x="300" y="233"/>
                  </a:cubicBezTo>
                  <a:cubicBezTo>
                    <a:pt x="272" y="219"/>
                    <a:pt x="253" y="195"/>
                    <a:pt x="227" y="178"/>
                  </a:cubicBezTo>
                  <a:cubicBezTo>
                    <a:pt x="211" y="131"/>
                    <a:pt x="199" y="154"/>
                    <a:pt x="164" y="124"/>
                  </a:cubicBezTo>
                  <a:cubicBezTo>
                    <a:pt x="135" y="99"/>
                    <a:pt x="123" y="72"/>
                    <a:pt x="91" y="51"/>
                  </a:cubicBezTo>
                  <a:cubicBezTo>
                    <a:pt x="74" y="0"/>
                    <a:pt x="46" y="15"/>
                    <a:pt x="0" y="15"/>
                  </a:cubicBezTo>
                </a:path>
              </a:pathLst>
            </a:custGeom>
            <a:noFill/>
            <a:ln w="38160">
              <a:solidFill>
                <a:srgbClr val="33cc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354560" y="4071600"/>
              <a:ext cx="3319200" cy="1485720"/>
            </a:xfrm>
            <a:custGeom>
              <a:avLst/>
              <a:gdLst/>
              <a:ahLst/>
              <a:rect l="l" t="t" r="r" b="b"/>
              <a:pathLst>
                <a:path w="2091" h="936">
                  <a:moveTo>
                    <a:pt x="2091" y="0"/>
                  </a:moveTo>
                  <a:cubicBezTo>
                    <a:pt x="2070" y="32"/>
                    <a:pt x="2054" y="42"/>
                    <a:pt x="2018" y="55"/>
                  </a:cubicBezTo>
                  <a:cubicBezTo>
                    <a:pt x="1992" y="81"/>
                    <a:pt x="1984" y="118"/>
                    <a:pt x="1955" y="136"/>
                  </a:cubicBezTo>
                  <a:cubicBezTo>
                    <a:pt x="1935" y="148"/>
                    <a:pt x="1912" y="155"/>
                    <a:pt x="1891" y="164"/>
                  </a:cubicBezTo>
                  <a:cubicBezTo>
                    <a:pt x="1873" y="217"/>
                    <a:pt x="1845" y="255"/>
                    <a:pt x="1791" y="273"/>
                  </a:cubicBezTo>
                  <a:cubicBezTo>
                    <a:pt x="1736" y="328"/>
                    <a:pt x="1693" y="366"/>
                    <a:pt x="1628" y="409"/>
                  </a:cubicBezTo>
                  <a:cubicBezTo>
                    <a:pt x="1596" y="430"/>
                    <a:pt x="1558" y="461"/>
                    <a:pt x="1518" y="464"/>
                  </a:cubicBezTo>
                  <a:cubicBezTo>
                    <a:pt x="1451" y="469"/>
                    <a:pt x="1385" y="470"/>
                    <a:pt x="1318" y="473"/>
                  </a:cubicBezTo>
                  <a:cubicBezTo>
                    <a:pt x="1215" y="499"/>
                    <a:pt x="1114" y="519"/>
                    <a:pt x="1009" y="536"/>
                  </a:cubicBezTo>
                  <a:cubicBezTo>
                    <a:pt x="1000" y="545"/>
                    <a:pt x="994" y="559"/>
                    <a:pt x="982" y="564"/>
                  </a:cubicBezTo>
                  <a:cubicBezTo>
                    <a:pt x="947" y="578"/>
                    <a:pt x="873" y="591"/>
                    <a:pt x="873" y="591"/>
                  </a:cubicBezTo>
                  <a:cubicBezTo>
                    <a:pt x="864" y="597"/>
                    <a:pt x="856" y="604"/>
                    <a:pt x="846" y="609"/>
                  </a:cubicBezTo>
                  <a:cubicBezTo>
                    <a:pt x="838" y="613"/>
                    <a:pt x="827" y="613"/>
                    <a:pt x="819" y="618"/>
                  </a:cubicBezTo>
                  <a:cubicBezTo>
                    <a:pt x="811" y="622"/>
                    <a:pt x="808" y="632"/>
                    <a:pt x="800" y="636"/>
                  </a:cubicBezTo>
                  <a:cubicBezTo>
                    <a:pt x="770" y="651"/>
                    <a:pt x="731" y="651"/>
                    <a:pt x="700" y="664"/>
                  </a:cubicBezTo>
                  <a:cubicBezTo>
                    <a:pt x="579" y="715"/>
                    <a:pt x="440" y="746"/>
                    <a:pt x="309" y="764"/>
                  </a:cubicBezTo>
                  <a:cubicBezTo>
                    <a:pt x="261" y="827"/>
                    <a:pt x="243" y="834"/>
                    <a:pt x="164" y="846"/>
                  </a:cubicBezTo>
                  <a:cubicBezTo>
                    <a:pt x="139" y="863"/>
                    <a:pt x="87" y="907"/>
                    <a:pt x="55" y="918"/>
                  </a:cubicBezTo>
                  <a:cubicBezTo>
                    <a:pt x="37" y="924"/>
                    <a:pt x="0" y="936"/>
                    <a:pt x="0" y="936"/>
                  </a:cubicBezTo>
                </a:path>
              </a:pathLst>
            </a:custGeom>
            <a:noFill/>
            <a:ln w="38160">
              <a:solidFill>
                <a:srgbClr val="33cc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640560" y="2471400"/>
              <a:ext cx="542880" cy="133200"/>
            </a:xfrm>
            <a:custGeom>
              <a:avLst/>
              <a:gdLst/>
              <a:ahLst/>
              <a:rect l="l" t="t" r="r" b="b"/>
              <a:pathLst>
                <a:path w="342" h="84">
                  <a:moveTo>
                    <a:pt x="0" y="0"/>
                  </a:moveTo>
                  <a:cubicBezTo>
                    <a:pt x="94" y="6"/>
                    <a:pt x="161" y="14"/>
                    <a:pt x="258" y="18"/>
                  </a:cubicBezTo>
                  <a:cubicBezTo>
                    <a:pt x="340" y="31"/>
                    <a:pt x="342" y="8"/>
                    <a:pt x="342" y="84"/>
                  </a:cubicBezTo>
                </a:path>
              </a:pathLst>
            </a:custGeom>
            <a:noFill/>
            <a:ln w="50760">
              <a:solidFill>
                <a:srgbClr val="33cc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63640" y="1557360"/>
            <a:ext cx="5910120" cy="3999960"/>
            <a:chOff x="1763640" y="1557360"/>
            <a:chExt cx="5910120" cy="3999960"/>
          </a:xfrm>
        </p:grpSpPr>
        <p:sp>
          <p:nvSpPr>
            <p:cNvPr id="181" name=""/>
            <p:cNvSpPr/>
            <p:nvPr/>
          </p:nvSpPr>
          <p:spPr>
            <a:xfrm>
              <a:off x="4659120" y="2471400"/>
              <a:ext cx="1981440" cy="933120"/>
            </a:xfrm>
            <a:custGeom>
              <a:avLst/>
              <a:gdLst/>
              <a:ahLst/>
              <a:rect l="l" t="t" r="r" b="b"/>
              <a:pathLst>
                <a:path w="1248" h="588">
                  <a:moveTo>
                    <a:pt x="1248" y="0"/>
                  </a:moveTo>
                  <a:cubicBezTo>
                    <a:pt x="1163" y="21"/>
                    <a:pt x="1080" y="15"/>
                    <a:pt x="990" y="18"/>
                  </a:cubicBezTo>
                  <a:cubicBezTo>
                    <a:pt x="798" y="42"/>
                    <a:pt x="607" y="50"/>
                    <a:pt x="414" y="60"/>
                  </a:cubicBezTo>
                  <a:cubicBezTo>
                    <a:pt x="400" y="62"/>
                    <a:pt x="385" y="60"/>
                    <a:pt x="372" y="66"/>
                  </a:cubicBezTo>
                  <a:cubicBezTo>
                    <a:pt x="365" y="69"/>
                    <a:pt x="365" y="78"/>
                    <a:pt x="360" y="84"/>
                  </a:cubicBezTo>
                  <a:cubicBezTo>
                    <a:pt x="347" y="100"/>
                    <a:pt x="335" y="120"/>
                    <a:pt x="318" y="132"/>
                  </a:cubicBezTo>
                  <a:cubicBezTo>
                    <a:pt x="308" y="139"/>
                    <a:pt x="294" y="136"/>
                    <a:pt x="282" y="138"/>
                  </a:cubicBezTo>
                  <a:cubicBezTo>
                    <a:pt x="273" y="166"/>
                    <a:pt x="255" y="167"/>
                    <a:pt x="228" y="174"/>
                  </a:cubicBezTo>
                  <a:cubicBezTo>
                    <a:pt x="206" y="204"/>
                    <a:pt x="176" y="220"/>
                    <a:pt x="150" y="246"/>
                  </a:cubicBezTo>
                  <a:cubicBezTo>
                    <a:pt x="142" y="270"/>
                    <a:pt x="139" y="294"/>
                    <a:pt x="132" y="318"/>
                  </a:cubicBezTo>
                  <a:cubicBezTo>
                    <a:pt x="129" y="330"/>
                    <a:pt x="124" y="342"/>
                    <a:pt x="120" y="354"/>
                  </a:cubicBezTo>
                  <a:cubicBezTo>
                    <a:pt x="118" y="360"/>
                    <a:pt x="114" y="372"/>
                    <a:pt x="114" y="372"/>
                  </a:cubicBezTo>
                  <a:cubicBezTo>
                    <a:pt x="109" y="419"/>
                    <a:pt x="111" y="438"/>
                    <a:pt x="84" y="474"/>
                  </a:cubicBezTo>
                  <a:cubicBezTo>
                    <a:pt x="77" y="547"/>
                    <a:pt x="83" y="588"/>
                    <a:pt x="0" y="588"/>
                  </a:cubicBezTo>
                </a:path>
              </a:pathLst>
            </a:custGeom>
            <a:noFill/>
            <a:ln w="76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659120" y="3462120"/>
              <a:ext cx="2814840" cy="286920"/>
            </a:xfrm>
            <a:custGeom>
              <a:avLst/>
              <a:gdLst/>
              <a:ahLst/>
              <a:rect l="l" t="t" r="r" b="b"/>
              <a:pathLst>
                <a:path w="1773" h="181">
                  <a:moveTo>
                    <a:pt x="1773" y="109"/>
                  </a:moveTo>
                  <a:cubicBezTo>
                    <a:pt x="1711" y="103"/>
                    <a:pt x="1657" y="102"/>
                    <a:pt x="1600" y="81"/>
                  </a:cubicBezTo>
                  <a:cubicBezTo>
                    <a:pt x="1509" y="84"/>
                    <a:pt x="1418" y="85"/>
                    <a:pt x="1327" y="91"/>
                  </a:cubicBezTo>
                  <a:cubicBezTo>
                    <a:pt x="1297" y="93"/>
                    <a:pt x="1267" y="115"/>
                    <a:pt x="1237" y="118"/>
                  </a:cubicBezTo>
                  <a:cubicBezTo>
                    <a:pt x="1152" y="127"/>
                    <a:pt x="1067" y="129"/>
                    <a:pt x="982" y="136"/>
                  </a:cubicBezTo>
                  <a:cubicBezTo>
                    <a:pt x="970" y="139"/>
                    <a:pt x="957" y="140"/>
                    <a:pt x="946" y="145"/>
                  </a:cubicBezTo>
                  <a:cubicBezTo>
                    <a:pt x="936" y="149"/>
                    <a:pt x="929" y="160"/>
                    <a:pt x="918" y="163"/>
                  </a:cubicBezTo>
                  <a:cubicBezTo>
                    <a:pt x="901" y="169"/>
                    <a:pt x="882" y="168"/>
                    <a:pt x="864" y="172"/>
                  </a:cubicBezTo>
                  <a:cubicBezTo>
                    <a:pt x="855" y="174"/>
                    <a:pt x="846" y="178"/>
                    <a:pt x="837" y="181"/>
                  </a:cubicBezTo>
                  <a:cubicBezTo>
                    <a:pt x="767" y="178"/>
                    <a:pt x="698" y="177"/>
                    <a:pt x="628" y="172"/>
                  </a:cubicBezTo>
                  <a:cubicBezTo>
                    <a:pt x="537" y="166"/>
                    <a:pt x="452" y="136"/>
                    <a:pt x="364" y="118"/>
                  </a:cubicBezTo>
                  <a:cubicBezTo>
                    <a:pt x="328" y="94"/>
                    <a:pt x="287" y="87"/>
                    <a:pt x="246" y="72"/>
                  </a:cubicBezTo>
                  <a:cubicBezTo>
                    <a:pt x="225" y="65"/>
                    <a:pt x="209" y="48"/>
                    <a:pt x="191" y="36"/>
                  </a:cubicBezTo>
                  <a:cubicBezTo>
                    <a:pt x="137" y="0"/>
                    <a:pt x="58" y="9"/>
                    <a:pt x="0" y="9"/>
                  </a:cubicBezTo>
                </a:path>
              </a:pathLst>
            </a:custGeom>
            <a:noFill/>
            <a:ln w="76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763640" y="1557360"/>
              <a:ext cx="2886120" cy="1900080"/>
            </a:xfrm>
            <a:custGeom>
              <a:avLst/>
              <a:gdLst/>
              <a:ahLst/>
              <a:rect l="l" t="t" r="r" b="b"/>
              <a:pathLst>
                <a:path w="1818" h="1197">
                  <a:moveTo>
                    <a:pt x="1818" y="1197"/>
                  </a:moveTo>
                  <a:cubicBezTo>
                    <a:pt x="1804" y="1125"/>
                    <a:pt x="1777" y="1116"/>
                    <a:pt x="1727" y="1069"/>
                  </a:cubicBezTo>
                  <a:cubicBezTo>
                    <a:pt x="1709" y="1015"/>
                    <a:pt x="1732" y="1066"/>
                    <a:pt x="1691" y="1024"/>
                  </a:cubicBezTo>
                  <a:cubicBezTo>
                    <a:pt x="1650" y="982"/>
                    <a:pt x="1699" y="1005"/>
                    <a:pt x="1646" y="987"/>
                  </a:cubicBezTo>
                  <a:cubicBezTo>
                    <a:pt x="1603" y="946"/>
                    <a:pt x="1538" y="925"/>
                    <a:pt x="1482" y="906"/>
                  </a:cubicBezTo>
                  <a:cubicBezTo>
                    <a:pt x="1466" y="895"/>
                    <a:pt x="1454" y="877"/>
                    <a:pt x="1436" y="869"/>
                  </a:cubicBezTo>
                  <a:cubicBezTo>
                    <a:pt x="1422" y="863"/>
                    <a:pt x="1406" y="864"/>
                    <a:pt x="1391" y="860"/>
                  </a:cubicBezTo>
                  <a:cubicBezTo>
                    <a:pt x="1352" y="850"/>
                    <a:pt x="1311" y="837"/>
                    <a:pt x="1273" y="824"/>
                  </a:cubicBezTo>
                  <a:cubicBezTo>
                    <a:pt x="1276" y="815"/>
                    <a:pt x="1286" y="805"/>
                    <a:pt x="1282" y="796"/>
                  </a:cubicBezTo>
                  <a:cubicBezTo>
                    <a:pt x="1278" y="786"/>
                    <a:pt x="1265" y="782"/>
                    <a:pt x="1255" y="778"/>
                  </a:cubicBezTo>
                  <a:cubicBezTo>
                    <a:pt x="1228" y="766"/>
                    <a:pt x="1193" y="758"/>
                    <a:pt x="1164" y="751"/>
                  </a:cubicBezTo>
                  <a:cubicBezTo>
                    <a:pt x="1102" y="710"/>
                    <a:pt x="1041" y="669"/>
                    <a:pt x="982" y="624"/>
                  </a:cubicBezTo>
                  <a:cubicBezTo>
                    <a:pt x="962" y="609"/>
                    <a:pt x="933" y="612"/>
                    <a:pt x="909" y="606"/>
                  </a:cubicBezTo>
                  <a:cubicBezTo>
                    <a:pt x="863" y="573"/>
                    <a:pt x="812" y="575"/>
                    <a:pt x="764" y="551"/>
                  </a:cubicBezTo>
                  <a:cubicBezTo>
                    <a:pt x="696" y="517"/>
                    <a:pt x="777" y="546"/>
                    <a:pt x="709" y="524"/>
                  </a:cubicBezTo>
                  <a:cubicBezTo>
                    <a:pt x="678" y="491"/>
                    <a:pt x="662" y="480"/>
                    <a:pt x="618" y="469"/>
                  </a:cubicBezTo>
                  <a:cubicBezTo>
                    <a:pt x="598" y="410"/>
                    <a:pt x="626" y="468"/>
                    <a:pt x="582" y="433"/>
                  </a:cubicBezTo>
                  <a:cubicBezTo>
                    <a:pt x="574" y="426"/>
                    <a:pt x="572" y="414"/>
                    <a:pt x="564" y="406"/>
                  </a:cubicBezTo>
                  <a:cubicBezTo>
                    <a:pt x="556" y="398"/>
                    <a:pt x="545" y="394"/>
                    <a:pt x="537" y="387"/>
                  </a:cubicBezTo>
                  <a:cubicBezTo>
                    <a:pt x="489" y="345"/>
                    <a:pt x="471" y="313"/>
                    <a:pt x="409" y="296"/>
                  </a:cubicBezTo>
                  <a:cubicBezTo>
                    <a:pt x="370" y="270"/>
                    <a:pt x="339" y="253"/>
                    <a:pt x="300" y="233"/>
                  </a:cubicBezTo>
                  <a:cubicBezTo>
                    <a:pt x="272" y="219"/>
                    <a:pt x="253" y="195"/>
                    <a:pt x="227" y="178"/>
                  </a:cubicBezTo>
                  <a:cubicBezTo>
                    <a:pt x="211" y="131"/>
                    <a:pt x="199" y="154"/>
                    <a:pt x="164" y="124"/>
                  </a:cubicBezTo>
                  <a:cubicBezTo>
                    <a:pt x="135" y="99"/>
                    <a:pt x="123" y="72"/>
                    <a:pt x="91" y="51"/>
                  </a:cubicBezTo>
                  <a:cubicBezTo>
                    <a:pt x="74" y="0"/>
                    <a:pt x="46" y="15"/>
                    <a:pt x="0" y="15"/>
                  </a:cubicBezTo>
                </a:path>
              </a:pathLst>
            </a:custGeom>
            <a:noFill/>
            <a:ln w="76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354560" y="4071600"/>
              <a:ext cx="3319200" cy="1485720"/>
            </a:xfrm>
            <a:custGeom>
              <a:avLst/>
              <a:gdLst/>
              <a:ahLst/>
              <a:rect l="l" t="t" r="r" b="b"/>
              <a:pathLst>
                <a:path w="2091" h="936">
                  <a:moveTo>
                    <a:pt x="2091" y="0"/>
                  </a:moveTo>
                  <a:cubicBezTo>
                    <a:pt x="2070" y="32"/>
                    <a:pt x="2054" y="42"/>
                    <a:pt x="2018" y="55"/>
                  </a:cubicBezTo>
                  <a:cubicBezTo>
                    <a:pt x="1992" y="81"/>
                    <a:pt x="1984" y="118"/>
                    <a:pt x="1955" y="136"/>
                  </a:cubicBezTo>
                  <a:cubicBezTo>
                    <a:pt x="1935" y="148"/>
                    <a:pt x="1912" y="155"/>
                    <a:pt x="1891" y="164"/>
                  </a:cubicBezTo>
                  <a:cubicBezTo>
                    <a:pt x="1873" y="217"/>
                    <a:pt x="1845" y="255"/>
                    <a:pt x="1791" y="273"/>
                  </a:cubicBezTo>
                  <a:cubicBezTo>
                    <a:pt x="1736" y="328"/>
                    <a:pt x="1693" y="366"/>
                    <a:pt x="1628" y="409"/>
                  </a:cubicBezTo>
                  <a:cubicBezTo>
                    <a:pt x="1596" y="430"/>
                    <a:pt x="1558" y="461"/>
                    <a:pt x="1518" y="464"/>
                  </a:cubicBezTo>
                  <a:cubicBezTo>
                    <a:pt x="1451" y="469"/>
                    <a:pt x="1385" y="470"/>
                    <a:pt x="1318" y="473"/>
                  </a:cubicBezTo>
                  <a:cubicBezTo>
                    <a:pt x="1215" y="499"/>
                    <a:pt x="1114" y="519"/>
                    <a:pt x="1009" y="536"/>
                  </a:cubicBezTo>
                  <a:cubicBezTo>
                    <a:pt x="1000" y="545"/>
                    <a:pt x="994" y="559"/>
                    <a:pt x="982" y="564"/>
                  </a:cubicBezTo>
                  <a:cubicBezTo>
                    <a:pt x="947" y="578"/>
                    <a:pt x="873" y="591"/>
                    <a:pt x="873" y="591"/>
                  </a:cubicBezTo>
                  <a:cubicBezTo>
                    <a:pt x="864" y="597"/>
                    <a:pt x="856" y="604"/>
                    <a:pt x="846" y="609"/>
                  </a:cubicBezTo>
                  <a:cubicBezTo>
                    <a:pt x="838" y="613"/>
                    <a:pt x="827" y="613"/>
                    <a:pt x="819" y="618"/>
                  </a:cubicBezTo>
                  <a:cubicBezTo>
                    <a:pt x="811" y="622"/>
                    <a:pt x="808" y="632"/>
                    <a:pt x="800" y="636"/>
                  </a:cubicBezTo>
                  <a:cubicBezTo>
                    <a:pt x="770" y="651"/>
                    <a:pt x="731" y="651"/>
                    <a:pt x="700" y="664"/>
                  </a:cubicBezTo>
                  <a:cubicBezTo>
                    <a:pt x="579" y="715"/>
                    <a:pt x="440" y="746"/>
                    <a:pt x="309" y="764"/>
                  </a:cubicBezTo>
                  <a:cubicBezTo>
                    <a:pt x="261" y="827"/>
                    <a:pt x="243" y="834"/>
                    <a:pt x="164" y="846"/>
                  </a:cubicBezTo>
                  <a:cubicBezTo>
                    <a:pt x="139" y="863"/>
                    <a:pt x="87" y="907"/>
                    <a:pt x="55" y="918"/>
                  </a:cubicBezTo>
                  <a:cubicBezTo>
                    <a:pt x="37" y="924"/>
                    <a:pt x="0" y="936"/>
                    <a:pt x="0" y="936"/>
                  </a:cubicBezTo>
                </a:path>
              </a:pathLst>
            </a:custGeom>
            <a:noFill/>
            <a:ln w="76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640560" y="2471400"/>
              <a:ext cx="542880" cy="133200"/>
            </a:xfrm>
            <a:custGeom>
              <a:avLst/>
              <a:gdLst/>
              <a:ahLst/>
              <a:rect l="l" t="t" r="r" b="b"/>
              <a:pathLst>
                <a:path w="342" h="84">
                  <a:moveTo>
                    <a:pt x="0" y="0"/>
                  </a:moveTo>
                  <a:cubicBezTo>
                    <a:pt x="94" y="6"/>
                    <a:pt x="161" y="14"/>
                    <a:pt x="258" y="18"/>
                  </a:cubicBezTo>
                  <a:cubicBezTo>
                    <a:pt x="340" y="31"/>
                    <a:pt x="342" y="8"/>
                    <a:pt x="342" y="84"/>
                  </a:cubicBezTo>
                </a:path>
              </a:pathLst>
            </a:custGeom>
            <a:noFill/>
            <a:ln w="76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5580000" y="1989000"/>
            <a:ext cx="72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①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477040" y="4508640"/>
            <a:ext cx="711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③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72360" y="2133720"/>
            <a:ext cx="685800" cy="457200"/>
          </a:xfrm>
          <a:prstGeom prst="star5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572000" y="3284640"/>
            <a:ext cx="228600" cy="2286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95640" y="1773360"/>
            <a:ext cx="228600" cy="2286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435640" y="2421000"/>
            <a:ext cx="228600" cy="2286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19640" y="3500280"/>
            <a:ext cx="228600" cy="2286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413680" y="2997360"/>
            <a:ext cx="697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②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d"/>
  </p:transition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500"/>
                            </p:stCondLst>
                            <p:childTnLst>
                              <p:par>
                                <p:cTn id="355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2000"/>
                            </p:stCondLst>
                            <p:childTnLst>
                              <p:par>
                                <p:cTn id="358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0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3500"/>
                            </p:stCondLst>
                            <p:childTnLst>
                              <p:par>
                                <p:cTn id="3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0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500"/>
                            </p:stCondLst>
                            <p:childTnLst>
                              <p:par>
                                <p:cTn id="37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1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500"/>
                            </p:stCondLst>
                            <p:childTnLst>
                              <p:par>
                                <p:cTn id="38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7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500"/>
                            </p:stCondLst>
                            <p:childTnLst>
                              <p:par>
                                <p:cTn id="40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1000"/>
                            </p:stCondLst>
                            <p:childTnLst>
                              <p:par>
                                <p:cTn id="41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1500"/>
                            </p:stCondLst>
                            <p:childTnLst>
                              <p:par>
                                <p:cTn id="41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5e75"/>
            </a:gs>
            <a:gs pos="100000">
              <a:srgbClr val="33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395280" y="5013000"/>
            <a:ext cx="8229600" cy="161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第二亚欧大陆桥在中国的铁路干线是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        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陇海——兰新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6530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25" dur="10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30" dur="5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5e75"/>
            </a:gs>
            <a:gs pos="100000">
              <a:srgbClr val="33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-360" y="1844640"/>
            <a:ext cx="291636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Arial"/>
              </a:rPr>
              <a:t>交通枢纽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627280" y="2852640"/>
            <a:ext cx="216000" cy="2592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67320 h 2592360"/>
              <a:gd name="textAreaBottom" fmla="*/ 2525040 h 25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987640" y="2924280"/>
            <a:ext cx="482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单一枢纽：铁路枢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43280" y="4653000"/>
            <a:ext cx="63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综合枢纽：铁路—航运枢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68360" y="1341360"/>
            <a:ext cx="792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作用：为旅客、货物办理中转、发送、到达等业务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24000" y="189000"/>
            <a:ext cx="3384360" cy="70344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交通运输枢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5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0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5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5e75"/>
            </a:gs>
            <a:gs pos="100000">
              <a:srgbClr val="33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590920" y="0"/>
            <a:ext cx="4038480" cy="91440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主要铁路枢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477120" y="5410080"/>
            <a:ext cx="304560" cy="30492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2400" y="1066680"/>
            <a:ext cx="304920" cy="30492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010280" y="5791320"/>
            <a:ext cx="228600" cy="2286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095880" y="3352680"/>
            <a:ext cx="228600" cy="2286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562720" y="5715000"/>
            <a:ext cx="228600" cy="2286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181480" y="3505320"/>
            <a:ext cx="228600" cy="2286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800600" y="4343400"/>
            <a:ext cx="228600" cy="2286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267080" y="5410080"/>
            <a:ext cx="304920" cy="30492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705720" y="2590920"/>
            <a:ext cx="304560" cy="30456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162920" y="2514600"/>
            <a:ext cx="228600" cy="2286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410080" y="2438280"/>
            <a:ext cx="228600" cy="2286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7543800" y="3505320"/>
            <a:ext cx="228600" cy="2286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209680" y="1752480"/>
            <a:ext cx="228600" cy="2286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752480" y="1371600"/>
            <a:ext cx="228600" cy="2286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467480" y="4191120"/>
            <a:ext cx="228600" cy="2286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5105520"/>
            <a:ext cx="228600" cy="2286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172200" y="2438280"/>
            <a:ext cx="538200" cy="3264120"/>
          </a:xfrm>
          <a:custGeom>
            <a:avLst/>
            <a:gdLst/>
            <a:ahLst/>
            <a:rect l="l" t="t" r="r" b="b"/>
            <a:pathLst>
              <a:path w="339" h="2056">
                <a:moveTo>
                  <a:pt x="339" y="0"/>
                </a:moveTo>
                <a:cubicBezTo>
                  <a:pt x="336" y="19"/>
                  <a:pt x="339" y="39"/>
                  <a:pt x="331" y="56"/>
                </a:cubicBezTo>
                <a:cubicBezTo>
                  <a:pt x="327" y="65"/>
                  <a:pt x="312" y="64"/>
                  <a:pt x="307" y="72"/>
                </a:cubicBezTo>
                <a:cubicBezTo>
                  <a:pt x="285" y="105"/>
                  <a:pt x="289" y="191"/>
                  <a:pt x="275" y="232"/>
                </a:cubicBezTo>
                <a:cubicBezTo>
                  <a:pt x="265" y="262"/>
                  <a:pt x="235" y="304"/>
                  <a:pt x="219" y="328"/>
                </a:cubicBezTo>
                <a:cubicBezTo>
                  <a:pt x="200" y="356"/>
                  <a:pt x="190" y="392"/>
                  <a:pt x="179" y="424"/>
                </a:cubicBezTo>
                <a:cubicBezTo>
                  <a:pt x="173" y="482"/>
                  <a:pt x="159" y="534"/>
                  <a:pt x="155" y="592"/>
                </a:cubicBezTo>
                <a:cubicBezTo>
                  <a:pt x="149" y="677"/>
                  <a:pt x="147" y="750"/>
                  <a:pt x="131" y="832"/>
                </a:cubicBezTo>
                <a:cubicBezTo>
                  <a:pt x="148" y="1163"/>
                  <a:pt x="137" y="1035"/>
                  <a:pt x="155" y="1216"/>
                </a:cubicBezTo>
                <a:cubicBezTo>
                  <a:pt x="149" y="1364"/>
                  <a:pt x="189" y="1437"/>
                  <a:pt x="59" y="1480"/>
                </a:cubicBezTo>
                <a:cubicBezTo>
                  <a:pt x="33" y="1515"/>
                  <a:pt x="29" y="1542"/>
                  <a:pt x="19" y="1584"/>
                </a:cubicBezTo>
                <a:cubicBezTo>
                  <a:pt x="22" y="1640"/>
                  <a:pt x="0" y="1708"/>
                  <a:pt x="35" y="1752"/>
                </a:cubicBezTo>
                <a:cubicBezTo>
                  <a:pt x="49" y="1770"/>
                  <a:pt x="83" y="1800"/>
                  <a:pt x="83" y="1800"/>
                </a:cubicBezTo>
                <a:cubicBezTo>
                  <a:pt x="102" y="1856"/>
                  <a:pt x="74" y="1791"/>
                  <a:pt x="123" y="1840"/>
                </a:cubicBezTo>
                <a:cubicBezTo>
                  <a:pt x="129" y="1846"/>
                  <a:pt x="126" y="1857"/>
                  <a:pt x="131" y="1864"/>
                </a:cubicBezTo>
                <a:cubicBezTo>
                  <a:pt x="137" y="1872"/>
                  <a:pt x="147" y="1875"/>
                  <a:pt x="155" y="1880"/>
                </a:cubicBezTo>
                <a:cubicBezTo>
                  <a:pt x="158" y="1888"/>
                  <a:pt x="157" y="1898"/>
                  <a:pt x="163" y="1904"/>
                </a:cubicBezTo>
                <a:cubicBezTo>
                  <a:pt x="169" y="1910"/>
                  <a:pt x="180" y="1907"/>
                  <a:pt x="187" y="1912"/>
                </a:cubicBezTo>
                <a:cubicBezTo>
                  <a:pt x="204" y="1924"/>
                  <a:pt x="218" y="1940"/>
                  <a:pt x="235" y="1952"/>
                </a:cubicBezTo>
                <a:cubicBezTo>
                  <a:pt x="250" y="2010"/>
                  <a:pt x="230" y="1963"/>
                  <a:pt x="267" y="2000"/>
                </a:cubicBezTo>
                <a:cubicBezTo>
                  <a:pt x="274" y="2007"/>
                  <a:pt x="276" y="2017"/>
                  <a:pt x="283" y="2024"/>
                </a:cubicBezTo>
                <a:cubicBezTo>
                  <a:pt x="290" y="2031"/>
                  <a:pt x="299" y="2035"/>
                  <a:pt x="307" y="2040"/>
                </a:cubicBezTo>
                <a:cubicBezTo>
                  <a:pt x="317" y="2046"/>
                  <a:pt x="339" y="2056"/>
                  <a:pt x="339" y="2056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477120" y="2438280"/>
            <a:ext cx="522000" cy="3391200"/>
          </a:xfrm>
          <a:custGeom>
            <a:avLst/>
            <a:gdLst/>
            <a:ahLst/>
            <a:rect l="l" t="t" r="r" b="b"/>
            <a:pathLst>
              <a:path w="329" h="2136">
                <a:moveTo>
                  <a:pt x="173" y="0"/>
                </a:moveTo>
                <a:cubicBezTo>
                  <a:pt x="166" y="50"/>
                  <a:pt x="161" y="101"/>
                  <a:pt x="149" y="150"/>
                </a:cubicBezTo>
                <a:cubicBezTo>
                  <a:pt x="143" y="174"/>
                  <a:pt x="131" y="222"/>
                  <a:pt x="131" y="222"/>
                </a:cubicBezTo>
                <a:cubicBezTo>
                  <a:pt x="136" y="298"/>
                  <a:pt x="145" y="343"/>
                  <a:pt x="161" y="414"/>
                </a:cubicBezTo>
                <a:cubicBezTo>
                  <a:pt x="159" y="476"/>
                  <a:pt x="158" y="538"/>
                  <a:pt x="155" y="600"/>
                </a:cubicBezTo>
                <a:cubicBezTo>
                  <a:pt x="154" y="625"/>
                  <a:pt x="137" y="672"/>
                  <a:pt x="137" y="672"/>
                </a:cubicBezTo>
                <a:cubicBezTo>
                  <a:pt x="145" y="742"/>
                  <a:pt x="139" y="708"/>
                  <a:pt x="155" y="774"/>
                </a:cubicBezTo>
                <a:cubicBezTo>
                  <a:pt x="160" y="793"/>
                  <a:pt x="178" y="814"/>
                  <a:pt x="185" y="834"/>
                </a:cubicBezTo>
                <a:cubicBezTo>
                  <a:pt x="180" y="864"/>
                  <a:pt x="172" y="943"/>
                  <a:pt x="161" y="966"/>
                </a:cubicBezTo>
                <a:cubicBezTo>
                  <a:pt x="153" y="984"/>
                  <a:pt x="136" y="997"/>
                  <a:pt x="125" y="1014"/>
                </a:cubicBezTo>
                <a:cubicBezTo>
                  <a:pt x="118" y="1025"/>
                  <a:pt x="118" y="1042"/>
                  <a:pt x="107" y="1050"/>
                </a:cubicBezTo>
                <a:cubicBezTo>
                  <a:pt x="93" y="1061"/>
                  <a:pt x="75" y="1066"/>
                  <a:pt x="59" y="1074"/>
                </a:cubicBezTo>
                <a:cubicBezTo>
                  <a:pt x="0" y="1163"/>
                  <a:pt x="43" y="1091"/>
                  <a:pt x="53" y="1350"/>
                </a:cubicBezTo>
                <a:cubicBezTo>
                  <a:pt x="55" y="1396"/>
                  <a:pt x="91" y="1543"/>
                  <a:pt x="119" y="1584"/>
                </a:cubicBezTo>
                <a:cubicBezTo>
                  <a:pt x="122" y="1623"/>
                  <a:pt x="123" y="1681"/>
                  <a:pt x="137" y="1722"/>
                </a:cubicBezTo>
                <a:cubicBezTo>
                  <a:pt x="144" y="1743"/>
                  <a:pt x="152" y="1739"/>
                  <a:pt x="167" y="1752"/>
                </a:cubicBezTo>
                <a:cubicBezTo>
                  <a:pt x="180" y="1763"/>
                  <a:pt x="203" y="1788"/>
                  <a:pt x="203" y="1788"/>
                </a:cubicBezTo>
                <a:cubicBezTo>
                  <a:pt x="215" y="1823"/>
                  <a:pt x="218" y="1860"/>
                  <a:pt x="227" y="1896"/>
                </a:cubicBezTo>
                <a:cubicBezTo>
                  <a:pt x="234" y="1924"/>
                  <a:pt x="254" y="1945"/>
                  <a:pt x="269" y="1968"/>
                </a:cubicBezTo>
                <a:cubicBezTo>
                  <a:pt x="280" y="1985"/>
                  <a:pt x="294" y="2063"/>
                  <a:pt x="299" y="2082"/>
                </a:cubicBezTo>
                <a:cubicBezTo>
                  <a:pt x="301" y="2090"/>
                  <a:pt x="299" y="2100"/>
                  <a:pt x="305" y="2106"/>
                </a:cubicBezTo>
                <a:cubicBezTo>
                  <a:pt x="326" y="2127"/>
                  <a:pt x="319" y="2116"/>
                  <a:pt x="329" y="2136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781680" y="1371600"/>
            <a:ext cx="1128960" cy="1359000"/>
          </a:xfrm>
          <a:custGeom>
            <a:avLst/>
            <a:gdLst/>
            <a:ahLst/>
            <a:rect l="l" t="t" r="r" b="b"/>
            <a:pathLst>
              <a:path w="711" h="856">
                <a:moveTo>
                  <a:pt x="15" y="720"/>
                </a:moveTo>
                <a:cubicBezTo>
                  <a:pt x="19" y="774"/>
                  <a:pt x="0" y="838"/>
                  <a:pt x="55" y="856"/>
                </a:cubicBezTo>
                <a:cubicBezTo>
                  <a:pt x="74" y="853"/>
                  <a:pt x="93" y="853"/>
                  <a:pt x="111" y="848"/>
                </a:cubicBezTo>
                <a:cubicBezTo>
                  <a:pt x="158" y="834"/>
                  <a:pt x="162" y="787"/>
                  <a:pt x="183" y="760"/>
                </a:cubicBezTo>
                <a:cubicBezTo>
                  <a:pt x="197" y="742"/>
                  <a:pt x="215" y="728"/>
                  <a:pt x="231" y="712"/>
                </a:cubicBezTo>
                <a:cubicBezTo>
                  <a:pt x="238" y="705"/>
                  <a:pt x="240" y="694"/>
                  <a:pt x="247" y="688"/>
                </a:cubicBezTo>
                <a:cubicBezTo>
                  <a:pt x="268" y="670"/>
                  <a:pt x="306" y="653"/>
                  <a:pt x="327" y="632"/>
                </a:cubicBezTo>
                <a:cubicBezTo>
                  <a:pt x="363" y="596"/>
                  <a:pt x="320" y="616"/>
                  <a:pt x="367" y="600"/>
                </a:cubicBezTo>
                <a:cubicBezTo>
                  <a:pt x="392" y="575"/>
                  <a:pt x="417" y="565"/>
                  <a:pt x="447" y="544"/>
                </a:cubicBezTo>
                <a:cubicBezTo>
                  <a:pt x="463" y="533"/>
                  <a:pt x="479" y="523"/>
                  <a:pt x="495" y="512"/>
                </a:cubicBezTo>
                <a:cubicBezTo>
                  <a:pt x="503" y="507"/>
                  <a:pt x="519" y="496"/>
                  <a:pt x="519" y="496"/>
                </a:cubicBezTo>
                <a:cubicBezTo>
                  <a:pt x="530" y="480"/>
                  <a:pt x="545" y="466"/>
                  <a:pt x="551" y="448"/>
                </a:cubicBezTo>
                <a:cubicBezTo>
                  <a:pt x="565" y="406"/>
                  <a:pt x="571" y="368"/>
                  <a:pt x="591" y="328"/>
                </a:cubicBezTo>
                <a:cubicBezTo>
                  <a:pt x="595" y="319"/>
                  <a:pt x="603" y="313"/>
                  <a:pt x="607" y="304"/>
                </a:cubicBezTo>
                <a:cubicBezTo>
                  <a:pt x="614" y="289"/>
                  <a:pt x="623" y="256"/>
                  <a:pt x="623" y="256"/>
                </a:cubicBezTo>
                <a:cubicBezTo>
                  <a:pt x="626" y="235"/>
                  <a:pt x="625" y="213"/>
                  <a:pt x="631" y="192"/>
                </a:cubicBezTo>
                <a:cubicBezTo>
                  <a:pt x="634" y="183"/>
                  <a:pt x="643" y="177"/>
                  <a:pt x="647" y="168"/>
                </a:cubicBezTo>
                <a:cubicBezTo>
                  <a:pt x="664" y="135"/>
                  <a:pt x="711" y="36"/>
                  <a:pt x="711" y="0"/>
                </a:cubicBezTo>
              </a:path>
            </a:pathLst>
          </a:custGeom>
          <a:noFill/>
          <a:ln w="38160">
            <a:solidFill>
              <a:srgbClr val="33cc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781680" y="2514600"/>
            <a:ext cx="952560" cy="1609560"/>
          </a:xfrm>
          <a:custGeom>
            <a:avLst/>
            <a:gdLst/>
            <a:ahLst/>
            <a:rect l="l" t="t" r="r" b="b"/>
            <a:pathLst>
              <a:path w="600" h="1014">
                <a:moveTo>
                  <a:pt x="0" y="0"/>
                </a:moveTo>
                <a:cubicBezTo>
                  <a:pt x="4" y="22"/>
                  <a:pt x="9" y="44"/>
                  <a:pt x="12" y="66"/>
                </a:cubicBezTo>
                <a:cubicBezTo>
                  <a:pt x="15" y="82"/>
                  <a:pt x="9" y="101"/>
                  <a:pt x="18" y="114"/>
                </a:cubicBezTo>
                <a:cubicBezTo>
                  <a:pt x="25" y="124"/>
                  <a:pt x="42" y="122"/>
                  <a:pt x="54" y="126"/>
                </a:cubicBezTo>
                <a:cubicBezTo>
                  <a:pt x="60" y="164"/>
                  <a:pt x="62" y="226"/>
                  <a:pt x="78" y="264"/>
                </a:cubicBezTo>
                <a:cubicBezTo>
                  <a:pt x="113" y="345"/>
                  <a:pt x="71" y="224"/>
                  <a:pt x="96" y="300"/>
                </a:cubicBezTo>
                <a:cubicBezTo>
                  <a:pt x="90" y="423"/>
                  <a:pt x="62" y="559"/>
                  <a:pt x="102" y="678"/>
                </a:cubicBezTo>
                <a:cubicBezTo>
                  <a:pt x="104" y="714"/>
                  <a:pt x="99" y="751"/>
                  <a:pt x="108" y="786"/>
                </a:cubicBezTo>
                <a:cubicBezTo>
                  <a:pt x="112" y="802"/>
                  <a:pt x="135" y="803"/>
                  <a:pt x="150" y="810"/>
                </a:cubicBezTo>
                <a:cubicBezTo>
                  <a:pt x="217" y="840"/>
                  <a:pt x="292" y="829"/>
                  <a:pt x="360" y="852"/>
                </a:cubicBezTo>
                <a:cubicBezTo>
                  <a:pt x="367" y="874"/>
                  <a:pt x="378" y="889"/>
                  <a:pt x="384" y="912"/>
                </a:cubicBezTo>
                <a:cubicBezTo>
                  <a:pt x="388" y="944"/>
                  <a:pt x="379" y="1002"/>
                  <a:pt x="414" y="1014"/>
                </a:cubicBezTo>
                <a:cubicBezTo>
                  <a:pt x="596" y="1008"/>
                  <a:pt x="534" y="1008"/>
                  <a:pt x="6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638680" y="3505320"/>
            <a:ext cx="604800" cy="2301840"/>
          </a:xfrm>
          <a:custGeom>
            <a:avLst/>
            <a:gdLst/>
            <a:ahLst/>
            <a:rect l="l" t="t" r="r" b="b"/>
            <a:pathLst>
              <a:path w="381" h="1450">
                <a:moveTo>
                  <a:pt x="371" y="34"/>
                </a:moveTo>
                <a:cubicBezTo>
                  <a:pt x="350" y="96"/>
                  <a:pt x="381" y="0"/>
                  <a:pt x="359" y="166"/>
                </a:cubicBezTo>
                <a:cubicBezTo>
                  <a:pt x="355" y="198"/>
                  <a:pt x="328" y="222"/>
                  <a:pt x="311" y="250"/>
                </a:cubicBezTo>
                <a:cubicBezTo>
                  <a:pt x="300" y="317"/>
                  <a:pt x="307" y="335"/>
                  <a:pt x="245" y="370"/>
                </a:cubicBezTo>
                <a:cubicBezTo>
                  <a:pt x="240" y="397"/>
                  <a:pt x="236" y="422"/>
                  <a:pt x="227" y="448"/>
                </a:cubicBezTo>
                <a:cubicBezTo>
                  <a:pt x="220" y="586"/>
                  <a:pt x="267" y="718"/>
                  <a:pt x="131" y="766"/>
                </a:cubicBezTo>
                <a:cubicBezTo>
                  <a:pt x="37" y="800"/>
                  <a:pt x="114" y="774"/>
                  <a:pt x="65" y="790"/>
                </a:cubicBezTo>
                <a:cubicBezTo>
                  <a:pt x="0" y="888"/>
                  <a:pt x="50" y="805"/>
                  <a:pt x="59" y="1096"/>
                </a:cubicBezTo>
                <a:cubicBezTo>
                  <a:pt x="63" y="1217"/>
                  <a:pt x="83" y="1327"/>
                  <a:pt x="83" y="1450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343400" y="3581280"/>
            <a:ext cx="1009800" cy="1936800"/>
          </a:xfrm>
          <a:custGeom>
            <a:avLst/>
            <a:gdLst/>
            <a:ahLst/>
            <a:rect l="l" t="t" r="r" b="b"/>
            <a:pathLst>
              <a:path w="636" h="1220">
                <a:moveTo>
                  <a:pt x="636" y="0"/>
                </a:moveTo>
                <a:cubicBezTo>
                  <a:pt x="600" y="54"/>
                  <a:pt x="588" y="115"/>
                  <a:pt x="552" y="168"/>
                </a:cubicBezTo>
                <a:cubicBezTo>
                  <a:pt x="512" y="228"/>
                  <a:pt x="561" y="162"/>
                  <a:pt x="534" y="210"/>
                </a:cubicBezTo>
                <a:cubicBezTo>
                  <a:pt x="527" y="223"/>
                  <a:pt x="510" y="246"/>
                  <a:pt x="510" y="246"/>
                </a:cubicBezTo>
                <a:cubicBezTo>
                  <a:pt x="502" y="299"/>
                  <a:pt x="488" y="346"/>
                  <a:pt x="450" y="384"/>
                </a:cubicBezTo>
                <a:cubicBezTo>
                  <a:pt x="439" y="417"/>
                  <a:pt x="422" y="433"/>
                  <a:pt x="390" y="444"/>
                </a:cubicBezTo>
                <a:cubicBezTo>
                  <a:pt x="377" y="464"/>
                  <a:pt x="361" y="472"/>
                  <a:pt x="348" y="492"/>
                </a:cubicBezTo>
                <a:cubicBezTo>
                  <a:pt x="342" y="533"/>
                  <a:pt x="341" y="565"/>
                  <a:pt x="312" y="594"/>
                </a:cubicBezTo>
                <a:cubicBezTo>
                  <a:pt x="305" y="620"/>
                  <a:pt x="308" y="633"/>
                  <a:pt x="282" y="642"/>
                </a:cubicBezTo>
                <a:cubicBezTo>
                  <a:pt x="263" y="661"/>
                  <a:pt x="262" y="676"/>
                  <a:pt x="240" y="690"/>
                </a:cubicBezTo>
                <a:cubicBezTo>
                  <a:pt x="207" y="739"/>
                  <a:pt x="164" y="782"/>
                  <a:pt x="138" y="834"/>
                </a:cubicBezTo>
                <a:cubicBezTo>
                  <a:pt x="136" y="844"/>
                  <a:pt x="137" y="855"/>
                  <a:pt x="132" y="864"/>
                </a:cubicBezTo>
                <a:cubicBezTo>
                  <a:pt x="128" y="870"/>
                  <a:pt x="118" y="870"/>
                  <a:pt x="114" y="876"/>
                </a:cubicBezTo>
                <a:cubicBezTo>
                  <a:pt x="109" y="883"/>
                  <a:pt x="111" y="892"/>
                  <a:pt x="108" y="900"/>
                </a:cubicBezTo>
                <a:cubicBezTo>
                  <a:pt x="100" y="919"/>
                  <a:pt x="87" y="936"/>
                  <a:pt x="78" y="954"/>
                </a:cubicBezTo>
                <a:cubicBezTo>
                  <a:pt x="69" y="972"/>
                  <a:pt x="48" y="1008"/>
                  <a:pt x="48" y="1008"/>
                </a:cubicBezTo>
                <a:cubicBezTo>
                  <a:pt x="75" y="1048"/>
                  <a:pt x="30" y="1115"/>
                  <a:pt x="18" y="1158"/>
                </a:cubicBezTo>
                <a:cubicBezTo>
                  <a:pt x="4" y="1209"/>
                  <a:pt x="22" y="1168"/>
                  <a:pt x="0" y="1212"/>
                </a:cubicBezTo>
                <a:cubicBezTo>
                  <a:pt x="24" y="1220"/>
                  <a:pt x="12" y="1218"/>
                  <a:pt x="36" y="121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2438280"/>
            <a:ext cx="1981440" cy="933480"/>
          </a:xfrm>
          <a:custGeom>
            <a:avLst/>
            <a:gdLst/>
            <a:ahLst/>
            <a:rect l="l" t="t" r="r" b="b"/>
            <a:pathLst>
              <a:path w="1248" h="588">
                <a:moveTo>
                  <a:pt x="1248" y="0"/>
                </a:moveTo>
                <a:cubicBezTo>
                  <a:pt x="1163" y="21"/>
                  <a:pt x="1080" y="15"/>
                  <a:pt x="990" y="18"/>
                </a:cubicBezTo>
                <a:cubicBezTo>
                  <a:pt x="798" y="42"/>
                  <a:pt x="607" y="50"/>
                  <a:pt x="414" y="60"/>
                </a:cubicBezTo>
                <a:cubicBezTo>
                  <a:pt x="400" y="62"/>
                  <a:pt x="385" y="60"/>
                  <a:pt x="372" y="66"/>
                </a:cubicBezTo>
                <a:cubicBezTo>
                  <a:pt x="365" y="69"/>
                  <a:pt x="365" y="78"/>
                  <a:pt x="360" y="84"/>
                </a:cubicBezTo>
                <a:cubicBezTo>
                  <a:pt x="347" y="100"/>
                  <a:pt x="335" y="120"/>
                  <a:pt x="318" y="132"/>
                </a:cubicBezTo>
                <a:cubicBezTo>
                  <a:pt x="308" y="139"/>
                  <a:pt x="294" y="136"/>
                  <a:pt x="282" y="138"/>
                </a:cubicBezTo>
                <a:cubicBezTo>
                  <a:pt x="273" y="166"/>
                  <a:pt x="255" y="167"/>
                  <a:pt x="228" y="174"/>
                </a:cubicBezTo>
                <a:cubicBezTo>
                  <a:pt x="206" y="204"/>
                  <a:pt x="176" y="220"/>
                  <a:pt x="150" y="246"/>
                </a:cubicBezTo>
                <a:cubicBezTo>
                  <a:pt x="142" y="270"/>
                  <a:pt x="139" y="294"/>
                  <a:pt x="132" y="318"/>
                </a:cubicBezTo>
                <a:cubicBezTo>
                  <a:pt x="129" y="330"/>
                  <a:pt x="124" y="342"/>
                  <a:pt x="120" y="354"/>
                </a:cubicBezTo>
                <a:cubicBezTo>
                  <a:pt x="118" y="360"/>
                  <a:pt x="114" y="372"/>
                  <a:pt x="114" y="372"/>
                </a:cubicBezTo>
                <a:cubicBezTo>
                  <a:pt x="109" y="419"/>
                  <a:pt x="111" y="438"/>
                  <a:pt x="84" y="474"/>
                </a:cubicBezTo>
                <a:cubicBezTo>
                  <a:pt x="77" y="547"/>
                  <a:pt x="83" y="588"/>
                  <a:pt x="0" y="588"/>
                </a:cubicBezTo>
              </a:path>
            </a:pathLst>
          </a:cu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724280" y="3429000"/>
            <a:ext cx="2814840" cy="287280"/>
          </a:xfrm>
          <a:custGeom>
            <a:avLst/>
            <a:gdLst/>
            <a:ahLst/>
            <a:rect l="l" t="t" r="r" b="b"/>
            <a:pathLst>
              <a:path w="1773" h="181">
                <a:moveTo>
                  <a:pt x="1773" y="109"/>
                </a:moveTo>
                <a:cubicBezTo>
                  <a:pt x="1711" y="103"/>
                  <a:pt x="1657" y="102"/>
                  <a:pt x="1600" y="81"/>
                </a:cubicBezTo>
                <a:cubicBezTo>
                  <a:pt x="1509" y="84"/>
                  <a:pt x="1418" y="85"/>
                  <a:pt x="1327" y="91"/>
                </a:cubicBezTo>
                <a:cubicBezTo>
                  <a:pt x="1297" y="93"/>
                  <a:pt x="1267" y="115"/>
                  <a:pt x="1237" y="118"/>
                </a:cubicBezTo>
                <a:cubicBezTo>
                  <a:pt x="1152" y="127"/>
                  <a:pt x="1067" y="129"/>
                  <a:pt x="982" y="136"/>
                </a:cubicBezTo>
                <a:cubicBezTo>
                  <a:pt x="970" y="139"/>
                  <a:pt x="957" y="140"/>
                  <a:pt x="946" y="145"/>
                </a:cubicBezTo>
                <a:cubicBezTo>
                  <a:pt x="936" y="149"/>
                  <a:pt x="929" y="160"/>
                  <a:pt x="918" y="163"/>
                </a:cubicBezTo>
                <a:cubicBezTo>
                  <a:pt x="901" y="169"/>
                  <a:pt x="882" y="168"/>
                  <a:pt x="864" y="172"/>
                </a:cubicBezTo>
                <a:cubicBezTo>
                  <a:pt x="855" y="174"/>
                  <a:pt x="846" y="178"/>
                  <a:pt x="837" y="181"/>
                </a:cubicBezTo>
                <a:cubicBezTo>
                  <a:pt x="767" y="178"/>
                  <a:pt x="698" y="177"/>
                  <a:pt x="628" y="172"/>
                </a:cubicBezTo>
                <a:cubicBezTo>
                  <a:pt x="537" y="166"/>
                  <a:pt x="452" y="136"/>
                  <a:pt x="364" y="118"/>
                </a:cubicBezTo>
                <a:cubicBezTo>
                  <a:pt x="328" y="94"/>
                  <a:pt x="287" y="87"/>
                  <a:pt x="246" y="72"/>
                </a:cubicBezTo>
                <a:cubicBezTo>
                  <a:pt x="225" y="65"/>
                  <a:pt x="209" y="48"/>
                  <a:pt x="191" y="36"/>
                </a:cubicBezTo>
                <a:cubicBezTo>
                  <a:pt x="137" y="0"/>
                  <a:pt x="58" y="9"/>
                  <a:pt x="0" y="9"/>
                </a:cubicBezTo>
              </a:path>
            </a:pathLst>
          </a:cu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828800" y="1523880"/>
            <a:ext cx="2895480" cy="1905120"/>
          </a:xfrm>
          <a:custGeom>
            <a:avLst/>
            <a:gdLst/>
            <a:ahLst/>
            <a:rect l="l" t="t" r="r" b="b"/>
            <a:pathLst>
              <a:path w="1818" h="1197">
                <a:moveTo>
                  <a:pt x="1818" y="1197"/>
                </a:moveTo>
                <a:cubicBezTo>
                  <a:pt x="1804" y="1125"/>
                  <a:pt x="1777" y="1116"/>
                  <a:pt x="1727" y="1069"/>
                </a:cubicBezTo>
                <a:cubicBezTo>
                  <a:pt x="1709" y="1015"/>
                  <a:pt x="1732" y="1066"/>
                  <a:pt x="1691" y="1024"/>
                </a:cubicBezTo>
                <a:cubicBezTo>
                  <a:pt x="1650" y="982"/>
                  <a:pt x="1699" y="1005"/>
                  <a:pt x="1646" y="987"/>
                </a:cubicBezTo>
                <a:cubicBezTo>
                  <a:pt x="1603" y="946"/>
                  <a:pt x="1538" y="925"/>
                  <a:pt x="1482" y="906"/>
                </a:cubicBezTo>
                <a:cubicBezTo>
                  <a:pt x="1466" y="895"/>
                  <a:pt x="1454" y="877"/>
                  <a:pt x="1436" y="869"/>
                </a:cubicBezTo>
                <a:cubicBezTo>
                  <a:pt x="1422" y="863"/>
                  <a:pt x="1406" y="864"/>
                  <a:pt x="1391" y="860"/>
                </a:cubicBezTo>
                <a:cubicBezTo>
                  <a:pt x="1352" y="850"/>
                  <a:pt x="1311" y="837"/>
                  <a:pt x="1273" y="824"/>
                </a:cubicBezTo>
                <a:cubicBezTo>
                  <a:pt x="1276" y="815"/>
                  <a:pt x="1286" y="805"/>
                  <a:pt x="1282" y="796"/>
                </a:cubicBezTo>
                <a:cubicBezTo>
                  <a:pt x="1278" y="786"/>
                  <a:pt x="1265" y="782"/>
                  <a:pt x="1255" y="778"/>
                </a:cubicBezTo>
                <a:cubicBezTo>
                  <a:pt x="1228" y="766"/>
                  <a:pt x="1193" y="758"/>
                  <a:pt x="1164" y="751"/>
                </a:cubicBezTo>
                <a:cubicBezTo>
                  <a:pt x="1102" y="710"/>
                  <a:pt x="1041" y="669"/>
                  <a:pt x="982" y="624"/>
                </a:cubicBezTo>
                <a:cubicBezTo>
                  <a:pt x="962" y="609"/>
                  <a:pt x="933" y="612"/>
                  <a:pt x="909" y="606"/>
                </a:cubicBezTo>
                <a:cubicBezTo>
                  <a:pt x="863" y="573"/>
                  <a:pt x="812" y="575"/>
                  <a:pt x="764" y="551"/>
                </a:cubicBezTo>
                <a:cubicBezTo>
                  <a:pt x="696" y="517"/>
                  <a:pt x="777" y="546"/>
                  <a:pt x="709" y="524"/>
                </a:cubicBezTo>
                <a:cubicBezTo>
                  <a:pt x="678" y="491"/>
                  <a:pt x="662" y="480"/>
                  <a:pt x="618" y="469"/>
                </a:cubicBezTo>
                <a:cubicBezTo>
                  <a:pt x="598" y="410"/>
                  <a:pt x="626" y="468"/>
                  <a:pt x="582" y="433"/>
                </a:cubicBezTo>
                <a:cubicBezTo>
                  <a:pt x="574" y="426"/>
                  <a:pt x="572" y="414"/>
                  <a:pt x="564" y="406"/>
                </a:cubicBezTo>
                <a:cubicBezTo>
                  <a:pt x="556" y="398"/>
                  <a:pt x="545" y="394"/>
                  <a:pt x="537" y="387"/>
                </a:cubicBezTo>
                <a:cubicBezTo>
                  <a:pt x="489" y="345"/>
                  <a:pt x="471" y="313"/>
                  <a:pt x="409" y="296"/>
                </a:cubicBezTo>
                <a:cubicBezTo>
                  <a:pt x="370" y="270"/>
                  <a:pt x="339" y="253"/>
                  <a:pt x="300" y="233"/>
                </a:cubicBezTo>
                <a:cubicBezTo>
                  <a:pt x="272" y="219"/>
                  <a:pt x="253" y="195"/>
                  <a:pt x="227" y="178"/>
                </a:cubicBezTo>
                <a:cubicBezTo>
                  <a:pt x="211" y="131"/>
                  <a:pt x="199" y="154"/>
                  <a:pt x="164" y="124"/>
                </a:cubicBezTo>
                <a:cubicBezTo>
                  <a:pt x="135" y="99"/>
                  <a:pt x="123" y="72"/>
                  <a:pt x="91" y="51"/>
                </a:cubicBezTo>
                <a:cubicBezTo>
                  <a:pt x="74" y="0"/>
                  <a:pt x="46" y="15"/>
                  <a:pt x="0" y="15"/>
                </a:cubicBezTo>
              </a:path>
            </a:pathLst>
          </a:cu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4038480"/>
            <a:ext cx="3319200" cy="1486080"/>
          </a:xfrm>
          <a:custGeom>
            <a:avLst/>
            <a:gdLst/>
            <a:ahLst/>
            <a:rect l="l" t="t" r="r" b="b"/>
            <a:pathLst>
              <a:path w="2091" h="936">
                <a:moveTo>
                  <a:pt x="2091" y="0"/>
                </a:moveTo>
                <a:cubicBezTo>
                  <a:pt x="2070" y="32"/>
                  <a:pt x="2054" y="42"/>
                  <a:pt x="2018" y="55"/>
                </a:cubicBezTo>
                <a:cubicBezTo>
                  <a:pt x="1992" y="81"/>
                  <a:pt x="1984" y="118"/>
                  <a:pt x="1955" y="136"/>
                </a:cubicBezTo>
                <a:cubicBezTo>
                  <a:pt x="1935" y="148"/>
                  <a:pt x="1912" y="155"/>
                  <a:pt x="1891" y="164"/>
                </a:cubicBezTo>
                <a:cubicBezTo>
                  <a:pt x="1873" y="217"/>
                  <a:pt x="1845" y="255"/>
                  <a:pt x="1791" y="273"/>
                </a:cubicBezTo>
                <a:cubicBezTo>
                  <a:pt x="1736" y="328"/>
                  <a:pt x="1693" y="366"/>
                  <a:pt x="1628" y="409"/>
                </a:cubicBezTo>
                <a:cubicBezTo>
                  <a:pt x="1596" y="430"/>
                  <a:pt x="1558" y="461"/>
                  <a:pt x="1518" y="464"/>
                </a:cubicBezTo>
                <a:cubicBezTo>
                  <a:pt x="1451" y="469"/>
                  <a:pt x="1385" y="470"/>
                  <a:pt x="1318" y="473"/>
                </a:cubicBezTo>
                <a:cubicBezTo>
                  <a:pt x="1215" y="499"/>
                  <a:pt x="1114" y="519"/>
                  <a:pt x="1009" y="536"/>
                </a:cubicBezTo>
                <a:cubicBezTo>
                  <a:pt x="1000" y="545"/>
                  <a:pt x="994" y="559"/>
                  <a:pt x="982" y="564"/>
                </a:cubicBezTo>
                <a:cubicBezTo>
                  <a:pt x="947" y="578"/>
                  <a:pt x="873" y="591"/>
                  <a:pt x="873" y="591"/>
                </a:cubicBezTo>
                <a:cubicBezTo>
                  <a:pt x="864" y="597"/>
                  <a:pt x="856" y="604"/>
                  <a:pt x="846" y="609"/>
                </a:cubicBezTo>
                <a:cubicBezTo>
                  <a:pt x="838" y="613"/>
                  <a:pt x="827" y="613"/>
                  <a:pt x="819" y="618"/>
                </a:cubicBezTo>
                <a:cubicBezTo>
                  <a:pt x="811" y="622"/>
                  <a:pt x="808" y="632"/>
                  <a:pt x="800" y="636"/>
                </a:cubicBezTo>
                <a:cubicBezTo>
                  <a:pt x="770" y="651"/>
                  <a:pt x="731" y="651"/>
                  <a:pt x="700" y="664"/>
                </a:cubicBezTo>
                <a:cubicBezTo>
                  <a:pt x="579" y="715"/>
                  <a:pt x="440" y="746"/>
                  <a:pt x="309" y="764"/>
                </a:cubicBezTo>
                <a:cubicBezTo>
                  <a:pt x="261" y="827"/>
                  <a:pt x="243" y="834"/>
                  <a:pt x="164" y="846"/>
                </a:cubicBezTo>
                <a:cubicBezTo>
                  <a:pt x="139" y="863"/>
                  <a:pt x="87" y="907"/>
                  <a:pt x="55" y="918"/>
                </a:cubicBezTo>
                <a:cubicBezTo>
                  <a:pt x="37" y="924"/>
                  <a:pt x="0" y="936"/>
                  <a:pt x="0" y="936"/>
                </a:cubicBezTo>
              </a:path>
            </a:pathLst>
          </a:cu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324480" y="3505320"/>
            <a:ext cx="228600" cy="22860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8172360" y="3573360"/>
            <a:ext cx="971640" cy="541440"/>
          </a:xfrm>
          <a:prstGeom prst="wedgeRoundRectCallout">
            <a:avLst>
              <a:gd name="adj1" fmla="val -94773"/>
              <a:gd name="adj2" fmla="val 41495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上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508720" y="5661000"/>
            <a:ext cx="1117440" cy="531720"/>
          </a:xfrm>
          <a:prstGeom prst="wedgeRoundRectCallout">
            <a:avLst>
              <a:gd name="adj1" fmla="val 13208"/>
              <a:gd name="adj2" fmla="val -188208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株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932360" y="1628640"/>
            <a:ext cx="1087560" cy="505080"/>
          </a:xfrm>
          <a:prstGeom prst="wedgeRoundRectCallout">
            <a:avLst>
              <a:gd name="adj1" fmla="val 111750"/>
              <a:gd name="adj2" fmla="val 99685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北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843280" y="3357720"/>
            <a:ext cx="1195200" cy="502920"/>
          </a:xfrm>
          <a:prstGeom prst="wedgeRoundRectCallout">
            <a:avLst>
              <a:gd name="adj1" fmla="val 102856"/>
              <a:gd name="adj2" fmla="val -42115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兰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148360" y="3068640"/>
            <a:ext cx="1079280" cy="504720"/>
          </a:xfrm>
          <a:prstGeom prst="wedgeRoundRectCallout">
            <a:avLst>
              <a:gd name="adj1" fmla="val 67648"/>
              <a:gd name="adj2" fmla="val 51259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郑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705720" y="2438280"/>
            <a:ext cx="542880" cy="133560"/>
          </a:xfrm>
          <a:custGeom>
            <a:avLst/>
            <a:gdLst/>
            <a:ahLst/>
            <a:rect l="l" t="t" r="r" b="b"/>
            <a:pathLst>
              <a:path w="342" h="84">
                <a:moveTo>
                  <a:pt x="0" y="0"/>
                </a:moveTo>
                <a:cubicBezTo>
                  <a:pt x="94" y="6"/>
                  <a:pt x="161" y="14"/>
                  <a:pt x="258" y="18"/>
                </a:cubicBezTo>
                <a:cubicBezTo>
                  <a:pt x="340" y="31"/>
                  <a:pt x="342" y="8"/>
                  <a:pt x="342" y="84"/>
                </a:cubicBezTo>
              </a:path>
            </a:pathLst>
          </a:custGeom>
          <a:noFill/>
          <a:ln w="50760">
            <a:solidFill>
              <a:srgbClr val="33cc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781680" y="3500280"/>
            <a:ext cx="238320" cy="233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380360" y="2565360"/>
            <a:ext cx="1008000" cy="460440"/>
          </a:xfrm>
          <a:prstGeom prst="wedgeRoundRectCallout">
            <a:avLst>
              <a:gd name="adj1" fmla="val -90157"/>
              <a:gd name="adj2" fmla="val 193791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徐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572000" y="3276720"/>
            <a:ext cx="216000" cy="22356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095880" y="4724280"/>
            <a:ext cx="204840" cy="2174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400800" y="2133720"/>
            <a:ext cx="685800" cy="45720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620120" y="3962520"/>
            <a:ext cx="228600" cy="22860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72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3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4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5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6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8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5e75"/>
            </a:gs>
            <a:gs pos="100000">
              <a:srgbClr val="33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900000" y="1785960"/>
            <a:ext cx="754380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Times New Roman"/>
              </a:rPr>
              <a:t>第一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Times New Roman"/>
              </a:rPr>
              <a:t>逐步完善的交通运输网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5e75"/>
            </a:gs>
            <a:gs pos="100000">
              <a:srgbClr val="33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6948000" y="189000"/>
            <a:ext cx="108108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北京是全国重要的交通运输枢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51672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5e75"/>
            </a:gs>
            <a:gs pos="100000">
              <a:srgbClr val="33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1260360" y="425520"/>
            <a:ext cx="6894720" cy="5718240"/>
          </a:xfrm>
          <a:custGeom>
            <a:avLst/>
            <a:gdLst/>
            <a:ahLst/>
            <a:rect l="l" t="t" r="r" b="b"/>
            <a:pathLst>
              <a:path w="4343" h="3602">
                <a:moveTo>
                  <a:pt x="1196" y="298"/>
                </a:moveTo>
                <a:cubicBezTo>
                  <a:pt x="1214" y="290"/>
                  <a:pt x="1262" y="302"/>
                  <a:pt x="1274" y="302"/>
                </a:cubicBezTo>
                <a:cubicBezTo>
                  <a:pt x="1286" y="302"/>
                  <a:pt x="1270" y="287"/>
                  <a:pt x="1268" y="296"/>
                </a:cubicBezTo>
                <a:cubicBezTo>
                  <a:pt x="1266" y="305"/>
                  <a:pt x="1256" y="334"/>
                  <a:pt x="1262" y="358"/>
                </a:cubicBezTo>
                <a:cubicBezTo>
                  <a:pt x="1268" y="382"/>
                  <a:pt x="1292" y="428"/>
                  <a:pt x="1306" y="442"/>
                </a:cubicBezTo>
                <a:cubicBezTo>
                  <a:pt x="1320" y="456"/>
                  <a:pt x="1340" y="437"/>
                  <a:pt x="1348" y="442"/>
                </a:cubicBezTo>
                <a:cubicBezTo>
                  <a:pt x="1356" y="447"/>
                  <a:pt x="1352" y="468"/>
                  <a:pt x="1356" y="474"/>
                </a:cubicBezTo>
                <a:cubicBezTo>
                  <a:pt x="1360" y="480"/>
                  <a:pt x="1365" y="457"/>
                  <a:pt x="1374" y="476"/>
                </a:cubicBezTo>
                <a:cubicBezTo>
                  <a:pt x="1383" y="495"/>
                  <a:pt x="1407" y="558"/>
                  <a:pt x="1412" y="590"/>
                </a:cubicBezTo>
                <a:cubicBezTo>
                  <a:pt x="1417" y="622"/>
                  <a:pt x="1409" y="641"/>
                  <a:pt x="1402" y="668"/>
                </a:cubicBezTo>
                <a:cubicBezTo>
                  <a:pt x="1395" y="695"/>
                  <a:pt x="1359" y="731"/>
                  <a:pt x="1368" y="752"/>
                </a:cubicBezTo>
                <a:cubicBezTo>
                  <a:pt x="1377" y="773"/>
                  <a:pt x="1422" y="782"/>
                  <a:pt x="1454" y="796"/>
                </a:cubicBezTo>
                <a:cubicBezTo>
                  <a:pt x="1486" y="810"/>
                  <a:pt x="1529" y="816"/>
                  <a:pt x="1558" y="836"/>
                </a:cubicBezTo>
                <a:cubicBezTo>
                  <a:pt x="1587" y="856"/>
                  <a:pt x="1608" y="901"/>
                  <a:pt x="1626" y="914"/>
                </a:cubicBezTo>
                <a:cubicBezTo>
                  <a:pt x="1644" y="927"/>
                  <a:pt x="1655" y="898"/>
                  <a:pt x="1664" y="916"/>
                </a:cubicBezTo>
                <a:cubicBezTo>
                  <a:pt x="1673" y="934"/>
                  <a:pt x="1676" y="998"/>
                  <a:pt x="1682" y="1022"/>
                </a:cubicBezTo>
                <a:cubicBezTo>
                  <a:pt x="1688" y="1046"/>
                  <a:pt x="1695" y="1047"/>
                  <a:pt x="1702" y="1060"/>
                </a:cubicBezTo>
                <a:cubicBezTo>
                  <a:pt x="1709" y="1073"/>
                  <a:pt x="1706" y="1092"/>
                  <a:pt x="1722" y="1100"/>
                </a:cubicBezTo>
                <a:cubicBezTo>
                  <a:pt x="1738" y="1108"/>
                  <a:pt x="1770" y="1102"/>
                  <a:pt x="1798" y="1108"/>
                </a:cubicBezTo>
                <a:cubicBezTo>
                  <a:pt x="1826" y="1114"/>
                  <a:pt x="1858" y="1132"/>
                  <a:pt x="1890" y="1138"/>
                </a:cubicBezTo>
                <a:cubicBezTo>
                  <a:pt x="1922" y="1144"/>
                  <a:pt x="1962" y="1138"/>
                  <a:pt x="1992" y="1142"/>
                </a:cubicBezTo>
                <a:cubicBezTo>
                  <a:pt x="2022" y="1146"/>
                  <a:pt x="2050" y="1152"/>
                  <a:pt x="2070" y="1164"/>
                </a:cubicBezTo>
                <a:cubicBezTo>
                  <a:pt x="2090" y="1176"/>
                  <a:pt x="2097" y="1203"/>
                  <a:pt x="2110" y="1212"/>
                </a:cubicBezTo>
                <a:cubicBezTo>
                  <a:pt x="2123" y="1221"/>
                  <a:pt x="2133" y="1207"/>
                  <a:pt x="2150" y="1216"/>
                </a:cubicBezTo>
                <a:cubicBezTo>
                  <a:pt x="2167" y="1225"/>
                  <a:pt x="2193" y="1256"/>
                  <a:pt x="2214" y="1264"/>
                </a:cubicBezTo>
                <a:cubicBezTo>
                  <a:pt x="2235" y="1272"/>
                  <a:pt x="2259" y="1257"/>
                  <a:pt x="2274" y="1262"/>
                </a:cubicBezTo>
                <a:cubicBezTo>
                  <a:pt x="2289" y="1267"/>
                  <a:pt x="2280" y="1297"/>
                  <a:pt x="2306" y="1292"/>
                </a:cubicBezTo>
                <a:cubicBezTo>
                  <a:pt x="2332" y="1287"/>
                  <a:pt x="2399" y="1247"/>
                  <a:pt x="2428" y="1234"/>
                </a:cubicBezTo>
                <a:cubicBezTo>
                  <a:pt x="2457" y="1221"/>
                  <a:pt x="2465" y="1220"/>
                  <a:pt x="2478" y="1216"/>
                </a:cubicBezTo>
                <a:cubicBezTo>
                  <a:pt x="2491" y="1212"/>
                  <a:pt x="2496" y="1212"/>
                  <a:pt x="2504" y="1212"/>
                </a:cubicBezTo>
                <a:cubicBezTo>
                  <a:pt x="2512" y="1212"/>
                  <a:pt x="2507" y="1217"/>
                  <a:pt x="2528" y="1218"/>
                </a:cubicBezTo>
                <a:cubicBezTo>
                  <a:pt x="2549" y="1219"/>
                  <a:pt x="2602" y="1224"/>
                  <a:pt x="2632" y="1216"/>
                </a:cubicBezTo>
                <a:cubicBezTo>
                  <a:pt x="2662" y="1208"/>
                  <a:pt x="2690" y="1188"/>
                  <a:pt x="2710" y="1172"/>
                </a:cubicBezTo>
                <a:cubicBezTo>
                  <a:pt x="2730" y="1156"/>
                  <a:pt x="2737" y="1135"/>
                  <a:pt x="2754" y="1120"/>
                </a:cubicBezTo>
                <a:cubicBezTo>
                  <a:pt x="2771" y="1105"/>
                  <a:pt x="2810" y="1097"/>
                  <a:pt x="2814" y="1080"/>
                </a:cubicBezTo>
                <a:cubicBezTo>
                  <a:pt x="2818" y="1063"/>
                  <a:pt x="2781" y="1036"/>
                  <a:pt x="2778" y="1016"/>
                </a:cubicBezTo>
                <a:cubicBezTo>
                  <a:pt x="2775" y="996"/>
                  <a:pt x="2788" y="971"/>
                  <a:pt x="2796" y="958"/>
                </a:cubicBezTo>
                <a:cubicBezTo>
                  <a:pt x="2804" y="945"/>
                  <a:pt x="2803" y="932"/>
                  <a:pt x="2824" y="936"/>
                </a:cubicBezTo>
                <a:cubicBezTo>
                  <a:pt x="2845" y="940"/>
                  <a:pt x="2891" y="986"/>
                  <a:pt x="2922" y="980"/>
                </a:cubicBezTo>
                <a:cubicBezTo>
                  <a:pt x="2953" y="974"/>
                  <a:pt x="2985" y="915"/>
                  <a:pt x="3012" y="898"/>
                </a:cubicBezTo>
                <a:cubicBezTo>
                  <a:pt x="3039" y="881"/>
                  <a:pt x="3066" y="896"/>
                  <a:pt x="3086" y="880"/>
                </a:cubicBezTo>
                <a:cubicBezTo>
                  <a:pt x="3106" y="864"/>
                  <a:pt x="3119" y="815"/>
                  <a:pt x="3134" y="800"/>
                </a:cubicBezTo>
                <a:cubicBezTo>
                  <a:pt x="3149" y="785"/>
                  <a:pt x="3168" y="797"/>
                  <a:pt x="3178" y="790"/>
                </a:cubicBezTo>
                <a:cubicBezTo>
                  <a:pt x="3188" y="783"/>
                  <a:pt x="3189" y="765"/>
                  <a:pt x="3196" y="760"/>
                </a:cubicBezTo>
                <a:cubicBezTo>
                  <a:pt x="3203" y="755"/>
                  <a:pt x="3209" y="762"/>
                  <a:pt x="3218" y="760"/>
                </a:cubicBezTo>
                <a:cubicBezTo>
                  <a:pt x="3227" y="758"/>
                  <a:pt x="3244" y="749"/>
                  <a:pt x="3252" y="746"/>
                </a:cubicBezTo>
                <a:cubicBezTo>
                  <a:pt x="3260" y="743"/>
                  <a:pt x="3262" y="743"/>
                  <a:pt x="3268" y="742"/>
                </a:cubicBezTo>
                <a:cubicBezTo>
                  <a:pt x="3274" y="741"/>
                  <a:pt x="3276" y="736"/>
                  <a:pt x="3286" y="740"/>
                </a:cubicBezTo>
                <a:cubicBezTo>
                  <a:pt x="3296" y="744"/>
                  <a:pt x="3316" y="772"/>
                  <a:pt x="3326" y="768"/>
                </a:cubicBezTo>
                <a:cubicBezTo>
                  <a:pt x="3336" y="764"/>
                  <a:pt x="3359" y="745"/>
                  <a:pt x="3344" y="718"/>
                </a:cubicBezTo>
                <a:cubicBezTo>
                  <a:pt x="3329" y="691"/>
                  <a:pt x="3260" y="625"/>
                  <a:pt x="3236" y="608"/>
                </a:cubicBezTo>
                <a:cubicBezTo>
                  <a:pt x="3212" y="591"/>
                  <a:pt x="3206" y="608"/>
                  <a:pt x="3198" y="614"/>
                </a:cubicBezTo>
                <a:cubicBezTo>
                  <a:pt x="3190" y="620"/>
                  <a:pt x="3194" y="639"/>
                  <a:pt x="3188" y="642"/>
                </a:cubicBezTo>
                <a:cubicBezTo>
                  <a:pt x="3182" y="645"/>
                  <a:pt x="3176" y="632"/>
                  <a:pt x="3160" y="632"/>
                </a:cubicBezTo>
                <a:cubicBezTo>
                  <a:pt x="3144" y="632"/>
                  <a:pt x="3108" y="635"/>
                  <a:pt x="3094" y="640"/>
                </a:cubicBezTo>
                <a:cubicBezTo>
                  <a:pt x="3080" y="645"/>
                  <a:pt x="3081" y="665"/>
                  <a:pt x="3074" y="664"/>
                </a:cubicBezTo>
                <a:cubicBezTo>
                  <a:pt x="3067" y="663"/>
                  <a:pt x="3056" y="643"/>
                  <a:pt x="3052" y="632"/>
                </a:cubicBezTo>
                <a:cubicBezTo>
                  <a:pt x="3048" y="621"/>
                  <a:pt x="3045" y="608"/>
                  <a:pt x="3048" y="600"/>
                </a:cubicBezTo>
                <a:cubicBezTo>
                  <a:pt x="3051" y="592"/>
                  <a:pt x="3057" y="614"/>
                  <a:pt x="3068" y="586"/>
                </a:cubicBezTo>
                <a:cubicBezTo>
                  <a:pt x="3079" y="558"/>
                  <a:pt x="3100" y="454"/>
                  <a:pt x="3116" y="430"/>
                </a:cubicBezTo>
                <a:cubicBezTo>
                  <a:pt x="3132" y="406"/>
                  <a:pt x="3143" y="446"/>
                  <a:pt x="3166" y="442"/>
                </a:cubicBezTo>
                <a:cubicBezTo>
                  <a:pt x="3189" y="438"/>
                  <a:pt x="3233" y="416"/>
                  <a:pt x="3252" y="406"/>
                </a:cubicBezTo>
                <a:cubicBezTo>
                  <a:pt x="3271" y="396"/>
                  <a:pt x="3279" y="394"/>
                  <a:pt x="3282" y="384"/>
                </a:cubicBezTo>
                <a:cubicBezTo>
                  <a:pt x="3285" y="374"/>
                  <a:pt x="3265" y="368"/>
                  <a:pt x="3270" y="346"/>
                </a:cubicBezTo>
                <a:cubicBezTo>
                  <a:pt x="3275" y="324"/>
                  <a:pt x="3304" y="276"/>
                  <a:pt x="3312" y="252"/>
                </a:cubicBezTo>
                <a:cubicBezTo>
                  <a:pt x="3320" y="228"/>
                  <a:pt x="3310" y="212"/>
                  <a:pt x="3320" y="204"/>
                </a:cubicBezTo>
                <a:cubicBezTo>
                  <a:pt x="3330" y="196"/>
                  <a:pt x="3361" y="211"/>
                  <a:pt x="3370" y="204"/>
                </a:cubicBezTo>
                <a:cubicBezTo>
                  <a:pt x="3379" y="197"/>
                  <a:pt x="3378" y="172"/>
                  <a:pt x="3376" y="164"/>
                </a:cubicBezTo>
                <a:cubicBezTo>
                  <a:pt x="3374" y="156"/>
                  <a:pt x="3363" y="161"/>
                  <a:pt x="3358" y="154"/>
                </a:cubicBezTo>
                <a:cubicBezTo>
                  <a:pt x="3353" y="147"/>
                  <a:pt x="3353" y="130"/>
                  <a:pt x="3346" y="124"/>
                </a:cubicBezTo>
                <a:cubicBezTo>
                  <a:pt x="3339" y="118"/>
                  <a:pt x="3315" y="132"/>
                  <a:pt x="3314" y="120"/>
                </a:cubicBezTo>
                <a:cubicBezTo>
                  <a:pt x="3313" y="108"/>
                  <a:pt x="3326" y="66"/>
                  <a:pt x="3342" y="52"/>
                </a:cubicBezTo>
                <a:cubicBezTo>
                  <a:pt x="3358" y="38"/>
                  <a:pt x="3400" y="46"/>
                  <a:pt x="3412" y="38"/>
                </a:cubicBezTo>
                <a:cubicBezTo>
                  <a:pt x="3424" y="30"/>
                  <a:pt x="3403" y="7"/>
                  <a:pt x="3414" y="4"/>
                </a:cubicBezTo>
                <a:cubicBezTo>
                  <a:pt x="3425" y="1"/>
                  <a:pt x="3457" y="20"/>
                  <a:pt x="3478" y="20"/>
                </a:cubicBezTo>
                <a:cubicBezTo>
                  <a:pt x="3499" y="20"/>
                  <a:pt x="3521" y="0"/>
                  <a:pt x="3540" y="2"/>
                </a:cubicBezTo>
                <a:cubicBezTo>
                  <a:pt x="3559" y="4"/>
                  <a:pt x="3578" y="29"/>
                  <a:pt x="3592" y="32"/>
                </a:cubicBezTo>
                <a:cubicBezTo>
                  <a:pt x="3606" y="35"/>
                  <a:pt x="3605" y="11"/>
                  <a:pt x="3622" y="20"/>
                </a:cubicBezTo>
                <a:cubicBezTo>
                  <a:pt x="3639" y="29"/>
                  <a:pt x="3667" y="49"/>
                  <a:pt x="3694" y="88"/>
                </a:cubicBezTo>
                <a:cubicBezTo>
                  <a:pt x="3721" y="127"/>
                  <a:pt x="3763" y="215"/>
                  <a:pt x="3782" y="252"/>
                </a:cubicBezTo>
                <a:cubicBezTo>
                  <a:pt x="3801" y="289"/>
                  <a:pt x="3801" y="293"/>
                  <a:pt x="3808" y="310"/>
                </a:cubicBezTo>
                <a:cubicBezTo>
                  <a:pt x="3815" y="327"/>
                  <a:pt x="3809" y="347"/>
                  <a:pt x="3824" y="354"/>
                </a:cubicBezTo>
                <a:cubicBezTo>
                  <a:pt x="3839" y="361"/>
                  <a:pt x="3878" y="350"/>
                  <a:pt x="3896" y="354"/>
                </a:cubicBezTo>
                <a:cubicBezTo>
                  <a:pt x="3914" y="358"/>
                  <a:pt x="3923" y="377"/>
                  <a:pt x="3934" y="380"/>
                </a:cubicBezTo>
                <a:cubicBezTo>
                  <a:pt x="3945" y="383"/>
                  <a:pt x="3953" y="367"/>
                  <a:pt x="3960" y="372"/>
                </a:cubicBezTo>
                <a:cubicBezTo>
                  <a:pt x="3967" y="377"/>
                  <a:pt x="3968" y="401"/>
                  <a:pt x="3978" y="408"/>
                </a:cubicBezTo>
                <a:cubicBezTo>
                  <a:pt x="3988" y="415"/>
                  <a:pt x="4010" y="405"/>
                  <a:pt x="4020" y="416"/>
                </a:cubicBezTo>
                <a:cubicBezTo>
                  <a:pt x="4030" y="427"/>
                  <a:pt x="4032" y="455"/>
                  <a:pt x="4040" y="472"/>
                </a:cubicBezTo>
                <a:cubicBezTo>
                  <a:pt x="4048" y="489"/>
                  <a:pt x="4050" y="511"/>
                  <a:pt x="4068" y="516"/>
                </a:cubicBezTo>
                <a:cubicBezTo>
                  <a:pt x="4086" y="521"/>
                  <a:pt x="4108" y="525"/>
                  <a:pt x="4150" y="500"/>
                </a:cubicBezTo>
                <a:cubicBezTo>
                  <a:pt x="4192" y="475"/>
                  <a:pt x="4293" y="379"/>
                  <a:pt x="4318" y="368"/>
                </a:cubicBezTo>
                <a:cubicBezTo>
                  <a:pt x="4343" y="357"/>
                  <a:pt x="4302" y="422"/>
                  <a:pt x="4300" y="436"/>
                </a:cubicBezTo>
                <a:cubicBezTo>
                  <a:pt x="4298" y="450"/>
                  <a:pt x="4305" y="444"/>
                  <a:pt x="4306" y="454"/>
                </a:cubicBezTo>
                <a:cubicBezTo>
                  <a:pt x="4307" y="464"/>
                  <a:pt x="4311" y="485"/>
                  <a:pt x="4308" y="496"/>
                </a:cubicBezTo>
                <a:cubicBezTo>
                  <a:pt x="4305" y="507"/>
                  <a:pt x="4291" y="496"/>
                  <a:pt x="4288" y="518"/>
                </a:cubicBezTo>
                <a:cubicBezTo>
                  <a:pt x="4285" y="540"/>
                  <a:pt x="4291" y="603"/>
                  <a:pt x="4288" y="628"/>
                </a:cubicBezTo>
                <a:cubicBezTo>
                  <a:pt x="4285" y="653"/>
                  <a:pt x="4273" y="653"/>
                  <a:pt x="4270" y="668"/>
                </a:cubicBezTo>
                <a:cubicBezTo>
                  <a:pt x="4267" y="683"/>
                  <a:pt x="4272" y="699"/>
                  <a:pt x="4270" y="718"/>
                </a:cubicBezTo>
                <a:cubicBezTo>
                  <a:pt x="4268" y="737"/>
                  <a:pt x="4276" y="773"/>
                  <a:pt x="4260" y="780"/>
                </a:cubicBezTo>
                <a:cubicBezTo>
                  <a:pt x="4244" y="787"/>
                  <a:pt x="4193" y="759"/>
                  <a:pt x="4176" y="762"/>
                </a:cubicBezTo>
                <a:cubicBezTo>
                  <a:pt x="4159" y="765"/>
                  <a:pt x="4165" y="788"/>
                  <a:pt x="4156" y="798"/>
                </a:cubicBezTo>
                <a:cubicBezTo>
                  <a:pt x="4147" y="808"/>
                  <a:pt x="4126" y="808"/>
                  <a:pt x="4124" y="820"/>
                </a:cubicBezTo>
                <a:cubicBezTo>
                  <a:pt x="4122" y="832"/>
                  <a:pt x="4134" y="840"/>
                  <a:pt x="4142" y="868"/>
                </a:cubicBezTo>
                <a:cubicBezTo>
                  <a:pt x="4150" y="896"/>
                  <a:pt x="4176" y="959"/>
                  <a:pt x="4174" y="988"/>
                </a:cubicBezTo>
                <a:cubicBezTo>
                  <a:pt x="4172" y="1017"/>
                  <a:pt x="4139" y="1030"/>
                  <a:pt x="4132" y="1044"/>
                </a:cubicBezTo>
                <a:cubicBezTo>
                  <a:pt x="4125" y="1058"/>
                  <a:pt x="4135" y="1067"/>
                  <a:pt x="4134" y="1072"/>
                </a:cubicBezTo>
                <a:cubicBezTo>
                  <a:pt x="4133" y="1077"/>
                  <a:pt x="4133" y="1083"/>
                  <a:pt x="4124" y="1076"/>
                </a:cubicBezTo>
                <a:cubicBezTo>
                  <a:pt x="4115" y="1069"/>
                  <a:pt x="4089" y="1026"/>
                  <a:pt x="4080" y="1030"/>
                </a:cubicBezTo>
                <a:cubicBezTo>
                  <a:pt x="4071" y="1034"/>
                  <a:pt x="4075" y="1086"/>
                  <a:pt x="4070" y="1098"/>
                </a:cubicBezTo>
                <a:cubicBezTo>
                  <a:pt x="4065" y="1110"/>
                  <a:pt x="4056" y="1094"/>
                  <a:pt x="4050" y="1102"/>
                </a:cubicBezTo>
                <a:cubicBezTo>
                  <a:pt x="4044" y="1110"/>
                  <a:pt x="4049" y="1134"/>
                  <a:pt x="4036" y="1144"/>
                </a:cubicBezTo>
                <a:cubicBezTo>
                  <a:pt x="4023" y="1154"/>
                  <a:pt x="3978" y="1147"/>
                  <a:pt x="3970" y="1160"/>
                </a:cubicBezTo>
                <a:cubicBezTo>
                  <a:pt x="3962" y="1173"/>
                  <a:pt x="3992" y="1213"/>
                  <a:pt x="3986" y="1224"/>
                </a:cubicBezTo>
                <a:cubicBezTo>
                  <a:pt x="3980" y="1235"/>
                  <a:pt x="3945" y="1230"/>
                  <a:pt x="3932" y="1226"/>
                </a:cubicBezTo>
                <a:cubicBezTo>
                  <a:pt x="3919" y="1222"/>
                  <a:pt x="3919" y="1206"/>
                  <a:pt x="3910" y="1202"/>
                </a:cubicBezTo>
                <a:cubicBezTo>
                  <a:pt x="3901" y="1198"/>
                  <a:pt x="3889" y="1191"/>
                  <a:pt x="3880" y="1204"/>
                </a:cubicBezTo>
                <a:cubicBezTo>
                  <a:pt x="3871" y="1217"/>
                  <a:pt x="3873" y="1255"/>
                  <a:pt x="3854" y="1282"/>
                </a:cubicBezTo>
                <a:cubicBezTo>
                  <a:pt x="3835" y="1309"/>
                  <a:pt x="3791" y="1338"/>
                  <a:pt x="3766" y="1364"/>
                </a:cubicBezTo>
                <a:cubicBezTo>
                  <a:pt x="3741" y="1390"/>
                  <a:pt x="3731" y="1418"/>
                  <a:pt x="3706" y="1438"/>
                </a:cubicBezTo>
                <a:cubicBezTo>
                  <a:pt x="3681" y="1458"/>
                  <a:pt x="3651" y="1457"/>
                  <a:pt x="3616" y="1482"/>
                </a:cubicBezTo>
                <a:cubicBezTo>
                  <a:pt x="3581" y="1507"/>
                  <a:pt x="3518" y="1575"/>
                  <a:pt x="3498" y="1586"/>
                </a:cubicBezTo>
                <a:cubicBezTo>
                  <a:pt x="3478" y="1597"/>
                  <a:pt x="3488" y="1562"/>
                  <a:pt x="3494" y="1550"/>
                </a:cubicBezTo>
                <a:cubicBezTo>
                  <a:pt x="3500" y="1538"/>
                  <a:pt x="3524" y="1536"/>
                  <a:pt x="3532" y="1514"/>
                </a:cubicBezTo>
                <a:cubicBezTo>
                  <a:pt x="3540" y="1492"/>
                  <a:pt x="3541" y="1446"/>
                  <a:pt x="3544" y="1418"/>
                </a:cubicBezTo>
                <a:cubicBezTo>
                  <a:pt x="3547" y="1390"/>
                  <a:pt x="3561" y="1358"/>
                  <a:pt x="3552" y="1344"/>
                </a:cubicBezTo>
                <a:cubicBezTo>
                  <a:pt x="3543" y="1330"/>
                  <a:pt x="3508" y="1324"/>
                  <a:pt x="3488" y="1336"/>
                </a:cubicBezTo>
                <a:cubicBezTo>
                  <a:pt x="3468" y="1348"/>
                  <a:pt x="3452" y="1387"/>
                  <a:pt x="3434" y="1414"/>
                </a:cubicBezTo>
                <a:cubicBezTo>
                  <a:pt x="3416" y="1441"/>
                  <a:pt x="3395" y="1475"/>
                  <a:pt x="3378" y="1500"/>
                </a:cubicBezTo>
                <a:cubicBezTo>
                  <a:pt x="3361" y="1525"/>
                  <a:pt x="3352" y="1551"/>
                  <a:pt x="3332" y="1562"/>
                </a:cubicBezTo>
                <a:cubicBezTo>
                  <a:pt x="3312" y="1573"/>
                  <a:pt x="3274" y="1553"/>
                  <a:pt x="3258" y="1566"/>
                </a:cubicBezTo>
                <a:cubicBezTo>
                  <a:pt x="3242" y="1579"/>
                  <a:pt x="3230" y="1619"/>
                  <a:pt x="3236" y="1638"/>
                </a:cubicBezTo>
                <a:cubicBezTo>
                  <a:pt x="3242" y="1657"/>
                  <a:pt x="3277" y="1674"/>
                  <a:pt x="3296" y="1680"/>
                </a:cubicBezTo>
                <a:cubicBezTo>
                  <a:pt x="3315" y="1686"/>
                  <a:pt x="3334" y="1659"/>
                  <a:pt x="3348" y="1674"/>
                </a:cubicBezTo>
                <a:cubicBezTo>
                  <a:pt x="3362" y="1689"/>
                  <a:pt x="3359" y="1767"/>
                  <a:pt x="3380" y="1770"/>
                </a:cubicBezTo>
                <a:cubicBezTo>
                  <a:pt x="3401" y="1773"/>
                  <a:pt x="3429" y="1703"/>
                  <a:pt x="3474" y="1694"/>
                </a:cubicBezTo>
                <a:cubicBezTo>
                  <a:pt x="3519" y="1685"/>
                  <a:pt x="3621" y="1702"/>
                  <a:pt x="3648" y="1714"/>
                </a:cubicBezTo>
                <a:cubicBezTo>
                  <a:pt x="3675" y="1726"/>
                  <a:pt x="3647" y="1757"/>
                  <a:pt x="3634" y="1766"/>
                </a:cubicBezTo>
                <a:cubicBezTo>
                  <a:pt x="3621" y="1775"/>
                  <a:pt x="3598" y="1757"/>
                  <a:pt x="3572" y="1770"/>
                </a:cubicBezTo>
                <a:cubicBezTo>
                  <a:pt x="3546" y="1783"/>
                  <a:pt x="3502" y="1816"/>
                  <a:pt x="3478" y="1844"/>
                </a:cubicBezTo>
                <a:cubicBezTo>
                  <a:pt x="3454" y="1872"/>
                  <a:pt x="3438" y="1904"/>
                  <a:pt x="3430" y="1940"/>
                </a:cubicBezTo>
                <a:cubicBezTo>
                  <a:pt x="3422" y="1976"/>
                  <a:pt x="3422" y="2038"/>
                  <a:pt x="3432" y="2062"/>
                </a:cubicBezTo>
                <a:cubicBezTo>
                  <a:pt x="3442" y="2086"/>
                  <a:pt x="3469" y="2058"/>
                  <a:pt x="3488" y="2086"/>
                </a:cubicBezTo>
                <a:cubicBezTo>
                  <a:pt x="3507" y="2114"/>
                  <a:pt x="3521" y="2195"/>
                  <a:pt x="3546" y="2232"/>
                </a:cubicBezTo>
                <a:cubicBezTo>
                  <a:pt x="3571" y="2269"/>
                  <a:pt x="3629" y="2293"/>
                  <a:pt x="3638" y="2310"/>
                </a:cubicBezTo>
                <a:cubicBezTo>
                  <a:pt x="3647" y="2327"/>
                  <a:pt x="3597" y="2321"/>
                  <a:pt x="3600" y="2332"/>
                </a:cubicBezTo>
                <a:cubicBezTo>
                  <a:pt x="3603" y="2343"/>
                  <a:pt x="3665" y="2353"/>
                  <a:pt x="3658" y="2378"/>
                </a:cubicBezTo>
                <a:cubicBezTo>
                  <a:pt x="3651" y="2403"/>
                  <a:pt x="3559" y="2463"/>
                  <a:pt x="3556" y="2484"/>
                </a:cubicBezTo>
                <a:cubicBezTo>
                  <a:pt x="3553" y="2505"/>
                  <a:pt x="3616" y="2500"/>
                  <a:pt x="3638" y="2506"/>
                </a:cubicBezTo>
                <a:cubicBezTo>
                  <a:pt x="3660" y="2512"/>
                  <a:pt x="3688" y="2487"/>
                  <a:pt x="3688" y="2520"/>
                </a:cubicBezTo>
                <a:cubicBezTo>
                  <a:pt x="3688" y="2553"/>
                  <a:pt x="3656" y="2666"/>
                  <a:pt x="3640" y="2702"/>
                </a:cubicBezTo>
                <a:cubicBezTo>
                  <a:pt x="3624" y="2738"/>
                  <a:pt x="3602" y="2715"/>
                  <a:pt x="3592" y="2738"/>
                </a:cubicBezTo>
                <a:cubicBezTo>
                  <a:pt x="3582" y="2761"/>
                  <a:pt x="3589" y="2805"/>
                  <a:pt x="3578" y="2840"/>
                </a:cubicBezTo>
                <a:cubicBezTo>
                  <a:pt x="3567" y="2875"/>
                  <a:pt x="3563" y="2894"/>
                  <a:pt x="3526" y="2948"/>
                </a:cubicBezTo>
                <a:cubicBezTo>
                  <a:pt x="3489" y="3002"/>
                  <a:pt x="3394" y="3118"/>
                  <a:pt x="3354" y="3166"/>
                </a:cubicBezTo>
                <a:cubicBezTo>
                  <a:pt x="3314" y="3214"/>
                  <a:pt x="3299" y="3229"/>
                  <a:pt x="3286" y="3234"/>
                </a:cubicBezTo>
                <a:cubicBezTo>
                  <a:pt x="3273" y="3239"/>
                  <a:pt x="3286" y="3186"/>
                  <a:pt x="3278" y="3194"/>
                </a:cubicBezTo>
                <a:cubicBezTo>
                  <a:pt x="3270" y="3202"/>
                  <a:pt x="3271" y="3262"/>
                  <a:pt x="3238" y="3284"/>
                </a:cubicBezTo>
                <a:cubicBezTo>
                  <a:pt x="3205" y="3306"/>
                  <a:pt x="3123" y="3311"/>
                  <a:pt x="3078" y="3326"/>
                </a:cubicBezTo>
                <a:cubicBezTo>
                  <a:pt x="3033" y="3341"/>
                  <a:pt x="2994" y="3357"/>
                  <a:pt x="2968" y="3372"/>
                </a:cubicBezTo>
                <a:cubicBezTo>
                  <a:pt x="2942" y="3387"/>
                  <a:pt x="2937" y="3407"/>
                  <a:pt x="2922" y="3416"/>
                </a:cubicBezTo>
                <a:cubicBezTo>
                  <a:pt x="2907" y="3425"/>
                  <a:pt x="2886" y="3429"/>
                  <a:pt x="2876" y="3428"/>
                </a:cubicBezTo>
                <a:cubicBezTo>
                  <a:pt x="2866" y="3427"/>
                  <a:pt x="2864" y="3406"/>
                  <a:pt x="2860" y="3408"/>
                </a:cubicBezTo>
                <a:cubicBezTo>
                  <a:pt x="2856" y="3410"/>
                  <a:pt x="2860" y="3437"/>
                  <a:pt x="2854" y="3440"/>
                </a:cubicBezTo>
                <a:cubicBezTo>
                  <a:pt x="2848" y="3443"/>
                  <a:pt x="2832" y="3422"/>
                  <a:pt x="2822" y="3424"/>
                </a:cubicBezTo>
                <a:cubicBezTo>
                  <a:pt x="2812" y="3426"/>
                  <a:pt x="2807" y="3447"/>
                  <a:pt x="2796" y="3454"/>
                </a:cubicBezTo>
                <a:cubicBezTo>
                  <a:pt x="2785" y="3461"/>
                  <a:pt x="2770" y="3454"/>
                  <a:pt x="2754" y="3464"/>
                </a:cubicBezTo>
                <a:cubicBezTo>
                  <a:pt x="2738" y="3474"/>
                  <a:pt x="2716" y="3506"/>
                  <a:pt x="2700" y="3514"/>
                </a:cubicBezTo>
                <a:cubicBezTo>
                  <a:pt x="2684" y="3522"/>
                  <a:pt x="2660" y="3507"/>
                  <a:pt x="2656" y="3510"/>
                </a:cubicBezTo>
                <a:cubicBezTo>
                  <a:pt x="2652" y="3513"/>
                  <a:pt x="2674" y="3523"/>
                  <a:pt x="2678" y="3530"/>
                </a:cubicBezTo>
                <a:cubicBezTo>
                  <a:pt x="2682" y="3537"/>
                  <a:pt x="2674" y="3546"/>
                  <a:pt x="2678" y="3554"/>
                </a:cubicBezTo>
                <a:cubicBezTo>
                  <a:pt x="2682" y="3562"/>
                  <a:pt x="2702" y="3571"/>
                  <a:pt x="2704" y="3576"/>
                </a:cubicBezTo>
                <a:cubicBezTo>
                  <a:pt x="2706" y="3581"/>
                  <a:pt x="2696" y="3583"/>
                  <a:pt x="2688" y="3586"/>
                </a:cubicBezTo>
                <a:cubicBezTo>
                  <a:pt x="2680" y="3589"/>
                  <a:pt x="2670" y="3592"/>
                  <a:pt x="2658" y="3594"/>
                </a:cubicBezTo>
                <a:cubicBezTo>
                  <a:pt x="2646" y="3596"/>
                  <a:pt x="2618" y="3602"/>
                  <a:pt x="2614" y="3596"/>
                </a:cubicBezTo>
                <a:cubicBezTo>
                  <a:pt x="2610" y="3590"/>
                  <a:pt x="2634" y="3565"/>
                  <a:pt x="2634" y="3558"/>
                </a:cubicBezTo>
                <a:cubicBezTo>
                  <a:pt x="2634" y="3551"/>
                  <a:pt x="2618" y="3565"/>
                  <a:pt x="2614" y="3556"/>
                </a:cubicBezTo>
                <a:cubicBezTo>
                  <a:pt x="2610" y="3547"/>
                  <a:pt x="2608" y="3521"/>
                  <a:pt x="2610" y="3506"/>
                </a:cubicBezTo>
                <a:cubicBezTo>
                  <a:pt x="2612" y="3491"/>
                  <a:pt x="2626" y="3471"/>
                  <a:pt x="2626" y="3464"/>
                </a:cubicBezTo>
                <a:cubicBezTo>
                  <a:pt x="2626" y="3457"/>
                  <a:pt x="2613" y="3466"/>
                  <a:pt x="2608" y="3462"/>
                </a:cubicBezTo>
                <a:cubicBezTo>
                  <a:pt x="2603" y="3458"/>
                  <a:pt x="2601" y="3442"/>
                  <a:pt x="2598" y="3442"/>
                </a:cubicBezTo>
                <a:cubicBezTo>
                  <a:pt x="2595" y="3442"/>
                  <a:pt x="2602" y="3464"/>
                  <a:pt x="2588" y="3462"/>
                </a:cubicBezTo>
                <a:cubicBezTo>
                  <a:pt x="2574" y="3460"/>
                  <a:pt x="2533" y="3429"/>
                  <a:pt x="2516" y="3428"/>
                </a:cubicBezTo>
                <a:cubicBezTo>
                  <a:pt x="2499" y="3427"/>
                  <a:pt x="2498" y="3451"/>
                  <a:pt x="2484" y="3454"/>
                </a:cubicBezTo>
                <a:cubicBezTo>
                  <a:pt x="2470" y="3457"/>
                  <a:pt x="2452" y="3450"/>
                  <a:pt x="2434" y="3444"/>
                </a:cubicBezTo>
                <a:cubicBezTo>
                  <a:pt x="2416" y="3438"/>
                  <a:pt x="2393" y="3430"/>
                  <a:pt x="2376" y="3418"/>
                </a:cubicBezTo>
                <a:cubicBezTo>
                  <a:pt x="2359" y="3406"/>
                  <a:pt x="2341" y="3387"/>
                  <a:pt x="2334" y="3374"/>
                </a:cubicBezTo>
                <a:cubicBezTo>
                  <a:pt x="2327" y="3361"/>
                  <a:pt x="2333" y="3352"/>
                  <a:pt x="2336" y="3342"/>
                </a:cubicBezTo>
                <a:cubicBezTo>
                  <a:pt x="2339" y="3332"/>
                  <a:pt x="2363" y="3322"/>
                  <a:pt x="2352" y="3314"/>
                </a:cubicBezTo>
                <a:cubicBezTo>
                  <a:pt x="2341" y="3306"/>
                  <a:pt x="2291" y="3305"/>
                  <a:pt x="2270" y="3294"/>
                </a:cubicBezTo>
                <a:cubicBezTo>
                  <a:pt x="2249" y="3283"/>
                  <a:pt x="2244" y="3247"/>
                  <a:pt x="2224" y="3248"/>
                </a:cubicBezTo>
                <a:cubicBezTo>
                  <a:pt x="2204" y="3249"/>
                  <a:pt x="2167" y="3295"/>
                  <a:pt x="2148" y="3302"/>
                </a:cubicBezTo>
                <a:cubicBezTo>
                  <a:pt x="2129" y="3309"/>
                  <a:pt x="2121" y="3288"/>
                  <a:pt x="2112" y="3292"/>
                </a:cubicBezTo>
                <a:cubicBezTo>
                  <a:pt x="2103" y="3296"/>
                  <a:pt x="2097" y="3324"/>
                  <a:pt x="2092" y="3326"/>
                </a:cubicBezTo>
                <a:cubicBezTo>
                  <a:pt x="2087" y="3328"/>
                  <a:pt x="2085" y="3308"/>
                  <a:pt x="2080" y="3306"/>
                </a:cubicBezTo>
                <a:cubicBezTo>
                  <a:pt x="2075" y="3304"/>
                  <a:pt x="2068" y="3316"/>
                  <a:pt x="2062" y="3314"/>
                </a:cubicBezTo>
                <a:cubicBezTo>
                  <a:pt x="2056" y="3312"/>
                  <a:pt x="2051" y="3296"/>
                  <a:pt x="2042" y="3296"/>
                </a:cubicBezTo>
                <a:cubicBezTo>
                  <a:pt x="2033" y="3296"/>
                  <a:pt x="2022" y="3314"/>
                  <a:pt x="2010" y="3312"/>
                </a:cubicBezTo>
                <a:cubicBezTo>
                  <a:pt x="1998" y="3310"/>
                  <a:pt x="1983" y="3283"/>
                  <a:pt x="1968" y="3284"/>
                </a:cubicBezTo>
                <a:cubicBezTo>
                  <a:pt x="1953" y="3285"/>
                  <a:pt x="1938" y="3312"/>
                  <a:pt x="1922" y="3318"/>
                </a:cubicBezTo>
                <a:cubicBezTo>
                  <a:pt x="1906" y="3324"/>
                  <a:pt x="1879" y="3300"/>
                  <a:pt x="1874" y="3318"/>
                </a:cubicBezTo>
                <a:cubicBezTo>
                  <a:pt x="1869" y="3336"/>
                  <a:pt x="1900" y="3408"/>
                  <a:pt x="1894" y="3428"/>
                </a:cubicBezTo>
                <a:cubicBezTo>
                  <a:pt x="1888" y="3448"/>
                  <a:pt x="1848" y="3447"/>
                  <a:pt x="1836" y="3438"/>
                </a:cubicBezTo>
                <a:cubicBezTo>
                  <a:pt x="1824" y="3429"/>
                  <a:pt x="1830" y="3382"/>
                  <a:pt x="1820" y="3376"/>
                </a:cubicBezTo>
                <a:cubicBezTo>
                  <a:pt x="1810" y="3370"/>
                  <a:pt x="1792" y="3400"/>
                  <a:pt x="1776" y="3402"/>
                </a:cubicBezTo>
                <a:cubicBezTo>
                  <a:pt x="1760" y="3404"/>
                  <a:pt x="1733" y="3397"/>
                  <a:pt x="1724" y="3386"/>
                </a:cubicBezTo>
                <a:cubicBezTo>
                  <a:pt x="1715" y="3375"/>
                  <a:pt x="1732" y="3348"/>
                  <a:pt x="1720" y="3336"/>
                </a:cubicBezTo>
                <a:cubicBezTo>
                  <a:pt x="1708" y="3324"/>
                  <a:pt x="1659" y="3328"/>
                  <a:pt x="1652" y="3316"/>
                </a:cubicBezTo>
                <a:cubicBezTo>
                  <a:pt x="1645" y="3304"/>
                  <a:pt x="1671" y="3282"/>
                  <a:pt x="1678" y="3266"/>
                </a:cubicBezTo>
                <a:cubicBezTo>
                  <a:pt x="1685" y="3250"/>
                  <a:pt x="1701" y="3232"/>
                  <a:pt x="1696" y="3220"/>
                </a:cubicBezTo>
                <a:cubicBezTo>
                  <a:pt x="1691" y="3208"/>
                  <a:pt x="1657" y="3211"/>
                  <a:pt x="1646" y="3196"/>
                </a:cubicBezTo>
                <a:cubicBezTo>
                  <a:pt x="1635" y="3181"/>
                  <a:pt x="1631" y="3144"/>
                  <a:pt x="1632" y="3128"/>
                </a:cubicBezTo>
                <a:cubicBezTo>
                  <a:pt x="1633" y="3112"/>
                  <a:pt x="1660" y="3105"/>
                  <a:pt x="1654" y="3100"/>
                </a:cubicBezTo>
                <a:cubicBezTo>
                  <a:pt x="1648" y="3095"/>
                  <a:pt x="1614" y="3097"/>
                  <a:pt x="1594" y="3100"/>
                </a:cubicBezTo>
                <a:cubicBezTo>
                  <a:pt x="1574" y="3103"/>
                  <a:pt x="1542" y="3126"/>
                  <a:pt x="1536" y="3120"/>
                </a:cubicBezTo>
                <a:cubicBezTo>
                  <a:pt x="1530" y="3114"/>
                  <a:pt x="1557" y="3080"/>
                  <a:pt x="1558" y="3066"/>
                </a:cubicBezTo>
                <a:cubicBezTo>
                  <a:pt x="1559" y="3052"/>
                  <a:pt x="1543" y="3045"/>
                  <a:pt x="1544" y="3034"/>
                </a:cubicBezTo>
                <a:cubicBezTo>
                  <a:pt x="1545" y="3023"/>
                  <a:pt x="1563" y="3011"/>
                  <a:pt x="1566" y="3002"/>
                </a:cubicBezTo>
                <a:cubicBezTo>
                  <a:pt x="1569" y="2993"/>
                  <a:pt x="1559" y="2988"/>
                  <a:pt x="1564" y="2982"/>
                </a:cubicBezTo>
                <a:cubicBezTo>
                  <a:pt x="1569" y="2976"/>
                  <a:pt x="1589" y="2975"/>
                  <a:pt x="1596" y="2968"/>
                </a:cubicBezTo>
                <a:cubicBezTo>
                  <a:pt x="1603" y="2961"/>
                  <a:pt x="1599" y="2947"/>
                  <a:pt x="1608" y="2938"/>
                </a:cubicBezTo>
                <a:cubicBezTo>
                  <a:pt x="1617" y="2929"/>
                  <a:pt x="1641" y="2938"/>
                  <a:pt x="1652" y="2916"/>
                </a:cubicBezTo>
                <a:cubicBezTo>
                  <a:pt x="1663" y="2894"/>
                  <a:pt x="1672" y="2835"/>
                  <a:pt x="1676" y="2806"/>
                </a:cubicBezTo>
                <a:cubicBezTo>
                  <a:pt x="1680" y="2777"/>
                  <a:pt x="1682" y="2755"/>
                  <a:pt x="1676" y="2742"/>
                </a:cubicBezTo>
                <a:cubicBezTo>
                  <a:pt x="1670" y="2729"/>
                  <a:pt x="1647" y="2737"/>
                  <a:pt x="1640" y="2726"/>
                </a:cubicBezTo>
                <a:cubicBezTo>
                  <a:pt x="1633" y="2715"/>
                  <a:pt x="1642" y="2691"/>
                  <a:pt x="1636" y="2674"/>
                </a:cubicBezTo>
                <a:cubicBezTo>
                  <a:pt x="1630" y="2657"/>
                  <a:pt x="1611" y="2624"/>
                  <a:pt x="1602" y="2622"/>
                </a:cubicBezTo>
                <a:cubicBezTo>
                  <a:pt x="1593" y="2620"/>
                  <a:pt x="1587" y="2647"/>
                  <a:pt x="1580" y="2660"/>
                </a:cubicBezTo>
                <a:cubicBezTo>
                  <a:pt x="1573" y="2673"/>
                  <a:pt x="1582" y="2705"/>
                  <a:pt x="1562" y="2700"/>
                </a:cubicBezTo>
                <a:cubicBezTo>
                  <a:pt x="1542" y="2695"/>
                  <a:pt x="1489" y="2642"/>
                  <a:pt x="1462" y="2632"/>
                </a:cubicBezTo>
                <a:cubicBezTo>
                  <a:pt x="1435" y="2622"/>
                  <a:pt x="1419" y="2632"/>
                  <a:pt x="1400" y="2640"/>
                </a:cubicBezTo>
                <a:cubicBezTo>
                  <a:pt x="1381" y="2648"/>
                  <a:pt x="1368" y="2671"/>
                  <a:pt x="1350" y="2678"/>
                </a:cubicBezTo>
                <a:cubicBezTo>
                  <a:pt x="1332" y="2685"/>
                  <a:pt x="1311" y="2674"/>
                  <a:pt x="1292" y="2684"/>
                </a:cubicBezTo>
                <a:cubicBezTo>
                  <a:pt x="1273" y="2694"/>
                  <a:pt x="1257" y="2730"/>
                  <a:pt x="1236" y="2736"/>
                </a:cubicBezTo>
                <a:cubicBezTo>
                  <a:pt x="1215" y="2742"/>
                  <a:pt x="1190" y="2726"/>
                  <a:pt x="1168" y="2720"/>
                </a:cubicBezTo>
                <a:cubicBezTo>
                  <a:pt x="1146" y="2714"/>
                  <a:pt x="1115" y="2711"/>
                  <a:pt x="1104" y="2700"/>
                </a:cubicBezTo>
                <a:cubicBezTo>
                  <a:pt x="1093" y="2689"/>
                  <a:pt x="1108" y="2666"/>
                  <a:pt x="1104" y="2654"/>
                </a:cubicBezTo>
                <a:cubicBezTo>
                  <a:pt x="1100" y="2642"/>
                  <a:pt x="1086" y="2641"/>
                  <a:pt x="1082" y="2630"/>
                </a:cubicBezTo>
                <a:cubicBezTo>
                  <a:pt x="1078" y="2619"/>
                  <a:pt x="1086" y="2591"/>
                  <a:pt x="1078" y="2584"/>
                </a:cubicBezTo>
                <a:cubicBezTo>
                  <a:pt x="1070" y="2577"/>
                  <a:pt x="1054" y="2595"/>
                  <a:pt x="1034" y="2586"/>
                </a:cubicBezTo>
                <a:cubicBezTo>
                  <a:pt x="1014" y="2577"/>
                  <a:pt x="981" y="2536"/>
                  <a:pt x="956" y="2532"/>
                </a:cubicBezTo>
                <a:cubicBezTo>
                  <a:pt x="931" y="2528"/>
                  <a:pt x="901" y="2550"/>
                  <a:pt x="886" y="2564"/>
                </a:cubicBezTo>
                <a:cubicBezTo>
                  <a:pt x="871" y="2578"/>
                  <a:pt x="873" y="2613"/>
                  <a:pt x="866" y="2618"/>
                </a:cubicBezTo>
                <a:cubicBezTo>
                  <a:pt x="859" y="2623"/>
                  <a:pt x="846" y="2609"/>
                  <a:pt x="842" y="2594"/>
                </a:cubicBezTo>
                <a:cubicBezTo>
                  <a:pt x="838" y="2579"/>
                  <a:pt x="861" y="2538"/>
                  <a:pt x="842" y="2526"/>
                </a:cubicBezTo>
                <a:cubicBezTo>
                  <a:pt x="823" y="2514"/>
                  <a:pt x="754" y="2531"/>
                  <a:pt x="726" y="2520"/>
                </a:cubicBezTo>
                <a:cubicBezTo>
                  <a:pt x="698" y="2509"/>
                  <a:pt x="688" y="2467"/>
                  <a:pt x="676" y="2462"/>
                </a:cubicBezTo>
                <a:cubicBezTo>
                  <a:pt x="664" y="2457"/>
                  <a:pt x="660" y="2493"/>
                  <a:pt x="654" y="2492"/>
                </a:cubicBezTo>
                <a:cubicBezTo>
                  <a:pt x="648" y="2491"/>
                  <a:pt x="648" y="2457"/>
                  <a:pt x="642" y="2454"/>
                </a:cubicBezTo>
                <a:cubicBezTo>
                  <a:pt x="636" y="2451"/>
                  <a:pt x="622" y="2475"/>
                  <a:pt x="618" y="2472"/>
                </a:cubicBezTo>
                <a:cubicBezTo>
                  <a:pt x="614" y="2469"/>
                  <a:pt x="620" y="2442"/>
                  <a:pt x="616" y="2434"/>
                </a:cubicBezTo>
                <a:cubicBezTo>
                  <a:pt x="612" y="2426"/>
                  <a:pt x="603" y="2429"/>
                  <a:pt x="592" y="2424"/>
                </a:cubicBezTo>
                <a:cubicBezTo>
                  <a:pt x="581" y="2419"/>
                  <a:pt x="555" y="2412"/>
                  <a:pt x="552" y="2404"/>
                </a:cubicBezTo>
                <a:cubicBezTo>
                  <a:pt x="549" y="2396"/>
                  <a:pt x="577" y="2382"/>
                  <a:pt x="572" y="2376"/>
                </a:cubicBezTo>
                <a:cubicBezTo>
                  <a:pt x="567" y="2370"/>
                  <a:pt x="532" y="2379"/>
                  <a:pt x="520" y="2370"/>
                </a:cubicBezTo>
                <a:cubicBezTo>
                  <a:pt x="508" y="2361"/>
                  <a:pt x="507" y="2339"/>
                  <a:pt x="502" y="2324"/>
                </a:cubicBezTo>
                <a:cubicBezTo>
                  <a:pt x="497" y="2309"/>
                  <a:pt x="501" y="2286"/>
                  <a:pt x="492" y="2278"/>
                </a:cubicBezTo>
                <a:cubicBezTo>
                  <a:pt x="483" y="2270"/>
                  <a:pt x="470" y="2302"/>
                  <a:pt x="448" y="2278"/>
                </a:cubicBezTo>
                <a:cubicBezTo>
                  <a:pt x="426" y="2254"/>
                  <a:pt x="378" y="2159"/>
                  <a:pt x="358" y="2132"/>
                </a:cubicBezTo>
                <a:cubicBezTo>
                  <a:pt x="338" y="2105"/>
                  <a:pt x="336" y="2123"/>
                  <a:pt x="328" y="2118"/>
                </a:cubicBezTo>
                <a:cubicBezTo>
                  <a:pt x="320" y="2113"/>
                  <a:pt x="315" y="2101"/>
                  <a:pt x="308" y="2104"/>
                </a:cubicBezTo>
                <a:cubicBezTo>
                  <a:pt x="301" y="2107"/>
                  <a:pt x="302" y="2147"/>
                  <a:pt x="284" y="2136"/>
                </a:cubicBezTo>
                <a:cubicBezTo>
                  <a:pt x="266" y="2125"/>
                  <a:pt x="218" y="2062"/>
                  <a:pt x="202" y="2038"/>
                </a:cubicBezTo>
                <a:cubicBezTo>
                  <a:pt x="186" y="2014"/>
                  <a:pt x="200" y="2006"/>
                  <a:pt x="190" y="1994"/>
                </a:cubicBezTo>
                <a:cubicBezTo>
                  <a:pt x="180" y="1982"/>
                  <a:pt x="149" y="1984"/>
                  <a:pt x="142" y="1964"/>
                </a:cubicBezTo>
                <a:cubicBezTo>
                  <a:pt x="135" y="1944"/>
                  <a:pt x="146" y="1899"/>
                  <a:pt x="146" y="1872"/>
                </a:cubicBezTo>
                <a:cubicBezTo>
                  <a:pt x="146" y="1845"/>
                  <a:pt x="136" y="1817"/>
                  <a:pt x="140" y="1804"/>
                </a:cubicBezTo>
                <a:cubicBezTo>
                  <a:pt x="144" y="1791"/>
                  <a:pt x="166" y="1790"/>
                  <a:pt x="170" y="1796"/>
                </a:cubicBezTo>
                <a:cubicBezTo>
                  <a:pt x="174" y="1802"/>
                  <a:pt x="159" y="1840"/>
                  <a:pt x="166" y="1842"/>
                </a:cubicBezTo>
                <a:cubicBezTo>
                  <a:pt x="173" y="1844"/>
                  <a:pt x="206" y="1834"/>
                  <a:pt x="212" y="1810"/>
                </a:cubicBezTo>
                <a:cubicBezTo>
                  <a:pt x="218" y="1786"/>
                  <a:pt x="205" y="1725"/>
                  <a:pt x="204" y="1700"/>
                </a:cubicBezTo>
                <a:cubicBezTo>
                  <a:pt x="203" y="1675"/>
                  <a:pt x="202" y="1673"/>
                  <a:pt x="208" y="1662"/>
                </a:cubicBezTo>
                <a:cubicBezTo>
                  <a:pt x="214" y="1651"/>
                  <a:pt x="242" y="1647"/>
                  <a:pt x="242" y="1634"/>
                </a:cubicBezTo>
                <a:cubicBezTo>
                  <a:pt x="242" y="1621"/>
                  <a:pt x="212" y="1599"/>
                  <a:pt x="206" y="1586"/>
                </a:cubicBezTo>
                <a:cubicBezTo>
                  <a:pt x="200" y="1573"/>
                  <a:pt x="206" y="1566"/>
                  <a:pt x="206" y="1556"/>
                </a:cubicBezTo>
                <a:cubicBezTo>
                  <a:pt x="206" y="1546"/>
                  <a:pt x="203" y="1535"/>
                  <a:pt x="204" y="1524"/>
                </a:cubicBezTo>
                <a:cubicBezTo>
                  <a:pt x="205" y="1513"/>
                  <a:pt x="225" y="1503"/>
                  <a:pt x="214" y="1492"/>
                </a:cubicBezTo>
                <a:cubicBezTo>
                  <a:pt x="203" y="1481"/>
                  <a:pt x="152" y="1473"/>
                  <a:pt x="136" y="1460"/>
                </a:cubicBezTo>
                <a:cubicBezTo>
                  <a:pt x="120" y="1447"/>
                  <a:pt x="125" y="1420"/>
                  <a:pt x="118" y="1412"/>
                </a:cubicBezTo>
                <a:cubicBezTo>
                  <a:pt x="111" y="1404"/>
                  <a:pt x="100" y="1416"/>
                  <a:pt x="94" y="1410"/>
                </a:cubicBezTo>
                <a:cubicBezTo>
                  <a:pt x="88" y="1404"/>
                  <a:pt x="82" y="1388"/>
                  <a:pt x="82" y="1374"/>
                </a:cubicBezTo>
                <a:cubicBezTo>
                  <a:pt x="82" y="1360"/>
                  <a:pt x="98" y="1344"/>
                  <a:pt x="94" y="1324"/>
                </a:cubicBezTo>
                <a:cubicBezTo>
                  <a:pt x="90" y="1304"/>
                  <a:pt x="70" y="1271"/>
                  <a:pt x="56" y="1256"/>
                </a:cubicBezTo>
                <a:cubicBezTo>
                  <a:pt x="42" y="1241"/>
                  <a:pt x="18" y="1243"/>
                  <a:pt x="10" y="1236"/>
                </a:cubicBezTo>
                <a:cubicBezTo>
                  <a:pt x="2" y="1229"/>
                  <a:pt x="0" y="1219"/>
                  <a:pt x="8" y="1214"/>
                </a:cubicBezTo>
                <a:cubicBezTo>
                  <a:pt x="16" y="1209"/>
                  <a:pt x="45" y="1228"/>
                  <a:pt x="56" y="1206"/>
                </a:cubicBezTo>
                <a:cubicBezTo>
                  <a:pt x="67" y="1184"/>
                  <a:pt x="79" y="1103"/>
                  <a:pt x="72" y="1080"/>
                </a:cubicBezTo>
                <a:cubicBezTo>
                  <a:pt x="65" y="1057"/>
                  <a:pt x="27" y="1076"/>
                  <a:pt x="16" y="1068"/>
                </a:cubicBezTo>
                <a:cubicBezTo>
                  <a:pt x="5" y="1060"/>
                  <a:pt x="2" y="1040"/>
                  <a:pt x="4" y="1032"/>
                </a:cubicBezTo>
                <a:cubicBezTo>
                  <a:pt x="6" y="1024"/>
                  <a:pt x="24" y="1029"/>
                  <a:pt x="26" y="1018"/>
                </a:cubicBezTo>
                <a:cubicBezTo>
                  <a:pt x="28" y="1007"/>
                  <a:pt x="12" y="973"/>
                  <a:pt x="16" y="964"/>
                </a:cubicBezTo>
                <a:cubicBezTo>
                  <a:pt x="20" y="955"/>
                  <a:pt x="40" y="974"/>
                  <a:pt x="50" y="966"/>
                </a:cubicBezTo>
                <a:cubicBezTo>
                  <a:pt x="60" y="958"/>
                  <a:pt x="66" y="924"/>
                  <a:pt x="78" y="916"/>
                </a:cubicBezTo>
                <a:cubicBezTo>
                  <a:pt x="90" y="908"/>
                  <a:pt x="115" y="923"/>
                  <a:pt x="126" y="918"/>
                </a:cubicBezTo>
                <a:cubicBezTo>
                  <a:pt x="137" y="913"/>
                  <a:pt x="136" y="885"/>
                  <a:pt x="144" y="884"/>
                </a:cubicBezTo>
                <a:cubicBezTo>
                  <a:pt x="152" y="883"/>
                  <a:pt x="165" y="909"/>
                  <a:pt x="176" y="912"/>
                </a:cubicBezTo>
                <a:cubicBezTo>
                  <a:pt x="187" y="915"/>
                  <a:pt x="203" y="895"/>
                  <a:pt x="208" y="900"/>
                </a:cubicBezTo>
                <a:cubicBezTo>
                  <a:pt x="213" y="905"/>
                  <a:pt x="197" y="932"/>
                  <a:pt x="206" y="940"/>
                </a:cubicBezTo>
                <a:cubicBezTo>
                  <a:pt x="215" y="948"/>
                  <a:pt x="242" y="954"/>
                  <a:pt x="260" y="948"/>
                </a:cubicBezTo>
                <a:cubicBezTo>
                  <a:pt x="278" y="942"/>
                  <a:pt x="300" y="911"/>
                  <a:pt x="316" y="904"/>
                </a:cubicBezTo>
                <a:cubicBezTo>
                  <a:pt x="332" y="897"/>
                  <a:pt x="342" y="910"/>
                  <a:pt x="356" y="906"/>
                </a:cubicBezTo>
                <a:cubicBezTo>
                  <a:pt x="370" y="902"/>
                  <a:pt x="385" y="882"/>
                  <a:pt x="398" y="880"/>
                </a:cubicBezTo>
                <a:cubicBezTo>
                  <a:pt x="411" y="878"/>
                  <a:pt x="412" y="896"/>
                  <a:pt x="436" y="896"/>
                </a:cubicBezTo>
                <a:cubicBezTo>
                  <a:pt x="460" y="896"/>
                  <a:pt x="519" y="893"/>
                  <a:pt x="544" y="878"/>
                </a:cubicBezTo>
                <a:cubicBezTo>
                  <a:pt x="569" y="863"/>
                  <a:pt x="576" y="817"/>
                  <a:pt x="586" y="804"/>
                </a:cubicBezTo>
                <a:cubicBezTo>
                  <a:pt x="596" y="791"/>
                  <a:pt x="599" y="804"/>
                  <a:pt x="604" y="800"/>
                </a:cubicBezTo>
                <a:cubicBezTo>
                  <a:pt x="609" y="796"/>
                  <a:pt x="610" y="784"/>
                  <a:pt x="616" y="780"/>
                </a:cubicBezTo>
                <a:cubicBezTo>
                  <a:pt x="622" y="776"/>
                  <a:pt x="635" y="799"/>
                  <a:pt x="642" y="776"/>
                </a:cubicBezTo>
                <a:cubicBezTo>
                  <a:pt x="649" y="753"/>
                  <a:pt x="656" y="673"/>
                  <a:pt x="656" y="640"/>
                </a:cubicBezTo>
                <a:cubicBezTo>
                  <a:pt x="656" y="607"/>
                  <a:pt x="623" y="590"/>
                  <a:pt x="642" y="580"/>
                </a:cubicBezTo>
                <a:cubicBezTo>
                  <a:pt x="661" y="570"/>
                  <a:pt x="739" y="577"/>
                  <a:pt x="768" y="580"/>
                </a:cubicBezTo>
                <a:cubicBezTo>
                  <a:pt x="797" y="583"/>
                  <a:pt x="805" y="606"/>
                  <a:pt x="814" y="600"/>
                </a:cubicBezTo>
                <a:cubicBezTo>
                  <a:pt x="823" y="594"/>
                  <a:pt x="810" y="574"/>
                  <a:pt x="826" y="544"/>
                </a:cubicBezTo>
                <a:cubicBezTo>
                  <a:pt x="842" y="514"/>
                  <a:pt x="888" y="435"/>
                  <a:pt x="908" y="418"/>
                </a:cubicBezTo>
                <a:cubicBezTo>
                  <a:pt x="928" y="401"/>
                  <a:pt x="934" y="432"/>
                  <a:pt x="948" y="440"/>
                </a:cubicBezTo>
                <a:cubicBezTo>
                  <a:pt x="962" y="448"/>
                  <a:pt x="971" y="460"/>
                  <a:pt x="992" y="466"/>
                </a:cubicBezTo>
                <a:cubicBezTo>
                  <a:pt x="1013" y="472"/>
                  <a:pt x="1059" y="484"/>
                  <a:pt x="1074" y="474"/>
                </a:cubicBezTo>
                <a:cubicBezTo>
                  <a:pt x="1089" y="464"/>
                  <a:pt x="1078" y="428"/>
                  <a:pt x="1084" y="406"/>
                </a:cubicBezTo>
                <a:cubicBezTo>
                  <a:pt x="1090" y="384"/>
                  <a:pt x="1096" y="354"/>
                  <a:pt x="1110" y="344"/>
                </a:cubicBezTo>
                <a:cubicBezTo>
                  <a:pt x="1124" y="334"/>
                  <a:pt x="1152" y="356"/>
                  <a:pt x="1166" y="348"/>
                </a:cubicBezTo>
                <a:cubicBezTo>
                  <a:pt x="1180" y="340"/>
                  <a:pt x="1180" y="307"/>
                  <a:pt x="1196" y="298"/>
                </a:cubicBezTo>
                <a:close/>
              </a:path>
            </a:pathLst>
          </a:custGeom>
          <a:solidFill>
            <a:srgbClr val="ffff99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067200" y="3454560"/>
            <a:ext cx="3905280" cy="1639800"/>
          </a:xfrm>
          <a:custGeom>
            <a:avLst/>
            <a:gdLst/>
            <a:ahLst/>
            <a:rect l="l" t="t" r="r" b="b"/>
            <a:pathLst>
              <a:path w="2460" h="1033">
                <a:moveTo>
                  <a:pt x="0" y="80"/>
                </a:moveTo>
                <a:cubicBezTo>
                  <a:pt x="5" y="68"/>
                  <a:pt x="11" y="16"/>
                  <a:pt x="30" y="8"/>
                </a:cubicBezTo>
                <a:cubicBezTo>
                  <a:pt x="49" y="0"/>
                  <a:pt x="90" y="25"/>
                  <a:pt x="114" y="32"/>
                </a:cubicBezTo>
                <a:cubicBezTo>
                  <a:pt x="138" y="39"/>
                  <a:pt x="156" y="47"/>
                  <a:pt x="174" y="50"/>
                </a:cubicBezTo>
                <a:cubicBezTo>
                  <a:pt x="192" y="53"/>
                  <a:pt x="205" y="54"/>
                  <a:pt x="222" y="50"/>
                </a:cubicBezTo>
                <a:cubicBezTo>
                  <a:pt x="239" y="46"/>
                  <a:pt x="258" y="32"/>
                  <a:pt x="276" y="26"/>
                </a:cubicBezTo>
                <a:cubicBezTo>
                  <a:pt x="294" y="20"/>
                  <a:pt x="315" y="12"/>
                  <a:pt x="330" y="14"/>
                </a:cubicBezTo>
                <a:cubicBezTo>
                  <a:pt x="345" y="16"/>
                  <a:pt x="358" y="24"/>
                  <a:pt x="366" y="38"/>
                </a:cubicBezTo>
                <a:cubicBezTo>
                  <a:pt x="374" y="52"/>
                  <a:pt x="366" y="82"/>
                  <a:pt x="378" y="98"/>
                </a:cubicBezTo>
                <a:cubicBezTo>
                  <a:pt x="390" y="114"/>
                  <a:pt x="423" y="121"/>
                  <a:pt x="438" y="134"/>
                </a:cubicBezTo>
                <a:cubicBezTo>
                  <a:pt x="453" y="147"/>
                  <a:pt x="455" y="155"/>
                  <a:pt x="468" y="176"/>
                </a:cubicBezTo>
                <a:cubicBezTo>
                  <a:pt x="481" y="197"/>
                  <a:pt x="497" y="229"/>
                  <a:pt x="516" y="260"/>
                </a:cubicBezTo>
                <a:cubicBezTo>
                  <a:pt x="535" y="291"/>
                  <a:pt x="568" y="330"/>
                  <a:pt x="582" y="362"/>
                </a:cubicBezTo>
                <a:cubicBezTo>
                  <a:pt x="596" y="394"/>
                  <a:pt x="598" y="426"/>
                  <a:pt x="600" y="452"/>
                </a:cubicBezTo>
                <a:cubicBezTo>
                  <a:pt x="602" y="478"/>
                  <a:pt x="595" y="497"/>
                  <a:pt x="594" y="518"/>
                </a:cubicBezTo>
                <a:cubicBezTo>
                  <a:pt x="593" y="539"/>
                  <a:pt x="594" y="555"/>
                  <a:pt x="594" y="578"/>
                </a:cubicBezTo>
                <a:cubicBezTo>
                  <a:pt x="594" y="601"/>
                  <a:pt x="591" y="619"/>
                  <a:pt x="594" y="656"/>
                </a:cubicBezTo>
                <a:cubicBezTo>
                  <a:pt x="597" y="693"/>
                  <a:pt x="605" y="756"/>
                  <a:pt x="612" y="800"/>
                </a:cubicBezTo>
                <a:cubicBezTo>
                  <a:pt x="619" y="844"/>
                  <a:pt x="624" y="915"/>
                  <a:pt x="636" y="920"/>
                </a:cubicBezTo>
                <a:cubicBezTo>
                  <a:pt x="648" y="925"/>
                  <a:pt x="675" y="832"/>
                  <a:pt x="684" y="830"/>
                </a:cubicBezTo>
                <a:cubicBezTo>
                  <a:pt x="693" y="828"/>
                  <a:pt x="690" y="882"/>
                  <a:pt x="690" y="908"/>
                </a:cubicBezTo>
                <a:cubicBezTo>
                  <a:pt x="690" y="934"/>
                  <a:pt x="670" y="975"/>
                  <a:pt x="684" y="986"/>
                </a:cubicBezTo>
                <a:cubicBezTo>
                  <a:pt x="698" y="997"/>
                  <a:pt x="754" y="967"/>
                  <a:pt x="774" y="974"/>
                </a:cubicBezTo>
                <a:cubicBezTo>
                  <a:pt x="794" y="981"/>
                  <a:pt x="793" y="1023"/>
                  <a:pt x="804" y="1028"/>
                </a:cubicBezTo>
                <a:cubicBezTo>
                  <a:pt x="815" y="1033"/>
                  <a:pt x="824" y="1010"/>
                  <a:pt x="840" y="1004"/>
                </a:cubicBezTo>
                <a:cubicBezTo>
                  <a:pt x="856" y="998"/>
                  <a:pt x="890" y="1010"/>
                  <a:pt x="900" y="992"/>
                </a:cubicBezTo>
                <a:cubicBezTo>
                  <a:pt x="910" y="974"/>
                  <a:pt x="892" y="917"/>
                  <a:pt x="900" y="896"/>
                </a:cubicBezTo>
                <a:cubicBezTo>
                  <a:pt x="908" y="875"/>
                  <a:pt x="938" y="880"/>
                  <a:pt x="948" y="866"/>
                </a:cubicBezTo>
                <a:cubicBezTo>
                  <a:pt x="958" y="852"/>
                  <a:pt x="952" y="828"/>
                  <a:pt x="960" y="812"/>
                </a:cubicBezTo>
                <a:cubicBezTo>
                  <a:pt x="968" y="796"/>
                  <a:pt x="982" y="780"/>
                  <a:pt x="996" y="770"/>
                </a:cubicBezTo>
                <a:cubicBezTo>
                  <a:pt x="1010" y="760"/>
                  <a:pt x="1023" y="755"/>
                  <a:pt x="1044" y="752"/>
                </a:cubicBezTo>
                <a:cubicBezTo>
                  <a:pt x="1065" y="749"/>
                  <a:pt x="1098" y="760"/>
                  <a:pt x="1122" y="752"/>
                </a:cubicBezTo>
                <a:cubicBezTo>
                  <a:pt x="1146" y="744"/>
                  <a:pt x="1158" y="721"/>
                  <a:pt x="1188" y="704"/>
                </a:cubicBezTo>
                <a:cubicBezTo>
                  <a:pt x="1218" y="687"/>
                  <a:pt x="1262" y="677"/>
                  <a:pt x="1302" y="650"/>
                </a:cubicBezTo>
                <a:cubicBezTo>
                  <a:pt x="1342" y="623"/>
                  <a:pt x="1382" y="561"/>
                  <a:pt x="1428" y="542"/>
                </a:cubicBezTo>
                <a:cubicBezTo>
                  <a:pt x="1474" y="523"/>
                  <a:pt x="1539" y="524"/>
                  <a:pt x="1578" y="536"/>
                </a:cubicBezTo>
                <a:cubicBezTo>
                  <a:pt x="1617" y="548"/>
                  <a:pt x="1636" y="591"/>
                  <a:pt x="1662" y="614"/>
                </a:cubicBezTo>
                <a:cubicBezTo>
                  <a:pt x="1688" y="637"/>
                  <a:pt x="1713" y="661"/>
                  <a:pt x="1734" y="674"/>
                </a:cubicBezTo>
                <a:cubicBezTo>
                  <a:pt x="1755" y="687"/>
                  <a:pt x="1770" y="695"/>
                  <a:pt x="1788" y="692"/>
                </a:cubicBezTo>
                <a:cubicBezTo>
                  <a:pt x="1806" y="689"/>
                  <a:pt x="1822" y="678"/>
                  <a:pt x="1842" y="656"/>
                </a:cubicBezTo>
                <a:cubicBezTo>
                  <a:pt x="1862" y="634"/>
                  <a:pt x="1881" y="560"/>
                  <a:pt x="1908" y="560"/>
                </a:cubicBezTo>
                <a:cubicBezTo>
                  <a:pt x="1935" y="560"/>
                  <a:pt x="1971" y="652"/>
                  <a:pt x="2004" y="656"/>
                </a:cubicBezTo>
                <a:cubicBezTo>
                  <a:pt x="2037" y="660"/>
                  <a:pt x="2069" y="620"/>
                  <a:pt x="2106" y="584"/>
                </a:cubicBezTo>
                <a:cubicBezTo>
                  <a:pt x="2143" y="548"/>
                  <a:pt x="2200" y="474"/>
                  <a:pt x="2226" y="440"/>
                </a:cubicBezTo>
                <a:cubicBezTo>
                  <a:pt x="2252" y="406"/>
                  <a:pt x="2223" y="383"/>
                  <a:pt x="2262" y="380"/>
                </a:cubicBezTo>
                <a:cubicBezTo>
                  <a:pt x="2301" y="377"/>
                  <a:pt x="2419" y="413"/>
                  <a:pt x="2460" y="422"/>
                </a:cubicBezTo>
              </a:path>
            </a:pathLst>
          </a:custGeom>
          <a:noFill/>
          <a:ln w="507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733920" y="2630520"/>
            <a:ext cx="2819160" cy="1206360"/>
          </a:xfrm>
          <a:custGeom>
            <a:avLst/>
            <a:gdLst/>
            <a:ahLst/>
            <a:rect l="l" t="t" r="r" b="b"/>
            <a:pathLst>
              <a:path w="1776" h="760">
                <a:moveTo>
                  <a:pt x="0" y="551"/>
                </a:moveTo>
                <a:cubicBezTo>
                  <a:pt x="7" y="550"/>
                  <a:pt x="33" y="547"/>
                  <a:pt x="44" y="543"/>
                </a:cubicBezTo>
                <a:cubicBezTo>
                  <a:pt x="55" y="539"/>
                  <a:pt x="59" y="526"/>
                  <a:pt x="68" y="527"/>
                </a:cubicBezTo>
                <a:cubicBezTo>
                  <a:pt x="77" y="528"/>
                  <a:pt x="85" y="546"/>
                  <a:pt x="96" y="551"/>
                </a:cubicBezTo>
                <a:cubicBezTo>
                  <a:pt x="107" y="556"/>
                  <a:pt x="125" y="561"/>
                  <a:pt x="136" y="559"/>
                </a:cubicBezTo>
                <a:cubicBezTo>
                  <a:pt x="147" y="557"/>
                  <a:pt x="152" y="532"/>
                  <a:pt x="160" y="539"/>
                </a:cubicBezTo>
                <a:cubicBezTo>
                  <a:pt x="168" y="546"/>
                  <a:pt x="178" y="584"/>
                  <a:pt x="184" y="599"/>
                </a:cubicBezTo>
                <a:cubicBezTo>
                  <a:pt x="190" y="614"/>
                  <a:pt x="187" y="624"/>
                  <a:pt x="196" y="627"/>
                </a:cubicBezTo>
                <a:cubicBezTo>
                  <a:pt x="205" y="630"/>
                  <a:pt x="230" y="614"/>
                  <a:pt x="236" y="619"/>
                </a:cubicBezTo>
                <a:cubicBezTo>
                  <a:pt x="242" y="624"/>
                  <a:pt x="231" y="646"/>
                  <a:pt x="232" y="659"/>
                </a:cubicBezTo>
                <a:cubicBezTo>
                  <a:pt x="233" y="672"/>
                  <a:pt x="231" y="689"/>
                  <a:pt x="240" y="695"/>
                </a:cubicBezTo>
                <a:cubicBezTo>
                  <a:pt x="249" y="701"/>
                  <a:pt x="275" y="690"/>
                  <a:pt x="288" y="695"/>
                </a:cubicBezTo>
                <a:cubicBezTo>
                  <a:pt x="301" y="700"/>
                  <a:pt x="311" y="721"/>
                  <a:pt x="320" y="723"/>
                </a:cubicBezTo>
                <a:cubicBezTo>
                  <a:pt x="329" y="725"/>
                  <a:pt x="333" y="712"/>
                  <a:pt x="344" y="707"/>
                </a:cubicBezTo>
                <a:cubicBezTo>
                  <a:pt x="355" y="702"/>
                  <a:pt x="373" y="692"/>
                  <a:pt x="384" y="695"/>
                </a:cubicBezTo>
                <a:cubicBezTo>
                  <a:pt x="395" y="698"/>
                  <a:pt x="410" y="724"/>
                  <a:pt x="412" y="727"/>
                </a:cubicBezTo>
                <a:cubicBezTo>
                  <a:pt x="414" y="730"/>
                  <a:pt x="387" y="710"/>
                  <a:pt x="396" y="715"/>
                </a:cubicBezTo>
                <a:cubicBezTo>
                  <a:pt x="405" y="720"/>
                  <a:pt x="450" y="750"/>
                  <a:pt x="464" y="755"/>
                </a:cubicBezTo>
                <a:cubicBezTo>
                  <a:pt x="478" y="760"/>
                  <a:pt x="480" y="752"/>
                  <a:pt x="480" y="743"/>
                </a:cubicBezTo>
                <a:cubicBezTo>
                  <a:pt x="480" y="734"/>
                  <a:pt x="478" y="716"/>
                  <a:pt x="464" y="699"/>
                </a:cubicBezTo>
                <a:cubicBezTo>
                  <a:pt x="450" y="682"/>
                  <a:pt x="415" y="656"/>
                  <a:pt x="396" y="639"/>
                </a:cubicBezTo>
                <a:cubicBezTo>
                  <a:pt x="377" y="622"/>
                  <a:pt x="362" y="614"/>
                  <a:pt x="352" y="599"/>
                </a:cubicBezTo>
                <a:cubicBezTo>
                  <a:pt x="342" y="584"/>
                  <a:pt x="336" y="567"/>
                  <a:pt x="336" y="551"/>
                </a:cubicBezTo>
                <a:cubicBezTo>
                  <a:pt x="336" y="535"/>
                  <a:pt x="345" y="516"/>
                  <a:pt x="352" y="503"/>
                </a:cubicBezTo>
                <a:cubicBezTo>
                  <a:pt x="359" y="490"/>
                  <a:pt x="359" y="475"/>
                  <a:pt x="380" y="471"/>
                </a:cubicBezTo>
                <a:cubicBezTo>
                  <a:pt x="401" y="467"/>
                  <a:pt x="455" y="474"/>
                  <a:pt x="480" y="479"/>
                </a:cubicBezTo>
                <a:cubicBezTo>
                  <a:pt x="505" y="484"/>
                  <a:pt x="512" y="499"/>
                  <a:pt x="528" y="503"/>
                </a:cubicBezTo>
                <a:cubicBezTo>
                  <a:pt x="544" y="507"/>
                  <a:pt x="552" y="511"/>
                  <a:pt x="576" y="503"/>
                </a:cubicBezTo>
                <a:cubicBezTo>
                  <a:pt x="600" y="495"/>
                  <a:pt x="652" y="466"/>
                  <a:pt x="672" y="455"/>
                </a:cubicBezTo>
                <a:cubicBezTo>
                  <a:pt x="692" y="444"/>
                  <a:pt x="696" y="447"/>
                  <a:pt x="696" y="435"/>
                </a:cubicBezTo>
                <a:cubicBezTo>
                  <a:pt x="696" y="423"/>
                  <a:pt x="668" y="396"/>
                  <a:pt x="672" y="383"/>
                </a:cubicBezTo>
                <a:cubicBezTo>
                  <a:pt x="676" y="370"/>
                  <a:pt x="701" y="368"/>
                  <a:pt x="720" y="359"/>
                </a:cubicBezTo>
                <a:cubicBezTo>
                  <a:pt x="739" y="350"/>
                  <a:pt x="765" y="346"/>
                  <a:pt x="784" y="331"/>
                </a:cubicBezTo>
                <a:cubicBezTo>
                  <a:pt x="803" y="316"/>
                  <a:pt x="819" y="294"/>
                  <a:pt x="832" y="267"/>
                </a:cubicBezTo>
                <a:cubicBezTo>
                  <a:pt x="845" y="240"/>
                  <a:pt x="857" y="191"/>
                  <a:pt x="864" y="167"/>
                </a:cubicBezTo>
                <a:cubicBezTo>
                  <a:pt x="871" y="143"/>
                  <a:pt x="874" y="139"/>
                  <a:pt x="876" y="123"/>
                </a:cubicBezTo>
                <a:cubicBezTo>
                  <a:pt x="878" y="107"/>
                  <a:pt x="870" y="88"/>
                  <a:pt x="876" y="71"/>
                </a:cubicBezTo>
                <a:cubicBezTo>
                  <a:pt x="882" y="54"/>
                  <a:pt x="898" y="34"/>
                  <a:pt x="912" y="23"/>
                </a:cubicBezTo>
                <a:cubicBezTo>
                  <a:pt x="926" y="12"/>
                  <a:pt x="944" y="6"/>
                  <a:pt x="960" y="3"/>
                </a:cubicBezTo>
                <a:cubicBezTo>
                  <a:pt x="976" y="0"/>
                  <a:pt x="993" y="1"/>
                  <a:pt x="1008" y="7"/>
                </a:cubicBezTo>
                <a:cubicBezTo>
                  <a:pt x="1023" y="13"/>
                  <a:pt x="1029" y="34"/>
                  <a:pt x="1052" y="39"/>
                </a:cubicBezTo>
                <a:cubicBezTo>
                  <a:pt x="1075" y="44"/>
                  <a:pt x="1123" y="34"/>
                  <a:pt x="1148" y="39"/>
                </a:cubicBezTo>
                <a:cubicBezTo>
                  <a:pt x="1173" y="44"/>
                  <a:pt x="1187" y="59"/>
                  <a:pt x="1200" y="71"/>
                </a:cubicBezTo>
                <a:cubicBezTo>
                  <a:pt x="1213" y="83"/>
                  <a:pt x="1222" y="96"/>
                  <a:pt x="1224" y="111"/>
                </a:cubicBezTo>
                <a:cubicBezTo>
                  <a:pt x="1226" y="126"/>
                  <a:pt x="1222" y="136"/>
                  <a:pt x="1212" y="163"/>
                </a:cubicBezTo>
                <a:cubicBezTo>
                  <a:pt x="1202" y="190"/>
                  <a:pt x="1176" y="248"/>
                  <a:pt x="1164" y="271"/>
                </a:cubicBezTo>
                <a:cubicBezTo>
                  <a:pt x="1152" y="294"/>
                  <a:pt x="1139" y="290"/>
                  <a:pt x="1140" y="303"/>
                </a:cubicBezTo>
                <a:cubicBezTo>
                  <a:pt x="1141" y="316"/>
                  <a:pt x="1167" y="336"/>
                  <a:pt x="1168" y="351"/>
                </a:cubicBezTo>
                <a:cubicBezTo>
                  <a:pt x="1169" y="366"/>
                  <a:pt x="1151" y="378"/>
                  <a:pt x="1148" y="395"/>
                </a:cubicBezTo>
                <a:cubicBezTo>
                  <a:pt x="1145" y="412"/>
                  <a:pt x="1151" y="437"/>
                  <a:pt x="1152" y="455"/>
                </a:cubicBezTo>
                <a:cubicBezTo>
                  <a:pt x="1153" y="473"/>
                  <a:pt x="1152" y="486"/>
                  <a:pt x="1152" y="503"/>
                </a:cubicBezTo>
                <a:cubicBezTo>
                  <a:pt x="1152" y="520"/>
                  <a:pt x="1155" y="544"/>
                  <a:pt x="1152" y="559"/>
                </a:cubicBezTo>
                <a:cubicBezTo>
                  <a:pt x="1149" y="574"/>
                  <a:pt x="1136" y="571"/>
                  <a:pt x="1132" y="591"/>
                </a:cubicBezTo>
                <a:cubicBezTo>
                  <a:pt x="1128" y="611"/>
                  <a:pt x="1117" y="670"/>
                  <a:pt x="1128" y="679"/>
                </a:cubicBezTo>
                <a:cubicBezTo>
                  <a:pt x="1139" y="688"/>
                  <a:pt x="1177" y="658"/>
                  <a:pt x="1200" y="647"/>
                </a:cubicBezTo>
                <a:cubicBezTo>
                  <a:pt x="1223" y="636"/>
                  <a:pt x="1248" y="608"/>
                  <a:pt x="1268" y="611"/>
                </a:cubicBezTo>
                <a:cubicBezTo>
                  <a:pt x="1288" y="614"/>
                  <a:pt x="1299" y="659"/>
                  <a:pt x="1320" y="663"/>
                </a:cubicBezTo>
                <a:cubicBezTo>
                  <a:pt x="1341" y="667"/>
                  <a:pt x="1372" y="638"/>
                  <a:pt x="1392" y="635"/>
                </a:cubicBezTo>
                <a:cubicBezTo>
                  <a:pt x="1412" y="632"/>
                  <a:pt x="1423" y="653"/>
                  <a:pt x="1440" y="647"/>
                </a:cubicBezTo>
                <a:cubicBezTo>
                  <a:pt x="1457" y="641"/>
                  <a:pt x="1473" y="625"/>
                  <a:pt x="1496" y="599"/>
                </a:cubicBezTo>
                <a:cubicBezTo>
                  <a:pt x="1519" y="573"/>
                  <a:pt x="1551" y="525"/>
                  <a:pt x="1580" y="491"/>
                </a:cubicBezTo>
                <a:cubicBezTo>
                  <a:pt x="1609" y="457"/>
                  <a:pt x="1639" y="425"/>
                  <a:pt x="1672" y="395"/>
                </a:cubicBezTo>
                <a:cubicBezTo>
                  <a:pt x="1705" y="365"/>
                  <a:pt x="1754" y="329"/>
                  <a:pt x="1776" y="311"/>
                </a:cubicBezTo>
              </a:path>
            </a:pathLst>
          </a:custGeom>
          <a:noFill/>
          <a:ln w="5724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67280" y="2743200"/>
            <a:ext cx="389160" cy="2895480"/>
          </a:xfrm>
          <a:custGeom>
            <a:avLst/>
            <a:gdLst/>
            <a:ahLst/>
            <a:rect l="l" t="t" r="r" b="b"/>
            <a:pathLst>
              <a:path w="245" h="1824">
                <a:moveTo>
                  <a:pt x="245" y="0"/>
                </a:moveTo>
                <a:cubicBezTo>
                  <a:pt x="236" y="14"/>
                  <a:pt x="204" y="63"/>
                  <a:pt x="188" y="87"/>
                </a:cubicBezTo>
                <a:cubicBezTo>
                  <a:pt x="172" y="111"/>
                  <a:pt x="160" y="124"/>
                  <a:pt x="149" y="144"/>
                </a:cubicBezTo>
                <a:cubicBezTo>
                  <a:pt x="138" y="164"/>
                  <a:pt x="130" y="167"/>
                  <a:pt x="122" y="207"/>
                </a:cubicBezTo>
                <a:cubicBezTo>
                  <a:pt x="114" y="247"/>
                  <a:pt x="107" y="331"/>
                  <a:pt x="101" y="384"/>
                </a:cubicBezTo>
                <a:cubicBezTo>
                  <a:pt x="95" y="437"/>
                  <a:pt x="92" y="491"/>
                  <a:pt x="86" y="525"/>
                </a:cubicBezTo>
                <a:cubicBezTo>
                  <a:pt x="80" y="559"/>
                  <a:pt x="64" y="555"/>
                  <a:pt x="65" y="588"/>
                </a:cubicBezTo>
                <a:cubicBezTo>
                  <a:pt x="66" y="621"/>
                  <a:pt x="85" y="670"/>
                  <a:pt x="92" y="723"/>
                </a:cubicBezTo>
                <a:cubicBezTo>
                  <a:pt x="99" y="776"/>
                  <a:pt x="107" y="852"/>
                  <a:pt x="110" y="906"/>
                </a:cubicBezTo>
                <a:cubicBezTo>
                  <a:pt x="113" y="960"/>
                  <a:pt x="113" y="1016"/>
                  <a:pt x="110" y="1050"/>
                </a:cubicBezTo>
                <a:cubicBezTo>
                  <a:pt x="107" y="1084"/>
                  <a:pt x="102" y="1093"/>
                  <a:pt x="92" y="1110"/>
                </a:cubicBezTo>
                <a:cubicBezTo>
                  <a:pt x="82" y="1127"/>
                  <a:pt x="65" y="1136"/>
                  <a:pt x="53" y="1152"/>
                </a:cubicBezTo>
                <a:cubicBezTo>
                  <a:pt x="41" y="1168"/>
                  <a:pt x="25" y="1185"/>
                  <a:pt x="17" y="1209"/>
                </a:cubicBezTo>
                <a:cubicBezTo>
                  <a:pt x="9" y="1233"/>
                  <a:pt x="3" y="1274"/>
                  <a:pt x="5" y="1296"/>
                </a:cubicBezTo>
                <a:cubicBezTo>
                  <a:pt x="7" y="1318"/>
                  <a:pt x="30" y="1326"/>
                  <a:pt x="32" y="1341"/>
                </a:cubicBezTo>
                <a:cubicBezTo>
                  <a:pt x="34" y="1356"/>
                  <a:pt x="24" y="1372"/>
                  <a:pt x="20" y="1389"/>
                </a:cubicBezTo>
                <a:cubicBezTo>
                  <a:pt x="16" y="1406"/>
                  <a:pt x="7" y="1420"/>
                  <a:pt x="5" y="1446"/>
                </a:cubicBezTo>
                <a:cubicBezTo>
                  <a:pt x="3" y="1472"/>
                  <a:pt x="0" y="1514"/>
                  <a:pt x="8" y="1545"/>
                </a:cubicBezTo>
                <a:cubicBezTo>
                  <a:pt x="16" y="1576"/>
                  <a:pt x="46" y="1602"/>
                  <a:pt x="53" y="1632"/>
                </a:cubicBezTo>
                <a:cubicBezTo>
                  <a:pt x="60" y="1662"/>
                  <a:pt x="61" y="1696"/>
                  <a:pt x="53" y="1728"/>
                </a:cubicBezTo>
                <a:cubicBezTo>
                  <a:pt x="45" y="1760"/>
                  <a:pt x="15" y="1804"/>
                  <a:pt x="5" y="1824"/>
                </a:cubicBezTo>
              </a:path>
            </a:pathLst>
          </a:custGeom>
          <a:noFill/>
          <a:ln w="63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019920" y="2743200"/>
            <a:ext cx="239760" cy="2981160"/>
          </a:xfrm>
          <a:custGeom>
            <a:avLst/>
            <a:gdLst/>
            <a:ahLst/>
            <a:rect l="l" t="t" r="r" b="b"/>
            <a:pathLst>
              <a:path w="151" h="1878">
                <a:moveTo>
                  <a:pt x="147" y="0"/>
                </a:moveTo>
                <a:cubicBezTo>
                  <a:pt x="145" y="17"/>
                  <a:pt x="138" y="70"/>
                  <a:pt x="132" y="102"/>
                </a:cubicBezTo>
                <a:cubicBezTo>
                  <a:pt x="126" y="134"/>
                  <a:pt x="119" y="157"/>
                  <a:pt x="111" y="195"/>
                </a:cubicBezTo>
                <a:cubicBezTo>
                  <a:pt x="103" y="233"/>
                  <a:pt x="87" y="283"/>
                  <a:pt x="87" y="330"/>
                </a:cubicBezTo>
                <a:cubicBezTo>
                  <a:pt x="87" y="377"/>
                  <a:pt x="105" y="448"/>
                  <a:pt x="111" y="480"/>
                </a:cubicBezTo>
                <a:cubicBezTo>
                  <a:pt x="117" y="512"/>
                  <a:pt x="125" y="507"/>
                  <a:pt x="126" y="525"/>
                </a:cubicBezTo>
                <a:cubicBezTo>
                  <a:pt x="127" y="543"/>
                  <a:pt x="114" y="563"/>
                  <a:pt x="114" y="588"/>
                </a:cubicBezTo>
                <a:cubicBezTo>
                  <a:pt x="114" y="613"/>
                  <a:pt x="124" y="646"/>
                  <a:pt x="126" y="678"/>
                </a:cubicBezTo>
                <a:cubicBezTo>
                  <a:pt x="128" y="710"/>
                  <a:pt x="132" y="757"/>
                  <a:pt x="129" y="783"/>
                </a:cubicBezTo>
                <a:cubicBezTo>
                  <a:pt x="126" y="809"/>
                  <a:pt x="113" y="811"/>
                  <a:pt x="105" y="834"/>
                </a:cubicBezTo>
                <a:cubicBezTo>
                  <a:pt x="97" y="857"/>
                  <a:pt x="82" y="892"/>
                  <a:pt x="81" y="921"/>
                </a:cubicBezTo>
                <a:cubicBezTo>
                  <a:pt x="80" y="950"/>
                  <a:pt x="88" y="970"/>
                  <a:pt x="99" y="1008"/>
                </a:cubicBezTo>
                <a:cubicBezTo>
                  <a:pt x="110" y="1046"/>
                  <a:pt x="143" y="1104"/>
                  <a:pt x="147" y="1152"/>
                </a:cubicBezTo>
                <a:cubicBezTo>
                  <a:pt x="151" y="1200"/>
                  <a:pt x="137" y="1257"/>
                  <a:pt x="126" y="1299"/>
                </a:cubicBezTo>
                <a:cubicBezTo>
                  <a:pt x="115" y="1341"/>
                  <a:pt x="87" y="1363"/>
                  <a:pt x="78" y="1404"/>
                </a:cubicBezTo>
                <a:cubicBezTo>
                  <a:pt x="69" y="1445"/>
                  <a:pt x="72" y="1497"/>
                  <a:pt x="72" y="1545"/>
                </a:cubicBezTo>
                <a:cubicBezTo>
                  <a:pt x="72" y="1593"/>
                  <a:pt x="88" y="1656"/>
                  <a:pt x="81" y="1695"/>
                </a:cubicBezTo>
                <a:cubicBezTo>
                  <a:pt x="74" y="1734"/>
                  <a:pt x="42" y="1761"/>
                  <a:pt x="30" y="1782"/>
                </a:cubicBezTo>
                <a:cubicBezTo>
                  <a:pt x="18" y="1803"/>
                  <a:pt x="14" y="1808"/>
                  <a:pt x="9" y="1824"/>
                </a:cubicBezTo>
                <a:cubicBezTo>
                  <a:pt x="4" y="1840"/>
                  <a:pt x="2" y="1867"/>
                  <a:pt x="0" y="1878"/>
                </a:cubicBezTo>
              </a:path>
            </a:pathLst>
          </a:custGeom>
          <a:noFill/>
          <a:ln w="63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6248520" y="2743200"/>
            <a:ext cx="723960" cy="1442880"/>
          </a:xfrm>
          <a:custGeom>
            <a:avLst/>
            <a:gdLst/>
            <a:ahLst/>
            <a:rect l="l" t="t" r="r" b="b"/>
            <a:pathLst>
              <a:path w="456" h="909">
                <a:moveTo>
                  <a:pt x="0" y="0"/>
                </a:moveTo>
                <a:cubicBezTo>
                  <a:pt x="10" y="16"/>
                  <a:pt x="51" y="63"/>
                  <a:pt x="60" y="96"/>
                </a:cubicBezTo>
                <a:cubicBezTo>
                  <a:pt x="69" y="129"/>
                  <a:pt x="63" y="165"/>
                  <a:pt x="57" y="201"/>
                </a:cubicBezTo>
                <a:cubicBezTo>
                  <a:pt x="51" y="237"/>
                  <a:pt x="24" y="286"/>
                  <a:pt x="24" y="315"/>
                </a:cubicBezTo>
                <a:cubicBezTo>
                  <a:pt x="24" y="344"/>
                  <a:pt x="48" y="340"/>
                  <a:pt x="57" y="375"/>
                </a:cubicBezTo>
                <a:cubicBezTo>
                  <a:pt x="66" y="410"/>
                  <a:pt x="78" y="480"/>
                  <a:pt x="81" y="525"/>
                </a:cubicBezTo>
                <a:cubicBezTo>
                  <a:pt x="84" y="570"/>
                  <a:pt x="75" y="614"/>
                  <a:pt x="75" y="648"/>
                </a:cubicBezTo>
                <a:cubicBezTo>
                  <a:pt x="75" y="682"/>
                  <a:pt x="75" y="710"/>
                  <a:pt x="84" y="732"/>
                </a:cubicBezTo>
                <a:cubicBezTo>
                  <a:pt x="93" y="754"/>
                  <a:pt x="110" y="765"/>
                  <a:pt x="132" y="783"/>
                </a:cubicBezTo>
                <a:cubicBezTo>
                  <a:pt x="154" y="801"/>
                  <a:pt x="193" y="828"/>
                  <a:pt x="219" y="843"/>
                </a:cubicBezTo>
                <a:cubicBezTo>
                  <a:pt x="245" y="858"/>
                  <a:pt x="263" y="864"/>
                  <a:pt x="291" y="873"/>
                </a:cubicBezTo>
                <a:cubicBezTo>
                  <a:pt x="319" y="882"/>
                  <a:pt x="360" y="894"/>
                  <a:pt x="387" y="900"/>
                </a:cubicBezTo>
                <a:cubicBezTo>
                  <a:pt x="414" y="906"/>
                  <a:pt x="442" y="907"/>
                  <a:pt x="456" y="909"/>
                </a:cubicBezTo>
              </a:path>
            </a:pathLst>
          </a:custGeom>
          <a:noFill/>
          <a:ln w="63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448240" y="2590920"/>
            <a:ext cx="800280" cy="174600"/>
          </a:xfrm>
          <a:custGeom>
            <a:avLst/>
            <a:gdLst/>
            <a:ahLst/>
            <a:rect l="l" t="t" r="r" b="b"/>
            <a:pathLst>
              <a:path w="504" h="110">
                <a:moveTo>
                  <a:pt x="504" y="110"/>
                </a:moveTo>
                <a:cubicBezTo>
                  <a:pt x="496" y="106"/>
                  <a:pt x="470" y="91"/>
                  <a:pt x="453" y="80"/>
                </a:cubicBezTo>
                <a:cubicBezTo>
                  <a:pt x="436" y="69"/>
                  <a:pt x="419" y="51"/>
                  <a:pt x="402" y="44"/>
                </a:cubicBezTo>
                <a:cubicBezTo>
                  <a:pt x="385" y="37"/>
                  <a:pt x="373" y="35"/>
                  <a:pt x="351" y="38"/>
                </a:cubicBezTo>
                <a:cubicBezTo>
                  <a:pt x="329" y="41"/>
                  <a:pt x="286" y="68"/>
                  <a:pt x="270" y="65"/>
                </a:cubicBezTo>
                <a:cubicBezTo>
                  <a:pt x="254" y="62"/>
                  <a:pt x="261" y="30"/>
                  <a:pt x="252" y="20"/>
                </a:cubicBezTo>
                <a:cubicBezTo>
                  <a:pt x="243" y="10"/>
                  <a:pt x="228" y="4"/>
                  <a:pt x="213" y="2"/>
                </a:cubicBezTo>
                <a:cubicBezTo>
                  <a:pt x="198" y="0"/>
                  <a:pt x="182" y="6"/>
                  <a:pt x="162" y="8"/>
                </a:cubicBezTo>
                <a:cubicBezTo>
                  <a:pt x="142" y="10"/>
                  <a:pt x="109" y="9"/>
                  <a:pt x="93" y="11"/>
                </a:cubicBezTo>
                <a:cubicBezTo>
                  <a:pt x="77" y="13"/>
                  <a:pt x="78" y="22"/>
                  <a:pt x="63" y="23"/>
                </a:cubicBezTo>
                <a:cubicBezTo>
                  <a:pt x="48" y="24"/>
                  <a:pt x="13" y="18"/>
                  <a:pt x="0" y="17"/>
                </a:cubicBezTo>
              </a:path>
            </a:pathLst>
          </a:custGeom>
          <a:noFill/>
          <a:ln w="63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248520" y="1676520"/>
            <a:ext cx="1071360" cy="1238040"/>
          </a:xfrm>
          <a:custGeom>
            <a:avLst/>
            <a:gdLst/>
            <a:ahLst/>
            <a:rect l="l" t="t" r="r" b="b"/>
            <a:pathLst>
              <a:path w="675" h="780">
                <a:moveTo>
                  <a:pt x="675" y="0"/>
                </a:moveTo>
                <a:cubicBezTo>
                  <a:pt x="647" y="70"/>
                  <a:pt x="535" y="345"/>
                  <a:pt x="504" y="420"/>
                </a:cubicBezTo>
                <a:cubicBezTo>
                  <a:pt x="473" y="495"/>
                  <a:pt x="496" y="448"/>
                  <a:pt x="489" y="450"/>
                </a:cubicBezTo>
                <a:cubicBezTo>
                  <a:pt x="482" y="452"/>
                  <a:pt x="471" y="432"/>
                  <a:pt x="459" y="432"/>
                </a:cubicBezTo>
                <a:cubicBezTo>
                  <a:pt x="447" y="432"/>
                  <a:pt x="441" y="429"/>
                  <a:pt x="417" y="450"/>
                </a:cubicBezTo>
                <a:cubicBezTo>
                  <a:pt x="393" y="471"/>
                  <a:pt x="367" y="508"/>
                  <a:pt x="312" y="558"/>
                </a:cubicBezTo>
                <a:cubicBezTo>
                  <a:pt x="257" y="608"/>
                  <a:pt x="132" y="726"/>
                  <a:pt x="87" y="753"/>
                </a:cubicBezTo>
                <a:cubicBezTo>
                  <a:pt x="42" y="780"/>
                  <a:pt x="53" y="731"/>
                  <a:pt x="39" y="720"/>
                </a:cubicBezTo>
                <a:cubicBezTo>
                  <a:pt x="25" y="709"/>
                  <a:pt x="8" y="692"/>
                  <a:pt x="0" y="684"/>
                </a:cubicBezTo>
              </a:path>
            </a:pathLst>
          </a:custGeom>
          <a:noFill/>
          <a:ln w="63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904080" y="5173560"/>
            <a:ext cx="258840" cy="747720"/>
          </a:xfrm>
          <a:custGeom>
            <a:avLst/>
            <a:gdLst/>
            <a:ahLst/>
            <a:rect l="l" t="t" r="r" b="b"/>
            <a:pathLst>
              <a:path w="163" h="471">
                <a:moveTo>
                  <a:pt x="120" y="5"/>
                </a:moveTo>
                <a:cubicBezTo>
                  <a:pt x="130" y="0"/>
                  <a:pt x="130" y="18"/>
                  <a:pt x="135" y="23"/>
                </a:cubicBezTo>
                <a:cubicBezTo>
                  <a:pt x="140" y="28"/>
                  <a:pt x="147" y="33"/>
                  <a:pt x="151" y="37"/>
                </a:cubicBezTo>
                <a:cubicBezTo>
                  <a:pt x="155" y="41"/>
                  <a:pt x="159" y="17"/>
                  <a:pt x="160" y="47"/>
                </a:cubicBezTo>
                <a:cubicBezTo>
                  <a:pt x="161" y="77"/>
                  <a:pt x="163" y="174"/>
                  <a:pt x="156" y="215"/>
                </a:cubicBezTo>
                <a:cubicBezTo>
                  <a:pt x="149" y="256"/>
                  <a:pt x="126" y="272"/>
                  <a:pt x="120" y="293"/>
                </a:cubicBezTo>
                <a:cubicBezTo>
                  <a:pt x="114" y="314"/>
                  <a:pt x="125" y="314"/>
                  <a:pt x="120" y="341"/>
                </a:cubicBezTo>
                <a:cubicBezTo>
                  <a:pt x="115" y="368"/>
                  <a:pt x="102" y="439"/>
                  <a:pt x="92" y="455"/>
                </a:cubicBezTo>
                <a:cubicBezTo>
                  <a:pt x="82" y="471"/>
                  <a:pt x="68" y="450"/>
                  <a:pt x="58" y="439"/>
                </a:cubicBezTo>
                <a:cubicBezTo>
                  <a:pt x="48" y="428"/>
                  <a:pt x="36" y="402"/>
                  <a:pt x="28" y="385"/>
                </a:cubicBezTo>
                <a:cubicBezTo>
                  <a:pt x="20" y="368"/>
                  <a:pt x="11" y="352"/>
                  <a:pt x="10" y="339"/>
                </a:cubicBezTo>
                <a:cubicBezTo>
                  <a:pt x="9" y="326"/>
                  <a:pt x="21" y="320"/>
                  <a:pt x="20" y="309"/>
                </a:cubicBezTo>
                <a:cubicBezTo>
                  <a:pt x="19" y="298"/>
                  <a:pt x="3" y="293"/>
                  <a:pt x="2" y="275"/>
                </a:cubicBezTo>
                <a:cubicBezTo>
                  <a:pt x="1" y="257"/>
                  <a:pt x="0" y="236"/>
                  <a:pt x="12" y="199"/>
                </a:cubicBezTo>
                <a:cubicBezTo>
                  <a:pt x="24" y="162"/>
                  <a:pt x="54" y="85"/>
                  <a:pt x="72" y="53"/>
                </a:cubicBezTo>
                <a:cubicBezTo>
                  <a:pt x="90" y="21"/>
                  <a:pt x="108" y="11"/>
                  <a:pt x="120" y="5"/>
                </a:cubicBez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256360" y="6159600"/>
            <a:ext cx="315720" cy="263520"/>
          </a:xfrm>
          <a:custGeom>
            <a:avLst/>
            <a:gdLst/>
            <a:ahLst/>
            <a:rect l="l" t="t" r="r" b="b"/>
            <a:pathLst>
              <a:path w="199" h="166">
                <a:moveTo>
                  <a:pt x="55" y="10"/>
                </a:moveTo>
                <a:cubicBezTo>
                  <a:pt x="64" y="6"/>
                  <a:pt x="82" y="8"/>
                  <a:pt x="97" y="8"/>
                </a:cubicBezTo>
                <a:cubicBezTo>
                  <a:pt x="112" y="8"/>
                  <a:pt x="129" y="0"/>
                  <a:pt x="145" y="8"/>
                </a:cubicBezTo>
                <a:cubicBezTo>
                  <a:pt x="161" y="16"/>
                  <a:pt x="187" y="39"/>
                  <a:pt x="193" y="56"/>
                </a:cubicBezTo>
                <a:cubicBezTo>
                  <a:pt x="199" y="73"/>
                  <a:pt x="191" y="98"/>
                  <a:pt x="183" y="114"/>
                </a:cubicBezTo>
                <a:cubicBezTo>
                  <a:pt x="175" y="130"/>
                  <a:pt x="157" y="146"/>
                  <a:pt x="145" y="152"/>
                </a:cubicBezTo>
                <a:cubicBezTo>
                  <a:pt x="133" y="158"/>
                  <a:pt x="121" y="148"/>
                  <a:pt x="111" y="150"/>
                </a:cubicBezTo>
                <a:cubicBezTo>
                  <a:pt x="101" y="152"/>
                  <a:pt x="94" y="162"/>
                  <a:pt x="83" y="164"/>
                </a:cubicBezTo>
                <a:cubicBezTo>
                  <a:pt x="72" y="166"/>
                  <a:pt x="59" y="165"/>
                  <a:pt x="47" y="162"/>
                </a:cubicBezTo>
                <a:cubicBezTo>
                  <a:pt x="35" y="159"/>
                  <a:pt x="21" y="158"/>
                  <a:pt x="13" y="148"/>
                </a:cubicBezTo>
                <a:cubicBezTo>
                  <a:pt x="5" y="138"/>
                  <a:pt x="2" y="118"/>
                  <a:pt x="1" y="104"/>
                </a:cubicBezTo>
                <a:cubicBezTo>
                  <a:pt x="0" y="90"/>
                  <a:pt x="0" y="78"/>
                  <a:pt x="7" y="66"/>
                </a:cubicBezTo>
                <a:cubicBezTo>
                  <a:pt x="14" y="54"/>
                  <a:pt x="35" y="43"/>
                  <a:pt x="43" y="34"/>
                </a:cubicBezTo>
                <a:cubicBezTo>
                  <a:pt x="51" y="25"/>
                  <a:pt x="46" y="14"/>
                  <a:pt x="55" y="10"/>
                </a:cubicBez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248520" y="1676520"/>
            <a:ext cx="1071360" cy="1238040"/>
          </a:xfrm>
          <a:custGeom>
            <a:avLst/>
            <a:gdLst/>
            <a:ahLst/>
            <a:rect l="l" t="t" r="r" b="b"/>
            <a:pathLst>
              <a:path w="675" h="780">
                <a:moveTo>
                  <a:pt x="675" y="0"/>
                </a:moveTo>
                <a:cubicBezTo>
                  <a:pt x="647" y="70"/>
                  <a:pt x="535" y="345"/>
                  <a:pt x="504" y="420"/>
                </a:cubicBezTo>
                <a:cubicBezTo>
                  <a:pt x="473" y="495"/>
                  <a:pt x="496" y="448"/>
                  <a:pt x="489" y="450"/>
                </a:cubicBezTo>
                <a:cubicBezTo>
                  <a:pt x="482" y="452"/>
                  <a:pt x="471" y="432"/>
                  <a:pt x="459" y="432"/>
                </a:cubicBezTo>
                <a:cubicBezTo>
                  <a:pt x="447" y="432"/>
                  <a:pt x="441" y="429"/>
                  <a:pt x="417" y="450"/>
                </a:cubicBezTo>
                <a:cubicBezTo>
                  <a:pt x="393" y="471"/>
                  <a:pt x="367" y="508"/>
                  <a:pt x="312" y="558"/>
                </a:cubicBezTo>
                <a:cubicBezTo>
                  <a:pt x="257" y="608"/>
                  <a:pt x="132" y="726"/>
                  <a:pt x="87" y="753"/>
                </a:cubicBezTo>
                <a:cubicBezTo>
                  <a:pt x="42" y="780"/>
                  <a:pt x="53" y="731"/>
                  <a:pt x="39" y="720"/>
                </a:cubicBezTo>
                <a:cubicBezTo>
                  <a:pt x="25" y="709"/>
                  <a:pt x="8" y="692"/>
                  <a:pt x="0" y="684"/>
                </a:cubicBezTo>
              </a:path>
            </a:pathLst>
          </a:custGeom>
          <a:noFill/>
          <a:ln w="63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5452920" y="2590920"/>
            <a:ext cx="800280" cy="174600"/>
          </a:xfrm>
          <a:custGeom>
            <a:avLst/>
            <a:gdLst/>
            <a:ahLst/>
            <a:rect l="l" t="t" r="r" b="b"/>
            <a:pathLst>
              <a:path w="504" h="110">
                <a:moveTo>
                  <a:pt x="504" y="110"/>
                </a:moveTo>
                <a:cubicBezTo>
                  <a:pt x="496" y="106"/>
                  <a:pt x="470" y="91"/>
                  <a:pt x="453" y="80"/>
                </a:cubicBezTo>
                <a:cubicBezTo>
                  <a:pt x="436" y="69"/>
                  <a:pt x="419" y="51"/>
                  <a:pt x="402" y="44"/>
                </a:cubicBezTo>
                <a:cubicBezTo>
                  <a:pt x="385" y="37"/>
                  <a:pt x="373" y="35"/>
                  <a:pt x="351" y="38"/>
                </a:cubicBezTo>
                <a:cubicBezTo>
                  <a:pt x="329" y="41"/>
                  <a:pt x="286" y="68"/>
                  <a:pt x="270" y="65"/>
                </a:cubicBezTo>
                <a:cubicBezTo>
                  <a:pt x="254" y="62"/>
                  <a:pt x="261" y="30"/>
                  <a:pt x="252" y="20"/>
                </a:cubicBezTo>
                <a:cubicBezTo>
                  <a:pt x="243" y="10"/>
                  <a:pt x="228" y="4"/>
                  <a:pt x="213" y="2"/>
                </a:cubicBezTo>
                <a:cubicBezTo>
                  <a:pt x="198" y="0"/>
                  <a:pt x="182" y="6"/>
                  <a:pt x="162" y="8"/>
                </a:cubicBezTo>
                <a:cubicBezTo>
                  <a:pt x="142" y="10"/>
                  <a:pt x="109" y="9"/>
                  <a:pt x="93" y="11"/>
                </a:cubicBezTo>
                <a:cubicBezTo>
                  <a:pt x="77" y="13"/>
                  <a:pt x="78" y="22"/>
                  <a:pt x="63" y="23"/>
                </a:cubicBezTo>
                <a:cubicBezTo>
                  <a:pt x="48" y="24"/>
                  <a:pt x="13" y="18"/>
                  <a:pt x="0" y="17"/>
                </a:cubicBezTo>
              </a:path>
            </a:pathLst>
          </a:custGeom>
          <a:noFill/>
          <a:ln w="63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867280" y="2743200"/>
            <a:ext cx="389160" cy="2895480"/>
          </a:xfrm>
          <a:custGeom>
            <a:avLst/>
            <a:gdLst/>
            <a:ahLst/>
            <a:rect l="l" t="t" r="r" b="b"/>
            <a:pathLst>
              <a:path w="245" h="1824">
                <a:moveTo>
                  <a:pt x="245" y="0"/>
                </a:moveTo>
                <a:cubicBezTo>
                  <a:pt x="236" y="14"/>
                  <a:pt x="204" y="63"/>
                  <a:pt x="188" y="87"/>
                </a:cubicBezTo>
                <a:cubicBezTo>
                  <a:pt x="172" y="111"/>
                  <a:pt x="160" y="124"/>
                  <a:pt x="149" y="144"/>
                </a:cubicBezTo>
                <a:cubicBezTo>
                  <a:pt x="138" y="164"/>
                  <a:pt x="130" y="167"/>
                  <a:pt x="122" y="207"/>
                </a:cubicBezTo>
                <a:cubicBezTo>
                  <a:pt x="114" y="247"/>
                  <a:pt x="107" y="331"/>
                  <a:pt x="101" y="384"/>
                </a:cubicBezTo>
                <a:cubicBezTo>
                  <a:pt x="95" y="437"/>
                  <a:pt x="92" y="491"/>
                  <a:pt x="86" y="525"/>
                </a:cubicBezTo>
                <a:cubicBezTo>
                  <a:pt x="80" y="559"/>
                  <a:pt x="64" y="555"/>
                  <a:pt x="65" y="588"/>
                </a:cubicBezTo>
                <a:cubicBezTo>
                  <a:pt x="66" y="621"/>
                  <a:pt x="85" y="670"/>
                  <a:pt x="92" y="723"/>
                </a:cubicBezTo>
                <a:cubicBezTo>
                  <a:pt x="99" y="776"/>
                  <a:pt x="107" y="852"/>
                  <a:pt x="110" y="906"/>
                </a:cubicBezTo>
                <a:cubicBezTo>
                  <a:pt x="113" y="960"/>
                  <a:pt x="113" y="1016"/>
                  <a:pt x="110" y="1050"/>
                </a:cubicBezTo>
                <a:cubicBezTo>
                  <a:pt x="107" y="1084"/>
                  <a:pt x="102" y="1093"/>
                  <a:pt x="92" y="1110"/>
                </a:cubicBezTo>
                <a:cubicBezTo>
                  <a:pt x="82" y="1127"/>
                  <a:pt x="65" y="1136"/>
                  <a:pt x="53" y="1152"/>
                </a:cubicBezTo>
                <a:cubicBezTo>
                  <a:pt x="41" y="1168"/>
                  <a:pt x="25" y="1185"/>
                  <a:pt x="17" y="1209"/>
                </a:cubicBezTo>
                <a:cubicBezTo>
                  <a:pt x="9" y="1233"/>
                  <a:pt x="3" y="1274"/>
                  <a:pt x="5" y="1296"/>
                </a:cubicBezTo>
                <a:cubicBezTo>
                  <a:pt x="7" y="1318"/>
                  <a:pt x="30" y="1326"/>
                  <a:pt x="32" y="1341"/>
                </a:cubicBezTo>
                <a:cubicBezTo>
                  <a:pt x="34" y="1356"/>
                  <a:pt x="24" y="1372"/>
                  <a:pt x="20" y="1389"/>
                </a:cubicBezTo>
                <a:cubicBezTo>
                  <a:pt x="16" y="1406"/>
                  <a:pt x="7" y="1420"/>
                  <a:pt x="5" y="1446"/>
                </a:cubicBezTo>
                <a:cubicBezTo>
                  <a:pt x="3" y="1472"/>
                  <a:pt x="0" y="1514"/>
                  <a:pt x="8" y="1545"/>
                </a:cubicBezTo>
                <a:cubicBezTo>
                  <a:pt x="16" y="1576"/>
                  <a:pt x="46" y="1602"/>
                  <a:pt x="53" y="1632"/>
                </a:cubicBezTo>
                <a:cubicBezTo>
                  <a:pt x="60" y="1662"/>
                  <a:pt x="61" y="1696"/>
                  <a:pt x="53" y="1728"/>
                </a:cubicBezTo>
                <a:cubicBezTo>
                  <a:pt x="45" y="1760"/>
                  <a:pt x="15" y="1804"/>
                  <a:pt x="5" y="1824"/>
                </a:cubicBezTo>
              </a:path>
            </a:pathLst>
          </a:custGeom>
          <a:noFill/>
          <a:ln w="63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019920" y="2743200"/>
            <a:ext cx="239760" cy="2981160"/>
          </a:xfrm>
          <a:custGeom>
            <a:avLst/>
            <a:gdLst/>
            <a:ahLst/>
            <a:rect l="l" t="t" r="r" b="b"/>
            <a:pathLst>
              <a:path w="151" h="1878">
                <a:moveTo>
                  <a:pt x="147" y="0"/>
                </a:moveTo>
                <a:cubicBezTo>
                  <a:pt x="145" y="17"/>
                  <a:pt x="138" y="70"/>
                  <a:pt x="132" y="102"/>
                </a:cubicBezTo>
                <a:cubicBezTo>
                  <a:pt x="126" y="134"/>
                  <a:pt x="119" y="157"/>
                  <a:pt x="111" y="195"/>
                </a:cubicBezTo>
                <a:cubicBezTo>
                  <a:pt x="103" y="233"/>
                  <a:pt x="87" y="283"/>
                  <a:pt x="87" y="330"/>
                </a:cubicBezTo>
                <a:cubicBezTo>
                  <a:pt x="87" y="377"/>
                  <a:pt x="105" y="448"/>
                  <a:pt x="111" y="480"/>
                </a:cubicBezTo>
                <a:cubicBezTo>
                  <a:pt x="117" y="512"/>
                  <a:pt x="125" y="507"/>
                  <a:pt x="126" y="525"/>
                </a:cubicBezTo>
                <a:cubicBezTo>
                  <a:pt x="127" y="543"/>
                  <a:pt x="114" y="563"/>
                  <a:pt x="114" y="588"/>
                </a:cubicBezTo>
                <a:cubicBezTo>
                  <a:pt x="114" y="613"/>
                  <a:pt x="124" y="646"/>
                  <a:pt x="126" y="678"/>
                </a:cubicBezTo>
                <a:cubicBezTo>
                  <a:pt x="128" y="710"/>
                  <a:pt x="132" y="757"/>
                  <a:pt x="129" y="783"/>
                </a:cubicBezTo>
                <a:cubicBezTo>
                  <a:pt x="126" y="809"/>
                  <a:pt x="113" y="811"/>
                  <a:pt x="105" y="834"/>
                </a:cubicBezTo>
                <a:cubicBezTo>
                  <a:pt x="97" y="857"/>
                  <a:pt x="82" y="892"/>
                  <a:pt x="81" y="921"/>
                </a:cubicBezTo>
                <a:cubicBezTo>
                  <a:pt x="80" y="950"/>
                  <a:pt x="88" y="970"/>
                  <a:pt x="99" y="1008"/>
                </a:cubicBezTo>
                <a:cubicBezTo>
                  <a:pt x="110" y="1046"/>
                  <a:pt x="143" y="1104"/>
                  <a:pt x="147" y="1152"/>
                </a:cubicBezTo>
                <a:cubicBezTo>
                  <a:pt x="151" y="1200"/>
                  <a:pt x="137" y="1257"/>
                  <a:pt x="126" y="1299"/>
                </a:cubicBezTo>
                <a:cubicBezTo>
                  <a:pt x="115" y="1341"/>
                  <a:pt x="87" y="1363"/>
                  <a:pt x="78" y="1404"/>
                </a:cubicBezTo>
                <a:cubicBezTo>
                  <a:pt x="69" y="1445"/>
                  <a:pt x="72" y="1497"/>
                  <a:pt x="72" y="1545"/>
                </a:cubicBezTo>
                <a:cubicBezTo>
                  <a:pt x="72" y="1593"/>
                  <a:pt x="88" y="1656"/>
                  <a:pt x="81" y="1695"/>
                </a:cubicBezTo>
                <a:cubicBezTo>
                  <a:pt x="74" y="1734"/>
                  <a:pt x="42" y="1761"/>
                  <a:pt x="30" y="1782"/>
                </a:cubicBezTo>
                <a:cubicBezTo>
                  <a:pt x="18" y="1803"/>
                  <a:pt x="14" y="1808"/>
                  <a:pt x="9" y="1824"/>
                </a:cubicBezTo>
                <a:cubicBezTo>
                  <a:pt x="4" y="1840"/>
                  <a:pt x="2" y="1867"/>
                  <a:pt x="0" y="1878"/>
                </a:cubicBezTo>
              </a:path>
            </a:pathLst>
          </a:custGeom>
          <a:noFill/>
          <a:ln w="63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743200"/>
            <a:ext cx="723960" cy="1442880"/>
          </a:xfrm>
          <a:custGeom>
            <a:avLst/>
            <a:gdLst/>
            <a:ahLst/>
            <a:rect l="l" t="t" r="r" b="b"/>
            <a:pathLst>
              <a:path w="456" h="909">
                <a:moveTo>
                  <a:pt x="0" y="0"/>
                </a:moveTo>
                <a:cubicBezTo>
                  <a:pt x="10" y="16"/>
                  <a:pt x="51" y="63"/>
                  <a:pt x="60" y="96"/>
                </a:cubicBezTo>
                <a:cubicBezTo>
                  <a:pt x="69" y="129"/>
                  <a:pt x="63" y="165"/>
                  <a:pt x="57" y="201"/>
                </a:cubicBezTo>
                <a:cubicBezTo>
                  <a:pt x="51" y="237"/>
                  <a:pt x="24" y="286"/>
                  <a:pt x="24" y="315"/>
                </a:cubicBezTo>
                <a:cubicBezTo>
                  <a:pt x="24" y="344"/>
                  <a:pt x="48" y="340"/>
                  <a:pt x="57" y="375"/>
                </a:cubicBezTo>
                <a:cubicBezTo>
                  <a:pt x="66" y="410"/>
                  <a:pt x="78" y="480"/>
                  <a:pt x="81" y="525"/>
                </a:cubicBezTo>
                <a:cubicBezTo>
                  <a:pt x="84" y="570"/>
                  <a:pt x="75" y="614"/>
                  <a:pt x="75" y="648"/>
                </a:cubicBezTo>
                <a:cubicBezTo>
                  <a:pt x="75" y="682"/>
                  <a:pt x="75" y="710"/>
                  <a:pt x="84" y="732"/>
                </a:cubicBezTo>
                <a:cubicBezTo>
                  <a:pt x="93" y="754"/>
                  <a:pt x="110" y="765"/>
                  <a:pt x="132" y="783"/>
                </a:cubicBezTo>
                <a:cubicBezTo>
                  <a:pt x="154" y="801"/>
                  <a:pt x="193" y="828"/>
                  <a:pt x="219" y="843"/>
                </a:cubicBezTo>
                <a:cubicBezTo>
                  <a:pt x="245" y="858"/>
                  <a:pt x="263" y="864"/>
                  <a:pt x="291" y="873"/>
                </a:cubicBezTo>
                <a:cubicBezTo>
                  <a:pt x="319" y="882"/>
                  <a:pt x="360" y="894"/>
                  <a:pt x="387" y="900"/>
                </a:cubicBezTo>
                <a:cubicBezTo>
                  <a:pt x="414" y="906"/>
                  <a:pt x="442" y="907"/>
                  <a:pt x="456" y="909"/>
                </a:cubicBezTo>
              </a:path>
            </a:pathLst>
          </a:custGeom>
          <a:noFill/>
          <a:ln w="63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019920" y="2666880"/>
            <a:ext cx="304560" cy="304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北京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781680" y="4038480"/>
            <a:ext cx="304920" cy="304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上海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5562720"/>
            <a:ext cx="304920" cy="304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九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638680" y="5486400"/>
            <a:ext cx="304920" cy="304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广州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334120" y="2362320"/>
            <a:ext cx="304560" cy="304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包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7162920" y="1523880"/>
            <a:ext cx="304560" cy="304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哈尔滨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780240" y="2362320"/>
            <a:ext cx="12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京哈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5047560" y="3792600"/>
            <a:ext cx="911880" cy="10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京广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809680" y="4097160"/>
            <a:ext cx="911880" cy="10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京九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971680" y="2970360"/>
            <a:ext cx="911880" cy="11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京沪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5435640" y="2133720"/>
            <a:ext cx="127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京包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019920" y="2666880"/>
            <a:ext cx="304560" cy="30492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北京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52280" y="228600"/>
            <a:ext cx="3340080" cy="703440"/>
          </a:xfrm>
          <a:prstGeom prst="rect">
            <a:avLst/>
          </a:prstGeom>
          <a:solidFill>
            <a:srgbClr val="ccffff"/>
          </a:solidFill>
          <a:ln w="0">
            <a:noFill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主要铁路枢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859280" y="260280"/>
            <a:ext cx="1219320" cy="70344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北京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3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3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5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77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9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1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0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3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8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5e75"/>
            </a:gs>
            <a:gs pos="100000">
              <a:srgbClr val="33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1260360" y="425520"/>
            <a:ext cx="6894720" cy="5718240"/>
          </a:xfrm>
          <a:custGeom>
            <a:avLst/>
            <a:gdLst/>
            <a:ahLst/>
            <a:rect l="l" t="t" r="r" b="b"/>
            <a:pathLst>
              <a:path w="4343" h="3602">
                <a:moveTo>
                  <a:pt x="1196" y="298"/>
                </a:moveTo>
                <a:cubicBezTo>
                  <a:pt x="1214" y="290"/>
                  <a:pt x="1262" y="302"/>
                  <a:pt x="1274" y="302"/>
                </a:cubicBezTo>
                <a:cubicBezTo>
                  <a:pt x="1286" y="302"/>
                  <a:pt x="1270" y="287"/>
                  <a:pt x="1268" y="296"/>
                </a:cubicBezTo>
                <a:cubicBezTo>
                  <a:pt x="1266" y="305"/>
                  <a:pt x="1256" y="334"/>
                  <a:pt x="1262" y="358"/>
                </a:cubicBezTo>
                <a:cubicBezTo>
                  <a:pt x="1268" y="382"/>
                  <a:pt x="1292" y="428"/>
                  <a:pt x="1306" y="442"/>
                </a:cubicBezTo>
                <a:cubicBezTo>
                  <a:pt x="1320" y="456"/>
                  <a:pt x="1340" y="437"/>
                  <a:pt x="1348" y="442"/>
                </a:cubicBezTo>
                <a:cubicBezTo>
                  <a:pt x="1356" y="447"/>
                  <a:pt x="1352" y="468"/>
                  <a:pt x="1356" y="474"/>
                </a:cubicBezTo>
                <a:cubicBezTo>
                  <a:pt x="1360" y="480"/>
                  <a:pt x="1365" y="457"/>
                  <a:pt x="1374" y="476"/>
                </a:cubicBezTo>
                <a:cubicBezTo>
                  <a:pt x="1383" y="495"/>
                  <a:pt x="1407" y="558"/>
                  <a:pt x="1412" y="590"/>
                </a:cubicBezTo>
                <a:cubicBezTo>
                  <a:pt x="1417" y="622"/>
                  <a:pt x="1409" y="641"/>
                  <a:pt x="1402" y="668"/>
                </a:cubicBezTo>
                <a:cubicBezTo>
                  <a:pt x="1395" y="695"/>
                  <a:pt x="1359" y="731"/>
                  <a:pt x="1368" y="752"/>
                </a:cubicBezTo>
                <a:cubicBezTo>
                  <a:pt x="1377" y="773"/>
                  <a:pt x="1422" y="782"/>
                  <a:pt x="1454" y="796"/>
                </a:cubicBezTo>
                <a:cubicBezTo>
                  <a:pt x="1486" y="810"/>
                  <a:pt x="1529" y="816"/>
                  <a:pt x="1558" y="836"/>
                </a:cubicBezTo>
                <a:cubicBezTo>
                  <a:pt x="1587" y="856"/>
                  <a:pt x="1608" y="901"/>
                  <a:pt x="1626" y="914"/>
                </a:cubicBezTo>
                <a:cubicBezTo>
                  <a:pt x="1644" y="927"/>
                  <a:pt x="1655" y="898"/>
                  <a:pt x="1664" y="916"/>
                </a:cubicBezTo>
                <a:cubicBezTo>
                  <a:pt x="1673" y="934"/>
                  <a:pt x="1676" y="998"/>
                  <a:pt x="1682" y="1022"/>
                </a:cubicBezTo>
                <a:cubicBezTo>
                  <a:pt x="1688" y="1046"/>
                  <a:pt x="1695" y="1047"/>
                  <a:pt x="1702" y="1060"/>
                </a:cubicBezTo>
                <a:cubicBezTo>
                  <a:pt x="1709" y="1073"/>
                  <a:pt x="1706" y="1092"/>
                  <a:pt x="1722" y="1100"/>
                </a:cubicBezTo>
                <a:cubicBezTo>
                  <a:pt x="1738" y="1108"/>
                  <a:pt x="1770" y="1102"/>
                  <a:pt x="1798" y="1108"/>
                </a:cubicBezTo>
                <a:cubicBezTo>
                  <a:pt x="1826" y="1114"/>
                  <a:pt x="1858" y="1132"/>
                  <a:pt x="1890" y="1138"/>
                </a:cubicBezTo>
                <a:cubicBezTo>
                  <a:pt x="1922" y="1144"/>
                  <a:pt x="1962" y="1138"/>
                  <a:pt x="1992" y="1142"/>
                </a:cubicBezTo>
                <a:cubicBezTo>
                  <a:pt x="2022" y="1146"/>
                  <a:pt x="2050" y="1152"/>
                  <a:pt x="2070" y="1164"/>
                </a:cubicBezTo>
                <a:cubicBezTo>
                  <a:pt x="2090" y="1176"/>
                  <a:pt x="2097" y="1203"/>
                  <a:pt x="2110" y="1212"/>
                </a:cubicBezTo>
                <a:cubicBezTo>
                  <a:pt x="2123" y="1221"/>
                  <a:pt x="2133" y="1207"/>
                  <a:pt x="2150" y="1216"/>
                </a:cubicBezTo>
                <a:cubicBezTo>
                  <a:pt x="2167" y="1225"/>
                  <a:pt x="2193" y="1256"/>
                  <a:pt x="2214" y="1264"/>
                </a:cubicBezTo>
                <a:cubicBezTo>
                  <a:pt x="2235" y="1272"/>
                  <a:pt x="2259" y="1257"/>
                  <a:pt x="2274" y="1262"/>
                </a:cubicBezTo>
                <a:cubicBezTo>
                  <a:pt x="2289" y="1267"/>
                  <a:pt x="2280" y="1297"/>
                  <a:pt x="2306" y="1292"/>
                </a:cubicBezTo>
                <a:cubicBezTo>
                  <a:pt x="2332" y="1287"/>
                  <a:pt x="2399" y="1247"/>
                  <a:pt x="2428" y="1234"/>
                </a:cubicBezTo>
                <a:cubicBezTo>
                  <a:pt x="2457" y="1221"/>
                  <a:pt x="2465" y="1220"/>
                  <a:pt x="2478" y="1216"/>
                </a:cubicBezTo>
                <a:cubicBezTo>
                  <a:pt x="2491" y="1212"/>
                  <a:pt x="2496" y="1212"/>
                  <a:pt x="2504" y="1212"/>
                </a:cubicBezTo>
                <a:cubicBezTo>
                  <a:pt x="2512" y="1212"/>
                  <a:pt x="2507" y="1217"/>
                  <a:pt x="2528" y="1218"/>
                </a:cubicBezTo>
                <a:cubicBezTo>
                  <a:pt x="2549" y="1219"/>
                  <a:pt x="2602" y="1224"/>
                  <a:pt x="2632" y="1216"/>
                </a:cubicBezTo>
                <a:cubicBezTo>
                  <a:pt x="2662" y="1208"/>
                  <a:pt x="2690" y="1188"/>
                  <a:pt x="2710" y="1172"/>
                </a:cubicBezTo>
                <a:cubicBezTo>
                  <a:pt x="2730" y="1156"/>
                  <a:pt x="2737" y="1135"/>
                  <a:pt x="2754" y="1120"/>
                </a:cubicBezTo>
                <a:cubicBezTo>
                  <a:pt x="2771" y="1105"/>
                  <a:pt x="2810" y="1097"/>
                  <a:pt x="2814" y="1080"/>
                </a:cubicBezTo>
                <a:cubicBezTo>
                  <a:pt x="2818" y="1063"/>
                  <a:pt x="2781" y="1036"/>
                  <a:pt x="2778" y="1016"/>
                </a:cubicBezTo>
                <a:cubicBezTo>
                  <a:pt x="2775" y="996"/>
                  <a:pt x="2788" y="971"/>
                  <a:pt x="2796" y="958"/>
                </a:cubicBezTo>
                <a:cubicBezTo>
                  <a:pt x="2804" y="945"/>
                  <a:pt x="2803" y="932"/>
                  <a:pt x="2824" y="936"/>
                </a:cubicBezTo>
                <a:cubicBezTo>
                  <a:pt x="2845" y="940"/>
                  <a:pt x="2891" y="986"/>
                  <a:pt x="2922" y="980"/>
                </a:cubicBezTo>
                <a:cubicBezTo>
                  <a:pt x="2953" y="974"/>
                  <a:pt x="2985" y="915"/>
                  <a:pt x="3012" y="898"/>
                </a:cubicBezTo>
                <a:cubicBezTo>
                  <a:pt x="3039" y="881"/>
                  <a:pt x="3066" y="896"/>
                  <a:pt x="3086" y="880"/>
                </a:cubicBezTo>
                <a:cubicBezTo>
                  <a:pt x="3106" y="864"/>
                  <a:pt x="3119" y="815"/>
                  <a:pt x="3134" y="800"/>
                </a:cubicBezTo>
                <a:cubicBezTo>
                  <a:pt x="3149" y="785"/>
                  <a:pt x="3168" y="797"/>
                  <a:pt x="3178" y="790"/>
                </a:cubicBezTo>
                <a:cubicBezTo>
                  <a:pt x="3188" y="783"/>
                  <a:pt x="3189" y="765"/>
                  <a:pt x="3196" y="760"/>
                </a:cubicBezTo>
                <a:cubicBezTo>
                  <a:pt x="3203" y="755"/>
                  <a:pt x="3209" y="762"/>
                  <a:pt x="3218" y="760"/>
                </a:cubicBezTo>
                <a:cubicBezTo>
                  <a:pt x="3227" y="758"/>
                  <a:pt x="3244" y="749"/>
                  <a:pt x="3252" y="746"/>
                </a:cubicBezTo>
                <a:cubicBezTo>
                  <a:pt x="3260" y="743"/>
                  <a:pt x="3262" y="743"/>
                  <a:pt x="3268" y="742"/>
                </a:cubicBezTo>
                <a:cubicBezTo>
                  <a:pt x="3274" y="741"/>
                  <a:pt x="3276" y="736"/>
                  <a:pt x="3286" y="740"/>
                </a:cubicBezTo>
                <a:cubicBezTo>
                  <a:pt x="3296" y="744"/>
                  <a:pt x="3316" y="772"/>
                  <a:pt x="3326" y="768"/>
                </a:cubicBezTo>
                <a:cubicBezTo>
                  <a:pt x="3336" y="764"/>
                  <a:pt x="3359" y="745"/>
                  <a:pt x="3344" y="718"/>
                </a:cubicBezTo>
                <a:cubicBezTo>
                  <a:pt x="3329" y="691"/>
                  <a:pt x="3260" y="625"/>
                  <a:pt x="3236" y="608"/>
                </a:cubicBezTo>
                <a:cubicBezTo>
                  <a:pt x="3212" y="591"/>
                  <a:pt x="3206" y="608"/>
                  <a:pt x="3198" y="614"/>
                </a:cubicBezTo>
                <a:cubicBezTo>
                  <a:pt x="3190" y="620"/>
                  <a:pt x="3194" y="639"/>
                  <a:pt x="3188" y="642"/>
                </a:cubicBezTo>
                <a:cubicBezTo>
                  <a:pt x="3182" y="645"/>
                  <a:pt x="3176" y="632"/>
                  <a:pt x="3160" y="632"/>
                </a:cubicBezTo>
                <a:cubicBezTo>
                  <a:pt x="3144" y="632"/>
                  <a:pt x="3108" y="635"/>
                  <a:pt x="3094" y="640"/>
                </a:cubicBezTo>
                <a:cubicBezTo>
                  <a:pt x="3080" y="645"/>
                  <a:pt x="3081" y="665"/>
                  <a:pt x="3074" y="664"/>
                </a:cubicBezTo>
                <a:cubicBezTo>
                  <a:pt x="3067" y="663"/>
                  <a:pt x="3056" y="643"/>
                  <a:pt x="3052" y="632"/>
                </a:cubicBezTo>
                <a:cubicBezTo>
                  <a:pt x="3048" y="621"/>
                  <a:pt x="3045" y="608"/>
                  <a:pt x="3048" y="600"/>
                </a:cubicBezTo>
                <a:cubicBezTo>
                  <a:pt x="3051" y="592"/>
                  <a:pt x="3057" y="614"/>
                  <a:pt x="3068" y="586"/>
                </a:cubicBezTo>
                <a:cubicBezTo>
                  <a:pt x="3079" y="558"/>
                  <a:pt x="3100" y="454"/>
                  <a:pt x="3116" y="430"/>
                </a:cubicBezTo>
                <a:cubicBezTo>
                  <a:pt x="3132" y="406"/>
                  <a:pt x="3143" y="446"/>
                  <a:pt x="3166" y="442"/>
                </a:cubicBezTo>
                <a:cubicBezTo>
                  <a:pt x="3189" y="438"/>
                  <a:pt x="3233" y="416"/>
                  <a:pt x="3252" y="406"/>
                </a:cubicBezTo>
                <a:cubicBezTo>
                  <a:pt x="3271" y="396"/>
                  <a:pt x="3279" y="394"/>
                  <a:pt x="3282" y="384"/>
                </a:cubicBezTo>
                <a:cubicBezTo>
                  <a:pt x="3285" y="374"/>
                  <a:pt x="3265" y="368"/>
                  <a:pt x="3270" y="346"/>
                </a:cubicBezTo>
                <a:cubicBezTo>
                  <a:pt x="3275" y="324"/>
                  <a:pt x="3304" y="276"/>
                  <a:pt x="3312" y="252"/>
                </a:cubicBezTo>
                <a:cubicBezTo>
                  <a:pt x="3320" y="228"/>
                  <a:pt x="3310" y="212"/>
                  <a:pt x="3320" y="204"/>
                </a:cubicBezTo>
                <a:cubicBezTo>
                  <a:pt x="3330" y="196"/>
                  <a:pt x="3361" y="211"/>
                  <a:pt x="3370" y="204"/>
                </a:cubicBezTo>
                <a:cubicBezTo>
                  <a:pt x="3379" y="197"/>
                  <a:pt x="3378" y="172"/>
                  <a:pt x="3376" y="164"/>
                </a:cubicBezTo>
                <a:cubicBezTo>
                  <a:pt x="3374" y="156"/>
                  <a:pt x="3363" y="161"/>
                  <a:pt x="3358" y="154"/>
                </a:cubicBezTo>
                <a:cubicBezTo>
                  <a:pt x="3353" y="147"/>
                  <a:pt x="3353" y="130"/>
                  <a:pt x="3346" y="124"/>
                </a:cubicBezTo>
                <a:cubicBezTo>
                  <a:pt x="3339" y="118"/>
                  <a:pt x="3315" y="132"/>
                  <a:pt x="3314" y="120"/>
                </a:cubicBezTo>
                <a:cubicBezTo>
                  <a:pt x="3313" y="108"/>
                  <a:pt x="3326" y="66"/>
                  <a:pt x="3342" y="52"/>
                </a:cubicBezTo>
                <a:cubicBezTo>
                  <a:pt x="3358" y="38"/>
                  <a:pt x="3400" y="46"/>
                  <a:pt x="3412" y="38"/>
                </a:cubicBezTo>
                <a:cubicBezTo>
                  <a:pt x="3424" y="30"/>
                  <a:pt x="3403" y="7"/>
                  <a:pt x="3414" y="4"/>
                </a:cubicBezTo>
                <a:cubicBezTo>
                  <a:pt x="3425" y="1"/>
                  <a:pt x="3457" y="20"/>
                  <a:pt x="3478" y="20"/>
                </a:cubicBezTo>
                <a:cubicBezTo>
                  <a:pt x="3499" y="20"/>
                  <a:pt x="3521" y="0"/>
                  <a:pt x="3540" y="2"/>
                </a:cubicBezTo>
                <a:cubicBezTo>
                  <a:pt x="3559" y="4"/>
                  <a:pt x="3578" y="29"/>
                  <a:pt x="3592" y="32"/>
                </a:cubicBezTo>
                <a:cubicBezTo>
                  <a:pt x="3606" y="35"/>
                  <a:pt x="3605" y="11"/>
                  <a:pt x="3622" y="20"/>
                </a:cubicBezTo>
                <a:cubicBezTo>
                  <a:pt x="3639" y="29"/>
                  <a:pt x="3667" y="49"/>
                  <a:pt x="3694" y="88"/>
                </a:cubicBezTo>
                <a:cubicBezTo>
                  <a:pt x="3721" y="127"/>
                  <a:pt x="3763" y="215"/>
                  <a:pt x="3782" y="252"/>
                </a:cubicBezTo>
                <a:cubicBezTo>
                  <a:pt x="3801" y="289"/>
                  <a:pt x="3801" y="293"/>
                  <a:pt x="3808" y="310"/>
                </a:cubicBezTo>
                <a:cubicBezTo>
                  <a:pt x="3815" y="327"/>
                  <a:pt x="3809" y="347"/>
                  <a:pt x="3824" y="354"/>
                </a:cubicBezTo>
                <a:cubicBezTo>
                  <a:pt x="3839" y="361"/>
                  <a:pt x="3878" y="350"/>
                  <a:pt x="3896" y="354"/>
                </a:cubicBezTo>
                <a:cubicBezTo>
                  <a:pt x="3914" y="358"/>
                  <a:pt x="3923" y="377"/>
                  <a:pt x="3934" y="380"/>
                </a:cubicBezTo>
                <a:cubicBezTo>
                  <a:pt x="3945" y="383"/>
                  <a:pt x="3953" y="367"/>
                  <a:pt x="3960" y="372"/>
                </a:cubicBezTo>
                <a:cubicBezTo>
                  <a:pt x="3967" y="377"/>
                  <a:pt x="3968" y="401"/>
                  <a:pt x="3978" y="408"/>
                </a:cubicBezTo>
                <a:cubicBezTo>
                  <a:pt x="3988" y="415"/>
                  <a:pt x="4010" y="405"/>
                  <a:pt x="4020" y="416"/>
                </a:cubicBezTo>
                <a:cubicBezTo>
                  <a:pt x="4030" y="427"/>
                  <a:pt x="4032" y="455"/>
                  <a:pt x="4040" y="472"/>
                </a:cubicBezTo>
                <a:cubicBezTo>
                  <a:pt x="4048" y="489"/>
                  <a:pt x="4050" y="511"/>
                  <a:pt x="4068" y="516"/>
                </a:cubicBezTo>
                <a:cubicBezTo>
                  <a:pt x="4086" y="521"/>
                  <a:pt x="4108" y="525"/>
                  <a:pt x="4150" y="500"/>
                </a:cubicBezTo>
                <a:cubicBezTo>
                  <a:pt x="4192" y="475"/>
                  <a:pt x="4293" y="379"/>
                  <a:pt x="4318" y="368"/>
                </a:cubicBezTo>
                <a:cubicBezTo>
                  <a:pt x="4343" y="357"/>
                  <a:pt x="4302" y="422"/>
                  <a:pt x="4300" y="436"/>
                </a:cubicBezTo>
                <a:cubicBezTo>
                  <a:pt x="4298" y="450"/>
                  <a:pt x="4305" y="444"/>
                  <a:pt x="4306" y="454"/>
                </a:cubicBezTo>
                <a:cubicBezTo>
                  <a:pt x="4307" y="464"/>
                  <a:pt x="4311" y="485"/>
                  <a:pt x="4308" y="496"/>
                </a:cubicBezTo>
                <a:cubicBezTo>
                  <a:pt x="4305" y="507"/>
                  <a:pt x="4291" y="496"/>
                  <a:pt x="4288" y="518"/>
                </a:cubicBezTo>
                <a:cubicBezTo>
                  <a:pt x="4285" y="540"/>
                  <a:pt x="4291" y="603"/>
                  <a:pt x="4288" y="628"/>
                </a:cubicBezTo>
                <a:cubicBezTo>
                  <a:pt x="4285" y="653"/>
                  <a:pt x="4273" y="653"/>
                  <a:pt x="4270" y="668"/>
                </a:cubicBezTo>
                <a:cubicBezTo>
                  <a:pt x="4267" y="683"/>
                  <a:pt x="4272" y="699"/>
                  <a:pt x="4270" y="718"/>
                </a:cubicBezTo>
                <a:cubicBezTo>
                  <a:pt x="4268" y="737"/>
                  <a:pt x="4276" y="773"/>
                  <a:pt x="4260" y="780"/>
                </a:cubicBezTo>
                <a:cubicBezTo>
                  <a:pt x="4244" y="787"/>
                  <a:pt x="4193" y="759"/>
                  <a:pt x="4176" y="762"/>
                </a:cubicBezTo>
                <a:cubicBezTo>
                  <a:pt x="4159" y="765"/>
                  <a:pt x="4165" y="788"/>
                  <a:pt x="4156" y="798"/>
                </a:cubicBezTo>
                <a:cubicBezTo>
                  <a:pt x="4147" y="808"/>
                  <a:pt x="4126" y="808"/>
                  <a:pt x="4124" y="820"/>
                </a:cubicBezTo>
                <a:cubicBezTo>
                  <a:pt x="4122" y="832"/>
                  <a:pt x="4134" y="840"/>
                  <a:pt x="4142" y="868"/>
                </a:cubicBezTo>
                <a:cubicBezTo>
                  <a:pt x="4150" y="896"/>
                  <a:pt x="4176" y="959"/>
                  <a:pt x="4174" y="988"/>
                </a:cubicBezTo>
                <a:cubicBezTo>
                  <a:pt x="4172" y="1017"/>
                  <a:pt x="4139" y="1030"/>
                  <a:pt x="4132" y="1044"/>
                </a:cubicBezTo>
                <a:cubicBezTo>
                  <a:pt x="4125" y="1058"/>
                  <a:pt x="4135" y="1067"/>
                  <a:pt x="4134" y="1072"/>
                </a:cubicBezTo>
                <a:cubicBezTo>
                  <a:pt x="4133" y="1077"/>
                  <a:pt x="4133" y="1083"/>
                  <a:pt x="4124" y="1076"/>
                </a:cubicBezTo>
                <a:cubicBezTo>
                  <a:pt x="4115" y="1069"/>
                  <a:pt x="4089" y="1026"/>
                  <a:pt x="4080" y="1030"/>
                </a:cubicBezTo>
                <a:cubicBezTo>
                  <a:pt x="4071" y="1034"/>
                  <a:pt x="4075" y="1086"/>
                  <a:pt x="4070" y="1098"/>
                </a:cubicBezTo>
                <a:cubicBezTo>
                  <a:pt x="4065" y="1110"/>
                  <a:pt x="4056" y="1094"/>
                  <a:pt x="4050" y="1102"/>
                </a:cubicBezTo>
                <a:cubicBezTo>
                  <a:pt x="4044" y="1110"/>
                  <a:pt x="4049" y="1134"/>
                  <a:pt x="4036" y="1144"/>
                </a:cubicBezTo>
                <a:cubicBezTo>
                  <a:pt x="4023" y="1154"/>
                  <a:pt x="3978" y="1147"/>
                  <a:pt x="3970" y="1160"/>
                </a:cubicBezTo>
                <a:cubicBezTo>
                  <a:pt x="3962" y="1173"/>
                  <a:pt x="3992" y="1213"/>
                  <a:pt x="3986" y="1224"/>
                </a:cubicBezTo>
                <a:cubicBezTo>
                  <a:pt x="3980" y="1235"/>
                  <a:pt x="3945" y="1230"/>
                  <a:pt x="3932" y="1226"/>
                </a:cubicBezTo>
                <a:cubicBezTo>
                  <a:pt x="3919" y="1222"/>
                  <a:pt x="3919" y="1206"/>
                  <a:pt x="3910" y="1202"/>
                </a:cubicBezTo>
                <a:cubicBezTo>
                  <a:pt x="3901" y="1198"/>
                  <a:pt x="3889" y="1191"/>
                  <a:pt x="3880" y="1204"/>
                </a:cubicBezTo>
                <a:cubicBezTo>
                  <a:pt x="3871" y="1217"/>
                  <a:pt x="3873" y="1255"/>
                  <a:pt x="3854" y="1282"/>
                </a:cubicBezTo>
                <a:cubicBezTo>
                  <a:pt x="3835" y="1309"/>
                  <a:pt x="3791" y="1338"/>
                  <a:pt x="3766" y="1364"/>
                </a:cubicBezTo>
                <a:cubicBezTo>
                  <a:pt x="3741" y="1390"/>
                  <a:pt x="3731" y="1418"/>
                  <a:pt x="3706" y="1438"/>
                </a:cubicBezTo>
                <a:cubicBezTo>
                  <a:pt x="3681" y="1458"/>
                  <a:pt x="3651" y="1457"/>
                  <a:pt x="3616" y="1482"/>
                </a:cubicBezTo>
                <a:cubicBezTo>
                  <a:pt x="3581" y="1507"/>
                  <a:pt x="3518" y="1575"/>
                  <a:pt x="3498" y="1586"/>
                </a:cubicBezTo>
                <a:cubicBezTo>
                  <a:pt x="3478" y="1597"/>
                  <a:pt x="3488" y="1562"/>
                  <a:pt x="3494" y="1550"/>
                </a:cubicBezTo>
                <a:cubicBezTo>
                  <a:pt x="3500" y="1538"/>
                  <a:pt x="3524" y="1536"/>
                  <a:pt x="3532" y="1514"/>
                </a:cubicBezTo>
                <a:cubicBezTo>
                  <a:pt x="3540" y="1492"/>
                  <a:pt x="3541" y="1446"/>
                  <a:pt x="3544" y="1418"/>
                </a:cubicBezTo>
                <a:cubicBezTo>
                  <a:pt x="3547" y="1390"/>
                  <a:pt x="3561" y="1358"/>
                  <a:pt x="3552" y="1344"/>
                </a:cubicBezTo>
                <a:cubicBezTo>
                  <a:pt x="3543" y="1330"/>
                  <a:pt x="3508" y="1324"/>
                  <a:pt x="3488" y="1336"/>
                </a:cubicBezTo>
                <a:cubicBezTo>
                  <a:pt x="3468" y="1348"/>
                  <a:pt x="3452" y="1387"/>
                  <a:pt x="3434" y="1414"/>
                </a:cubicBezTo>
                <a:cubicBezTo>
                  <a:pt x="3416" y="1441"/>
                  <a:pt x="3395" y="1475"/>
                  <a:pt x="3378" y="1500"/>
                </a:cubicBezTo>
                <a:cubicBezTo>
                  <a:pt x="3361" y="1525"/>
                  <a:pt x="3352" y="1551"/>
                  <a:pt x="3332" y="1562"/>
                </a:cubicBezTo>
                <a:cubicBezTo>
                  <a:pt x="3312" y="1573"/>
                  <a:pt x="3274" y="1553"/>
                  <a:pt x="3258" y="1566"/>
                </a:cubicBezTo>
                <a:cubicBezTo>
                  <a:pt x="3242" y="1579"/>
                  <a:pt x="3230" y="1619"/>
                  <a:pt x="3236" y="1638"/>
                </a:cubicBezTo>
                <a:cubicBezTo>
                  <a:pt x="3242" y="1657"/>
                  <a:pt x="3277" y="1674"/>
                  <a:pt x="3296" y="1680"/>
                </a:cubicBezTo>
                <a:cubicBezTo>
                  <a:pt x="3315" y="1686"/>
                  <a:pt x="3334" y="1659"/>
                  <a:pt x="3348" y="1674"/>
                </a:cubicBezTo>
                <a:cubicBezTo>
                  <a:pt x="3362" y="1689"/>
                  <a:pt x="3359" y="1767"/>
                  <a:pt x="3380" y="1770"/>
                </a:cubicBezTo>
                <a:cubicBezTo>
                  <a:pt x="3401" y="1773"/>
                  <a:pt x="3429" y="1703"/>
                  <a:pt x="3474" y="1694"/>
                </a:cubicBezTo>
                <a:cubicBezTo>
                  <a:pt x="3519" y="1685"/>
                  <a:pt x="3621" y="1702"/>
                  <a:pt x="3648" y="1714"/>
                </a:cubicBezTo>
                <a:cubicBezTo>
                  <a:pt x="3675" y="1726"/>
                  <a:pt x="3647" y="1757"/>
                  <a:pt x="3634" y="1766"/>
                </a:cubicBezTo>
                <a:cubicBezTo>
                  <a:pt x="3621" y="1775"/>
                  <a:pt x="3598" y="1757"/>
                  <a:pt x="3572" y="1770"/>
                </a:cubicBezTo>
                <a:cubicBezTo>
                  <a:pt x="3546" y="1783"/>
                  <a:pt x="3502" y="1816"/>
                  <a:pt x="3478" y="1844"/>
                </a:cubicBezTo>
                <a:cubicBezTo>
                  <a:pt x="3454" y="1872"/>
                  <a:pt x="3438" y="1904"/>
                  <a:pt x="3430" y="1940"/>
                </a:cubicBezTo>
                <a:cubicBezTo>
                  <a:pt x="3422" y="1976"/>
                  <a:pt x="3422" y="2038"/>
                  <a:pt x="3432" y="2062"/>
                </a:cubicBezTo>
                <a:cubicBezTo>
                  <a:pt x="3442" y="2086"/>
                  <a:pt x="3469" y="2058"/>
                  <a:pt x="3488" y="2086"/>
                </a:cubicBezTo>
                <a:cubicBezTo>
                  <a:pt x="3507" y="2114"/>
                  <a:pt x="3521" y="2195"/>
                  <a:pt x="3546" y="2232"/>
                </a:cubicBezTo>
                <a:cubicBezTo>
                  <a:pt x="3571" y="2269"/>
                  <a:pt x="3629" y="2293"/>
                  <a:pt x="3638" y="2310"/>
                </a:cubicBezTo>
                <a:cubicBezTo>
                  <a:pt x="3647" y="2327"/>
                  <a:pt x="3597" y="2321"/>
                  <a:pt x="3600" y="2332"/>
                </a:cubicBezTo>
                <a:cubicBezTo>
                  <a:pt x="3603" y="2343"/>
                  <a:pt x="3665" y="2353"/>
                  <a:pt x="3658" y="2378"/>
                </a:cubicBezTo>
                <a:cubicBezTo>
                  <a:pt x="3651" y="2403"/>
                  <a:pt x="3559" y="2463"/>
                  <a:pt x="3556" y="2484"/>
                </a:cubicBezTo>
                <a:cubicBezTo>
                  <a:pt x="3553" y="2505"/>
                  <a:pt x="3616" y="2500"/>
                  <a:pt x="3638" y="2506"/>
                </a:cubicBezTo>
                <a:cubicBezTo>
                  <a:pt x="3660" y="2512"/>
                  <a:pt x="3688" y="2487"/>
                  <a:pt x="3688" y="2520"/>
                </a:cubicBezTo>
                <a:cubicBezTo>
                  <a:pt x="3688" y="2553"/>
                  <a:pt x="3656" y="2666"/>
                  <a:pt x="3640" y="2702"/>
                </a:cubicBezTo>
                <a:cubicBezTo>
                  <a:pt x="3624" y="2738"/>
                  <a:pt x="3602" y="2715"/>
                  <a:pt x="3592" y="2738"/>
                </a:cubicBezTo>
                <a:cubicBezTo>
                  <a:pt x="3582" y="2761"/>
                  <a:pt x="3589" y="2805"/>
                  <a:pt x="3578" y="2840"/>
                </a:cubicBezTo>
                <a:cubicBezTo>
                  <a:pt x="3567" y="2875"/>
                  <a:pt x="3563" y="2894"/>
                  <a:pt x="3526" y="2948"/>
                </a:cubicBezTo>
                <a:cubicBezTo>
                  <a:pt x="3489" y="3002"/>
                  <a:pt x="3394" y="3118"/>
                  <a:pt x="3354" y="3166"/>
                </a:cubicBezTo>
                <a:cubicBezTo>
                  <a:pt x="3314" y="3214"/>
                  <a:pt x="3299" y="3229"/>
                  <a:pt x="3286" y="3234"/>
                </a:cubicBezTo>
                <a:cubicBezTo>
                  <a:pt x="3273" y="3239"/>
                  <a:pt x="3286" y="3186"/>
                  <a:pt x="3278" y="3194"/>
                </a:cubicBezTo>
                <a:cubicBezTo>
                  <a:pt x="3270" y="3202"/>
                  <a:pt x="3271" y="3262"/>
                  <a:pt x="3238" y="3284"/>
                </a:cubicBezTo>
                <a:cubicBezTo>
                  <a:pt x="3205" y="3306"/>
                  <a:pt x="3123" y="3311"/>
                  <a:pt x="3078" y="3326"/>
                </a:cubicBezTo>
                <a:cubicBezTo>
                  <a:pt x="3033" y="3341"/>
                  <a:pt x="2994" y="3357"/>
                  <a:pt x="2968" y="3372"/>
                </a:cubicBezTo>
                <a:cubicBezTo>
                  <a:pt x="2942" y="3387"/>
                  <a:pt x="2937" y="3407"/>
                  <a:pt x="2922" y="3416"/>
                </a:cubicBezTo>
                <a:cubicBezTo>
                  <a:pt x="2907" y="3425"/>
                  <a:pt x="2886" y="3429"/>
                  <a:pt x="2876" y="3428"/>
                </a:cubicBezTo>
                <a:cubicBezTo>
                  <a:pt x="2866" y="3427"/>
                  <a:pt x="2864" y="3406"/>
                  <a:pt x="2860" y="3408"/>
                </a:cubicBezTo>
                <a:cubicBezTo>
                  <a:pt x="2856" y="3410"/>
                  <a:pt x="2860" y="3437"/>
                  <a:pt x="2854" y="3440"/>
                </a:cubicBezTo>
                <a:cubicBezTo>
                  <a:pt x="2848" y="3443"/>
                  <a:pt x="2832" y="3422"/>
                  <a:pt x="2822" y="3424"/>
                </a:cubicBezTo>
                <a:cubicBezTo>
                  <a:pt x="2812" y="3426"/>
                  <a:pt x="2807" y="3447"/>
                  <a:pt x="2796" y="3454"/>
                </a:cubicBezTo>
                <a:cubicBezTo>
                  <a:pt x="2785" y="3461"/>
                  <a:pt x="2770" y="3454"/>
                  <a:pt x="2754" y="3464"/>
                </a:cubicBezTo>
                <a:cubicBezTo>
                  <a:pt x="2738" y="3474"/>
                  <a:pt x="2716" y="3506"/>
                  <a:pt x="2700" y="3514"/>
                </a:cubicBezTo>
                <a:cubicBezTo>
                  <a:pt x="2684" y="3522"/>
                  <a:pt x="2660" y="3507"/>
                  <a:pt x="2656" y="3510"/>
                </a:cubicBezTo>
                <a:cubicBezTo>
                  <a:pt x="2652" y="3513"/>
                  <a:pt x="2674" y="3523"/>
                  <a:pt x="2678" y="3530"/>
                </a:cubicBezTo>
                <a:cubicBezTo>
                  <a:pt x="2682" y="3537"/>
                  <a:pt x="2674" y="3546"/>
                  <a:pt x="2678" y="3554"/>
                </a:cubicBezTo>
                <a:cubicBezTo>
                  <a:pt x="2682" y="3562"/>
                  <a:pt x="2702" y="3571"/>
                  <a:pt x="2704" y="3576"/>
                </a:cubicBezTo>
                <a:cubicBezTo>
                  <a:pt x="2706" y="3581"/>
                  <a:pt x="2696" y="3583"/>
                  <a:pt x="2688" y="3586"/>
                </a:cubicBezTo>
                <a:cubicBezTo>
                  <a:pt x="2680" y="3589"/>
                  <a:pt x="2670" y="3592"/>
                  <a:pt x="2658" y="3594"/>
                </a:cubicBezTo>
                <a:cubicBezTo>
                  <a:pt x="2646" y="3596"/>
                  <a:pt x="2618" y="3602"/>
                  <a:pt x="2614" y="3596"/>
                </a:cubicBezTo>
                <a:cubicBezTo>
                  <a:pt x="2610" y="3590"/>
                  <a:pt x="2634" y="3565"/>
                  <a:pt x="2634" y="3558"/>
                </a:cubicBezTo>
                <a:cubicBezTo>
                  <a:pt x="2634" y="3551"/>
                  <a:pt x="2618" y="3565"/>
                  <a:pt x="2614" y="3556"/>
                </a:cubicBezTo>
                <a:cubicBezTo>
                  <a:pt x="2610" y="3547"/>
                  <a:pt x="2608" y="3521"/>
                  <a:pt x="2610" y="3506"/>
                </a:cubicBezTo>
                <a:cubicBezTo>
                  <a:pt x="2612" y="3491"/>
                  <a:pt x="2626" y="3471"/>
                  <a:pt x="2626" y="3464"/>
                </a:cubicBezTo>
                <a:cubicBezTo>
                  <a:pt x="2626" y="3457"/>
                  <a:pt x="2613" y="3466"/>
                  <a:pt x="2608" y="3462"/>
                </a:cubicBezTo>
                <a:cubicBezTo>
                  <a:pt x="2603" y="3458"/>
                  <a:pt x="2601" y="3442"/>
                  <a:pt x="2598" y="3442"/>
                </a:cubicBezTo>
                <a:cubicBezTo>
                  <a:pt x="2595" y="3442"/>
                  <a:pt x="2602" y="3464"/>
                  <a:pt x="2588" y="3462"/>
                </a:cubicBezTo>
                <a:cubicBezTo>
                  <a:pt x="2574" y="3460"/>
                  <a:pt x="2533" y="3429"/>
                  <a:pt x="2516" y="3428"/>
                </a:cubicBezTo>
                <a:cubicBezTo>
                  <a:pt x="2499" y="3427"/>
                  <a:pt x="2498" y="3451"/>
                  <a:pt x="2484" y="3454"/>
                </a:cubicBezTo>
                <a:cubicBezTo>
                  <a:pt x="2470" y="3457"/>
                  <a:pt x="2452" y="3450"/>
                  <a:pt x="2434" y="3444"/>
                </a:cubicBezTo>
                <a:cubicBezTo>
                  <a:pt x="2416" y="3438"/>
                  <a:pt x="2393" y="3430"/>
                  <a:pt x="2376" y="3418"/>
                </a:cubicBezTo>
                <a:cubicBezTo>
                  <a:pt x="2359" y="3406"/>
                  <a:pt x="2341" y="3387"/>
                  <a:pt x="2334" y="3374"/>
                </a:cubicBezTo>
                <a:cubicBezTo>
                  <a:pt x="2327" y="3361"/>
                  <a:pt x="2333" y="3352"/>
                  <a:pt x="2336" y="3342"/>
                </a:cubicBezTo>
                <a:cubicBezTo>
                  <a:pt x="2339" y="3332"/>
                  <a:pt x="2363" y="3322"/>
                  <a:pt x="2352" y="3314"/>
                </a:cubicBezTo>
                <a:cubicBezTo>
                  <a:pt x="2341" y="3306"/>
                  <a:pt x="2291" y="3305"/>
                  <a:pt x="2270" y="3294"/>
                </a:cubicBezTo>
                <a:cubicBezTo>
                  <a:pt x="2249" y="3283"/>
                  <a:pt x="2244" y="3247"/>
                  <a:pt x="2224" y="3248"/>
                </a:cubicBezTo>
                <a:cubicBezTo>
                  <a:pt x="2204" y="3249"/>
                  <a:pt x="2167" y="3295"/>
                  <a:pt x="2148" y="3302"/>
                </a:cubicBezTo>
                <a:cubicBezTo>
                  <a:pt x="2129" y="3309"/>
                  <a:pt x="2121" y="3288"/>
                  <a:pt x="2112" y="3292"/>
                </a:cubicBezTo>
                <a:cubicBezTo>
                  <a:pt x="2103" y="3296"/>
                  <a:pt x="2097" y="3324"/>
                  <a:pt x="2092" y="3326"/>
                </a:cubicBezTo>
                <a:cubicBezTo>
                  <a:pt x="2087" y="3328"/>
                  <a:pt x="2085" y="3308"/>
                  <a:pt x="2080" y="3306"/>
                </a:cubicBezTo>
                <a:cubicBezTo>
                  <a:pt x="2075" y="3304"/>
                  <a:pt x="2068" y="3316"/>
                  <a:pt x="2062" y="3314"/>
                </a:cubicBezTo>
                <a:cubicBezTo>
                  <a:pt x="2056" y="3312"/>
                  <a:pt x="2051" y="3296"/>
                  <a:pt x="2042" y="3296"/>
                </a:cubicBezTo>
                <a:cubicBezTo>
                  <a:pt x="2033" y="3296"/>
                  <a:pt x="2022" y="3314"/>
                  <a:pt x="2010" y="3312"/>
                </a:cubicBezTo>
                <a:cubicBezTo>
                  <a:pt x="1998" y="3310"/>
                  <a:pt x="1983" y="3283"/>
                  <a:pt x="1968" y="3284"/>
                </a:cubicBezTo>
                <a:cubicBezTo>
                  <a:pt x="1953" y="3285"/>
                  <a:pt x="1938" y="3312"/>
                  <a:pt x="1922" y="3318"/>
                </a:cubicBezTo>
                <a:cubicBezTo>
                  <a:pt x="1906" y="3324"/>
                  <a:pt x="1879" y="3300"/>
                  <a:pt x="1874" y="3318"/>
                </a:cubicBezTo>
                <a:cubicBezTo>
                  <a:pt x="1869" y="3336"/>
                  <a:pt x="1900" y="3408"/>
                  <a:pt x="1894" y="3428"/>
                </a:cubicBezTo>
                <a:cubicBezTo>
                  <a:pt x="1888" y="3448"/>
                  <a:pt x="1848" y="3447"/>
                  <a:pt x="1836" y="3438"/>
                </a:cubicBezTo>
                <a:cubicBezTo>
                  <a:pt x="1824" y="3429"/>
                  <a:pt x="1830" y="3382"/>
                  <a:pt x="1820" y="3376"/>
                </a:cubicBezTo>
                <a:cubicBezTo>
                  <a:pt x="1810" y="3370"/>
                  <a:pt x="1792" y="3400"/>
                  <a:pt x="1776" y="3402"/>
                </a:cubicBezTo>
                <a:cubicBezTo>
                  <a:pt x="1760" y="3404"/>
                  <a:pt x="1733" y="3397"/>
                  <a:pt x="1724" y="3386"/>
                </a:cubicBezTo>
                <a:cubicBezTo>
                  <a:pt x="1715" y="3375"/>
                  <a:pt x="1732" y="3348"/>
                  <a:pt x="1720" y="3336"/>
                </a:cubicBezTo>
                <a:cubicBezTo>
                  <a:pt x="1708" y="3324"/>
                  <a:pt x="1659" y="3328"/>
                  <a:pt x="1652" y="3316"/>
                </a:cubicBezTo>
                <a:cubicBezTo>
                  <a:pt x="1645" y="3304"/>
                  <a:pt x="1671" y="3282"/>
                  <a:pt x="1678" y="3266"/>
                </a:cubicBezTo>
                <a:cubicBezTo>
                  <a:pt x="1685" y="3250"/>
                  <a:pt x="1701" y="3232"/>
                  <a:pt x="1696" y="3220"/>
                </a:cubicBezTo>
                <a:cubicBezTo>
                  <a:pt x="1691" y="3208"/>
                  <a:pt x="1657" y="3211"/>
                  <a:pt x="1646" y="3196"/>
                </a:cubicBezTo>
                <a:cubicBezTo>
                  <a:pt x="1635" y="3181"/>
                  <a:pt x="1631" y="3144"/>
                  <a:pt x="1632" y="3128"/>
                </a:cubicBezTo>
                <a:cubicBezTo>
                  <a:pt x="1633" y="3112"/>
                  <a:pt x="1660" y="3105"/>
                  <a:pt x="1654" y="3100"/>
                </a:cubicBezTo>
                <a:cubicBezTo>
                  <a:pt x="1648" y="3095"/>
                  <a:pt x="1614" y="3097"/>
                  <a:pt x="1594" y="3100"/>
                </a:cubicBezTo>
                <a:cubicBezTo>
                  <a:pt x="1574" y="3103"/>
                  <a:pt x="1542" y="3126"/>
                  <a:pt x="1536" y="3120"/>
                </a:cubicBezTo>
                <a:cubicBezTo>
                  <a:pt x="1530" y="3114"/>
                  <a:pt x="1557" y="3080"/>
                  <a:pt x="1558" y="3066"/>
                </a:cubicBezTo>
                <a:cubicBezTo>
                  <a:pt x="1559" y="3052"/>
                  <a:pt x="1543" y="3045"/>
                  <a:pt x="1544" y="3034"/>
                </a:cubicBezTo>
                <a:cubicBezTo>
                  <a:pt x="1545" y="3023"/>
                  <a:pt x="1563" y="3011"/>
                  <a:pt x="1566" y="3002"/>
                </a:cubicBezTo>
                <a:cubicBezTo>
                  <a:pt x="1569" y="2993"/>
                  <a:pt x="1559" y="2988"/>
                  <a:pt x="1564" y="2982"/>
                </a:cubicBezTo>
                <a:cubicBezTo>
                  <a:pt x="1569" y="2976"/>
                  <a:pt x="1589" y="2975"/>
                  <a:pt x="1596" y="2968"/>
                </a:cubicBezTo>
                <a:cubicBezTo>
                  <a:pt x="1603" y="2961"/>
                  <a:pt x="1599" y="2947"/>
                  <a:pt x="1608" y="2938"/>
                </a:cubicBezTo>
                <a:cubicBezTo>
                  <a:pt x="1617" y="2929"/>
                  <a:pt x="1641" y="2938"/>
                  <a:pt x="1652" y="2916"/>
                </a:cubicBezTo>
                <a:cubicBezTo>
                  <a:pt x="1663" y="2894"/>
                  <a:pt x="1672" y="2835"/>
                  <a:pt x="1676" y="2806"/>
                </a:cubicBezTo>
                <a:cubicBezTo>
                  <a:pt x="1680" y="2777"/>
                  <a:pt x="1682" y="2755"/>
                  <a:pt x="1676" y="2742"/>
                </a:cubicBezTo>
                <a:cubicBezTo>
                  <a:pt x="1670" y="2729"/>
                  <a:pt x="1647" y="2737"/>
                  <a:pt x="1640" y="2726"/>
                </a:cubicBezTo>
                <a:cubicBezTo>
                  <a:pt x="1633" y="2715"/>
                  <a:pt x="1642" y="2691"/>
                  <a:pt x="1636" y="2674"/>
                </a:cubicBezTo>
                <a:cubicBezTo>
                  <a:pt x="1630" y="2657"/>
                  <a:pt x="1611" y="2624"/>
                  <a:pt x="1602" y="2622"/>
                </a:cubicBezTo>
                <a:cubicBezTo>
                  <a:pt x="1593" y="2620"/>
                  <a:pt x="1587" y="2647"/>
                  <a:pt x="1580" y="2660"/>
                </a:cubicBezTo>
                <a:cubicBezTo>
                  <a:pt x="1573" y="2673"/>
                  <a:pt x="1582" y="2705"/>
                  <a:pt x="1562" y="2700"/>
                </a:cubicBezTo>
                <a:cubicBezTo>
                  <a:pt x="1542" y="2695"/>
                  <a:pt x="1489" y="2642"/>
                  <a:pt x="1462" y="2632"/>
                </a:cubicBezTo>
                <a:cubicBezTo>
                  <a:pt x="1435" y="2622"/>
                  <a:pt x="1419" y="2632"/>
                  <a:pt x="1400" y="2640"/>
                </a:cubicBezTo>
                <a:cubicBezTo>
                  <a:pt x="1381" y="2648"/>
                  <a:pt x="1368" y="2671"/>
                  <a:pt x="1350" y="2678"/>
                </a:cubicBezTo>
                <a:cubicBezTo>
                  <a:pt x="1332" y="2685"/>
                  <a:pt x="1311" y="2674"/>
                  <a:pt x="1292" y="2684"/>
                </a:cubicBezTo>
                <a:cubicBezTo>
                  <a:pt x="1273" y="2694"/>
                  <a:pt x="1257" y="2730"/>
                  <a:pt x="1236" y="2736"/>
                </a:cubicBezTo>
                <a:cubicBezTo>
                  <a:pt x="1215" y="2742"/>
                  <a:pt x="1190" y="2726"/>
                  <a:pt x="1168" y="2720"/>
                </a:cubicBezTo>
                <a:cubicBezTo>
                  <a:pt x="1146" y="2714"/>
                  <a:pt x="1115" y="2711"/>
                  <a:pt x="1104" y="2700"/>
                </a:cubicBezTo>
                <a:cubicBezTo>
                  <a:pt x="1093" y="2689"/>
                  <a:pt x="1108" y="2666"/>
                  <a:pt x="1104" y="2654"/>
                </a:cubicBezTo>
                <a:cubicBezTo>
                  <a:pt x="1100" y="2642"/>
                  <a:pt x="1086" y="2641"/>
                  <a:pt x="1082" y="2630"/>
                </a:cubicBezTo>
                <a:cubicBezTo>
                  <a:pt x="1078" y="2619"/>
                  <a:pt x="1086" y="2591"/>
                  <a:pt x="1078" y="2584"/>
                </a:cubicBezTo>
                <a:cubicBezTo>
                  <a:pt x="1070" y="2577"/>
                  <a:pt x="1054" y="2595"/>
                  <a:pt x="1034" y="2586"/>
                </a:cubicBezTo>
                <a:cubicBezTo>
                  <a:pt x="1014" y="2577"/>
                  <a:pt x="981" y="2536"/>
                  <a:pt x="956" y="2532"/>
                </a:cubicBezTo>
                <a:cubicBezTo>
                  <a:pt x="931" y="2528"/>
                  <a:pt x="901" y="2550"/>
                  <a:pt x="886" y="2564"/>
                </a:cubicBezTo>
                <a:cubicBezTo>
                  <a:pt x="871" y="2578"/>
                  <a:pt x="873" y="2613"/>
                  <a:pt x="866" y="2618"/>
                </a:cubicBezTo>
                <a:cubicBezTo>
                  <a:pt x="859" y="2623"/>
                  <a:pt x="846" y="2609"/>
                  <a:pt x="842" y="2594"/>
                </a:cubicBezTo>
                <a:cubicBezTo>
                  <a:pt x="838" y="2579"/>
                  <a:pt x="861" y="2538"/>
                  <a:pt x="842" y="2526"/>
                </a:cubicBezTo>
                <a:cubicBezTo>
                  <a:pt x="823" y="2514"/>
                  <a:pt x="754" y="2531"/>
                  <a:pt x="726" y="2520"/>
                </a:cubicBezTo>
                <a:cubicBezTo>
                  <a:pt x="698" y="2509"/>
                  <a:pt x="688" y="2467"/>
                  <a:pt x="676" y="2462"/>
                </a:cubicBezTo>
                <a:cubicBezTo>
                  <a:pt x="664" y="2457"/>
                  <a:pt x="660" y="2493"/>
                  <a:pt x="654" y="2492"/>
                </a:cubicBezTo>
                <a:cubicBezTo>
                  <a:pt x="648" y="2491"/>
                  <a:pt x="648" y="2457"/>
                  <a:pt x="642" y="2454"/>
                </a:cubicBezTo>
                <a:cubicBezTo>
                  <a:pt x="636" y="2451"/>
                  <a:pt x="622" y="2475"/>
                  <a:pt x="618" y="2472"/>
                </a:cubicBezTo>
                <a:cubicBezTo>
                  <a:pt x="614" y="2469"/>
                  <a:pt x="620" y="2442"/>
                  <a:pt x="616" y="2434"/>
                </a:cubicBezTo>
                <a:cubicBezTo>
                  <a:pt x="612" y="2426"/>
                  <a:pt x="603" y="2429"/>
                  <a:pt x="592" y="2424"/>
                </a:cubicBezTo>
                <a:cubicBezTo>
                  <a:pt x="581" y="2419"/>
                  <a:pt x="555" y="2412"/>
                  <a:pt x="552" y="2404"/>
                </a:cubicBezTo>
                <a:cubicBezTo>
                  <a:pt x="549" y="2396"/>
                  <a:pt x="577" y="2382"/>
                  <a:pt x="572" y="2376"/>
                </a:cubicBezTo>
                <a:cubicBezTo>
                  <a:pt x="567" y="2370"/>
                  <a:pt x="532" y="2379"/>
                  <a:pt x="520" y="2370"/>
                </a:cubicBezTo>
                <a:cubicBezTo>
                  <a:pt x="508" y="2361"/>
                  <a:pt x="507" y="2339"/>
                  <a:pt x="502" y="2324"/>
                </a:cubicBezTo>
                <a:cubicBezTo>
                  <a:pt x="497" y="2309"/>
                  <a:pt x="501" y="2286"/>
                  <a:pt x="492" y="2278"/>
                </a:cubicBezTo>
                <a:cubicBezTo>
                  <a:pt x="483" y="2270"/>
                  <a:pt x="470" y="2302"/>
                  <a:pt x="448" y="2278"/>
                </a:cubicBezTo>
                <a:cubicBezTo>
                  <a:pt x="426" y="2254"/>
                  <a:pt x="378" y="2159"/>
                  <a:pt x="358" y="2132"/>
                </a:cubicBezTo>
                <a:cubicBezTo>
                  <a:pt x="338" y="2105"/>
                  <a:pt x="336" y="2123"/>
                  <a:pt x="328" y="2118"/>
                </a:cubicBezTo>
                <a:cubicBezTo>
                  <a:pt x="320" y="2113"/>
                  <a:pt x="315" y="2101"/>
                  <a:pt x="308" y="2104"/>
                </a:cubicBezTo>
                <a:cubicBezTo>
                  <a:pt x="301" y="2107"/>
                  <a:pt x="302" y="2147"/>
                  <a:pt x="284" y="2136"/>
                </a:cubicBezTo>
                <a:cubicBezTo>
                  <a:pt x="266" y="2125"/>
                  <a:pt x="218" y="2062"/>
                  <a:pt x="202" y="2038"/>
                </a:cubicBezTo>
                <a:cubicBezTo>
                  <a:pt x="186" y="2014"/>
                  <a:pt x="200" y="2006"/>
                  <a:pt x="190" y="1994"/>
                </a:cubicBezTo>
                <a:cubicBezTo>
                  <a:pt x="180" y="1982"/>
                  <a:pt x="149" y="1984"/>
                  <a:pt x="142" y="1964"/>
                </a:cubicBezTo>
                <a:cubicBezTo>
                  <a:pt x="135" y="1944"/>
                  <a:pt x="146" y="1899"/>
                  <a:pt x="146" y="1872"/>
                </a:cubicBezTo>
                <a:cubicBezTo>
                  <a:pt x="146" y="1845"/>
                  <a:pt x="136" y="1817"/>
                  <a:pt x="140" y="1804"/>
                </a:cubicBezTo>
                <a:cubicBezTo>
                  <a:pt x="144" y="1791"/>
                  <a:pt x="166" y="1790"/>
                  <a:pt x="170" y="1796"/>
                </a:cubicBezTo>
                <a:cubicBezTo>
                  <a:pt x="174" y="1802"/>
                  <a:pt x="159" y="1840"/>
                  <a:pt x="166" y="1842"/>
                </a:cubicBezTo>
                <a:cubicBezTo>
                  <a:pt x="173" y="1844"/>
                  <a:pt x="206" y="1834"/>
                  <a:pt x="212" y="1810"/>
                </a:cubicBezTo>
                <a:cubicBezTo>
                  <a:pt x="218" y="1786"/>
                  <a:pt x="205" y="1725"/>
                  <a:pt x="204" y="1700"/>
                </a:cubicBezTo>
                <a:cubicBezTo>
                  <a:pt x="203" y="1675"/>
                  <a:pt x="202" y="1673"/>
                  <a:pt x="208" y="1662"/>
                </a:cubicBezTo>
                <a:cubicBezTo>
                  <a:pt x="214" y="1651"/>
                  <a:pt x="242" y="1647"/>
                  <a:pt x="242" y="1634"/>
                </a:cubicBezTo>
                <a:cubicBezTo>
                  <a:pt x="242" y="1621"/>
                  <a:pt x="212" y="1599"/>
                  <a:pt x="206" y="1586"/>
                </a:cubicBezTo>
                <a:cubicBezTo>
                  <a:pt x="200" y="1573"/>
                  <a:pt x="206" y="1566"/>
                  <a:pt x="206" y="1556"/>
                </a:cubicBezTo>
                <a:cubicBezTo>
                  <a:pt x="206" y="1546"/>
                  <a:pt x="203" y="1535"/>
                  <a:pt x="204" y="1524"/>
                </a:cubicBezTo>
                <a:cubicBezTo>
                  <a:pt x="205" y="1513"/>
                  <a:pt x="225" y="1503"/>
                  <a:pt x="214" y="1492"/>
                </a:cubicBezTo>
                <a:cubicBezTo>
                  <a:pt x="203" y="1481"/>
                  <a:pt x="152" y="1473"/>
                  <a:pt x="136" y="1460"/>
                </a:cubicBezTo>
                <a:cubicBezTo>
                  <a:pt x="120" y="1447"/>
                  <a:pt x="125" y="1420"/>
                  <a:pt x="118" y="1412"/>
                </a:cubicBezTo>
                <a:cubicBezTo>
                  <a:pt x="111" y="1404"/>
                  <a:pt x="100" y="1416"/>
                  <a:pt x="94" y="1410"/>
                </a:cubicBezTo>
                <a:cubicBezTo>
                  <a:pt x="88" y="1404"/>
                  <a:pt x="82" y="1388"/>
                  <a:pt x="82" y="1374"/>
                </a:cubicBezTo>
                <a:cubicBezTo>
                  <a:pt x="82" y="1360"/>
                  <a:pt x="98" y="1344"/>
                  <a:pt x="94" y="1324"/>
                </a:cubicBezTo>
                <a:cubicBezTo>
                  <a:pt x="90" y="1304"/>
                  <a:pt x="70" y="1271"/>
                  <a:pt x="56" y="1256"/>
                </a:cubicBezTo>
                <a:cubicBezTo>
                  <a:pt x="42" y="1241"/>
                  <a:pt x="18" y="1243"/>
                  <a:pt x="10" y="1236"/>
                </a:cubicBezTo>
                <a:cubicBezTo>
                  <a:pt x="2" y="1229"/>
                  <a:pt x="0" y="1219"/>
                  <a:pt x="8" y="1214"/>
                </a:cubicBezTo>
                <a:cubicBezTo>
                  <a:pt x="16" y="1209"/>
                  <a:pt x="45" y="1228"/>
                  <a:pt x="56" y="1206"/>
                </a:cubicBezTo>
                <a:cubicBezTo>
                  <a:pt x="67" y="1184"/>
                  <a:pt x="79" y="1103"/>
                  <a:pt x="72" y="1080"/>
                </a:cubicBezTo>
                <a:cubicBezTo>
                  <a:pt x="65" y="1057"/>
                  <a:pt x="27" y="1076"/>
                  <a:pt x="16" y="1068"/>
                </a:cubicBezTo>
                <a:cubicBezTo>
                  <a:pt x="5" y="1060"/>
                  <a:pt x="2" y="1040"/>
                  <a:pt x="4" y="1032"/>
                </a:cubicBezTo>
                <a:cubicBezTo>
                  <a:pt x="6" y="1024"/>
                  <a:pt x="24" y="1029"/>
                  <a:pt x="26" y="1018"/>
                </a:cubicBezTo>
                <a:cubicBezTo>
                  <a:pt x="28" y="1007"/>
                  <a:pt x="12" y="973"/>
                  <a:pt x="16" y="964"/>
                </a:cubicBezTo>
                <a:cubicBezTo>
                  <a:pt x="20" y="955"/>
                  <a:pt x="40" y="974"/>
                  <a:pt x="50" y="966"/>
                </a:cubicBezTo>
                <a:cubicBezTo>
                  <a:pt x="60" y="958"/>
                  <a:pt x="66" y="924"/>
                  <a:pt x="78" y="916"/>
                </a:cubicBezTo>
                <a:cubicBezTo>
                  <a:pt x="90" y="908"/>
                  <a:pt x="115" y="923"/>
                  <a:pt x="126" y="918"/>
                </a:cubicBezTo>
                <a:cubicBezTo>
                  <a:pt x="137" y="913"/>
                  <a:pt x="136" y="885"/>
                  <a:pt x="144" y="884"/>
                </a:cubicBezTo>
                <a:cubicBezTo>
                  <a:pt x="152" y="883"/>
                  <a:pt x="165" y="909"/>
                  <a:pt x="176" y="912"/>
                </a:cubicBezTo>
                <a:cubicBezTo>
                  <a:pt x="187" y="915"/>
                  <a:pt x="203" y="895"/>
                  <a:pt x="208" y="900"/>
                </a:cubicBezTo>
                <a:cubicBezTo>
                  <a:pt x="213" y="905"/>
                  <a:pt x="197" y="932"/>
                  <a:pt x="206" y="940"/>
                </a:cubicBezTo>
                <a:cubicBezTo>
                  <a:pt x="215" y="948"/>
                  <a:pt x="242" y="954"/>
                  <a:pt x="260" y="948"/>
                </a:cubicBezTo>
                <a:cubicBezTo>
                  <a:pt x="278" y="942"/>
                  <a:pt x="300" y="911"/>
                  <a:pt x="316" y="904"/>
                </a:cubicBezTo>
                <a:cubicBezTo>
                  <a:pt x="332" y="897"/>
                  <a:pt x="342" y="910"/>
                  <a:pt x="356" y="906"/>
                </a:cubicBezTo>
                <a:cubicBezTo>
                  <a:pt x="370" y="902"/>
                  <a:pt x="385" y="882"/>
                  <a:pt x="398" y="880"/>
                </a:cubicBezTo>
                <a:cubicBezTo>
                  <a:pt x="411" y="878"/>
                  <a:pt x="412" y="896"/>
                  <a:pt x="436" y="896"/>
                </a:cubicBezTo>
                <a:cubicBezTo>
                  <a:pt x="460" y="896"/>
                  <a:pt x="519" y="893"/>
                  <a:pt x="544" y="878"/>
                </a:cubicBezTo>
                <a:cubicBezTo>
                  <a:pt x="569" y="863"/>
                  <a:pt x="576" y="817"/>
                  <a:pt x="586" y="804"/>
                </a:cubicBezTo>
                <a:cubicBezTo>
                  <a:pt x="596" y="791"/>
                  <a:pt x="599" y="804"/>
                  <a:pt x="604" y="800"/>
                </a:cubicBezTo>
                <a:cubicBezTo>
                  <a:pt x="609" y="796"/>
                  <a:pt x="610" y="784"/>
                  <a:pt x="616" y="780"/>
                </a:cubicBezTo>
                <a:cubicBezTo>
                  <a:pt x="622" y="776"/>
                  <a:pt x="635" y="799"/>
                  <a:pt x="642" y="776"/>
                </a:cubicBezTo>
                <a:cubicBezTo>
                  <a:pt x="649" y="753"/>
                  <a:pt x="656" y="673"/>
                  <a:pt x="656" y="640"/>
                </a:cubicBezTo>
                <a:cubicBezTo>
                  <a:pt x="656" y="607"/>
                  <a:pt x="623" y="590"/>
                  <a:pt x="642" y="580"/>
                </a:cubicBezTo>
                <a:cubicBezTo>
                  <a:pt x="661" y="570"/>
                  <a:pt x="739" y="577"/>
                  <a:pt x="768" y="580"/>
                </a:cubicBezTo>
                <a:cubicBezTo>
                  <a:pt x="797" y="583"/>
                  <a:pt x="805" y="606"/>
                  <a:pt x="814" y="600"/>
                </a:cubicBezTo>
                <a:cubicBezTo>
                  <a:pt x="823" y="594"/>
                  <a:pt x="810" y="574"/>
                  <a:pt x="826" y="544"/>
                </a:cubicBezTo>
                <a:cubicBezTo>
                  <a:pt x="842" y="514"/>
                  <a:pt x="888" y="435"/>
                  <a:pt x="908" y="418"/>
                </a:cubicBezTo>
                <a:cubicBezTo>
                  <a:pt x="928" y="401"/>
                  <a:pt x="934" y="432"/>
                  <a:pt x="948" y="440"/>
                </a:cubicBezTo>
                <a:cubicBezTo>
                  <a:pt x="962" y="448"/>
                  <a:pt x="971" y="460"/>
                  <a:pt x="992" y="466"/>
                </a:cubicBezTo>
                <a:cubicBezTo>
                  <a:pt x="1013" y="472"/>
                  <a:pt x="1059" y="484"/>
                  <a:pt x="1074" y="474"/>
                </a:cubicBezTo>
                <a:cubicBezTo>
                  <a:pt x="1089" y="464"/>
                  <a:pt x="1078" y="428"/>
                  <a:pt x="1084" y="406"/>
                </a:cubicBezTo>
                <a:cubicBezTo>
                  <a:pt x="1090" y="384"/>
                  <a:pt x="1096" y="354"/>
                  <a:pt x="1110" y="344"/>
                </a:cubicBezTo>
                <a:cubicBezTo>
                  <a:pt x="1124" y="334"/>
                  <a:pt x="1152" y="356"/>
                  <a:pt x="1166" y="348"/>
                </a:cubicBezTo>
                <a:cubicBezTo>
                  <a:pt x="1180" y="340"/>
                  <a:pt x="1180" y="307"/>
                  <a:pt x="1196" y="298"/>
                </a:cubicBezTo>
                <a:close/>
              </a:path>
            </a:pathLst>
          </a:custGeom>
          <a:solidFill>
            <a:srgbClr val="ffff99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067200" y="3454560"/>
            <a:ext cx="3905280" cy="1639800"/>
          </a:xfrm>
          <a:custGeom>
            <a:avLst/>
            <a:gdLst/>
            <a:ahLst/>
            <a:rect l="l" t="t" r="r" b="b"/>
            <a:pathLst>
              <a:path w="2460" h="1033">
                <a:moveTo>
                  <a:pt x="0" y="80"/>
                </a:moveTo>
                <a:cubicBezTo>
                  <a:pt x="5" y="68"/>
                  <a:pt x="11" y="16"/>
                  <a:pt x="30" y="8"/>
                </a:cubicBezTo>
                <a:cubicBezTo>
                  <a:pt x="49" y="0"/>
                  <a:pt x="90" y="25"/>
                  <a:pt x="114" y="32"/>
                </a:cubicBezTo>
                <a:cubicBezTo>
                  <a:pt x="138" y="39"/>
                  <a:pt x="156" y="47"/>
                  <a:pt x="174" y="50"/>
                </a:cubicBezTo>
                <a:cubicBezTo>
                  <a:pt x="192" y="53"/>
                  <a:pt x="205" y="54"/>
                  <a:pt x="222" y="50"/>
                </a:cubicBezTo>
                <a:cubicBezTo>
                  <a:pt x="239" y="46"/>
                  <a:pt x="258" y="32"/>
                  <a:pt x="276" y="26"/>
                </a:cubicBezTo>
                <a:cubicBezTo>
                  <a:pt x="294" y="20"/>
                  <a:pt x="315" y="12"/>
                  <a:pt x="330" y="14"/>
                </a:cubicBezTo>
                <a:cubicBezTo>
                  <a:pt x="345" y="16"/>
                  <a:pt x="358" y="24"/>
                  <a:pt x="366" y="38"/>
                </a:cubicBezTo>
                <a:cubicBezTo>
                  <a:pt x="374" y="52"/>
                  <a:pt x="366" y="82"/>
                  <a:pt x="378" y="98"/>
                </a:cubicBezTo>
                <a:cubicBezTo>
                  <a:pt x="390" y="114"/>
                  <a:pt x="423" y="121"/>
                  <a:pt x="438" y="134"/>
                </a:cubicBezTo>
                <a:cubicBezTo>
                  <a:pt x="453" y="147"/>
                  <a:pt x="455" y="155"/>
                  <a:pt x="468" y="176"/>
                </a:cubicBezTo>
                <a:cubicBezTo>
                  <a:pt x="481" y="197"/>
                  <a:pt x="497" y="229"/>
                  <a:pt x="516" y="260"/>
                </a:cubicBezTo>
                <a:cubicBezTo>
                  <a:pt x="535" y="291"/>
                  <a:pt x="568" y="330"/>
                  <a:pt x="582" y="362"/>
                </a:cubicBezTo>
                <a:cubicBezTo>
                  <a:pt x="596" y="394"/>
                  <a:pt x="598" y="426"/>
                  <a:pt x="600" y="452"/>
                </a:cubicBezTo>
                <a:cubicBezTo>
                  <a:pt x="602" y="478"/>
                  <a:pt x="595" y="497"/>
                  <a:pt x="594" y="518"/>
                </a:cubicBezTo>
                <a:cubicBezTo>
                  <a:pt x="593" y="539"/>
                  <a:pt x="594" y="555"/>
                  <a:pt x="594" y="578"/>
                </a:cubicBezTo>
                <a:cubicBezTo>
                  <a:pt x="594" y="601"/>
                  <a:pt x="591" y="619"/>
                  <a:pt x="594" y="656"/>
                </a:cubicBezTo>
                <a:cubicBezTo>
                  <a:pt x="597" y="693"/>
                  <a:pt x="605" y="756"/>
                  <a:pt x="612" y="800"/>
                </a:cubicBezTo>
                <a:cubicBezTo>
                  <a:pt x="619" y="844"/>
                  <a:pt x="624" y="915"/>
                  <a:pt x="636" y="920"/>
                </a:cubicBezTo>
                <a:cubicBezTo>
                  <a:pt x="648" y="925"/>
                  <a:pt x="675" y="832"/>
                  <a:pt x="684" y="830"/>
                </a:cubicBezTo>
                <a:cubicBezTo>
                  <a:pt x="693" y="828"/>
                  <a:pt x="690" y="882"/>
                  <a:pt x="690" y="908"/>
                </a:cubicBezTo>
                <a:cubicBezTo>
                  <a:pt x="690" y="934"/>
                  <a:pt x="670" y="975"/>
                  <a:pt x="684" y="986"/>
                </a:cubicBezTo>
                <a:cubicBezTo>
                  <a:pt x="698" y="997"/>
                  <a:pt x="754" y="967"/>
                  <a:pt x="774" y="974"/>
                </a:cubicBezTo>
                <a:cubicBezTo>
                  <a:pt x="794" y="981"/>
                  <a:pt x="793" y="1023"/>
                  <a:pt x="804" y="1028"/>
                </a:cubicBezTo>
                <a:cubicBezTo>
                  <a:pt x="815" y="1033"/>
                  <a:pt x="824" y="1010"/>
                  <a:pt x="840" y="1004"/>
                </a:cubicBezTo>
                <a:cubicBezTo>
                  <a:pt x="856" y="998"/>
                  <a:pt x="890" y="1010"/>
                  <a:pt x="900" y="992"/>
                </a:cubicBezTo>
                <a:cubicBezTo>
                  <a:pt x="910" y="974"/>
                  <a:pt x="892" y="917"/>
                  <a:pt x="900" y="896"/>
                </a:cubicBezTo>
                <a:cubicBezTo>
                  <a:pt x="908" y="875"/>
                  <a:pt x="938" y="880"/>
                  <a:pt x="948" y="866"/>
                </a:cubicBezTo>
                <a:cubicBezTo>
                  <a:pt x="958" y="852"/>
                  <a:pt x="952" y="828"/>
                  <a:pt x="960" y="812"/>
                </a:cubicBezTo>
                <a:cubicBezTo>
                  <a:pt x="968" y="796"/>
                  <a:pt x="982" y="780"/>
                  <a:pt x="996" y="770"/>
                </a:cubicBezTo>
                <a:cubicBezTo>
                  <a:pt x="1010" y="760"/>
                  <a:pt x="1023" y="755"/>
                  <a:pt x="1044" y="752"/>
                </a:cubicBezTo>
                <a:cubicBezTo>
                  <a:pt x="1065" y="749"/>
                  <a:pt x="1098" y="760"/>
                  <a:pt x="1122" y="752"/>
                </a:cubicBezTo>
                <a:cubicBezTo>
                  <a:pt x="1146" y="744"/>
                  <a:pt x="1158" y="721"/>
                  <a:pt x="1188" y="704"/>
                </a:cubicBezTo>
                <a:cubicBezTo>
                  <a:pt x="1218" y="687"/>
                  <a:pt x="1262" y="677"/>
                  <a:pt x="1302" y="650"/>
                </a:cubicBezTo>
                <a:cubicBezTo>
                  <a:pt x="1342" y="623"/>
                  <a:pt x="1382" y="561"/>
                  <a:pt x="1428" y="542"/>
                </a:cubicBezTo>
                <a:cubicBezTo>
                  <a:pt x="1474" y="523"/>
                  <a:pt x="1539" y="524"/>
                  <a:pt x="1578" y="536"/>
                </a:cubicBezTo>
                <a:cubicBezTo>
                  <a:pt x="1617" y="548"/>
                  <a:pt x="1636" y="591"/>
                  <a:pt x="1662" y="614"/>
                </a:cubicBezTo>
                <a:cubicBezTo>
                  <a:pt x="1688" y="637"/>
                  <a:pt x="1713" y="661"/>
                  <a:pt x="1734" y="674"/>
                </a:cubicBezTo>
                <a:cubicBezTo>
                  <a:pt x="1755" y="687"/>
                  <a:pt x="1770" y="695"/>
                  <a:pt x="1788" y="692"/>
                </a:cubicBezTo>
                <a:cubicBezTo>
                  <a:pt x="1806" y="689"/>
                  <a:pt x="1822" y="678"/>
                  <a:pt x="1842" y="656"/>
                </a:cubicBezTo>
                <a:cubicBezTo>
                  <a:pt x="1862" y="634"/>
                  <a:pt x="1881" y="560"/>
                  <a:pt x="1908" y="560"/>
                </a:cubicBezTo>
                <a:cubicBezTo>
                  <a:pt x="1935" y="560"/>
                  <a:pt x="1971" y="652"/>
                  <a:pt x="2004" y="656"/>
                </a:cubicBezTo>
                <a:cubicBezTo>
                  <a:pt x="2037" y="660"/>
                  <a:pt x="2069" y="620"/>
                  <a:pt x="2106" y="584"/>
                </a:cubicBezTo>
                <a:cubicBezTo>
                  <a:pt x="2143" y="548"/>
                  <a:pt x="2200" y="474"/>
                  <a:pt x="2226" y="440"/>
                </a:cubicBezTo>
                <a:cubicBezTo>
                  <a:pt x="2252" y="406"/>
                  <a:pt x="2223" y="383"/>
                  <a:pt x="2262" y="380"/>
                </a:cubicBezTo>
                <a:cubicBezTo>
                  <a:pt x="2301" y="377"/>
                  <a:pt x="2419" y="413"/>
                  <a:pt x="2460" y="422"/>
                </a:cubicBezTo>
              </a:path>
            </a:pathLst>
          </a:custGeom>
          <a:noFill/>
          <a:ln w="507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2630520"/>
            <a:ext cx="2819160" cy="1206360"/>
          </a:xfrm>
          <a:custGeom>
            <a:avLst/>
            <a:gdLst/>
            <a:ahLst/>
            <a:rect l="l" t="t" r="r" b="b"/>
            <a:pathLst>
              <a:path w="1776" h="760">
                <a:moveTo>
                  <a:pt x="0" y="551"/>
                </a:moveTo>
                <a:cubicBezTo>
                  <a:pt x="7" y="550"/>
                  <a:pt x="33" y="547"/>
                  <a:pt x="44" y="543"/>
                </a:cubicBezTo>
                <a:cubicBezTo>
                  <a:pt x="55" y="539"/>
                  <a:pt x="59" y="526"/>
                  <a:pt x="68" y="527"/>
                </a:cubicBezTo>
                <a:cubicBezTo>
                  <a:pt x="77" y="528"/>
                  <a:pt x="85" y="546"/>
                  <a:pt x="96" y="551"/>
                </a:cubicBezTo>
                <a:cubicBezTo>
                  <a:pt x="107" y="556"/>
                  <a:pt x="125" y="561"/>
                  <a:pt x="136" y="559"/>
                </a:cubicBezTo>
                <a:cubicBezTo>
                  <a:pt x="147" y="557"/>
                  <a:pt x="152" y="532"/>
                  <a:pt x="160" y="539"/>
                </a:cubicBezTo>
                <a:cubicBezTo>
                  <a:pt x="168" y="546"/>
                  <a:pt x="178" y="584"/>
                  <a:pt x="184" y="599"/>
                </a:cubicBezTo>
                <a:cubicBezTo>
                  <a:pt x="190" y="614"/>
                  <a:pt x="187" y="624"/>
                  <a:pt x="196" y="627"/>
                </a:cubicBezTo>
                <a:cubicBezTo>
                  <a:pt x="205" y="630"/>
                  <a:pt x="230" y="614"/>
                  <a:pt x="236" y="619"/>
                </a:cubicBezTo>
                <a:cubicBezTo>
                  <a:pt x="242" y="624"/>
                  <a:pt x="231" y="646"/>
                  <a:pt x="232" y="659"/>
                </a:cubicBezTo>
                <a:cubicBezTo>
                  <a:pt x="233" y="672"/>
                  <a:pt x="231" y="689"/>
                  <a:pt x="240" y="695"/>
                </a:cubicBezTo>
                <a:cubicBezTo>
                  <a:pt x="249" y="701"/>
                  <a:pt x="275" y="690"/>
                  <a:pt x="288" y="695"/>
                </a:cubicBezTo>
                <a:cubicBezTo>
                  <a:pt x="301" y="700"/>
                  <a:pt x="311" y="721"/>
                  <a:pt x="320" y="723"/>
                </a:cubicBezTo>
                <a:cubicBezTo>
                  <a:pt x="329" y="725"/>
                  <a:pt x="333" y="712"/>
                  <a:pt x="344" y="707"/>
                </a:cubicBezTo>
                <a:cubicBezTo>
                  <a:pt x="355" y="702"/>
                  <a:pt x="373" y="692"/>
                  <a:pt x="384" y="695"/>
                </a:cubicBezTo>
                <a:cubicBezTo>
                  <a:pt x="395" y="698"/>
                  <a:pt x="410" y="724"/>
                  <a:pt x="412" y="727"/>
                </a:cubicBezTo>
                <a:cubicBezTo>
                  <a:pt x="414" y="730"/>
                  <a:pt x="387" y="710"/>
                  <a:pt x="396" y="715"/>
                </a:cubicBezTo>
                <a:cubicBezTo>
                  <a:pt x="405" y="720"/>
                  <a:pt x="450" y="750"/>
                  <a:pt x="464" y="755"/>
                </a:cubicBezTo>
                <a:cubicBezTo>
                  <a:pt x="478" y="760"/>
                  <a:pt x="480" y="752"/>
                  <a:pt x="480" y="743"/>
                </a:cubicBezTo>
                <a:cubicBezTo>
                  <a:pt x="480" y="734"/>
                  <a:pt x="478" y="716"/>
                  <a:pt x="464" y="699"/>
                </a:cubicBezTo>
                <a:cubicBezTo>
                  <a:pt x="450" y="682"/>
                  <a:pt x="415" y="656"/>
                  <a:pt x="396" y="639"/>
                </a:cubicBezTo>
                <a:cubicBezTo>
                  <a:pt x="377" y="622"/>
                  <a:pt x="362" y="614"/>
                  <a:pt x="352" y="599"/>
                </a:cubicBezTo>
                <a:cubicBezTo>
                  <a:pt x="342" y="584"/>
                  <a:pt x="336" y="567"/>
                  <a:pt x="336" y="551"/>
                </a:cubicBezTo>
                <a:cubicBezTo>
                  <a:pt x="336" y="535"/>
                  <a:pt x="345" y="516"/>
                  <a:pt x="352" y="503"/>
                </a:cubicBezTo>
                <a:cubicBezTo>
                  <a:pt x="359" y="490"/>
                  <a:pt x="359" y="475"/>
                  <a:pt x="380" y="471"/>
                </a:cubicBezTo>
                <a:cubicBezTo>
                  <a:pt x="401" y="467"/>
                  <a:pt x="455" y="474"/>
                  <a:pt x="480" y="479"/>
                </a:cubicBezTo>
                <a:cubicBezTo>
                  <a:pt x="505" y="484"/>
                  <a:pt x="512" y="499"/>
                  <a:pt x="528" y="503"/>
                </a:cubicBezTo>
                <a:cubicBezTo>
                  <a:pt x="544" y="507"/>
                  <a:pt x="552" y="511"/>
                  <a:pt x="576" y="503"/>
                </a:cubicBezTo>
                <a:cubicBezTo>
                  <a:pt x="600" y="495"/>
                  <a:pt x="652" y="466"/>
                  <a:pt x="672" y="455"/>
                </a:cubicBezTo>
                <a:cubicBezTo>
                  <a:pt x="692" y="444"/>
                  <a:pt x="696" y="447"/>
                  <a:pt x="696" y="435"/>
                </a:cubicBezTo>
                <a:cubicBezTo>
                  <a:pt x="696" y="423"/>
                  <a:pt x="668" y="396"/>
                  <a:pt x="672" y="383"/>
                </a:cubicBezTo>
                <a:cubicBezTo>
                  <a:pt x="676" y="370"/>
                  <a:pt x="701" y="368"/>
                  <a:pt x="720" y="359"/>
                </a:cubicBezTo>
                <a:cubicBezTo>
                  <a:pt x="739" y="350"/>
                  <a:pt x="765" y="346"/>
                  <a:pt x="784" y="331"/>
                </a:cubicBezTo>
                <a:cubicBezTo>
                  <a:pt x="803" y="316"/>
                  <a:pt x="819" y="294"/>
                  <a:pt x="832" y="267"/>
                </a:cubicBezTo>
                <a:cubicBezTo>
                  <a:pt x="845" y="240"/>
                  <a:pt x="857" y="191"/>
                  <a:pt x="864" y="167"/>
                </a:cubicBezTo>
                <a:cubicBezTo>
                  <a:pt x="871" y="143"/>
                  <a:pt x="874" y="139"/>
                  <a:pt x="876" y="123"/>
                </a:cubicBezTo>
                <a:cubicBezTo>
                  <a:pt x="878" y="107"/>
                  <a:pt x="870" y="88"/>
                  <a:pt x="876" y="71"/>
                </a:cubicBezTo>
                <a:cubicBezTo>
                  <a:pt x="882" y="54"/>
                  <a:pt x="898" y="34"/>
                  <a:pt x="912" y="23"/>
                </a:cubicBezTo>
                <a:cubicBezTo>
                  <a:pt x="926" y="12"/>
                  <a:pt x="944" y="6"/>
                  <a:pt x="960" y="3"/>
                </a:cubicBezTo>
                <a:cubicBezTo>
                  <a:pt x="976" y="0"/>
                  <a:pt x="993" y="1"/>
                  <a:pt x="1008" y="7"/>
                </a:cubicBezTo>
                <a:cubicBezTo>
                  <a:pt x="1023" y="13"/>
                  <a:pt x="1029" y="34"/>
                  <a:pt x="1052" y="39"/>
                </a:cubicBezTo>
                <a:cubicBezTo>
                  <a:pt x="1075" y="44"/>
                  <a:pt x="1123" y="34"/>
                  <a:pt x="1148" y="39"/>
                </a:cubicBezTo>
                <a:cubicBezTo>
                  <a:pt x="1173" y="44"/>
                  <a:pt x="1187" y="59"/>
                  <a:pt x="1200" y="71"/>
                </a:cubicBezTo>
                <a:cubicBezTo>
                  <a:pt x="1213" y="83"/>
                  <a:pt x="1222" y="96"/>
                  <a:pt x="1224" y="111"/>
                </a:cubicBezTo>
                <a:cubicBezTo>
                  <a:pt x="1226" y="126"/>
                  <a:pt x="1222" y="136"/>
                  <a:pt x="1212" y="163"/>
                </a:cubicBezTo>
                <a:cubicBezTo>
                  <a:pt x="1202" y="190"/>
                  <a:pt x="1176" y="248"/>
                  <a:pt x="1164" y="271"/>
                </a:cubicBezTo>
                <a:cubicBezTo>
                  <a:pt x="1152" y="294"/>
                  <a:pt x="1139" y="290"/>
                  <a:pt x="1140" y="303"/>
                </a:cubicBezTo>
                <a:cubicBezTo>
                  <a:pt x="1141" y="316"/>
                  <a:pt x="1167" y="336"/>
                  <a:pt x="1168" y="351"/>
                </a:cubicBezTo>
                <a:cubicBezTo>
                  <a:pt x="1169" y="366"/>
                  <a:pt x="1151" y="378"/>
                  <a:pt x="1148" y="395"/>
                </a:cubicBezTo>
                <a:cubicBezTo>
                  <a:pt x="1145" y="412"/>
                  <a:pt x="1151" y="437"/>
                  <a:pt x="1152" y="455"/>
                </a:cubicBezTo>
                <a:cubicBezTo>
                  <a:pt x="1153" y="473"/>
                  <a:pt x="1152" y="486"/>
                  <a:pt x="1152" y="503"/>
                </a:cubicBezTo>
                <a:cubicBezTo>
                  <a:pt x="1152" y="520"/>
                  <a:pt x="1155" y="544"/>
                  <a:pt x="1152" y="559"/>
                </a:cubicBezTo>
                <a:cubicBezTo>
                  <a:pt x="1149" y="574"/>
                  <a:pt x="1136" y="571"/>
                  <a:pt x="1132" y="591"/>
                </a:cubicBezTo>
                <a:cubicBezTo>
                  <a:pt x="1128" y="611"/>
                  <a:pt x="1117" y="670"/>
                  <a:pt x="1128" y="679"/>
                </a:cubicBezTo>
                <a:cubicBezTo>
                  <a:pt x="1139" y="688"/>
                  <a:pt x="1177" y="658"/>
                  <a:pt x="1200" y="647"/>
                </a:cubicBezTo>
                <a:cubicBezTo>
                  <a:pt x="1223" y="636"/>
                  <a:pt x="1248" y="608"/>
                  <a:pt x="1268" y="611"/>
                </a:cubicBezTo>
                <a:cubicBezTo>
                  <a:pt x="1288" y="614"/>
                  <a:pt x="1299" y="659"/>
                  <a:pt x="1320" y="663"/>
                </a:cubicBezTo>
                <a:cubicBezTo>
                  <a:pt x="1341" y="667"/>
                  <a:pt x="1372" y="638"/>
                  <a:pt x="1392" y="635"/>
                </a:cubicBezTo>
                <a:cubicBezTo>
                  <a:pt x="1412" y="632"/>
                  <a:pt x="1423" y="653"/>
                  <a:pt x="1440" y="647"/>
                </a:cubicBezTo>
                <a:cubicBezTo>
                  <a:pt x="1457" y="641"/>
                  <a:pt x="1473" y="625"/>
                  <a:pt x="1496" y="599"/>
                </a:cubicBezTo>
                <a:cubicBezTo>
                  <a:pt x="1519" y="573"/>
                  <a:pt x="1551" y="525"/>
                  <a:pt x="1580" y="491"/>
                </a:cubicBezTo>
                <a:cubicBezTo>
                  <a:pt x="1609" y="457"/>
                  <a:pt x="1639" y="425"/>
                  <a:pt x="1672" y="395"/>
                </a:cubicBezTo>
                <a:cubicBezTo>
                  <a:pt x="1705" y="365"/>
                  <a:pt x="1754" y="329"/>
                  <a:pt x="1776" y="311"/>
                </a:cubicBezTo>
              </a:path>
            </a:pathLst>
          </a:custGeom>
          <a:noFill/>
          <a:ln w="5724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248520" y="2743200"/>
            <a:ext cx="723960" cy="1442880"/>
          </a:xfrm>
          <a:custGeom>
            <a:avLst/>
            <a:gdLst/>
            <a:ahLst/>
            <a:rect l="l" t="t" r="r" b="b"/>
            <a:pathLst>
              <a:path w="456" h="909">
                <a:moveTo>
                  <a:pt x="0" y="0"/>
                </a:moveTo>
                <a:cubicBezTo>
                  <a:pt x="10" y="16"/>
                  <a:pt x="51" y="63"/>
                  <a:pt x="60" y="96"/>
                </a:cubicBezTo>
                <a:cubicBezTo>
                  <a:pt x="69" y="129"/>
                  <a:pt x="63" y="165"/>
                  <a:pt x="57" y="201"/>
                </a:cubicBezTo>
                <a:cubicBezTo>
                  <a:pt x="51" y="237"/>
                  <a:pt x="24" y="286"/>
                  <a:pt x="24" y="315"/>
                </a:cubicBezTo>
                <a:cubicBezTo>
                  <a:pt x="24" y="344"/>
                  <a:pt x="48" y="340"/>
                  <a:pt x="57" y="375"/>
                </a:cubicBezTo>
                <a:cubicBezTo>
                  <a:pt x="66" y="410"/>
                  <a:pt x="78" y="480"/>
                  <a:pt x="81" y="525"/>
                </a:cubicBezTo>
                <a:cubicBezTo>
                  <a:pt x="84" y="570"/>
                  <a:pt x="75" y="614"/>
                  <a:pt x="75" y="648"/>
                </a:cubicBezTo>
                <a:cubicBezTo>
                  <a:pt x="75" y="682"/>
                  <a:pt x="75" y="710"/>
                  <a:pt x="84" y="732"/>
                </a:cubicBezTo>
                <a:cubicBezTo>
                  <a:pt x="93" y="754"/>
                  <a:pt x="110" y="765"/>
                  <a:pt x="132" y="783"/>
                </a:cubicBezTo>
                <a:cubicBezTo>
                  <a:pt x="154" y="801"/>
                  <a:pt x="193" y="828"/>
                  <a:pt x="219" y="843"/>
                </a:cubicBezTo>
                <a:cubicBezTo>
                  <a:pt x="245" y="858"/>
                  <a:pt x="263" y="864"/>
                  <a:pt x="291" y="873"/>
                </a:cubicBezTo>
                <a:cubicBezTo>
                  <a:pt x="319" y="882"/>
                  <a:pt x="360" y="894"/>
                  <a:pt x="387" y="900"/>
                </a:cubicBezTo>
                <a:cubicBezTo>
                  <a:pt x="414" y="906"/>
                  <a:pt x="442" y="907"/>
                  <a:pt x="456" y="909"/>
                </a:cubicBezTo>
              </a:path>
            </a:pathLst>
          </a:custGeom>
          <a:noFill/>
          <a:ln w="63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4724280" y="3429000"/>
            <a:ext cx="1928880" cy="330120"/>
          </a:xfrm>
          <a:custGeom>
            <a:avLst/>
            <a:gdLst/>
            <a:ahLst/>
            <a:rect l="l" t="t" r="r" b="b"/>
            <a:pathLst>
              <a:path w="1215" h="208">
                <a:moveTo>
                  <a:pt x="0" y="0"/>
                </a:moveTo>
                <a:cubicBezTo>
                  <a:pt x="10" y="6"/>
                  <a:pt x="48" y="22"/>
                  <a:pt x="60" y="36"/>
                </a:cubicBezTo>
                <a:cubicBezTo>
                  <a:pt x="72" y="50"/>
                  <a:pt x="73" y="70"/>
                  <a:pt x="75" y="84"/>
                </a:cubicBezTo>
                <a:cubicBezTo>
                  <a:pt x="77" y="98"/>
                  <a:pt x="72" y="109"/>
                  <a:pt x="75" y="120"/>
                </a:cubicBezTo>
                <a:cubicBezTo>
                  <a:pt x="78" y="131"/>
                  <a:pt x="63" y="137"/>
                  <a:pt x="96" y="150"/>
                </a:cubicBezTo>
                <a:cubicBezTo>
                  <a:pt x="129" y="163"/>
                  <a:pt x="220" y="194"/>
                  <a:pt x="276" y="201"/>
                </a:cubicBezTo>
                <a:cubicBezTo>
                  <a:pt x="332" y="208"/>
                  <a:pt x="391" y="196"/>
                  <a:pt x="432" y="192"/>
                </a:cubicBezTo>
                <a:cubicBezTo>
                  <a:pt x="473" y="188"/>
                  <a:pt x="482" y="183"/>
                  <a:pt x="522" y="177"/>
                </a:cubicBezTo>
                <a:cubicBezTo>
                  <a:pt x="562" y="171"/>
                  <a:pt x="630" y="158"/>
                  <a:pt x="672" y="156"/>
                </a:cubicBezTo>
                <a:cubicBezTo>
                  <a:pt x="714" y="154"/>
                  <a:pt x="731" y="163"/>
                  <a:pt x="774" y="162"/>
                </a:cubicBezTo>
                <a:cubicBezTo>
                  <a:pt x="817" y="161"/>
                  <a:pt x="891" y="149"/>
                  <a:pt x="930" y="150"/>
                </a:cubicBezTo>
                <a:cubicBezTo>
                  <a:pt x="969" y="151"/>
                  <a:pt x="984" y="165"/>
                  <a:pt x="1008" y="168"/>
                </a:cubicBezTo>
                <a:cubicBezTo>
                  <a:pt x="1032" y="171"/>
                  <a:pt x="1040" y="171"/>
                  <a:pt x="1074" y="168"/>
                </a:cubicBezTo>
                <a:cubicBezTo>
                  <a:pt x="1108" y="165"/>
                  <a:pt x="1186" y="154"/>
                  <a:pt x="1215" y="150"/>
                </a:cubicBezTo>
              </a:path>
            </a:pathLst>
          </a:custGeom>
          <a:noFill/>
          <a:ln w="63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6904080" y="5173560"/>
            <a:ext cx="258840" cy="747720"/>
          </a:xfrm>
          <a:custGeom>
            <a:avLst/>
            <a:gdLst/>
            <a:ahLst/>
            <a:rect l="l" t="t" r="r" b="b"/>
            <a:pathLst>
              <a:path w="163" h="471">
                <a:moveTo>
                  <a:pt x="120" y="5"/>
                </a:moveTo>
                <a:cubicBezTo>
                  <a:pt x="130" y="0"/>
                  <a:pt x="130" y="18"/>
                  <a:pt x="135" y="23"/>
                </a:cubicBezTo>
                <a:cubicBezTo>
                  <a:pt x="140" y="28"/>
                  <a:pt x="147" y="33"/>
                  <a:pt x="151" y="37"/>
                </a:cubicBezTo>
                <a:cubicBezTo>
                  <a:pt x="155" y="41"/>
                  <a:pt x="159" y="17"/>
                  <a:pt x="160" y="47"/>
                </a:cubicBezTo>
                <a:cubicBezTo>
                  <a:pt x="161" y="77"/>
                  <a:pt x="163" y="174"/>
                  <a:pt x="156" y="215"/>
                </a:cubicBezTo>
                <a:cubicBezTo>
                  <a:pt x="149" y="256"/>
                  <a:pt x="126" y="272"/>
                  <a:pt x="120" y="293"/>
                </a:cubicBezTo>
                <a:cubicBezTo>
                  <a:pt x="114" y="314"/>
                  <a:pt x="125" y="314"/>
                  <a:pt x="120" y="341"/>
                </a:cubicBezTo>
                <a:cubicBezTo>
                  <a:pt x="115" y="368"/>
                  <a:pt x="102" y="439"/>
                  <a:pt x="92" y="455"/>
                </a:cubicBezTo>
                <a:cubicBezTo>
                  <a:pt x="82" y="471"/>
                  <a:pt x="68" y="450"/>
                  <a:pt x="58" y="439"/>
                </a:cubicBezTo>
                <a:cubicBezTo>
                  <a:pt x="48" y="428"/>
                  <a:pt x="36" y="402"/>
                  <a:pt x="28" y="385"/>
                </a:cubicBezTo>
                <a:cubicBezTo>
                  <a:pt x="20" y="368"/>
                  <a:pt x="11" y="352"/>
                  <a:pt x="10" y="339"/>
                </a:cubicBezTo>
                <a:cubicBezTo>
                  <a:pt x="9" y="326"/>
                  <a:pt x="21" y="320"/>
                  <a:pt x="20" y="309"/>
                </a:cubicBezTo>
                <a:cubicBezTo>
                  <a:pt x="19" y="298"/>
                  <a:pt x="3" y="293"/>
                  <a:pt x="2" y="275"/>
                </a:cubicBezTo>
                <a:cubicBezTo>
                  <a:pt x="1" y="257"/>
                  <a:pt x="0" y="236"/>
                  <a:pt x="12" y="199"/>
                </a:cubicBezTo>
                <a:cubicBezTo>
                  <a:pt x="24" y="162"/>
                  <a:pt x="54" y="85"/>
                  <a:pt x="72" y="53"/>
                </a:cubicBezTo>
                <a:cubicBezTo>
                  <a:pt x="90" y="21"/>
                  <a:pt x="108" y="11"/>
                  <a:pt x="120" y="5"/>
                </a:cubicBez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256360" y="6159600"/>
            <a:ext cx="315720" cy="263520"/>
          </a:xfrm>
          <a:custGeom>
            <a:avLst/>
            <a:gdLst/>
            <a:ahLst/>
            <a:rect l="l" t="t" r="r" b="b"/>
            <a:pathLst>
              <a:path w="199" h="166">
                <a:moveTo>
                  <a:pt x="55" y="10"/>
                </a:moveTo>
                <a:cubicBezTo>
                  <a:pt x="64" y="6"/>
                  <a:pt x="82" y="8"/>
                  <a:pt x="97" y="8"/>
                </a:cubicBezTo>
                <a:cubicBezTo>
                  <a:pt x="112" y="8"/>
                  <a:pt x="129" y="0"/>
                  <a:pt x="145" y="8"/>
                </a:cubicBezTo>
                <a:cubicBezTo>
                  <a:pt x="161" y="16"/>
                  <a:pt x="187" y="39"/>
                  <a:pt x="193" y="56"/>
                </a:cubicBezTo>
                <a:cubicBezTo>
                  <a:pt x="199" y="73"/>
                  <a:pt x="191" y="98"/>
                  <a:pt x="183" y="114"/>
                </a:cubicBezTo>
                <a:cubicBezTo>
                  <a:pt x="175" y="130"/>
                  <a:pt x="157" y="146"/>
                  <a:pt x="145" y="152"/>
                </a:cubicBezTo>
                <a:cubicBezTo>
                  <a:pt x="133" y="158"/>
                  <a:pt x="121" y="148"/>
                  <a:pt x="111" y="150"/>
                </a:cubicBezTo>
                <a:cubicBezTo>
                  <a:pt x="101" y="152"/>
                  <a:pt x="94" y="162"/>
                  <a:pt x="83" y="164"/>
                </a:cubicBezTo>
                <a:cubicBezTo>
                  <a:pt x="72" y="166"/>
                  <a:pt x="59" y="165"/>
                  <a:pt x="47" y="162"/>
                </a:cubicBezTo>
                <a:cubicBezTo>
                  <a:pt x="35" y="159"/>
                  <a:pt x="21" y="158"/>
                  <a:pt x="13" y="148"/>
                </a:cubicBezTo>
                <a:cubicBezTo>
                  <a:pt x="5" y="138"/>
                  <a:pt x="2" y="118"/>
                  <a:pt x="1" y="104"/>
                </a:cubicBezTo>
                <a:cubicBezTo>
                  <a:pt x="0" y="90"/>
                  <a:pt x="0" y="78"/>
                  <a:pt x="7" y="66"/>
                </a:cubicBezTo>
                <a:cubicBezTo>
                  <a:pt x="14" y="54"/>
                  <a:pt x="35" y="43"/>
                  <a:pt x="43" y="34"/>
                </a:cubicBezTo>
                <a:cubicBezTo>
                  <a:pt x="51" y="25"/>
                  <a:pt x="46" y="14"/>
                  <a:pt x="55" y="10"/>
                </a:cubicBez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724280" y="3429000"/>
            <a:ext cx="1928880" cy="330120"/>
          </a:xfrm>
          <a:custGeom>
            <a:avLst/>
            <a:gdLst/>
            <a:ahLst/>
            <a:rect l="l" t="t" r="r" b="b"/>
            <a:pathLst>
              <a:path w="1215" h="208">
                <a:moveTo>
                  <a:pt x="0" y="0"/>
                </a:moveTo>
                <a:cubicBezTo>
                  <a:pt x="10" y="6"/>
                  <a:pt x="48" y="22"/>
                  <a:pt x="60" y="36"/>
                </a:cubicBezTo>
                <a:cubicBezTo>
                  <a:pt x="72" y="50"/>
                  <a:pt x="73" y="70"/>
                  <a:pt x="75" y="84"/>
                </a:cubicBezTo>
                <a:cubicBezTo>
                  <a:pt x="77" y="98"/>
                  <a:pt x="72" y="109"/>
                  <a:pt x="75" y="120"/>
                </a:cubicBezTo>
                <a:cubicBezTo>
                  <a:pt x="78" y="131"/>
                  <a:pt x="63" y="137"/>
                  <a:pt x="96" y="150"/>
                </a:cubicBezTo>
                <a:cubicBezTo>
                  <a:pt x="129" y="163"/>
                  <a:pt x="220" y="194"/>
                  <a:pt x="276" y="201"/>
                </a:cubicBezTo>
                <a:cubicBezTo>
                  <a:pt x="332" y="208"/>
                  <a:pt x="391" y="196"/>
                  <a:pt x="432" y="192"/>
                </a:cubicBezTo>
                <a:cubicBezTo>
                  <a:pt x="473" y="188"/>
                  <a:pt x="482" y="183"/>
                  <a:pt x="522" y="177"/>
                </a:cubicBezTo>
                <a:cubicBezTo>
                  <a:pt x="562" y="171"/>
                  <a:pt x="630" y="158"/>
                  <a:pt x="672" y="156"/>
                </a:cubicBezTo>
                <a:cubicBezTo>
                  <a:pt x="714" y="154"/>
                  <a:pt x="731" y="163"/>
                  <a:pt x="774" y="162"/>
                </a:cubicBezTo>
                <a:cubicBezTo>
                  <a:pt x="817" y="161"/>
                  <a:pt x="891" y="149"/>
                  <a:pt x="930" y="150"/>
                </a:cubicBezTo>
                <a:cubicBezTo>
                  <a:pt x="969" y="151"/>
                  <a:pt x="984" y="165"/>
                  <a:pt x="1008" y="168"/>
                </a:cubicBezTo>
                <a:cubicBezTo>
                  <a:pt x="1032" y="171"/>
                  <a:pt x="1040" y="171"/>
                  <a:pt x="1074" y="168"/>
                </a:cubicBezTo>
                <a:cubicBezTo>
                  <a:pt x="1108" y="165"/>
                  <a:pt x="1186" y="154"/>
                  <a:pt x="1215" y="150"/>
                </a:cubicBezTo>
              </a:path>
            </a:pathLst>
          </a:custGeom>
          <a:noFill/>
          <a:ln w="63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2743200"/>
            <a:ext cx="723960" cy="1442880"/>
          </a:xfrm>
          <a:custGeom>
            <a:avLst/>
            <a:gdLst/>
            <a:ahLst/>
            <a:rect l="l" t="t" r="r" b="b"/>
            <a:pathLst>
              <a:path w="456" h="909">
                <a:moveTo>
                  <a:pt x="0" y="0"/>
                </a:moveTo>
                <a:cubicBezTo>
                  <a:pt x="10" y="16"/>
                  <a:pt x="51" y="63"/>
                  <a:pt x="60" y="96"/>
                </a:cubicBezTo>
                <a:cubicBezTo>
                  <a:pt x="69" y="129"/>
                  <a:pt x="63" y="165"/>
                  <a:pt x="57" y="201"/>
                </a:cubicBezTo>
                <a:cubicBezTo>
                  <a:pt x="51" y="237"/>
                  <a:pt x="24" y="286"/>
                  <a:pt x="24" y="315"/>
                </a:cubicBezTo>
                <a:cubicBezTo>
                  <a:pt x="24" y="344"/>
                  <a:pt x="48" y="340"/>
                  <a:pt x="57" y="375"/>
                </a:cubicBezTo>
                <a:cubicBezTo>
                  <a:pt x="66" y="410"/>
                  <a:pt x="78" y="480"/>
                  <a:pt x="81" y="525"/>
                </a:cubicBezTo>
                <a:cubicBezTo>
                  <a:pt x="84" y="570"/>
                  <a:pt x="75" y="614"/>
                  <a:pt x="75" y="648"/>
                </a:cubicBezTo>
                <a:cubicBezTo>
                  <a:pt x="75" y="682"/>
                  <a:pt x="75" y="710"/>
                  <a:pt x="84" y="732"/>
                </a:cubicBezTo>
                <a:cubicBezTo>
                  <a:pt x="93" y="754"/>
                  <a:pt x="110" y="765"/>
                  <a:pt x="132" y="783"/>
                </a:cubicBezTo>
                <a:cubicBezTo>
                  <a:pt x="154" y="801"/>
                  <a:pt x="193" y="828"/>
                  <a:pt x="219" y="843"/>
                </a:cubicBezTo>
                <a:cubicBezTo>
                  <a:pt x="245" y="858"/>
                  <a:pt x="263" y="864"/>
                  <a:pt x="291" y="873"/>
                </a:cubicBezTo>
                <a:cubicBezTo>
                  <a:pt x="319" y="882"/>
                  <a:pt x="360" y="894"/>
                  <a:pt x="387" y="900"/>
                </a:cubicBezTo>
                <a:cubicBezTo>
                  <a:pt x="414" y="906"/>
                  <a:pt x="442" y="907"/>
                  <a:pt x="456" y="909"/>
                </a:cubicBezTo>
              </a:path>
            </a:pathLst>
          </a:custGeom>
          <a:noFill/>
          <a:ln w="63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019920" y="2666880"/>
            <a:ext cx="304560" cy="304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北京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6781680" y="4038480"/>
            <a:ext cx="304920" cy="304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上海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572000" y="3276720"/>
            <a:ext cx="304920" cy="304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兰州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6553080" y="3429000"/>
            <a:ext cx="395280" cy="380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连云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5199840" y="2349360"/>
            <a:ext cx="911880" cy="11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京沪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356000" y="3733920"/>
            <a:ext cx="131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陇海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172200" y="3505320"/>
            <a:ext cx="304920" cy="30456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徐州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4140360" y="333360"/>
            <a:ext cx="1218960" cy="70344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徐州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  <p:timing>
    <p:tnLst>
      <p:par>
        <p:cTn id="621" dur="indefinite" restart="never" nodeType="tmRoot">
          <p:childTnLst>
            <p:seq>
              <p:cTn id="622" dur="indefinite" nodeType="mainSeq">
                <p:childTnLst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7" dur="3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3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3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1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8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3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6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8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5e75"/>
            </a:gs>
            <a:gs pos="100000">
              <a:srgbClr val="33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1260360" y="425520"/>
            <a:ext cx="6894720" cy="5718240"/>
          </a:xfrm>
          <a:custGeom>
            <a:avLst/>
            <a:gdLst/>
            <a:ahLst/>
            <a:rect l="l" t="t" r="r" b="b"/>
            <a:pathLst>
              <a:path w="4343" h="3602">
                <a:moveTo>
                  <a:pt x="1196" y="298"/>
                </a:moveTo>
                <a:cubicBezTo>
                  <a:pt x="1214" y="290"/>
                  <a:pt x="1262" y="302"/>
                  <a:pt x="1274" y="302"/>
                </a:cubicBezTo>
                <a:cubicBezTo>
                  <a:pt x="1286" y="302"/>
                  <a:pt x="1270" y="287"/>
                  <a:pt x="1268" y="296"/>
                </a:cubicBezTo>
                <a:cubicBezTo>
                  <a:pt x="1266" y="305"/>
                  <a:pt x="1256" y="334"/>
                  <a:pt x="1262" y="358"/>
                </a:cubicBezTo>
                <a:cubicBezTo>
                  <a:pt x="1268" y="382"/>
                  <a:pt x="1292" y="428"/>
                  <a:pt x="1306" y="442"/>
                </a:cubicBezTo>
                <a:cubicBezTo>
                  <a:pt x="1320" y="456"/>
                  <a:pt x="1340" y="437"/>
                  <a:pt x="1348" y="442"/>
                </a:cubicBezTo>
                <a:cubicBezTo>
                  <a:pt x="1356" y="447"/>
                  <a:pt x="1352" y="468"/>
                  <a:pt x="1356" y="474"/>
                </a:cubicBezTo>
                <a:cubicBezTo>
                  <a:pt x="1360" y="480"/>
                  <a:pt x="1365" y="457"/>
                  <a:pt x="1374" y="476"/>
                </a:cubicBezTo>
                <a:cubicBezTo>
                  <a:pt x="1383" y="495"/>
                  <a:pt x="1407" y="558"/>
                  <a:pt x="1412" y="590"/>
                </a:cubicBezTo>
                <a:cubicBezTo>
                  <a:pt x="1417" y="622"/>
                  <a:pt x="1409" y="641"/>
                  <a:pt x="1402" y="668"/>
                </a:cubicBezTo>
                <a:cubicBezTo>
                  <a:pt x="1395" y="695"/>
                  <a:pt x="1359" y="731"/>
                  <a:pt x="1368" y="752"/>
                </a:cubicBezTo>
                <a:cubicBezTo>
                  <a:pt x="1377" y="773"/>
                  <a:pt x="1422" y="782"/>
                  <a:pt x="1454" y="796"/>
                </a:cubicBezTo>
                <a:cubicBezTo>
                  <a:pt x="1486" y="810"/>
                  <a:pt x="1529" y="816"/>
                  <a:pt x="1558" y="836"/>
                </a:cubicBezTo>
                <a:cubicBezTo>
                  <a:pt x="1587" y="856"/>
                  <a:pt x="1608" y="901"/>
                  <a:pt x="1626" y="914"/>
                </a:cubicBezTo>
                <a:cubicBezTo>
                  <a:pt x="1644" y="927"/>
                  <a:pt x="1655" y="898"/>
                  <a:pt x="1664" y="916"/>
                </a:cubicBezTo>
                <a:cubicBezTo>
                  <a:pt x="1673" y="934"/>
                  <a:pt x="1676" y="998"/>
                  <a:pt x="1682" y="1022"/>
                </a:cubicBezTo>
                <a:cubicBezTo>
                  <a:pt x="1688" y="1046"/>
                  <a:pt x="1695" y="1047"/>
                  <a:pt x="1702" y="1060"/>
                </a:cubicBezTo>
                <a:cubicBezTo>
                  <a:pt x="1709" y="1073"/>
                  <a:pt x="1706" y="1092"/>
                  <a:pt x="1722" y="1100"/>
                </a:cubicBezTo>
                <a:cubicBezTo>
                  <a:pt x="1738" y="1108"/>
                  <a:pt x="1770" y="1102"/>
                  <a:pt x="1798" y="1108"/>
                </a:cubicBezTo>
                <a:cubicBezTo>
                  <a:pt x="1826" y="1114"/>
                  <a:pt x="1858" y="1132"/>
                  <a:pt x="1890" y="1138"/>
                </a:cubicBezTo>
                <a:cubicBezTo>
                  <a:pt x="1922" y="1144"/>
                  <a:pt x="1962" y="1138"/>
                  <a:pt x="1992" y="1142"/>
                </a:cubicBezTo>
                <a:cubicBezTo>
                  <a:pt x="2022" y="1146"/>
                  <a:pt x="2050" y="1152"/>
                  <a:pt x="2070" y="1164"/>
                </a:cubicBezTo>
                <a:cubicBezTo>
                  <a:pt x="2090" y="1176"/>
                  <a:pt x="2097" y="1203"/>
                  <a:pt x="2110" y="1212"/>
                </a:cubicBezTo>
                <a:cubicBezTo>
                  <a:pt x="2123" y="1221"/>
                  <a:pt x="2133" y="1207"/>
                  <a:pt x="2150" y="1216"/>
                </a:cubicBezTo>
                <a:cubicBezTo>
                  <a:pt x="2167" y="1225"/>
                  <a:pt x="2193" y="1256"/>
                  <a:pt x="2214" y="1264"/>
                </a:cubicBezTo>
                <a:cubicBezTo>
                  <a:pt x="2235" y="1272"/>
                  <a:pt x="2259" y="1257"/>
                  <a:pt x="2274" y="1262"/>
                </a:cubicBezTo>
                <a:cubicBezTo>
                  <a:pt x="2289" y="1267"/>
                  <a:pt x="2280" y="1297"/>
                  <a:pt x="2306" y="1292"/>
                </a:cubicBezTo>
                <a:cubicBezTo>
                  <a:pt x="2332" y="1287"/>
                  <a:pt x="2399" y="1247"/>
                  <a:pt x="2428" y="1234"/>
                </a:cubicBezTo>
                <a:cubicBezTo>
                  <a:pt x="2457" y="1221"/>
                  <a:pt x="2465" y="1220"/>
                  <a:pt x="2478" y="1216"/>
                </a:cubicBezTo>
                <a:cubicBezTo>
                  <a:pt x="2491" y="1212"/>
                  <a:pt x="2496" y="1212"/>
                  <a:pt x="2504" y="1212"/>
                </a:cubicBezTo>
                <a:cubicBezTo>
                  <a:pt x="2512" y="1212"/>
                  <a:pt x="2507" y="1217"/>
                  <a:pt x="2528" y="1218"/>
                </a:cubicBezTo>
                <a:cubicBezTo>
                  <a:pt x="2549" y="1219"/>
                  <a:pt x="2602" y="1224"/>
                  <a:pt x="2632" y="1216"/>
                </a:cubicBezTo>
                <a:cubicBezTo>
                  <a:pt x="2662" y="1208"/>
                  <a:pt x="2690" y="1188"/>
                  <a:pt x="2710" y="1172"/>
                </a:cubicBezTo>
                <a:cubicBezTo>
                  <a:pt x="2730" y="1156"/>
                  <a:pt x="2737" y="1135"/>
                  <a:pt x="2754" y="1120"/>
                </a:cubicBezTo>
                <a:cubicBezTo>
                  <a:pt x="2771" y="1105"/>
                  <a:pt x="2810" y="1097"/>
                  <a:pt x="2814" y="1080"/>
                </a:cubicBezTo>
                <a:cubicBezTo>
                  <a:pt x="2818" y="1063"/>
                  <a:pt x="2781" y="1036"/>
                  <a:pt x="2778" y="1016"/>
                </a:cubicBezTo>
                <a:cubicBezTo>
                  <a:pt x="2775" y="996"/>
                  <a:pt x="2788" y="971"/>
                  <a:pt x="2796" y="958"/>
                </a:cubicBezTo>
                <a:cubicBezTo>
                  <a:pt x="2804" y="945"/>
                  <a:pt x="2803" y="932"/>
                  <a:pt x="2824" y="936"/>
                </a:cubicBezTo>
                <a:cubicBezTo>
                  <a:pt x="2845" y="940"/>
                  <a:pt x="2891" y="986"/>
                  <a:pt x="2922" y="980"/>
                </a:cubicBezTo>
                <a:cubicBezTo>
                  <a:pt x="2953" y="974"/>
                  <a:pt x="2985" y="915"/>
                  <a:pt x="3012" y="898"/>
                </a:cubicBezTo>
                <a:cubicBezTo>
                  <a:pt x="3039" y="881"/>
                  <a:pt x="3066" y="896"/>
                  <a:pt x="3086" y="880"/>
                </a:cubicBezTo>
                <a:cubicBezTo>
                  <a:pt x="3106" y="864"/>
                  <a:pt x="3119" y="815"/>
                  <a:pt x="3134" y="800"/>
                </a:cubicBezTo>
                <a:cubicBezTo>
                  <a:pt x="3149" y="785"/>
                  <a:pt x="3168" y="797"/>
                  <a:pt x="3178" y="790"/>
                </a:cubicBezTo>
                <a:cubicBezTo>
                  <a:pt x="3188" y="783"/>
                  <a:pt x="3189" y="765"/>
                  <a:pt x="3196" y="760"/>
                </a:cubicBezTo>
                <a:cubicBezTo>
                  <a:pt x="3203" y="755"/>
                  <a:pt x="3209" y="762"/>
                  <a:pt x="3218" y="760"/>
                </a:cubicBezTo>
                <a:cubicBezTo>
                  <a:pt x="3227" y="758"/>
                  <a:pt x="3244" y="749"/>
                  <a:pt x="3252" y="746"/>
                </a:cubicBezTo>
                <a:cubicBezTo>
                  <a:pt x="3260" y="743"/>
                  <a:pt x="3262" y="743"/>
                  <a:pt x="3268" y="742"/>
                </a:cubicBezTo>
                <a:cubicBezTo>
                  <a:pt x="3274" y="741"/>
                  <a:pt x="3276" y="736"/>
                  <a:pt x="3286" y="740"/>
                </a:cubicBezTo>
                <a:cubicBezTo>
                  <a:pt x="3296" y="744"/>
                  <a:pt x="3316" y="772"/>
                  <a:pt x="3326" y="768"/>
                </a:cubicBezTo>
                <a:cubicBezTo>
                  <a:pt x="3336" y="764"/>
                  <a:pt x="3359" y="745"/>
                  <a:pt x="3344" y="718"/>
                </a:cubicBezTo>
                <a:cubicBezTo>
                  <a:pt x="3329" y="691"/>
                  <a:pt x="3260" y="625"/>
                  <a:pt x="3236" y="608"/>
                </a:cubicBezTo>
                <a:cubicBezTo>
                  <a:pt x="3212" y="591"/>
                  <a:pt x="3206" y="608"/>
                  <a:pt x="3198" y="614"/>
                </a:cubicBezTo>
                <a:cubicBezTo>
                  <a:pt x="3190" y="620"/>
                  <a:pt x="3194" y="639"/>
                  <a:pt x="3188" y="642"/>
                </a:cubicBezTo>
                <a:cubicBezTo>
                  <a:pt x="3182" y="645"/>
                  <a:pt x="3176" y="632"/>
                  <a:pt x="3160" y="632"/>
                </a:cubicBezTo>
                <a:cubicBezTo>
                  <a:pt x="3144" y="632"/>
                  <a:pt x="3108" y="635"/>
                  <a:pt x="3094" y="640"/>
                </a:cubicBezTo>
                <a:cubicBezTo>
                  <a:pt x="3080" y="645"/>
                  <a:pt x="3081" y="665"/>
                  <a:pt x="3074" y="664"/>
                </a:cubicBezTo>
                <a:cubicBezTo>
                  <a:pt x="3067" y="663"/>
                  <a:pt x="3056" y="643"/>
                  <a:pt x="3052" y="632"/>
                </a:cubicBezTo>
                <a:cubicBezTo>
                  <a:pt x="3048" y="621"/>
                  <a:pt x="3045" y="608"/>
                  <a:pt x="3048" y="600"/>
                </a:cubicBezTo>
                <a:cubicBezTo>
                  <a:pt x="3051" y="592"/>
                  <a:pt x="3057" y="614"/>
                  <a:pt x="3068" y="586"/>
                </a:cubicBezTo>
                <a:cubicBezTo>
                  <a:pt x="3079" y="558"/>
                  <a:pt x="3100" y="454"/>
                  <a:pt x="3116" y="430"/>
                </a:cubicBezTo>
                <a:cubicBezTo>
                  <a:pt x="3132" y="406"/>
                  <a:pt x="3143" y="446"/>
                  <a:pt x="3166" y="442"/>
                </a:cubicBezTo>
                <a:cubicBezTo>
                  <a:pt x="3189" y="438"/>
                  <a:pt x="3233" y="416"/>
                  <a:pt x="3252" y="406"/>
                </a:cubicBezTo>
                <a:cubicBezTo>
                  <a:pt x="3271" y="396"/>
                  <a:pt x="3279" y="394"/>
                  <a:pt x="3282" y="384"/>
                </a:cubicBezTo>
                <a:cubicBezTo>
                  <a:pt x="3285" y="374"/>
                  <a:pt x="3265" y="368"/>
                  <a:pt x="3270" y="346"/>
                </a:cubicBezTo>
                <a:cubicBezTo>
                  <a:pt x="3275" y="324"/>
                  <a:pt x="3304" y="276"/>
                  <a:pt x="3312" y="252"/>
                </a:cubicBezTo>
                <a:cubicBezTo>
                  <a:pt x="3320" y="228"/>
                  <a:pt x="3310" y="212"/>
                  <a:pt x="3320" y="204"/>
                </a:cubicBezTo>
                <a:cubicBezTo>
                  <a:pt x="3330" y="196"/>
                  <a:pt x="3361" y="211"/>
                  <a:pt x="3370" y="204"/>
                </a:cubicBezTo>
                <a:cubicBezTo>
                  <a:pt x="3379" y="197"/>
                  <a:pt x="3378" y="172"/>
                  <a:pt x="3376" y="164"/>
                </a:cubicBezTo>
                <a:cubicBezTo>
                  <a:pt x="3374" y="156"/>
                  <a:pt x="3363" y="161"/>
                  <a:pt x="3358" y="154"/>
                </a:cubicBezTo>
                <a:cubicBezTo>
                  <a:pt x="3353" y="147"/>
                  <a:pt x="3353" y="130"/>
                  <a:pt x="3346" y="124"/>
                </a:cubicBezTo>
                <a:cubicBezTo>
                  <a:pt x="3339" y="118"/>
                  <a:pt x="3315" y="132"/>
                  <a:pt x="3314" y="120"/>
                </a:cubicBezTo>
                <a:cubicBezTo>
                  <a:pt x="3313" y="108"/>
                  <a:pt x="3326" y="66"/>
                  <a:pt x="3342" y="52"/>
                </a:cubicBezTo>
                <a:cubicBezTo>
                  <a:pt x="3358" y="38"/>
                  <a:pt x="3400" y="46"/>
                  <a:pt x="3412" y="38"/>
                </a:cubicBezTo>
                <a:cubicBezTo>
                  <a:pt x="3424" y="30"/>
                  <a:pt x="3403" y="7"/>
                  <a:pt x="3414" y="4"/>
                </a:cubicBezTo>
                <a:cubicBezTo>
                  <a:pt x="3425" y="1"/>
                  <a:pt x="3457" y="20"/>
                  <a:pt x="3478" y="20"/>
                </a:cubicBezTo>
                <a:cubicBezTo>
                  <a:pt x="3499" y="20"/>
                  <a:pt x="3521" y="0"/>
                  <a:pt x="3540" y="2"/>
                </a:cubicBezTo>
                <a:cubicBezTo>
                  <a:pt x="3559" y="4"/>
                  <a:pt x="3578" y="29"/>
                  <a:pt x="3592" y="32"/>
                </a:cubicBezTo>
                <a:cubicBezTo>
                  <a:pt x="3606" y="35"/>
                  <a:pt x="3605" y="11"/>
                  <a:pt x="3622" y="20"/>
                </a:cubicBezTo>
                <a:cubicBezTo>
                  <a:pt x="3639" y="29"/>
                  <a:pt x="3667" y="49"/>
                  <a:pt x="3694" y="88"/>
                </a:cubicBezTo>
                <a:cubicBezTo>
                  <a:pt x="3721" y="127"/>
                  <a:pt x="3763" y="215"/>
                  <a:pt x="3782" y="252"/>
                </a:cubicBezTo>
                <a:cubicBezTo>
                  <a:pt x="3801" y="289"/>
                  <a:pt x="3801" y="293"/>
                  <a:pt x="3808" y="310"/>
                </a:cubicBezTo>
                <a:cubicBezTo>
                  <a:pt x="3815" y="327"/>
                  <a:pt x="3809" y="347"/>
                  <a:pt x="3824" y="354"/>
                </a:cubicBezTo>
                <a:cubicBezTo>
                  <a:pt x="3839" y="361"/>
                  <a:pt x="3878" y="350"/>
                  <a:pt x="3896" y="354"/>
                </a:cubicBezTo>
                <a:cubicBezTo>
                  <a:pt x="3914" y="358"/>
                  <a:pt x="3923" y="377"/>
                  <a:pt x="3934" y="380"/>
                </a:cubicBezTo>
                <a:cubicBezTo>
                  <a:pt x="3945" y="383"/>
                  <a:pt x="3953" y="367"/>
                  <a:pt x="3960" y="372"/>
                </a:cubicBezTo>
                <a:cubicBezTo>
                  <a:pt x="3967" y="377"/>
                  <a:pt x="3968" y="401"/>
                  <a:pt x="3978" y="408"/>
                </a:cubicBezTo>
                <a:cubicBezTo>
                  <a:pt x="3988" y="415"/>
                  <a:pt x="4010" y="405"/>
                  <a:pt x="4020" y="416"/>
                </a:cubicBezTo>
                <a:cubicBezTo>
                  <a:pt x="4030" y="427"/>
                  <a:pt x="4032" y="455"/>
                  <a:pt x="4040" y="472"/>
                </a:cubicBezTo>
                <a:cubicBezTo>
                  <a:pt x="4048" y="489"/>
                  <a:pt x="4050" y="511"/>
                  <a:pt x="4068" y="516"/>
                </a:cubicBezTo>
                <a:cubicBezTo>
                  <a:pt x="4086" y="521"/>
                  <a:pt x="4108" y="525"/>
                  <a:pt x="4150" y="500"/>
                </a:cubicBezTo>
                <a:cubicBezTo>
                  <a:pt x="4192" y="475"/>
                  <a:pt x="4293" y="379"/>
                  <a:pt x="4318" y="368"/>
                </a:cubicBezTo>
                <a:cubicBezTo>
                  <a:pt x="4343" y="357"/>
                  <a:pt x="4302" y="422"/>
                  <a:pt x="4300" y="436"/>
                </a:cubicBezTo>
                <a:cubicBezTo>
                  <a:pt x="4298" y="450"/>
                  <a:pt x="4305" y="444"/>
                  <a:pt x="4306" y="454"/>
                </a:cubicBezTo>
                <a:cubicBezTo>
                  <a:pt x="4307" y="464"/>
                  <a:pt x="4311" y="485"/>
                  <a:pt x="4308" y="496"/>
                </a:cubicBezTo>
                <a:cubicBezTo>
                  <a:pt x="4305" y="507"/>
                  <a:pt x="4291" y="496"/>
                  <a:pt x="4288" y="518"/>
                </a:cubicBezTo>
                <a:cubicBezTo>
                  <a:pt x="4285" y="540"/>
                  <a:pt x="4291" y="603"/>
                  <a:pt x="4288" y="628"/>
                </a:cubicBezTo>
                <a:cubicBezTo>
                  <a:pt x="4285" y="653"/>
                  <a:pt x="4273" y="653"/>
                  <a:pt x="4270" y="668"/>
                </a:cubicBezTo>
                <a:cubicBezTo>
                  <a:pt x="4267" y="683"/>
                  <a:pt x="4272" y="699"/>
                  <a:pt x="4270" y="718"/>
                </a:cubicBezTo>
                <a:cubicBezTo>
                  <a:pt x="4268" y="737"/>
                  <a:pt x="4276" y="773"/>
                  <a:pt x="4260" y="780"/>
                </a:cubicBezTo>
                <a:cubicBezTo>
                  <a:pt x="4244" y="787"/>
                  <a:pt x="4193" y="759"/>
                  <a:pt x="4176" y="762"/>
                </a:cubicBezTo>
                <a:cubicBezTo>
                  <a:pt x="4159" y="765"/>
                  <a:pt x="4165" y="788"/>
                  <a:pt x="4156" y="798"/>
                </a:cubicBezTo>
                <a:cubicBezTo>
                  <a:pt x="4147" y="808"/>
                  <a:pt x="4126" y="808"/>
                  <a:pt x="4124" y="820"/>
                </a:cubicBezTo>
                <a:cubicBezTo>
                  <a:pt x="4122" y="832"/>
                  <a:pt x="4134" y="840"/>
                  <a:pt x="4142" y="868"/>
                </a:cubicBezTo>
                <a:cubicBezTo>
                  <a:pt x="4150" y="896"/>
                  <a:pt x="4176" y="959"/>
                  <a:pt x="4174" y="988"/>
                </a:cubicBezTo>
                <a:cubicBezTo>
                  <a:pt x="4172" y="1017"/>
                  <a:pt x="4139" y="1030"/>
                  <a:pt x="4132" y="1044"/>
                </a:cubicBezTo>
                <a:cubicBezTo>
                  <a:pt x="4125" y="1058"/>
                  <a:pt x="4135" y="1067"/>
                  <a:pt x="4134" y="1072"/>
                </a:cubicBezTo>
                <a:cubicBezTo>
                  <a:pt x="4133" y="1077"/>
                  <a:pt x="4133" y="1083"/>
                  <a:pt x="4124" y="1076"/>
                </a:cubicBezTo>
                <a:cubicBezTo>
                  <a:pt x="4115" y="1069"/>
                  <a:pt x="4089" y="1026"/>
                  <a:pt x="4080" y="1030"/>
                </a:cubicBezTo>
                <a:cubicBezTo>
                  <a:pt x="4071" y="1034"/>
                  <a:pt x="4075" y="1086"/>
                  <a:pt x="4070" y="1098"/>
                </a:cubicBezTo>
                <a:cubicBezTo>
                  <a:pt x="4065" y="1110"/>
                  <a:pt x="4056" y="1094"/>
                  <a:pt x="4050" y="1102"/>
                </a:cubicBezTo>
                <a:cubicBezTo>
                  <a:pt x="4044" y="1110"/>
                  <a:pt x="4049" y="1134"/>
                  <a:pt x="4036" y="1144"/>
                </a:cubicBezTo>
                <a:cubicBezTo>
                  <a:pt x="4023" y="1154"/>
                  <a:pt x="3978" y="1147"/>
                  <a:pt x="3970" y="1160"/>
                </a:cubicBezTo>
                <a:cubicBezTo>
                  <a:pt x="3962" y="1173"/>
                  <a:pt x="3992" y="1213"/>
                  <a:pt x="3986" y="1224"/>
                </a:cubicBezTo>
                <a:cubicBezTo>
                  <a:pt x="3980" y="1235"/>
                  <a:pt x="3945" y="1230"/>
                  <a:pt x="3932" y="1226"/>
                </a:cubicBezTo>
                <a:cubicBezTo>
                  <a:pt x="3919" y="1222"/>
                  <a:pt x="3919" y="1206"/>
                  <a:pt x="3910" y="1202"/>
                </a:cubicBezTo>
                <a:cubicBezTo>
                  <a:pt x="3901" y="1198"/>
                  <a:pt x="3889" y="1191"/>
                  <a:pt x="3880" y="1204"/>
                </a:cubicBezTo>
                <a:cubicBezTo>
                  <a:pt x="3871" y="1217"/>
                  <a:pt x="3873" y="1255"/>
                  <a:pt x="3854" y="1282"/>
                </a:cubicBezTo>
                <a:cubicBezTo>
                  <a:pt x="3835" y="1309"/>
                  <a:pt x="3791" y="1338"/>
                  <a:pt x="3766" y="1364"/>
                </a:cubicBezTo>
                <a:cubicBezTo>
                  <a:pt x="3741" y="1390"/>
                  <a:pt x="3731" y="1418"/>
                  <a:pt x="3706" y="1438"/>
                </a:cubicBezTo>
                <a:cubicBezTo>
                  <a:pt x="3681" y="1458"/>
                  <a:pt x="3651" y="1457"/>
                  <a:pt x="3616" y="1482"/>
                </a:cubicBezTo>
                <a:cubicBezTo>
                  <a:pt x="3581" y="1507"/>
                  <a:pt x="3518" y="1575"/>
                  <a:pt x="3498" y="1586"/>
                </a:cubicBezTo>
                <a:cubicBezTo>
                  <a:pt x="3478" y="1597"/>
                  <a:pt x="3488" y="1562"/>
                  <a:pt x="3494" y="1550"/>
                </a:cubicBezTo>
                <a:cubicBezTo>
                  <a:pt x="3500" y="1538"/>
                  <a:pt x="3524" y="1536"/>
                  <a:pt x="3532" y="1514"/>
                </a:cubicBezTo>
                <a:cubicBezTo>
                  <a:pt x="3540" y="1492"/>
                  <a:pt x="3541" y="1446"/>
                  <a:pt x="3544" y="1418"/>
                </a:cubicBezTo>
                <a:cubicBezTo>
                  <a:pt x="3547" y="1390"/>
                  <a:pt x="3561" y="1358"/>
                  <a:pt x="3552" y="1344"/>
                </a:cubicBezTo>
                <a:cubicBezTo>
                  <a:pt x="3543" y="1330"/>
                  <a:pt x="3508" y="1324"/>
                  <a:pt x="3488" y="1336"/>
                </a:cubicBezTo>
                <a:cubicBezTo>
                  <a:pt x="3468" y="1348"/>
                  <a:pt x="3452" y="1387"/>
                  <a:pt x="3434" y="1414"/>
                </a:cubicBezTo>
                <a:cubicBezTo>
                  <a:pt x="3416" y="1441"/>
                  <a:pt x="3395" y="1475"/>
                  <a:pt x="3378" y="1500"/>
                </a:cubicBezTo>
                <a:cubicBezTo>
                  <a:pt x="3361" y="1525"/>
                  <a:pt x="3352" y="1551"/>
                  <a:pt x="3332" y="1562"/>
                </a:cubicBezTo>
                <a:cubicBezTo>
                  <a:pt x="3312" y="1573"/>
                  <a:pt x="3274" y="1553"/>
                  <a:pt x="3258" y="1566"/>
                </a:cubicBezTo>
                <a:cubicBezTo>
                  <a:pt x="3242" y="1579"/>
                  <a:pt x="3230" y="1619"/>
                  <a:pt x="3236" y="1638"/>
                </a:cubicBezTo>
                <a:cubicBezTo>
                  <a:pt x="3242" y="1657"/>
                  <a:pt x="3277" y="1674"/>
                  <a:pt x="3296" y="1680"/>
                </a:cubicBezTo>
                <a:cubicBezTo>
                  <a:pt x="3315" y="1686"/>
                  <a:pt x="3334" y="1659"/>
                  <a:pt x="3348" y="1674"/>
                </a:cubicBezTo>
                <a:cubicBezTo>
                  <a:pt x="3362" y="1689"/>
                  <a:pt x="3359" y="1767"/>
                  <a:pt x="3380" y="1770"/>
                </a:cubicBezTo>
                <a:cubicBezTo>
                  <a:pt x="3401" y="1773"/>
                  <a:pt x="3429" y="1703"/>
                  <a:pt x="3474" y="1694"/>
                </a:cubicBezTo>
                <a:cubicBezTo>
                  <a:pt x="3519" y="1685"/>
                  <a:pt x="3621" y="1702"/>
                  <a:pt x="3648" y="1714"/>
                </a:cubicBezTo>
                <a:cubicBezTo>
                  <a:pt x="3675" y="1726"/>
                  <a:pt x="3647" y="1757"/>
                  <a:pt x="3634" y="1766"/>
                </a:cubicBezTo>
                <a:cubicBezTo>
                  <a:pt x="3621" y="1775"/>
                  <a:pt x="3598" y="1757"/>
                  <a:pt x="3572" y="1770"/>
                </a:cubicBezTo>
                <a:cubicBezTo>
                  <a:pt x="3546" y="1783"/>
                  <a:pt x="3502" y="1816"/>
                  <a:pt x="3478" y="1844"/>
                </a:cubicBezTo>
                <a:cubicBezTo>
                  <a:pt x="3454" y="1872"/>
                  <a:pt x="3438" y="1904"/>
                  <a:pt x="3430" y="1940"/>
                </a:cubicBezTo>
                <a:cubicBezTo>
                  <a:pt x="3422" y="1976"/>
                  <a:pt x="3422" y="2038"/>
                  <a:pt x="3432" y="2062"/>
                </a:cubicBezTo>
                <a:cubicBezTo>
                  <a:pt x="3442" y="2086"/>
                  <a:pt x="3469" y="2058"/>
                  <a:pt x="3488" y="2086"/>
                </a:cubicBezTo>
                <a:cubicBezTo>
                  <a:pt x="3507" y="2114"/>
                  <a:pt x="3521" y="2195"/>
                  <a:pt x="3546" y="2232"/>
                </a:cubicBezTo>
                <a:cubicBezTo>
                  <a:pt x="3571" y="2269"/>
                  <a:pt x="3629" y="2293"/>
                  <a:pt x="3638" y="2310"/>
                </a:cubicBezTo>
                <a:cubicBezTo>
                  <a:pt x="3647" y="2327"/>
                  <a:pt x="3597" y="2321"/>
                  <a:pt x="3600" y="2332"/>
                </a:cubicBezTo>
                <a:cubicBezTo>
                  <a:pt x="3603" y="2343"/>
                  <a:pt x="3665" y="2353"/>
                  <a:pt x="3658" y="2378"/>
                </a:cubicBezTo>
                <a:cubicBezTo>
                  <a:pt x="3651" y="2403"/>
                  <a:pt x="3559" y="2463"/>
                  <a:pt x="3556" y="2484"/>
                </a:cubicBezTo>
                <a:cubicBezTo>
                  <a:pt x="3553" y="2505"/>
                  <a:pt x="3616" y="2500"/>
                  <a:pt x="3638" y="2506"/>
                </a:cubicBezTo>
                <a:cubicBezTo>
                  <a:pt x="3660" y="2512"/>
                  <a:pt x="3688" y="2487"/>
                  <a:pt x="3688" y="2520"/>
                </a:cubicBezTo>
                <a:cubicBezTo>
                  <a:pt x="3688" y="2553"/>
                  <a:pt x="3656" y="2666"/>
                  <a:pt x="3640" y="2702"/>
                </a:cubicBezTo>
                <a:cubicBezTo>
                  <a:pt x="3624" y="2738"/>
                  <a:pt x="3602" y="2715"/>
                  <a:pt x="3592" y="2738"/>
                </a:cubicBezTo>
                <a:cubicBezTo>
                  <a:pt x="3582" y="2761"/>
                  <a:pt x="3589" y="2805"/>
                  <a:pt x="3578" y="2840"/>
                </a:cubicBezTo>
                <a:cubicBezTo>
                  <a:pt x="3567" y="2875"/>
                  <a:pt x="3563" y="2894"/>
                  <a:pt x="3526" y="2948"/>
                </a:cubicBezTo>
                <a:cubicBezTo>
                  <a:pt x="3489" y="3002"/>
                  <a:pt x="3394" y="3118"/>
                  <a:pt x="3354" y="3166"/>
                </a:cubicBezTo>
                <a:cubicBezTo>
                  <a:pt x="3314" y="3214"/>
                  <a:pt x="3299" y="3229"/>
                  <a:pt x="3286" y="3234"/>
                </a:cubicBezTo>
                <a:cubicBezTo>
                  <a:pt x="3273" y="3239"/>
                  <a:pt x="3286" y="3186"/>
                  <a:pt x="3278" y="3194"/>
                </a:cubicBezTo>
                <a:cubicBezTo>
                  <a:pt x="3270" y="3202"/>
                  <a:pt x="3271" y="3262"/>
                  <a:pt x="3238" y="3284"/>
                </a:cubicBezTo>
                <a:cubicBezTo>
                  <a:pt x="3205" y="3306"/>
                  <a:pt x="3123" y="3311"/>
                  <a:pt x="3078" y="3326"/>
                </a:cubicBezTo>
                <a:cubicBezTo>
                  <a:pt x="3033" y="3341"/>
                  <a:pt x="2994" y="3357"/>
                  <a:pt x="2968" y="3372"/>
                </a:cubicBezTo>
                <a:cubicBezTo>
                  <a:pt x="2942" y="3387"/>
                  <a:pt x="2937" y="3407"/>
                  <a:pt x="2922" y="3416"/>
                </a:cubicBezTo>
                <a:cubicBezTo>
                  <a:pt x="2907" y="3425"/>
                  <a:pt x="2886" y="3429"/>
                  <a:pt x="2876" y="3428"/>
                </a:cubicBezTo>
                <a:cubicBezTo>
                  <a:pt x="2866" y="3427"/>
                  <a:pt x="2864" y="3406"/>
                  <a:pt x="2860" y="3408"/>
                </a:cubicBezTo>
                <a:cubicBezTo>
                  <a:pt x="2856" y="3410"/>
                  <a:pt x="2860" y="3437"/>
                  <a:pt x="2854" y="3440"/>
                </a:cubicBezTo>
                <a:cubicBezTo>
                  <a:pt x="2848" y="3443"/>
                  <a:pt x="2832" y="3422"/>
                  <a:pt x="2822" y="3424"/>
                </a:cubicBezTo>
                <a:cubicBezTo>
                  <a:pt x="2812" y="3426"/>
                  <a:pt x="2807" y="3447"/>
                  <a:pt x="2796" y="3454"/>
                </a:cubicBezTo>
                <a:cubicBezTo>
                  <a:pt x="2785" y="3461"/>
                  <a:pt x="2770" y="3454"/>
                  <a:pt x="2754" y="3464"/>
                </a:cubicBezTo>
                <a:cubicBezTo>
                  <a:pt x="2738" y="3474"/>
                  <a:pt x="2716" y="3506"/>
                  <a:pt x="2700" y="3514"/>
                </a:cubicBezTo>
                <a:cubicBezTo>
                  <a:pt x="2684" y="3522"/>
                  <a:pt x="2660" y="3507"/>
                  <a:pt x="2656" y="3510"/>
                </a:cubicBezTo>
                <a:cubicBezTo>
                  <a:pt x="2652" y="3513"/>
                  <a:pt x="2674" y="3523"/>
                  <a:pt x="2678" y="3530"/>
                </a:cubicBezTo>
                <a:cubicBezTo>
                  <a:pt x="2682" y="3537"/>
                  <a:pt x="2674" y="3546"/>
                  <a:pt x="2678" y="3554"/>
                </a:cubicBezTo>
                <a:cubicBezTo>
                  <a:pt x="2682" y="3562"/>
                  <a:pt x="2702" y="3571"/>
                  <a:pt x="2704" y="3576"/>
                </a:cubicBezTo>
                <a:cubicBezTo>
                  <a:pt x="2706" y="3581"/>
                  <a:pt x="2696" y="3583"/>
                  <a:pt x="2688" y="3586"/>
                </a:cubicBezTo>
                <a:cubicBezTo>
                  <a:pt x="2680" y="3589"/>
                  <a:pt x="2670" y="3592"/>
                  <a:pt x="2658" y="3594"/>
                </a:cubicBezTo>
                <a:cubicBezTo>
                  <a:pt x="2646" y="3596"/>
                  <a:pt x="2618" y="3602"/>
                  <a:pt x="2614" y="3596"/>
                </a:cubicBezTo>
                <a:cubicBezTo>
                  <a:pt x="2610" y="3590"/>
                  <a:pt x="2634" y="3565"/>
                  <a:pt x="2634" y="3558"/>
                </a:cubicBezTo>
                <a:cubicBezTo>
                  <a:pt x="2634" y="3551"/>
                  <a:pt x="2618" y="3565"/>
                  <a:pt x="2614" y="3556"/>
                </a:cubicBezTo>
                <a:cubicBezTo>
                  <a:pt x="2610" y="3547"/>
                  <a:pt x="2608" y="3521"/>
                  <a:pt x="2610" y="3506"/>
                </a:cubicBezTo>
                <a:cubicBezTo>
                  <a:pt x="2612" y="3491"/>
                  <a:pt x="2626" y="3471"/>
                  <a:pt x="2626" y="3464"/>
                </a:cubicBezTo>
                <a:cubicBezTo>
                  <a:pt x="2626" y="3457"/>
                  <a:pt x="2613" y="3466"/>
                  <a:pt x="2608" y="3462"/>
                </a:cubicBezTo>
                <a:cubicBezTo>
                  <a:pt x="2603" y="3458"/>
                  <a:pt x="2601" y="3442"/>
                  <a:pt x="2598" y="3442"/>
                </a:cubicBezTo>
                <a:cubicBezTo>
                  <a:pt x="2595" y="3442"/>
                  <a:pt x="2602" y="3464"/>
                  <a:pt x="2588" y="3462"/>
                </a:cubicBezTo>
                <a:cubicBezTo>
                  <a:pt x="2574" y="3460"/>
                  <a:pt x="2533" y="3429"/>
                  <a:pt x="2516" y="3428"/>
                </a:cubicBezTo>
                <a:cubicBezTo>
                  <a:pt x="2499" y="3427"/>
                  <a:pt x="2498" y="3451"/>
                  <a:pt x="2484" y="3454"/>
                </a:cubicBezTo>
                <a:cubicBezTo>
                  <a:pt x="2470" y="3457"/>
                  <a:pt x="2452" y="3450"/>
                  <a:pt x="2434" y="3444"/>
                </a:cubicBezTo>
                <a:cubicBezTo>
                  <a:pt x="2416" y="3438"/>
                  <a:pt x="2393" y="3430"/>
                  <a:pt x="2376" y="3418"/>
                </a:cubicBezTo>
                <a:cubicBezTo>
                  <a:pt x="2359" y="3406"/>
                  <a:pt x="2341" y="3387"/>
                  <a:pt x="2334" y="3374"/>
                </a:cubicBezTo>
                <a:cubicBezTo>
                  <a:pt x="2327" y="3361"/>
                  <a:pt x="2333" y="3352"/>
                  <a:pt x="2336" y="3342"/>
                </a:cubicBezTo>
                <a:cubicBezTo>
                  <a:pt x="2339" y="3332"/>
                  <a:pt x="2363" y="3322"/>
                  <a:pt x="2352" y="3314"/>
                </a:cubicBezTo>
                <a:cubicBezTo>
                  <a:pt x="2341" y="3306"/>
                  <a:pt x="2291" y="3305"/>
                  <a:pt x="2270" y="3294"/>
                </a:cubicBezTo>
                <a:cubicBezTo>
                  <a:pt x="2249" y="3283"/>
                  <a:pt x="2244" y="3247"/>
                  <a:pt x="2224" y="3248"/>
                </a:cubicBezTo>
                <a:cubicBezTo>
                  <a:pt x="2204" y="3249"/>
                  <a:pt x="2167" y="3295"/>
                  <a:pt x="2148" y="3302"/>
                </a:cubicBezTo>
                <a:cubicBezTo>
                  <a:pt x="2129" y="3309"/>
                  <a:pt x="2121" y="3288"/>
                  <a:pt x="2112" y="3292"/>
                </a:cubicBezTo>
                <a:cubicBezTo>
                  <a:pt x="2103" y="3296"/>
                  <a:pt x="2097" y="3324"/>
                  <a:pt x="2092" y="3326"/>
                </a:cubicBezTo>
                <a:cubicBezTo>
                  <a:pt x="2087" y="3328"/>
                  <a:pt x="2085" y="3308"/>
                  <a:pt x="2080" y="3306"/>
                </a:cubicBezTo>
                <a:cubicBezTo>
                  <a:pt x="2075" y="3304"/>
                  <a:pt x="2068" y="3316"/>
                  <a:pt x="2062" y="3314"/>
                </a:cubicBezTo>
                <a:cubicBezTo>
                  <a:pt x="2056" y="3312"/>
                  <a:pt x="2051" y="3296"/>
                  <a:pt x="2042" y="3296"/>
                </a:cubicBezTo>
                <a:cubicBezTo>
                  <a:pt x="2033" y="3296"/>
                  <a:pt x="2022" y="3314"/>
                  <a:pt x="2010" y="3312"/>
                </a:cubicBezTo>
                <a:cubicBezTo>
                  <a:pt x="1998" y="3310"/>
                  <a:pt x="1983" y="3283"/>
                  <a:pt x="1968" y="3284"/>
                </a:cubicBezTo>
                <a:cubicBezTo>
                  <a:pt x="1953" y="3285"/>
                  <a:pt x="1938" y="3312"/>
                  <a:pt x="1922" y="3318"/>
                </a:cubicBezTo>
                <a:cubicBezTo>
                  <a:pt x="1906" y="3324"/>
                  <a:pt x="1879" y="3300"/>
                  <a:pt x="1874" y="3318"/>
                </a:cubicBezTo>
                <a:cubicBezTo>
                  <a:pt x="1869" y="3336"/>
                  <a:pt x="1900" y="3408"/>
                  <a:pt x="1894" y="3428"/>
                </a:cubicBezTo>
                <a:cubicBezTo>
                  <a:pt x="1888" y="3448"/>
                  <a:pt x="1848" y="3447"/>
                  <a:pt x="1836" y="3438"/>
                </a:cubicBezTo>
                <a:cubicBezTo>
                  <a:pt x="1824" y="3429"/>
                  <a:pt x="1830" y="3382"/>
                  <a:pt x="1820" y="3376"/>
                </a:cubicBezTo>
                <a:cubicBezTo>
                  <a:pt x="1810" y="3370"/>
                  <a:pt x="1792" y="3400"/>
                  <a:pt x="1776" y="3402"/>
                </a:cubicBezTo>
                <a:cubicBezTo>
                  <a:pt x="1760" y="3404"/>
                  <a:pt x="1733" y="3397"/>
                  <a:pt x="1724" y="3386"/>
                </a:cubicBezTo>
                <a:cubicBezTo>
                  <a:pt x="1715" y="3375"/>
                  <a:pt x="1732" y="3348"/>
                  <a:pt x="1720" y="3336"/>
                </a:cubicBezTo>
                <a:cubicBezTo>
                  <a:pt x="1708" y="3324"/>
                  <a:pt x="1659" y="3328"/>
                  <a:pt x="1652" y="3316"/>
                </a:cubicBezTo>
                <a:cubicBezTo>
                  <a:pt x="1645" y="3304"/>
                  <a:pt x="1671" y="3282"/>
                  <a:pt x="1678" y="3266"/>
                </a:cubicBezTo>
                <a:cubicBezTo>
                  <a:pt x="1685" y="3250"/>
                  <a:pt x="1701" y="3232"/>
                  <a:pt x="1696" y="3220"/>
                </a:cubicBezTo>
                <a:cubicBezTo>
                  <a:pt x="1691" y="3208"/>
                  <a:pt x="1657" y="3211"/>
                  <a:pt x="1646" y="3196"/>
                </a:cubicBezTo>
                <a:cubicBezTo>
                  <a:pt x="1635" y="3181"/>
                  <a:pt x="1631" y="3144"/>
                  <a:pt x="1632" y="3128"/>
                </a:cubicBezTo>
                <a:cubicBezTo>
                  <a:pt x="1633" y="3112"/>
                  <a:pt x="1660" y="3105"/>
                  <a:pt x="1654" y="3100"/>
                </a:cubicBezTo>
                <a:cubicBezTo>
                  <a:pt x="1648" y="3095"/>
                  <a:pt x="1614" y="3097"/>
                  <a:pt x="1594" y="3100"/>
                </a:cubicBezTo>
                <a:cubicBezTo>
                  <a:pt x="1574" y="3103"/>
                  <a:pt x="1542" y="3126"/>
                  <a:pt x="1536" y="3120"/>
                </a:cubicBezTo>
                <a:cubicBezTo>
                  <a:pt x="1530" y="3114"/>
                  <a:pt x="1557" y="3080"/>
                  <a:pt x="1558" y="3066"/>
                </a:cubicBezTo>
                <a:cubicBezTo>
                  <a:pt x="1559" y="3052"/>
                  <a:pt x="1543" y="3045"/>
                  <a:pt x="1544" y="3034"/>
                </a:cubicBezTo>
                <a:cubicBezTo>
                  <a:pt x="1545" y="3023"/>
                  <a:pt x="1563" y="3011"/>
                  <a:pt x="1566" y="3002"/>
                </a:cubicBezTo>
                <a:cubicBezTo>
                  <a:pt x="1569" y="2993"/>
                  <a:pt x="1559" y="2988"/>
                  <a:pt x="1564" y="2982"/>
                </a:cubicBezTo>
                <a:cubicBezTo>
                  <a:pt x="1569" y="2976"/>
                  <a:pt x="1589" y="2975"/>
                  <a:pt x="1596" y="2968"/>
                </a:cubicBezTo>
                <a:cubicBezTo>
                  <a:pt x="1603" y="2961"/>
                  <a:pt x="1599" y="2947"/>
                  <a:pt x="1608" y="2938"/>
                </a:cubicBezTo>
                <a:cubicBezTo>
                  <a:pt x="1617" y="2929"/>
                  <a:pt x="1641" y="2938"/>
                  <a:pt x="1652" y="2916"/>
                </a:cubicBezTo>
                <a:cubicBezTo>
                  <a:pt x="1663" y="2894"/>
                  <a:pt x="1672" y="2835"/>
                  <a:pt x="1676" y="2806"/>
                </a:cubicBezTo>
                <a:cubicBezTo>
                  <a:pt x="1680" y="2777"/>
                  <a:pt x="1682" y="2755"/>
                  <a:pt x="1676" y="2742"/>
                </a:cubicBezTo>
                <a:cubicBezTo>
                  <a:pt x="1670" y="2729"/>
                  <a:pt x="1647" y="2737"/>
                  <a:pt x="1640" y="2726"/>
                </a:cubicBezTo>
                <a:cubicBezTo>
                  <a:pt x="1633" y="2715"/>
                  <a:pt x="1642" y="2691"/>
                  <a:pt x="1636" y="2674"/>
                </a:cubicBezTo>
                <a:cubicBezTo>
                  <a:pt x="1630" y="2657"/>
                  <a:pt x="1611" y="2624"/>
                  <a:pt x="1602" y="2622"/>
                </a:cubicBezTo>
                <a:cubicBezTo>
                  <a:pt x="1593" y="2620"/>
                  <a:pt x="1587" y="2647"/>
                  <a:pt x="1580" y="2660"/>
                </a:cubicBezTo>
                <a:cubicBezTo>
                  <a:pt x="1573" y="2673"/>
                  <a:pt x="1582" y="2705"/>
                  <a:pt x="1562" y="2700"/>
                </a:cubicBezTo>
                <a:cubicBezTo>
                  <a:pt x="1542" y="2695"/>
                  <a:pt x="1489" y="2642"/>
                  <a:pt x="1462" y="2632"/>
                </a:cubicBezTo>
                <a:cubicBezTo>
                  <a:pt x="1435" y="2622"/>
                  <a:pt x="1419" y="2632"/>
                  <a:pt x="1400" y="2640"/>
                </a:cubicBezTo>
                <a:cubicBezTo>
                  <a:pt x="1381" y="2648"/>
                  <a:pt x="1368" y="2671"/>
                  <a:pt x="1350" y="2678"/>
                </a:cubicBezTo>
                <a:cubicBezTo>
                  <a:pt x="1332" y="2685"/>
                  <a:pt x="1311" y="2674"/>
                  <a:pt x="1292" y="2684"/>
                </a:cubicBezTo>
                <a:cubicBezTo>
                  <a:pt x="1273" y="2694"/>
                  <a:pt x="1257" y="2730"/>
                  <a:pt x="1236" y="2736"/>
                </a:cubicBezTo>
                <a:cubicBezTo>
                  <a:pt x="1215" y="2742"/>
                  <a:pt x="1190" y="2726"/>
                  <a:pt x="1168" y="2720"/>
                </a:cubicBezTo>
                <a:cubicBezTo>
                  <a:pt x="1146" y="2714"/>
                  <a:pt x="1115" y="2711"/>
                  <a:pt x="1104" y="2700"/>
                </a:cubicBezTo>
                <a:cubicBezTo>
                  <a:pt x="1093" y="2689"/>
                  <a:pt x="1108" y="2666"/>
                  <a:pt x="1104" y="2654"/>
                </a:cubicBezTo>
                <a:cubicBezTo>
                  <a:pt x="1100" y="2642"/>
                  <a:pt x="1086" y="2641"/>
                  <a:pt x="1082" y="2630"/>
                </a:cubicBezTo>
                <a:cubicBezTo>
                  <a:pt x="1078" y="2619"/>
                  <a:pt x="1086" y="2591"/>
                  <a:pt x="1078" y="2584"/>
                </a:cubicBezTo>
                <a:cubicBezTo>
                  <a:pt x="1070" y="2577"/>
                  <a:pt x="1054" y="2595"/>
                  <a:pt x="1034" y="2586"/>
                </a:cubicBezTo>
                <a:cubicBezTo>
                  <a:pt x="1014" y="2577"/>
                  <a:pt x="981" y="2536"/>
                  <a:pt x="956" y="2532"/>
                </a:cubicBezTo>
                <a:cubicBezTo>
                  <a:pt x="931" y="2528"/>
                  <a:pt x="901" y="2550"/>
                  <a:pt x="886" y="2564"/>
                </a:cubicBezTo>
                <a:cubicBezTo>
                  <a:pt x="871" y="2578"/>
                  <a:pt x="873" y="2613"/>
                  <a:pt x="866" y="2618"/>
                </a:cubicBezTo>
                <a:cubicBezTo>
                  <a:pt x="859" y="2623"/>
                  <a:pt x="846" y="2609"/>
                  <a:pt x="842" y="2594"/>
                </a:cubicBezTo>
                <a:cubicBezTo>
                  <a:pt x="838" y="2579"/>
                  <a:pt x="861" y="2538"/>
                  <a:pt x="842" y="2526"/>
                </a:cubicBezTo>
                <a:cubicBezTo>
                  <a:pt x="823" y="2514"/>
                  <a:pt x="754" y="2531"/>
                  <a:pt x="726" y="2520"/>
                </a:cubicBezTo>
                <a:cubicBezTo>
                  <a:pt x="698" y="2509"/>
                  <a:pt x="688" y="2467"/>
                  <a:pt x="676" y="2462"/>
                </a:cubicBezTo>
                <a:cubicBezTo>
                  <a:pt x="664" y="2457"/>
                  <a:pt x="660" y="2493"/>
                  <a:pt x="654" y="2492"/>
                </a:cubicBezTo>
                <a:cubicBezTo>
                  <a:pt x="648" y="2491"/>
                  <a:pt x="648" y="2457"/>
                  <a:pt x="642" y="2454"/>
                </a:cubicBezTo>
                <a:cubicBezTo>
                  <a:pt x="636" y="2451"/>
                  <a:pt x="622" y="2475"/>
                  <a:pt x="618" y="2472"/>
                </a:cubicBezTo>
                <a:cubicBezTo>
                  <a:pt x="614" y="2469"/>
                  <a:pt x="620" y="2442"/>
                  <a:pt x="616" y="2434"/>
                </a:cubicBezTo>
                <a:cubicBezTo>
                  <a:pt x="612" y="2426"/>
                  <a:pt x="603" y="2429"/>
                  <a:pt x="592" y="2424"/>
                </a:cubicBezTo>
                <a:cubicBezTo>
                  <a:pt x="581" y="2419"/>
                  <a:pt x="555" y="2412"/>
                  <a:pt x="552" y="2404"/>
                </a:cubicBezTo>
                <a:cubicBezTo>
                  <a:pt x="549" y="2396"/>
                  <a:pt x="577" y="2382"/>
                  <a:pt x="572" y="2376"/>
                </a:cubicBezTo>
                <a:cubicBezTo>
                  <a:pt x="567" y="2370"/>
                  <a:pt x="532" y="2379"/>
                  <a:pt x="520" y="2370"/>
                </a:cubicBezTo>
                <a:cubicBezTo>
                  <a:pt x="508" y="2361"/>
                  <a:pt x="507" y="2339"/>
                  <a:pt x="502" y="2324"/>
                </a:cubicBezTo>
                <a:cubicBezTo>
                  <a:pt x="497" y="2309"/>
                  <a:pt x="501" y="2286"/>
                  <a:pt x="492" y="2278"/>
                </a:cubicBezTo>
                <a:cubicBezTo>
                  <a:pt x="483" y="2270"/>
                  <a:pt x="470" y="2302"/>
                  <a:pt x="448" y="2278"/>
                </a:cubicBezTo>
                <a:cubicBezTo>
                  <a:pt x="426" y="2254"/>
                  <a:pt x="378" y="2159"/>
                  <a:pt x="358" y="2132"/>
                </a:cubicBezTo>
                <a:cubicBezTo>
                  <a:pt x="338" y="2105"/>
                  <a:pt x="336" y="2123"/>
                  <a:pt x="328" y="2118"/>
                </a:cubicBezTo>
                <a:cubicBezTo>
                  <a:pt x="320" y="2113"/>
                  <a:pt x="315" y="2101"/>
                  <a:pt x="308" y="2104"/>
                </a:cubicBezTo>
                <a:cubicBezTo>
                  <a:pt x="301" y="2107"/>
                  <a:pt x="302" y="2147"/>
                  <a:pt x="284" y="2136"/>
                </a:cubicBezTo>
                <a:cubicBezTo>
                  <a:pt x="266" y="2125"/>
                  <a:pt x="218" y="2062"/>
                  <a:pt x="202" y="2038"/>
                </a:cubicBezTo>
                <a:cubicBezTo>
                  <a:pt x="186" y="2014"/>
                  <a:pt x="200" y="2006"/>
                  <a:pt x="190" y="1994"/>
                </a:cubicBezTo>
                <a:cubicBezTo>
                  <a:pt x="180" y="1982"/>
                  <a:pt x="149" y="1984"/>
                  <a:pt x="142" y="1964"/>
                </a:cubicBezTo>
                <a:cubicBezTo>
                  <a:pt x="135" y="1944"/>
                  <a:pt x="146" y="1899"/>
                  <a:pt x="146" y="1872"/>
                </a:cubicBezTo>
                <a:cubicBezTo>
                  <a:pt x="146" y="1845"/>
                  <a:pt x="136" y="1817"/>
                  <a:pt x="140" y="1804"/>
                </a:cubicBezTo>
                <a:cubicBezTo>
                  <a:pt x="144" y="1791"/>
                  <a:pt x="166" y="1790"/>
                  <a:pt x="170" y="1796"/>
                </a:cubicBezTo>
                <a:cubicBezTo>
                  <a:pt x="174" y="1802"/>
                  <a:pt x="159" y="1840"/>
                  <a:pt x="166" y="1842"/>
                </a:cubicBezTo>
                <a:cubicBezTo>
                  <a:pt x="173" y="1844"/>
                  <a:pt x="206" y="1834"/>
                  <a:pt x="212" y="1810"/>
                </a:cubicBezTo>
                <a:cubicBezTo>
                  <a:pt x="218" y="1786"/>
                  <a:pt x="205" y="1725"/>
                  <a:pt x="204" y="1700"/>
                </a:cubicBezTo>
                <a:cubicBezTo>
                  <a:pt x="203" y="1675"/>
                  <a:pt x="202" y="1673"/>
                  <a:pt x="208" y="1662"/>
                </a:cubicBezTo>
                <a:cubicBezTo>
                  <a:pt x="214" y="1651"/>
                  <a:pt x="242" y="1647"/>
                  <a:pt x="242" y="1634"/>
                </a:cubicBezTo>
                <a:cubicBezTo>
                  <a:pt x="242" y="1621"/>
                  <a:pt x="212" y="1599"/>
                  <a:pt x="206" y="1586"/>
                </a:cubicBezTo>
                <a:cubicBezTo>
                  <a:pt x="200" y="1573"/>
                  <a:pt x="206" y="1566"/>
                  <a:pt x="206" y="1556"/>
                </a:cubicBezTo>
                <a:cubicBezTo>
                  <a:pt x="206" y="1546"/>
                  <a:pt x="203" y="1535"/>
                  <a:pt x="204" y="1524"/>
                </a:cubicBezTo>
                <a:cubicBezTo>
                  <a:pt x="205" y="1513"/>
                  <a:pt x="225" y="1503"/>
                  <a:pt x="214" y="1492"/>
                </a:cubicBezTo>
                <a:cubicBezTo>
                  <a:pt x="203" y="1481"/>
                  <a:pt x="152" y="1473"/>
                  <a:pt x="136" y="1460"/>
                </a:cubicBezTo>
                <a:cubicBezTo>
                  <a:pt x="120" y="1447"/>
                  <a:pt x="125" y="1420"/>
                  <a:pt x="118" y="1412"/>
                </a:cubicBezTo>
                <a:cubicBezTo>
                  <a:pt x="111" y="1404"/>
                  <a:pt x="100" y="1416"/>
                  <a:pt x="94" y="1410"/>
                </a:cubicBezTo>
                <a:cubicBezTo>
                  <a:pt x="88" y="1404"/>
                  <a:pt x="82" y="1388"/>
                  <a:pt x="82" y="1374"/>
                </a:cubicBezTo>
                <a:cubicBezTo>
                  <a:pt x="82" y="1360"/>
                  <a:pt x="98" y="1344"/>
                  <a:pt x="94" y="1324"/>
                </a:cubicBezTo>
                <a:cubicBezTo>
                  <a:pt x="90" y="1304"/>
                  <a:pt x="70" y="1271"/>
                  <a:pt x="56" y="1256"/>
                </a:cubicBezTo>
                <a:cubicBezTo>
                  <a:pt x="42" y="1241"/>
                  <a:pt x="18" y="1243"/>
                  <a:pt x="10" y="1236"/>
                </a:cubicBezTo>
                <a:cubicBezTo>
                  <a:pt x="2" y="1229"/>
                  <a:pt x="0" y="1219"/>
                  <a:pt x="8" y="1214"/>
                </a:cubicBezTo>
                <a:cubicBezTo>
                  <a:pt x="16" y="1209"/>
                  <a:pt x="45" y="1228"/>
                  <a:pt x="56" y="1206"/>
                </a:cubicBezTo>
                <a:cubicBezTo>
                  <a:pt x="67" y="1184"/>
                  <a:pt x="79" y="1103"/>
                  <a:pt x="72" y="1080"/>
                </a:cubicBezTo>
                <a:cubicBezTo>
                  <a:pt x="65" y="1057"/>
                  <a:pt x="27" y="1076"/>
                  <a:pt x="16" y="1068"/>
                </a:cubicBezTo>
                <a:cubicBezTo>
                  <a:pt x="5" y="1060"/>
                  <a:pt x="2" y="1040"/>
                  <a:pt x="4" y="1032"/>
                </a:cubicBezTo>
                <a:cubicBezTo>
                  <a:pt x="6" y="1024"/>
                  <a:pt x="24" y="1029"/>
                  <a:pt x="26" y="1018"/>
                </a:cubicBezTo>
                <a:cubicBezTo>
                  <a:pt x="28" y="1007"/>
                  <a:pt x="12" y="973"/>
                  <a:pt x="16" y="964"/>
                </a:cubicBezTo>
                <a:cubicBezTo>
                  <a:pt x="20" y="955"/>
                  <a:pt x="40" y="974"/>
                  <a:pt x="50" y="966"/>
                </a:cubicBezTo>
                <a:cubicBezTo>
                  <a:pt x="60" y="958"/>
                  <a:pt x="66" y="924"/>
                  <a:pt x="78" y="916"/>
                </a:cubicBezTo>
                <a:cubicBezTo>
                  <a:pt x="90" y="908"/>
                  <a:pt x="115" y="923"/>
                  <a:pt x="126" y="918"/>
                </a:cubicBezTo>
                <a:cubicBezTo>
                  <a:pt x="137" y="913"/>
                  <a:pt x="136" y="885"/>
                  <a:pt x="144" y="884"/>
                </a:cubicBezTo>
                <a:cubicBezTo>
                  <a:pt x="152" y="883"/>
                  <a:pt x="165" y="909"/>
                  <a:pt x="176" y="912"/>
                </a:cubicBezTo>
                <a:cubicBezTo>
                  <a:pt x="187" y="915"/>
                  <a:pt x="203" y="895"/>
                  <a:pt x="208" y="900"/>
                </a:cubicBezTo>
                <a:cubicBezTo>
                  <a:pt x="213" y="905"/>
                  <a:pt x="197" y="932"/>
                  <a:pt x="206" y="940"/>
                </a:cubicBezTo>
                <a:cubicBezTo>
                  <a:pt x="215" y="948"/>
                  <a:pt x="242" y="954"/>
                  <a:pt x="260" y="948"/>
                </a:cubicBezTo>
                <a:cubicBezTo>
                  <a:pt x="278" y="942"/>
                  <a:pt x="300" y="911"/>
                  <a:pt x="316" y="904"/>
                </a:cubicBezTo>
                <a:cubicBezTo>
                  <a:pt x="332" y="897"/>
                  <a:pt x="342" y="910"/>
                  <a:pt x="356" y="906"/>
                </a:cubicBezTo>
                <a:cubicBezTo>
                  <a:pt x="370" y="902"/>
                  <a:pt x="385" y="882"/>
                  <a:pt x="398" y="880"/>
                </a:cubicBezTo>
                <a:cubicBezTo>
                  <a:pt x="411" y="878"/>
                  <a:pt x="412" y="896"/>
                  <a:pt x="436" y="896"/>
                </a:cubicBezTo>
                <a:cubicBezTo>
                  <a:pt x="460" y="896"/>
                  <a:pt x="519" y="893"/>
                  <a:pt x="544" y="878"/>
                </a:cubicBezTo>
                <a:cubicBezTo>
                  <a:pt x="569" y="863"/>
                  <a:pt x="576" y="817"/>
                  <a:pt x="586" y="804"/>
                </a:cubicBezTo>
                <a:cubicBezTo>
                  <a:pt x="596" y="791"/>
                  <a:pt x="599" y="804"/>
                  <a:pt x="604" y="800"/>
                </a:cubicBezTo>
                <a:cubicBezTo>
                  <a:pt x="609" y="796"/>
                  <a:pt x="610" y="784"/>
                  <a:pt x="616" y="780"/>
                </a:cubicBezTo>
                <a:cubicBezTo>
                  <a:pt x="622" y="776"/>
                  <a:pt x="635" y="799"/>
                  <a:pt x="642" y="776"/>
                </a:cubicBezTo>
                <a:cubicBezTo>
                  <a:pt x="649" y="753"/>
                  <a:pt x="656" y="673"/>
                  <a:pt x="656" y="640"/>
                </a:cubicBezTo>
                <a:cubicBezTo>
                  <a:pt x="656" y="607"/>
                  <a:pt x="623" y="590"/>
                  <a:pt x="642" y="580"/>
                </a:cubicBezTo>
                <a:cubicBezTo>
                  <a:pt x="661" y="570"/>
                  <a:pt x="739" y="577"/>
                  <a:pt x="768" y="580"/>
                </a:cubicBezTo>
                <a:cubicBezTo>
                  <a:pt x="797" y="583"/>
                  <a:pt x="805" y="606"/>
                  <a:pt x="814" y="600"/>
                </a:cubicBezTo>
                <a:cubicBezTo>
                  <a:pt x="823" y="594"/>
                  <a:pt x="810" y="574"/>
                  <a:pt x="826" y="544"/>
                </a:cubicBezTo>
                <a:cubicBezTo>
                  <a:pt x="842" y="514"/>
                  <a:pt x="888" y="435"/>
                  <a:pt x="908" y="418"/>
                </a:cubicBezTo>
                <a:cubicBezTo>
                  <a:pt x="928" y="401"/>
                  <a:pt x="934" y="432"/>
                  <a:pt x="948" y="440"/>
                </a:cubicBezTo>
                <a:cubicBezTo>
                  <a:pt x="962" y="448"/>
                  <a:pt x="971" y="460"/>
                  <a:pt x="992" y="466"/>
                </a:cubicBezTo>
                <a:cubicBezTo>
                  <a:pt x="1013" y="472"/>
                  <a:pt x="1059" y="484"/>
                  <a:pt x="1074" y="474"/>
                </a:cubicBezTo>
                <a:cubicBezTo>
                  <a:pt x="1089" y="464"/>
                  <a:pt x="1078" y="428"/>
                  <a:pt x="1084" y="406"/>
                </a:cubicBezTo>
                <a:cubicBezTo>
                  <a:pt x="1090" y="384"/>
                  <a:pt x="1096" y="354"/>
                  <a:pt x="1110" y="344"/>
                </a:cubicBezTo>
                <a:cubicBezTo>
                  <a:pt x="1124" y="334"/>
                  <a:pt x="1152" y="356"/>
                  <a:pt x="1166" y="348"/>
                </a:cubicBezTo>
                <a:cubicBezTo>
                  <a:pt x="1180" y="340"/>
                  <a:pt x="1180" y="307"/>
                  <a:pt x="1196" y="298"/>
                </a:cubicBezTo>
                <a:close/>
              </a:path>
            </a:pathLst>
          </a:custGeom>
          <a:solidFill>
            <a:srgbClr val="ffff99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067200" y="3454560"/>
            <a:ext cx="3905280" cy="1639800"/>
          </a:xfrm>
          <a:custGeom>
            <a:avLst/>
            <a:gdLst/>
            <a:ahLst/>
            <a:rect l="l" t="t" r="r" b="b"/>
            <a:pathLst>
              <a:path w="2460" h="1033">
                <a:moveTo>
                  <a:pt x="0" y="80"/>
                </a:moveTo>
                <a:cubicBezTo>
                  <a:pt x="5" y="68"/>
                  <a:pt x="11" y="16"/>
                  <a:pt x="30" y="8"/>
                </a:cubicBezTo>
                <a:cubicBezTo>
                  <a:pt x="49" y="0"/>
                  <a:pt x="90" y="25"/>
                  <a:pt x="114" y="32"/>
                </a:cubicBezTo>
                <a:cubicBezTo>
                  <a:pt x="138" y="39"/>
                  <a:pt x="156" y="47"/>
                  <a:pt x="174" y="50"/>
                </a:cubicBezTo>
                <a:cubicBezTo>
                  <a:pt x="192" y="53"/>
                  <a:pt x="205" y="54"/>
                  <a:pt x="222" y="50"/>
                </a:cubicBezTo>
                <a:cubicBezTo>
                  <a:pt x="239" y="46"/>
                  <a:pt x="258" y="32"/>
                  <a:pt x="276" y="26"/>
                </a:cubicBezTo>
                <a:cubicBezTo>
                  <a:pt x="294" y="20"/>
                  <a:pt x="315" y="12"/>
                  <a:pt x="330" y="14"/>
                </a:cubicBezTo>
                <a:cubicBezTo>
                  <a:pt x="345" y="16"/>
                  <a:pt x="358" y="24"/>
                  <a:pt x="366" y="38"/>
                </a:cubicBezTo>
                <a:cubicBezTo>
                  <a:pt x="374" y="52"/>
                  <a:pt x="366" y="82"/>
                  <a:pt x="378" y="98"/>
                </a:cubicBezTo>
                <a:cubicBezTo>
                  <a:pt x="390" y="114"/>
                  <a:pt x="423" y="121"/>
                  <a:pt x="438" y="134"/>
                </a:cubicBezTo>
                <a:cubicBezTo>
                  <a:pt x="453" y="147"/>
                  <a:pt x="455" y="155"/>
                  <a:pt x="468" y="176"/>
                </a:cubicBezTo>
                <a:cubicBezTo>
                  <a:pt x="481" y="197"/>
                  <a:pt x="497" y="229"/>
                  <a:pt x="516" y="260"/>
                </a:cubicBezTo>
                <a:cubicBezTo>
                  <a:pt x="535" y="291"/>
                  <a:pt x="568" y="330"/>
                  <a:pt x="582" y="362"/>
                </a:cubicBezTo>
                <a:cubicBezTo>
                  <a:pt x="596" y="394"/>
                  <a:pt x="598" y="426"/>
                  <a:pt x="600" y="452"/>
                </a:cubicBezTo>
                <a:cubicBezTo>
                  <a:pt x="602" y="478"/>
                  <a:pt x="595" y="497"/>
                  <a:pt x="594" y="518"/>
                </a:cubicBezTo>
                <a:cubicBezTo>
                  <a:pt x="593" y="539"/>
                  <a:pt x="594" y="555"/>
                  <a:pt x="594" y="578"/>
                </a:cubicBezTo>
                <a:cubicBezTo>
                  <a:pt x="594" y="601"/>
                  <a:pt x="591" y="619"/>
                  <a:pt x="594" y="656"/>
                </a:cubicBezTo>
                <a:cubicBezTo>
                  <a:pt x="597" y="693"/>
                  <a:pt x="605" y="756"/>
                  <a:pt x="612" y="800"/>
                </a:cubicBezTo>
                <a:cubicBezTo>
                  <a:pt x="619" y="844"/>
                  <a:pt x="624" y="915"/>
                  <a:pt x="636" y="920"/>
                </a:cubicBezTo>
                <a:cubicBezTo>
                  <a:pt x="648" y="925"/>
                  <a:pt x="675" y="832"/>
                  <a:pt x="684" y="830"/>
                </a:cubicBezTo>
                <a:cubicBezTo>
                  <a:pt x="693" y="828"/>
                  <a:pt x="690" y="882"/>
                  <a:pt x="690" y="908"/>
                </a:cubicBezTo>
                <a:cubicBezTo>
                  <a:pt x="690" y="934"/>
                  <a:pt x="670" y="975"/>
                  <a:pt x="684" y="986"/>
                </a:cubicBezTo>
                <a:cubicBezTo>
                  <a:pt x="698" y="997"/>
                  <a:pt x="754" y="967"/>
                  <a:pt x="774" y="974"/>
                </a:cubicBezTo>
                <a:cubicBezTo>
                  <a:pt x="794" y="981"/>
                  <a:pt x="793" y="1023"/>
                  <a:pt x="804" y="1028"/>
                </a:cubicBezTo>
                <a:cubicBezTo>
                  <a:pt x="815" y="1033"/>
                  <a:pt x="824" y="1010"/>
                  <a:pt x="840" y="1004"/>
                </a:cubicBezTo>
                <a:cubicBezTo>
                  <a:pt x="856" y="998"/>
                  <a:pt x="890" y="1010"/>
                  <a:pt x="900" y="992"/>
                </a:cubicBezTo>
                <a:cubicBezTo>
                  <a:pt x="910" y="974"/>
                  <a:pt x="892" y="917"/>
                  <a:pt x="900" y="896"/>
                </a:cubicBezTo>
                <a:cubicBezTo>
                  <a:pt x="908" y="875"/>
                  <a:pt x="938" y="880"/>
                  <a:pt x="948" y="866"/>
                </a:cubicBezTo>
                <a:cubicBezTo>
                  <a:pt x="958" y="852"/>
                  <a:pt x="952" y="828"/>
                  <a:pt x="960" y="812"/>
                </a:cubicBezTo>
                <a:cubicBezTo>
                  <a:pt x="968" y="796"/>
                  <a:pt x="982" y="780"/>
                  <a:pt x="996" y="770"/>
                </a:cubicBezTo>
                <a:cubicBezTo>
                  <a:pt x="1010" y="760"/>
                  <a:pt x="1023" y="755"/>
                  <a:pt x="1044" y="752"/>
                </a:cubicBezTo>
                <a:cubicBezTo>
                  <a:pt x="1065" y="749"/>
                  <a:pt x="1098" y="760"/>
                  <a:pt x="1122" y="752"/>
                </a:cubicBezTo>
                <a:cubicBezTo>
                  <a:pt x="1146" y="744"/>
                  <a:pt x="1158" y="721"/>
                  <a:pt x="1188" y="704"/>
                </a:cubicBezTo>
                <a:cubicBezTo>
                  <a:pt x="1218" y="687"/>
                  <a:pt x="1262" y="677"/>
                  <a:pt x="1302" y="650"/>
                </a:cubicBezTo>
                <a:cubicBezTo>
                  <a:pt x="1342" y="623"/>
                  <a:pt x="1382" y="561"/>
                  <a:pt x="1428" y="542"/>
                </a:cubicBezTo>
                <a:cubicBezTo>
                  <a:pt x="1474" y="523"/>
                  <a:pt x="1539" y="524"/>
                  <a:pt x="1578" y="536"/>
                </a:cubicBezTo>
                <a:cubicBezTo>
                  <a:pt x="1617" y="548"/>
                  <a:pt x="1636" y="591"/>
                  <a:pt x="1662" y="614"/>
                </a:cubicBezTo>
                <a:cubicBezTo>
                  <a:pt x="1688" y="637"/>
                  <a:pt x="1713" y="661"/>
                  <a:pt x="1734" y="674"/>
                </a:cubicBezTo>
                <a:cubicBezTo>
                  <a:pt x="1755" y="687"/>
                  <a:pt x="1770" y="695"/>
                  <a:pt x="1788" y="692"/>
                </a:cubicBezTo>
                <a:cubicBezTo>
                  <a:pt x="1806" y="689"/>
                  <a:pt x="1822" y="678"/>
                  <a:pt x="1842" y="656"/>
                </a:cubicBezTo>
                <a:cubicBezTo>
                  <a:pt x="1862" y="634"/>
                  <a:pt x="1881" y="560"/>
                  <a:pt x="1908" y="560"/>
                </a:cubicBezTo>
                <a:cubicBezTo>
                  <a:pt x="1935" y="560"/>
                  <a:pt x="1971" y="652"/>
                  <a:pt x="2004" y="656"/>
                </a:cubicBezTo>
                <a:cubicBezTo>
                  <a:pt x="2037" y="660"/>
                  <a:pt x="2069" y="620"/>
                  <a:pt x="2106" y="584"/>
                </a:cubicBezTo>
                <a:cubicBezTo>
                  <a:pt x="2143" y="548"/>
                  <a:pt x="2200" y="474"/>
                  <a:pt x="2226" y="440"/>
                </a:cubicBezTo>
                <a:cubicBezTo>
                  <a:pt x="2252" y="406"/>
                  <a:pt x="2223" y="383"/>
                  <a:pt x="2262" y="380"/>
                </a:cubicBezTo>
                <a:cubicBezTo>
                  <a:pt x="2301" y="377"/>
                  <a:pt x="2419" y="413"/>
                  <a:pt x="2460" y="422"/>
                </a:cubicBezTo>
              </a:path>
            </a:pathLst>
          </a:custGeom>
          <a:noFill/>
          <a:ln w="507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733920" y="2630520"/>
            <a:ext cx="2819160" cy="1206360"/>
          </a:xfrm>
          <a:custGeom>
            <a:avLst/>
            <a:gdLst/>
            <a:ahLst/>
            <a:rect l="l" t="t" r="r" b="b"/>
            <a:pathLst>
              <a:path w="1776" h="760">
                <a:moveTo>
                  <a:pt x="0" y="551"/>
                </a:moveTo>
                <a:cubicBezTo>
                  <a:pt x="7" y="550"/>
                  <a:pt x="33" y="547"/>
                  <a:pt x="44" y="543"/>
                </a:cubicBezTo>
                <a:cubicBezTo>
                  <a:pt x="55" y="539"/>
                  <a:pt x="59" y="526"/>
                  <a:pt x="68" y="527"/>
                </a:cubicBezTo>
                <a:cubicBezTo>
                  <a:pt x="77" y="528"/>
                  <a:pt x="85" y="546"/>
                  <a:pt x="96" y="551"/>
                </a:cubicBezTo>
                <a:cubicBezTo>
                  <a:pt x="107" y="556"/>
                  <a:pt x="125" y="561"/>
                  <a:pt x="136" y="559"/>
                </a:cubicBezTo>
                <a:cubicBezTo>
                  <a:pt x="147" y="557"/>
                  <a:pt x="152" y="532"/>
                  <a:pt x="160" y="539"/>
                </a:cubicBezTo>
                <a:cubicBezTo>
                  <a:pt x="168" y="546"/>
                  <a:pt x="178" y="584"/>
                  <a:pt x="184" y="599"/>
                </a:cubicBezTo>
                <a:cubicBezTo>
                  <a:pt x="190" y="614"/>
                  <a:pt x="187" y="624"/>
                  <a:pt x="196" y="627"/>
                </a:cubicBezTo>
                <a:cubicBezTo>
                  <a:pt x="205" y="630"/>
                  <a:pt x="230" y="614"/>
                  <a:pt x="236" y="619"/>
                </a:cubicBezTo>
                <a:cubicBezTo>
                  <a:pt x="242" y="624"/>
                  <a:pt x="231" y="646"/>
                  <a:pt x="232" y="659"/>
                </a:cubicBezTo>
                <a:cubicBezTo>
                  <a:pt x="233" y="672"/>
                  <a:pt x="231" y="689"/>
                  <a:pt x="240" y="695"/>
                </a:cubicBezTo>
                <a:cubicBezTo>
                  <a:pt x="249" y="701"/>
                  <a:pt x="275" y="690"/>
                  <a:pt x="288" y="695"/>
                </a:cubicBezTo>
                <a:cubicBezTo>
                  <a:pt x="301" y="700"/>
                  <a:pt x="311" y="721"/>
                  <a:pt x="320" y="723"/>
                </a:cubicBezTo>
                <a:cubicBezTo>
                  <a:pt x="329" y="725"/>
                  <a:pt x="333" y="712"/>
                  <a:pt x="344" y="707"/>
                </a:cubicBezTo>
                <a:cubicBezTo>
                  <a:pt x="355" y="702"/>
                  <a:pt x="373" y="692"/>
                  <a:pt x="384" y="695"/>
                </a:cubicBezTo>
                <a:cubicBezTo>
                  <a:pt x="395" y="698"/>
                  <a:pt x="410" y="724"/>
                  <a:pt x="412" y="727"/>
                </a:cubicBezTo>
                <a:cubicBezTo>
                  <a:pt x="414" y="730"/>
                  <a:pt x="387" y="710"/>
                  <a:pt x="396" y="715"/>
                </a:cubicBezTo>
                <a:cubicBezTo>
                  <a:pt x="405" y="720"/>
                  <a:pt x="450" y="750"/>
                  <a:pt x="464" y="755"/>
                </a:cubicBezTo>
                <a:cubicBezTo>
                  <a:pt x="478" y="760"/>
                  <a:pt x="480" y="752"/>
                  <a:pt x="480" y="743"/>
                </a:cubicBezTo>
                <a:cubicBezTo>
                  <a:pt x="480" y="734"/>
                  <a:pt x="478" y="716"/>
                  <a:pt x="464" y="699"/>
                </a:cubicBezTo>
                <a:cubicBezTo>
                  <a:pt x="450" y="682"/>
                  <a:pt x="415" y="656"/>
                  <a:pt x="396" y="639"/>
                </a:cubicBezTo>
                <a:cubicBezTo>
                  <a:pt x="377" y="622"/>
                  <a:pt x="362" y="614"/>
                  <a:pt x="352" y="599"/>
                </a:cubicBezTo>
                <a:cubicBezTo>
                  <a:pt x="342" y="584"/>
                  <a:pt x="336" y="567"/>
                  <a:pt x="336" y="551"/>
                </a:cubicBezTo>
                <a:cubicBezTo>
                  <a:pt x="336" y="535"/>
                  <a:pt x="345" y="516"/>
                  <a:pt x="352" y="503"/>
                </a:cubicBezTo>
                <a:cubicBezTo>
                  <a:pt x="359" y="490"/>
                  <a:pt x="359" y="475"/>
                  <a:pt x="380" y="471"/>
                </a:cubicBezTo>
                <a:cubicBezTo>
                  <a:pt x="401" y="467"/>
                  <a:pt x="455" y="474"/>
                  <a:pt x="480" y="479"/>
                </a:cubicBezTo>
                <a:cubicBezTo>
                  <a:pt x="505" y="484"/>
                  <a:pt x="512" y="499"/>
                  <a:pt x="528" y="503"/>
                </a:cubicBezTo>
                <a:cubicBezTo>
                  <a:pt x="544" y="507"/>
                  <a:pt x="552" y="511"/>
                  <a:pt x="576" y="503"/>
                </a:cubicBezTo>
                <a:cubicBezTo>
                  <a:pt x="600" y="495"/>
                  <a:pt x="652" y="466"/>
                  <a:pt x="672" y="455"/>
                </a:cubicBezTo>
                <a:cubicBezTo>
                  <a:pt x="692" y="444"/>
                  <a:pt x="696" y="447"/>
                  <a:pt x="696" y="435"/>
                </a:cubicBezTo>
                <a:cubicBezTo>
                  <a:pt x="696" y="423"/>
                  <a:pt x="668" y="396"/>
                  <a:pt x="672" y="383"/>
                </a:cubicBezTo>
                <a:cubicBezTo>
                  <a:pt x="676" y="370"/>
                  <a:pt x="701" y="368"/>
                  <a:pt x="720" y="359"/>
                </a:cubicBezTo>
                <a:cubicBezTo>
                  <a:pt x="739" y="350"/>
                  <a:pt x="765" y="346"/>
                  <a:pt x="784" y="331"/>
                </a:cubicBezTo>
                <a:cubicBezTo>
                  <a:pt x="803" y="316"/>
                  <a:pt x="819" y="294"/>
                  <a:pt x="832" y="267"/>
                </a:cubicBezTo>
                <a:cubicBezTo>
                  <a:pt x="845" y="240"/>
                  <a:pt x="857" y="191"/>
                  <a:pt x="864" y="167"/>
                </a:cubicBezTo>
                <a:cubicBezTo>
                  <a:pt x="871" y="143"/>
                  <a:pt x="874" y="139"/>
                  <a:pt x="876" y="123"/>
                </a:cubicBezTo>
                <a:cubicBezTo>
                  <a:pt x="878" y="107"/>
                  <a:pt x="870" y="88"/>
                  <a:pt x="876" y="71"/>
                </a:cubicBezTo>
                <a:cubicBezTo>
                  <a:pt x="882" y="54"/>
                  <a:pt x="898" y="34"/>
                  <a:pt x="912" y="23"/>
                </a:cubicBezTo>
                <a:cubicBezTo>
                  <a:pt x="926" y="12"/>
                  <a:pt x="944" y="6"/>
                  <a:pt x="960" y="3"/>
                </a:cubicBezTo>
                <a:cubicBezTo>
                  <a:pt x="976" y="0"/>
                  <a:pt x="993" y="1"/>
                  <a:pt x="1008" y="7"/>
                </a:cubicBezTo>
                <a:cubicBezTo>
                  <a:pt x="1023" y="13"/>
                  <a:pt x="1029" y="34"/>
                  <a:pt x="1052" y="39"/>
                </a:cubicBezTo>
                <a:cubicBezTo>
                  <a:pt x="1075" y="44"/>
                  <a:pt x="1123" y="34"/>
                  <a:pt x="1148" y="39"/>
                </a:cubicBezTo>
                <a:cubicBezTo>
                  <a:pt x="1173" y="44"/>
                  <a:pt x="1187" y="59"/>
                  <a:pt x="1200" y="71"/>
                </a:cubicBezTo>
                <a:cubicBezTo>
                  <a:pt x="1213" y="83"/>
                  <a:pt x="1222" y="96"/>
                  <a:pt x="1224" y="111"/>
                </a:cubicBezTo>
                <a:cubicBezTo>
                  <a:pt x="1226" y="126"/>
                  <a:pt x="1222" y="136"/>
                  <a:pt x="1212" y="163"/>
                </a:cubicBezTo>
                <a:cubicBezTo>
                  <a:pt x="1202" y="190"/>
                  <a:pt x="1176" y="248"/>
                  <a:pt x="1164" y="271"/>
                </a:cubicBezTo>
                <a:cubicBezTo>
                  <a:pt x="1152" y="294"/>
                  <a:pt x="1139" y="290"/>
                  <a:pt x="1140" y="303"/>
                </a:cubicBezTo>
                <a:cubicBezTo>
                  <a:pt x="1141" y="316"/>
                  <a:pt x="1167" y="336"/>
                  <a:pt x="1168" y="351"/>
                </a:cubicBezTo>
                <a:cubicBezTo>
                  <a:pt x="1169" y="366"/>
                  <a:pt x="1151" y="378"/>
                  <a:pt x="1148" y="395"/>
                </a:cubicBezTo>
                <a:cubicBezTo>
                  <a:pt x="1145" y="412"/>
                  <a:pt x="1151" y="437"/>
                  <a:pt x="1152" y="455"/>
                </a:cubicBezTo>
                <a:cubicBezTo>
                  <a:pt x="1153" y="473"/>
                  <a:pt x="1152" y="486"/>
                  <a:pt x="1152" y="503"/>
                </a:cubicBezTo>
                <a:cubicBezTo>
                  <a:pt x="1152" y="520"/>
                  <a:pt x="1155" y="544"/>
                  <a:pt x="1152" y="559"/>
                </a:cubicBezTo>
                <a:cubicBezTo>
                  <a:pt x="1149" y="574"/>
                  <a:pt x="1136" y="571"/>
                  <a:pt x="1132" y="591"/>
                </a:cubicBezTo>
                <a:cubicBezTo>
                  <a:pt x="1128" y="611"/>
                  <a:pt x="1117" y="670"/>
                  <a:pt x="1128" y="679"/>
                </a:cubicBezTo>
                <a:cubicBezTo>
                  <a:pt x="1139" y="688"/>
                  <a:pt x="1177" y="658"/>
                  <a:pt x="1200" y="647"/>
                </a:cubicBezTo>
                <a:cubicBezTo>
                  <a:pt x="1223" y="636"/>
                  <a:pt x="1248" y="608"/>
                  <a:pt x="1268" y="611"/>
                </a:cubicBezTo>
                <a:cubicBezTo>
                  <a:pt x="1288" y="614"/>
                  <a:pt x="1299" y="659"/>
                  <a:pt x="1320" y="663"/>
                </a:cubicBezTo>
                <a:cubicBezTo>
                  <a:pt x="1341" y="667"/>
                  <a:pt x="1372" y="638"/>
                  <a:pt x="1392" y="635"/>
                </a:cubicBezTo>
                <a:cubicBezTo>
                  <a:pt x="1412" y="632"/>
                  <a:pt x="1423" y="653"/>
                  <a:pt x="1440" y="647"/>
                </a:cubicBezTo>
                <a:cubicBezTo>
                  <a:pt x="1457" y="641"/>
                  <a:pt x="1473" y="625"/>
                  <a:pt x="1496" y="599"/>
                </a:cubicBezTo>
                <a:cubicBezTo>
                  <a:pt x="1519" y="573"/>
                  <a:pt x="1551" y="525"/>
                  <a:pt x="1580" y="491"/>
                </a:cubicBezTo>
                <a:cubicBezTo>
                  <a:pt x="1609" y="457"/>
                  <a:pt x="1639" y="425"/>
                  <a:pt x="1672" y="395"/>
                </a:cubicBezTo>
                <a:cubicBezTo>
                  <a:pt x="1705" y="365"/>
                  <a:pt x="1754" y="329"/>
                  <a:pt x="1776" y="311"/>
                </a:cubicBezTo>
              </a:path>
            </a:pathLst>
          </a:custGeom>
          <a:noFill/>
          <a:ln w="5724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724280" y="3429000"/>
            <a:ext cx="1928880" cy="330120"/>
          </a:xfrm>
          <a:custGeom>
            <a:avLst/>
            <a:gdLst/>
            <a:ahLst/>
            <a:rect l="l" t="t" r="r" b="b"/>
            <a:pathLst>
              <a:path w="1215" h="208">
                <a:moveTo>
                  <a:pt x="0" y="0"/>
                </a:moveTo>
                <a:cubicBezTo>
                  <a:pt x="10" y="6"/>
                  <a:pt x="48" y="22"/>
                  <a:pt x="60" y="36"/>
                </a:cubicBezTo>
                <a:cubicBezTo>
                  <a:pt x="72" y="50"/>
                  <a:pt x="73" y="70"/>
                  <a:pt x="75" y="84"/>
                </a:cubicBezTo>
                <a:cubicBezTo>
                  <a:pt x="77" y="98"/>
                  <a:pt x="72" y="109"/>
                  <a:pt x="75" y="120"/>
                </a:cubicBezTo>
                <a:cubicBezTo>
                  <a:pt x="78" y="131"/>
                  <a:pt x="63" y="137"/>
                  <a:pt x="96" y="150"/>
                </a:cubicBezTo>
                <a:cubicBezTo>
                  <a:pt x="129" y="163"/>
                  <a:pt x="220" y="194"/>
                  <a:pt x="276" y="201"/>
                </a:cubicBezTo>
                <a:cubicBezTo>
                  <a:pt x="332" y="208"/>
                  <a:pt x="391" y="196"/>
                  <a:pt x="432" y="192"/>
                </a:cubicBezTo>
                <a:cubicBezTo>
                  <a:pt x="473" y="188"/>
                  <a:pt x="482" y="183"/>
                  <a:pt x="522" y="177"/>
                </a:cubicBezTo>
                <a:cubicBezTo>
                  <a:pt x="562" y="171"/>
                  <a:pt x="630" y="158"/>
                  <a:pt x="672" y="156"/>
                </a:cubicBezTo>
                <a:cubicBezTo>
                  <a:pt x="714" y="154"/>
                  <a:pt x="731" y="163"/>
                  <a:pt x="774" y="162"/>
                </a:cubicBezTo>
                <a:cubicBezTo>
                  <a:pt x="817" y="161"/>
                  <a:pt x="891" y="149"/>
                  <a:pt x="930" y="150"/>
                </a:cubicBezTo>
                <a:cubicBezTo>
                  <a:pt x="969" y="151"/>
                  <a:pt x="984" y="165"/>
                  <a:pt x="1008" y="168"/>
                </a:cubicBezTo>
                <a:cubicBezTo>
                  <a:pt x="1032" y="171"/>
                  <a:pt x="1040" y="171"/>
                  <a:pt x="1074" y="168"/>
                </a:cubicBezTo>
                <a:cubicBezTo>
                  <a:pt x="1108" y="165"/>
                  <a:pt x="1186" y="154"/>
                  <a:pt x="1215" y="150"/>
                </a:cubicBezTo>
              </a:path>
            </a:pathLst>
          </a:custGeom>
          <a:noFill/>
          <a:ln w="63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867280" y="2743200"/>
            <a:ext cx="389160" cy="2895480"/>
          </a:xfrm>
          <a:custGeom>
            <a:avLst/>
            <a:gdLst/>
            <a:ahLst/>
            <a:rect l="l" t="t" r="r" b="b"/>
            <a:pathLst>
              <a:path w="245" h="1824">
                <a:moveTo>
                  <a:pt x="245" y="0"/>
                </a:moveTo>
                <a:cubicBezTo>
                  <a:pt x="236" y="14"/>
                  <a:pt x="204" y="63"/>
                  <a:pt x="188" y="87"/>
                </a:cubicBezTo>
                <a:cubicBezTo>
                  <a:pt x="172" y="111"/>
                  <a:pt x="160" y="124"/>
                  <a:pt x="149" y="144"/>
                </a:cubicBezTo>
                <a:cubicBezTo>
                  <a:pt x="138" y="164"/>
                  <a:pt x="130" y="167"/>
                  <a:pt x="122" y="207"/>
                </a:cubicBezTo>
                <a:cubicBezTo>
                  <a:pt x="114" y="247"/>
                  <a:pt x="107" y="331"/>
                  <a:pt x="101" y="384"/>
                </a:cubicBezTo>
                <a:cubicBezTo>
                  <a:pt x="95" y="437"/>
                  <a:pt x="92" y="491"/>
                  <a:pt x="86" y="525"/>
                </a:cubicBezTo>
                <a:cubicBezTo>
                  <a:pt x="80" y="559"/>
                  <a:pt x="64" y="555"/>
                  <a:pt x="65" y="588"/>
                </a:cubicBezTo>
                <a:cubicBezTo>
                  <a:pt x="66" y="621"/>
                  <a:pt x="85" y="670"/>
                  <a:pt x="92" y="723"/>
                </a:cubicBezTo>
                <a:cubicBezTo>
                  <a:pt x="99" y="776"/>
                  <a:pt x="107" y="852"/>
                  <a:pt x="110" y="906"/>
                </a:cubicBezTo>
                <a:cubicBezTo>
                  <a:pt x="113" y="960"/>
                  <a:pt x="113" y="1016"/>
                  <a:pt x="110" y="1050"/>
                </a:cubicBezTo>
                <a:cubicBezTo>
                  <a:pt x="107" y="1084"/>
                  <a:pt x="102" y="1093"/>
                  <a:pt x="92" y="1110"/>
                </a:cubicBezTo>
                <a:cubicBezTo>
                  <a:pt x="82" y="1127"/>
                  <a:pt x="65" y="1136"/>
                  <a:pt x="53" y="1152"/>
                </a:cubicBezTo>
                <a:cubicBezTo>
                  <a:pt x="41" y="1168"/>
                  <a:pt x="25" y="1185"/>
                  <a:pt x="17" y="1209"/>
                </a:cubicBezTo>
                <a:cubicBezTo>
                  <a:pt x="9" y="1233"/>
                  <a:pt x="3" y="1274"/>
                  <a:pt x="5" y="1296"/>
                </a:cubicBezTo>
                <a:cubicBezTo>
                  <a:pt x="7" y="1318"/>
                  <a:pt x="30" y="1326"/>
                  <a:pt x="32" y="1341"/>
                </a:cubicBezTo>
                <a:cubicBezTo>
                  <a:pt x="34" y="1356"/>
                  <a:pt x="24" y="1372"/>
                  <a:pt x="20" y="1389"/>
                </a:cubicBezTo>
                <a:cubicBezTo>
                  <a:pt x="16" y="1406"/>
                  <a:pt x="7" y="1420"/>
                  <a:pt x="5" y="1446"/>
                </a:cubicBezTo>
                <a:cubicBezTo>
                  <a:pt x="3" y="1472"/>
                  <a:pt x="0" y="1514"/>
                  <a:pt x="8" y="1545"/>
                </a:cubicBezTo>
                <a:cubicBezTo>
                  <a:pt x="16" y="1576"/>
                  <a:pt x="46" y="1602"/>
                  <a:pt x="53" y="1632"/>
                </a:cubicBezTo>
                <a:cubicBezTo>
                  <a:pt x="60" y="1662"/>
                  <a:pt x="61" y="1696"/>
                  <a:pt x="53" y="1728"/>
                </a:cubicBezTo>
                <a:cubicBezTo>
                  <a:pt x="45" y="1760"/>
                  <a:pt x="15" y="1804"/>
                  <a:pt x="5" y="1824"/>
                </a:cubicBezTo>
              </a:path>
            </a:pathLst>
          </a:custGeom>
          <a:noFill/>
          <a:ln w="63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904080" y="5173560"/>
            <a:ext cx="258840" cy="747720"/>
          </a:xfrm>
          <a:custGeom>
            <a:avLst/>
            <a:gdLst/>
            <a:ahLst/>
            <a:rect l="l" t="t" r="r" b="b"/>
            <a:pathLst>
              <a:path w="163" h="471">
                <a:moveTo>
                  <a:pt x="120" y="5"/>
                </a:moveTo>
                <a:cubicBezTo>
                  <a:pt x="130" y="0"/>
                  <a:pt x="130" y="18"/>
                  <a:pt x="135" y="23"/>
                </a:cubicBezTo>
                <a:cubicBezTo>
                  <a:pt x="140" y="28"/>
                  <a:pt x="147" y="33"/>
                  <a:pt x="151" y="37"/>
                </a:cubicBezTo>
                <a:cubicBezTo>
                  <a:pt x="155" y="41"/>
                  <a:pt x="159" y="17"/>
                  <a:pt x="160" y="47"/>
                </a:cubicBezTo>
                <a:cubicBezTo>
                  <a:pt x="161" y="77"/>
                  <a:pt x="163" y="174"/>
                  <a:pt x="156" y="215"/>
                </a:cubicBezTo>
                <a:cubicBezTo>
                  <a:pt x="149" y="256"/>
                  <a:pt x="126" y="272"/>
                  <a:pt x="120" y="293"/>
                </a:cubicBezTo>
                <a:cubicBezTo>
                  <a:pt x="114" y="314"/>
                  <a:pt x="125" y="314"/>
                  <a:pt x="120" y="341"/>
                </a:cubicBezTo>
                <a:cubicBezTo>
                  <a:pt x="115" y="368"/>
                  <a:pt x="102" y="439"/>
                  <a:pt x="92" y="455"/>
                </a:cubicBezTo>
                <a:cubicBezTo>
                  <a:pt x="82" y="471"/>
                  <a:pt x="68" y="450"/>
                  <a:pt x="58" y="439"/>
                </a:cubicBezTo>
                <a:cubicBezTo>
                  <a:pt x="48" y="428"/>
                  <a:pt x="36" y="402"/>
                  <a:pt x="28" y="385"/>
                </a:cubicBezTo>
                <a:cubicBezTo>
                  <a:pt x="20" y="368"/>
                  <a:pt x="11" y="352"/>
                  <a:pt x="10" y="339"/>
                </a:cubicBezTo>
                <a:cubicBezTo>
                  <a:pt x="9" y="326"/>
                  <a:pt x="21" y="320"/>
                  <a:pt x="20" y="309"/>
                </a:cubicBezTo>
                <a:cubicBezTo>
                  <a:pt x="19" y="298"/>
                  <a:pt x="3" y="293"/>
                  <a:pt x="2" y="275"/>
                </a:cubicBezTo>
                <a:cubicBezTo>
                  <a:pt x="1" y="257"/>
                  <a:pt x="0" y="236"/>
                  <a:pt x="12" y="199"/>
                </a:cubicBezTo>
                <a:cubicBezTo>
                  <a:pt x="24" y="162"/>
                  <a:pt x="54" y="85"/>
                  <a:pt x="72" y="53"/>
                </a:cubicBezTo>
                <a:cubicBezTo>
                  <a:pt x="90" y="21"/>
                  <a:pt x="108" y="11"/>
                  <a:pt x="120" y="5"/>
                </a:cubicBez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5256360" y="6159600"/>
            <a:ext cx="315720" cy="263520"/>
          </a:xfrm>
          <a:custGeom>
            <a:avLst/>
            <a:gdLst/>
            <a:ahLst/>
            <a:rect l="l" t="t" r="r" b="b"/>
            <a:pathLst>
              <a:path w="199" h="166">
                <a:moveTo>
                  <a:pt x="55" y="10"/>
                </a:moveTo>
                <a:cubicBezTo>
                  <a:pt x="64" y="6"/>
                  <a:pt x="82" y="8"/>
                  <a:pt x="97" y="8"/>
                </a:cubicBezTo>
                <a:cubicBezTo>
                  <a:pt x="112" y="8"/>
                  <a:pt x="129" y="0"/>
                  <a:pt x="145" y="8"/>
                </a:cubicBezTo>
                <a:cubicBezTo>
                  <a:pt x="161" y="16"/>
                  <a:pt x="187" y="39"/>
                  <a:pt x="193" y="56"/>
                </a:cubicBezTo>
                <a:cubicBezTo>
                  <a:pt x="199" y="73"/>
                  <a:pt x="191" y="98"/>
                  <a:pt x="183" y="114"/>
                </a:cubicBezTo>
                <a:cubicBezTo>
                  <a:pt x="175" y="130"/>
                  <a:pt x="157" y="146"/>
                  <a:pt x="145" y="152"/>
                </a:cubicBezTo>
                <a:cubicBezTo>
                  <a:pt x="133" y="158"/>
                  <a:pt x="121" y="148"/>
                  <a:pt x="111" y="150"/>
                </a:cubicBezTo>
                <a:cubicBezTo>
                  <a:pt x="101" y="152"/>
                  <a:pt x="94" y="162"/>
                  <a:pt x="83" y="164"/>
                </a:cubicBezTo>
                <a:cubicBezTo>
                  <a:pt x="72" y="166"/>
                  <a:pt x="59" y="165"/>
                  <a:pt x="47" y="162"/>
                </a:cubicBezTo>
                <a:cubicBezTo>
                  <a:pt x="35" y="159"/>
                  <a:pt x="21" y="158"/>
                  <a:pt x="13" y="148"/>
                </a:cubicBezTo>
                <a:cubicBezTo>
                  <a:pt x="5" y="138"/>
                  <a:pt x="2" y="118"/>
                  <a:pt x="1" y="104"/>
                </a:cubicBezTo>
                <a:cubicBezTo>
                  <a:pt x="0" y="90"/>
                  <a:pt x="0" y="78"/>
                  <a:pt x="7" y="66"/>
                </a:cubicBezTo>
                <a:cubicBezTo>
                  <a:pt x="14" y="54"/>
                  <a:pt x="35" y="43"/>
                  <a:pt x="43" y="34"/>
                </a:cubicBezTo>
                <a:cubicBezTo>
                  <a:pt x="51" y="25"/>
                  <a:pt x="46" y="14"/>
                  <a:pt x="55" y="10"/>
                </a:cubicBez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4724280" y="3429000"/>
            <a:ext cx="1928880" cy="330120"/>
          </a:xfrm>
          <a:custGeom>
            <a:avLst/>
            <a:gdLst/>
            <a:ahLst/>
            <a:rect l="l" t="t" r="r" b="b"/>
            <a:pathLst>
              <a:path w="1215" h="208">
                <a:moveTo>
                  <a:pt x="0" y="0"/>
                </a:moveTo>
                <a:cubicBezTo>
                  <a:pt x="10" y="6"/>
                  <a:pt x="48" y="22"/>
                  <a:pt x="60" y="36"/>
                </a:cubicBezTo>
                <a:cubicBezTo>
                  <a:pt x="72" y="50"/>
                  <a:pt x="73" y="70"/>
                  <a:pt x="75" y="84"/>
                </a:cubicBezTo>
                <a:cubicBezTo>
                  <a:pt x="77" y="98"/>
                  <a:pt x="72" y="109"/>
                  <a:pt x="75" y="120"/>
                </a:cubicBezTo>
                <a:cubicBezTo>
                  <a:pt x="78" y="131"/>
                  <a:pt x="63" y="137"/>
                  <a:pt x="96" y="150"/>
                </a:cubicBezTo>
                <a:cubicBezTo>
                  <a:pt x="129" y="163"/>
                  <a:pt x="220" y="194"/>
                  <a:pt x="276" y="201"/>
                </a:cubicBezTo>
                <a:cubicBezTo>
                  <a:pt x="332" y="208"/>
                  <a:pt x="391" y="196"/>
                  <a:pt x="432" y="192"/>
                </a:cubicBezTo>
                <a:cubicBezTo>
                  <a:pt x="473" y="188"/>
                  <a:pt x="482" y="183"/>
                  <a:pt x="522" y="177"/>
                </a:cubicBezTo>
                <a:cubicBezTo>
                  <a:pt x="562" y="171"/>
                  <a:pt x="630" y="158"/>
                  <a:pt x="672" y="156"/>
                </a:cubicBezTo>
                <a:cubicBezTo>
                  <a:pt x="714" y="154"/>
                  <a:pt x="731" y="163"/>
                  <a:pt x="774" y="162"/>
                </a:cubicBezTo>
                <a:cubicBezTo>
                  <a:pt x="817" y="161"/>
                  <a:pt x="891" y="149"/>
                  <a:pt x="930" y="150"/>
                </a:cubicBezTo>
                <a:cubicBezTo>
                  <a:pt x="969" y="151"/>
                  <a:pt x="984" y="165"/>
                  <a:pt x="1008" y="168"/>
                </a:cubicBezTo>
                <a:cubicBezTo>
                  <a:pt x="1032" y="171"/>
                  <a:pt x="1040" y="171"/>
                  <a:pt x="1074" y="168"/>
                </a:cubicBezTo>
                <a:cubicBezTo>
                  <a:pt x="1108" y="165"/>
                  <a:pt x="1186" y="154"/>
                  <a:pt x="1215" y="150"/>
                </a:cubicBezTo>
              </a:path>
            </a:pathLst>
          </a:custGeom>
          <a:noFill/>
          <a:ln w="63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5859360" y="2743200"/>
            <a:ext cx="389160" cy="2895480"/>
          </a:xfrm>
          <a:custGeom>
            <a:avLst/>
            <a:gdLst/>
            <a:ahLst/>
            <a:rect l="l" t="t" r="r" b="b"/>
            <a:pathLst>
              <a:path w="245" h="1824">
                <a:moveTo>
                  <a:pt x="245" y="0"/>
                </a:moveTo>
                <a:cubicBezTo>
                  <a:pt x="236" y="14"/>
                  <a:pt x="204" y="63"/>
                  <a:pt x="188" y="87"/>
                </a:cubicBezTo>
                <a:cubicBezTo>
                  <a:pt x="172" y="111"/>
                  <a:pt x="160" y="124"/>
                  <a:pt x="149" y="144"/>
                </a:cubicBezTo>
                <a:cubicBezTo>
                  <a:pt x="138" y="164"/>
                  <a:pt x="130" y="167"/>
                  <a:pt x="122" y="207"/>
                </a:cubicBezTo>
                <a:cubicBezTo>
                  <a:pt x="114" y="247"/>
                  <a:pt x="107" y="331"/>
                  <a:pt x="101" y="384"/>
                </a:cubicBezTo>
                <a:cubicBezTo>
                  <a:pt x="95" y="437"/>
                  <a:pt x="92" y="491"/>
                  <a:pt x="86" y="525"/>
                </a:cubicBezTo>
                <a:cubicBezTo>
                  <a:pt x="80" y="559"/>
                  <a:pt x="64" y="555"/>
                  <a:pt x="65" y="588"/>
                </a:cubicBezTo>
                <a:cubicBezTo>
                  <a:pt x="66" y="621"/>
                  <a:pt x="85" y="670"/>
                  <a:pt x="92" y="723"/>
                </a:cubicBezTo>
                <a:cubicBezTo>
                  <a:pt x="99" y="776"/>
                  <a:pt x="107" y="852"/>
                  <a:pt x="110" y="906"/>
                </a:cubicBezTo>
                <a:cubicBezTo>
                  <a:pt x="113" y="960"/>
                  <a:pt x="113" y="1016"/>
                  <a:pt x="110" y="1050"/>
                </a:cubicBezTo>
                <a:cubicBezTo>
                  <a:pt x="107" y="1084"/>
                  <a:pt x="102" y="1093"/>
                  <a:pt x="92" y="1110"/>
                </a:cubicBezTo>
                <a:cubicBezTo>
                  <a:pt x="82" y="1127"/>
                  <a:pt x="65" y="1136"/>
                  <a:pt x="53" y="1152"/>
                </a:cubicBezTo>
                <a:cubicBezTo>
                  <a:pt x="41" y="1168"/>
                  <a:pt x="25" y="1185"/>
                  <a:pt x="17" y="1209"/>
                </a:cubicBezTo>
                <a:cubicBezTo>
                  <a:pt x="9" y="1233"/>
                  <a:pt x="3" y="1274"/>
                  <a:pt x="5" y="1296"/>
                </a:cubicBezTo>
                <a:cubicBezTo>
                  <a:pt x="7" y="1318"/>
                  <a:pt x="30" y="1326"/>
                  <a:pt x="32" y="1341"/>
                </a:cubicBezTo>
                <a:cubicBezTo>
                  <a:pt x="34" y="1356"/>
                  <a:pt x="24" y="1372"/>
                  <a:pt x="20" y="1389"/>
                </a:cubicBezTo>
                <a:cubicBezTo>
                  <a:pt x="16" y="1406"/>
                  <a:pt x="7" y="1420"/>
                  <a:pt x="5" y="1446"/>
                </a:cubicBezTo>
                <a:cubicBezTo>
                  <a:pt x="3" y="1472"/>
                  <a:pt x="0" y="1514"/>
                  <a:pt x="8" y="1545"/>
                </a:cubicBezTo>
                <a:cubicBezTo>
                  <a:pt x="16" y="1576"/>
                  <a:pt x="46" y="1602"/>
                  <a:pt x="53" y="1632"/>
                </a:cubicBezTo>
                <a:cubicBezTo>
                  <a:pt x="60" y="1662"/>
                  <a:pt x="61" y="1696"/>
                  <a:pt x="53" y="1728"/>
                </a:cubicBezTo>
                <a:cubicBezTo>
                  <a:pt x="45" y="1760"/>
                  <a:pt x="15" y="1804"/>
                  <a:pt x="5" y="1824"/>
                </a:cubicBezTo>
              </a:path>
            </a:pathLst>
          </a:custGeom>
          <a:noFill/>
          <a:ln w="63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6019920" y="2666880"/>
            <a:ext cx="304560" cy="304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北京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5638680" y="5486400"/>
            <a:ext cx="304920" cy="304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广州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572000" y="3276720"/>
            <a:ext cx="304920" cy="304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兰州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553080" y="3429000"/>
            <a:ext cx="39528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连云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641200" y="4030560"/>
            <a:ext cx="911880" cy="11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京广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643280" y="3733920"/>
            <a:ext cx="121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陇海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867280" y="3505320"/>
            <a:ext cx="304920" cy="30456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郑州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140360" y="333360"/>
            <a:ext cx="1218960" cy="70344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郑州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  <p:timing>
    <p:tnLst>
      <p:par>
        <p:cTn id="661" dur="indefinite" restart="never" nodeType="tmRoot">
          <p:childTnLst>
            <p:seq>
              <p:cTn id="662" dur="indefinite" nodeType="mainSeq">
                <p:childTnLst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7" dur="3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3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3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8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3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8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5e75"/>
            </a:gs>
            <a:gs pos="100000">
              <a:srgbClr val="33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1260360" y="425520"/>
            <a:ext cx="6894720" cy="5718240"/>
          </a:xfrm>
          <a:custGeom>
            <a:avLst/>
            <a:gdLst/>
            <a:ahLst/>
            <a:rect l="l" t="t" r="r" b="b"/>
            <a:pathLst>
              <a:path w="4343" h="3602">
                <a:moveTo>
                  <a:pt x="1196" y="298"/>
                </a:moveTo>
                <a:cubicBezTo>
                  <a:pt x="1214" y="290"/>
                  <a:pt x="1262" y="302"/>
                  <a:pt x="1274" y="302"/>
                </a:cubicBezTo>
                <a:cubicBezTo>
                  <a:pt x="1286" y="302"/>
                  <a:pt x="1270" y="287"/>
                  <a:pt x="1268" y="296"/>
                </a:cubicBezTo>
                <a:cubicBezTo>
                  <a:pt x="1266" y="305"/>
                  <a:pt x="1256" y="334"/>
                  <a:pt x="1262" y="358"/>
                </a:cubicBezTo>
                <a:cubicBezTo>
                  <a:pt x="1268" y="382"/>
                  <a:pt x="1292" y="428"/>
                  <a:pt x="1306" y="442"/>
                </a:cubicBezTo>
                <a:cubicBezTo>
                  <a:pt x="1320" y="456"/>
                  <a:pt x="1340" y="437"/>
                  <a:pt x="1348" y="442"/>
                </a:cubicBezTo>
                <a:cubicBezTo>
                  <a:pt x="1356" y="447"/>
                  <a:pt x="1352" y="468"/>
                  <a:pt x="1356" y="474"/>
                </a:cubicBezTo>
                <a:cubicBezTo>
                  <a:pt x="1360" y="480"/>
                  <a:pt x="1365" y="457"/>
                  <a:pt x="1374" y="476"/>
                </a:cubicBezTo>
                <a:cubicBezTo>
                  <a:pt x="1383" y="495"/>
                  <a:pt x="1407" y="558"/>
                  <a:pt x="1412" y="590"/>
                </a:cubicBezTo>
                <a:cubicBezTo>
                  <a:pt x="1417" y="622"/>
                  <a:pt x="1409" y="641"/>
                  <a:pt x="1402" y="668"/>
                </a:cubicBezTo>
                <a:cubicBezTo>
                  <a:pt x="1395" y="695"/>
                  <a:pt x="1359" y="731"/>
                  <a:pt x="1368" y="752"/>
                </a:cubicBezTo>
                <a:cubicBezTo>
                  <a:pt x="1377" y="773"/>
                  <a:pt x="1422" y="782"/>
                  <a:pt x="1454" y="796"/>
                </a:cubicBezTo>
                <a:cubicBezTo>
                  <a:pt x="1486" y="810"/>
                  <a:pt x="1529" y="816"/>
                  <a:pt x="1558" y="836"/>
                </a:cubicBezTo>
                <a:cubicBezTo>
                  <a:pt x="1587" y="856"/>
                  <a:pt x="1608" y="901"/>
                  <a:pt x="1626" y="914"/>
                </a:cubicBezTo>
                <a:cubicBezTo>
                  <a:pt x="1644" y="927"/>
                  <a:pt x="1655" y="898"/>
                  <a:pt x="1664" y="916"/>
                </a:cubicBezTo>
                <a:cubicBezTo>
                  <a:pt x="1673" y="934"/>
                  <a:pt x="1676" y="998"/>
                  <a:pt x="1682" y="1022"/>
                </a:cubicBezTo>
                <a:cubicBezTo>
                  <a:pt x="1688" y="1046"/>
                  <a:pt x="1695" y="1047"/>
                  <a:pt x="1702" y="1060"/>
                </a:cubicBezTo>
                <a:cubicBezTo>
                  <a:pt x="1709" y="1073"/>
                  <a:pt x="1706" y="1092"/>
                  <a:pt x="1722" y="1100"/>
                </a:cubicBezTo>
                <a:cubicBezTo>
                  <a:pt x="1738" y="1108"/>
                  <a:pt x="1770" y="1102"/>
                  <a:pt x="1798" y="1108"/>
                </a:cubicBezTo>
                <a:cubicBezTo>
                  <a:pt x="1826" y="1114"/>
                  <a:pt x="1858" y="1132"/>
                  <a:pt x="1890" y="1138"/>
                </a:cubicBezTo>
                <a:cubicBezTo>
                  <a:pt x="1922" y="1144"/>
                  <a:pt x="1962" y="1138"/>
                  <a:pt x="1992" y="1142"/>
                </a:cubicBezTo>
                <a:cubicBezTo>
                  <a:pt x="2022" y="1146"/>
                  <a:pt x="2050" y="1152"/>
                  <a:pt x="2070" y="1164"/>
                </a:cubicBezTo>
                <a:cubicBezTo>
                  <a:pt x="2090" y="1176"/>
                  <a:pt x="2097" y="1203"/>
                  <a:pt x="2110" y="1212"/>
                </a:cubicBezTo>
                <a:cubicBezTo>
                  <a:pt x="2123" y="1221"/>
                  <a:pt x="2133" y="1207"/>
                  <a:pt x="2150" y="1216"/>
                </a:cubicBezTo>
                <a:cubicBezTo>
                  <a:pt x="2167" y="1225"/>
                  <a:pt x="2193" y="1256"/>
                  <a:pt x="2214" y="1264"/>
                </a:cubicBezTo>
                <a:cubicBezTo>
                  <a:pt x="2235" y="1272"/>
                  <a:pt x="2259" y="1257"/>
                  <a:pt x="2274" y="1262"/>
                </a:cubicBezTo>
                <a:cubicBezTo>
                  <a:pt x="2289" y="1267"/>
                  <a:pt x="2280" y="1297"/>
                  <a:pt x="2306" y="1292"/>
                </a:cubicBezTo>
                <a:cubicBezTo>
                  <a:pt x="2332" y="1287"/>
                  <a:pt x="2399" y="1247"/>
                  <a:pt x="2428" y="1234"/>
                </a:cubicBezTo>
                <a:cubicBezTo>
                  <a:pt x="2457" y="1221"/>
                  <a:pt x="2465" y="1220"/>
                  <a:pt x="2478" y="1216"/>
                </a:cubicBezTo>
                <a:cubicBezTo>
                  <a:pt x="2491" y="1212"/>
                  <a:pt x="2496" y="1212"/>
                  <a:pt x="2504" y="1212"/>
                </a:cubicBezTo>
                <a:cubicBezTo>
                  <a:pt x="2512" y="1212"/>
                  <a:pt x="2507" y="1217"/>
                  <a:pt x="2528" y="1218"/>
                </a:cubicBezTo>
                <a:cubicBezTo>
                  <a:pt x="2549" y="1219"/>
                  <a:pt x="2602" y="1224"/>
                  <a:pt x="2632" y="1216"/>
                </a:cubicBezTo>
                <a:cubicBezTo>
                  <a:pt x="2662" y="1208"/>
                  <a:pt x="2690" y="1188"/>
                  <a:pt x="2710" y="1172"/>
                </a:cubicBezTo>
                <a:cubicBezTo>
                  <a:pt x="2730" y="1156"/>
                  <a:pt x="2737" y="1135"/>
                  <a:pt x="2754" y="1120"/>
                </a:cubicBezTo>
                <a:cubicBezTo>
                  <a:pt x="2771" y="1105"/>
                  <a:pt x="2810" y="1097"/>
                  <a:pt x="2814" y="1080"/>
                </a:cubicBezTo>
                <a:cubicBezTo>
                  <a:pt x="2818" y="1063"/>
                  <a:pt x="2781" y="1036"/>
                  <a:pt x="2778" y="1016"/>
                </a:cubicBezTo>
                <a:cubicBezTo>
                  <a:pt x="2775" y="996"/>
                  <a:pt x="2788" y="971"/>
                  <a:pt x="2796" y="958"/>
                </a:cubicBezTo>
                <a:cubicBezTo>
                  <a:pt x="2804" y="945"/>
                  <a:pt x="2803" y="932"/>
                  <a:pt x="2824" y="936"/>
                </a:cubicBezTo>
                <a:cubicBezTo>
                  <a:pt x="2845" y="940"/>
                  <a:pt x="2891" y="986"/>
                  <a:pt x="2922" y="980"/>
                </a:cubicBezTo>
                <a:cubicBezTo>
                  <a:pt x="2953" y="974"/>
                  <a:pt x="2985" y="915"/>
                  <a:pt x="3012" y="898"/>
                </a:cubicBezTo>
                <a:cubicBezTo>
                  <a:pt x="3039" y="881"/>
                  <a:pt x="3066" y="896"/>
                  <a:pt x="3086" y="880"/>
                </a:cubicBezTo>
                <a:cubicBezTo>
                  <a:pt x="3106" y="864"/>
                  <a:pt x="3119" y="815"/>
                  <a:pt x="3134" y="800"/>
                </a:cubicBezTo>
                <a:cubicBezTo>
                  <a:pt x="3149" y="785"/>
                  <a:pt x="3168" y="797"/>
                  <a:pt x="3178" y="790"/>
                </a:cubicBezTo>
                <a:cubicBezTo>
                  <a:pt x="3188" y="783"/>
                  <a:pt x="3189" y="765"/>
                  <a:pt x="3196" y="760"/>
                </a:cubicBezTo>
                <a:cubicBezTo>
                  <a:pt x="3203" y="755"/>
                  <a:pt x="3209" y="762"/>
                  <a:pt x="3218" y="760"/>
                </a:cubicBezTo>
                <a:cubicBezTo>
                  <a:pt x="3227" y="758"/>
                  <a:pt x="3244" y="749"/>
                  <a:pt x="3252" y="746"/>
                </a:cubicBezTo>
                <a:cubicBezTo>
                  <a:pt x="3260" y="743"/>
                  <a:pt x="3262" y="743"/>
                  <a:pt x="3268" y="742"/>
                </a:cubicBezTo>
                <a:cubicBezTo>
                  <a:pt x="3274" y="741"/>
                  <a:pt x="3276" y="736"/>
                  <a:pt x="3286" y="740"/>
                </a:cubicBezTo>
                <a:cubicBezTo>
                  <a:pt x="3296" y="744"/>
                  <a:pt x="3316" y="772"/>
                  <a:pt x="3326" y="768"/>
                </a:cubicBezTo>
                <a:cubicBezTo>
                  <a:pt x="3336" y="764"/>
                  <a:pt x="3359" y="745"/>
                  <a:pt x="3344" y="718"/>
                </a:cubicBezTo>
                <a:cubicBezTo>
                  <a:pt x="3329" y="691"/>
                  <a:pt x="3260" y="625"/>
                  <a:pt x="3236" y="608"/>
                </a:cubicBezTo>
                <a:cubicBezTo>
                  <a:pt x="3212" y="591"/>
                  <a:pt x="3206" y="608"/>
                  <a:pt x="3198" y="614"/>
                </a:cubicBezTo>
                <a:cubicBezTo>
                  <a:pt x="3190" y="620"/>
                  <a:pt x="3194" y="639"/>
                  <a:pt x="3188" y="642"/>
                </a:cubicBezTo>
                <a:cubicBezTo>
                  <a:pt x="3182" y="645"/>
                  <a:pt x="3176" y="632"/>
                  <a:pt x="3160" y="632"/>
                </a:cubicBezTo>
                <a:cubicBezTo>
                  <a:pt x="3144" y="632"/>
                  <a:pt x="3108" y="635"/>
                  <a:pt x="3094" y="640"/>
                </a:cubicBezTo>
                <a:cubicBezTo>
                  <a:pt x="3080" y="645"/>
                  <a:pt x="3081" y="665"/>
                  <a:pt x="3074" y="664"/>
                </a:cubicBezTo>
                <a:cubicBezTo>
                  <a:pt x="3067" y="663"/>
                  <a:pt x="3056" y="643"/>
                  <a:pt x="3052" y="632"/>
                </a:cubicBezTo>
                <a:cubicBezTo>
                  <a:pt x="3048" y="621"/>
                  <a:pt x="3045" y="608"/>
                  <a:pt x="3048" y="600"/>
                </a:cubicBezTo>
                <a:cubicBezTo>
                  <a:pt x="3051" y="592"/>
                  <a:pt x="3057" y="614"/>
                  <a:pt x="3068" y="586"/>
                </a:cubicBezTo>
                <a:cubicBezTo>
                  <a:pt x="3079" y="558"/>
                  <a:pt x="3100" y="454"/>
                  <a:pt x="3116" y="430"/>
                </a:cubicBezTo>
                <a:cubicBezTo>
                  <a:pt x="3132" y="406"/>
                  <a:pt x="3143" y="446"/>
                  <a:pt x="3166" y="442"/>
                </a:cubicBezTo>
                <a:cubicBezTo>
                  <a:pt x="3189" y="438"/>
                  <a:pt x="3233" y="416"/>
                  <a:pt x="3252" y="406"/>
                </a:cubicBezTo>
                <a:cubicBezTo>
                  <a:pt x="3271" y="396"/>
                  <a:pt x="3279" y="394"/>
                  <a:pt x="3282" y="384"/>
                </a:cubicBezTo>
                <a:cubicBezTo>
                  <a:pt x="3285" y="374"/>
                  <a:pt x="3265" y="368"/>
                  <a:pt x="3270" y="346"/>
                </a:cubicBezTo>
                <a:cubicBezTo>
                  <a:pt x="3275" y="324"/>
                  <a:pt x="3304" y="276"/>
                  <a:pt x="3312" y="252"/>
                </a:cubicBezTo>
                <a:cubicBezTo>
                  <a:pt x="3320" y="228"/>
                  <a:pt x="3310" y="212"/>
                  <a:pt x="3320" y="204"/>
                </a:cubicBezTo>
                <a:cubicBezTo>
                  <a:pt x="3330" y="196"/>
                  <a:pt x="3361" y="211"/>
                  <a:pt x="3370" y="204"/>
                </a:cubicBezTo>
                <a:cubicBezTo>
                  <a:pt x="3379" y="197"/>
                  <a:pt x="3378" y="172"/>
                  <a:pt x="3376" y="164"/>
                </a:cubicBezTo>
                <a:cubicBezTo>
                  <a:pt x="3374" y="156"/>
                  <a:pt x="3363" y="161"/>
                  <a:pt x="3358" y="154"/>
                </a:cubicBezTo>
                <a:cubicBezTo>
                  <a:pt x="3353" y="147"/>
                  <a:pt x="3353" y="130"/>
                  <a:pt x="3346" y="124"/>
                </a:cubicBezTo>
                <a:cubicBezTo>
                  <a:pt x="3339" y="118"/>
                  <a:pt x="3315" y="132"/>
                  <a:pt x="3314" y="120"/>
                </a:cubicBezTo>
                <a:cubicBezTo>
                  <a:pt x="3313" y="108"/>
                  <a:pt x="3326" y="66"/>
                  <a:pt x="3342" y="52"/>
                </a:cubicBezTo>
                <a:cubicBezTo>
                  <a:pt x="3358" y="38"/>
                  <a:pt x="3400" y="46"/>
                  <a:pt x="3412" y="38"/>
                </a:cubicBezTo>
                <a:cubicBezTo>
                  <a:pt x="3424" y="30"/>
                  <a:pt x="3403" y="7"/>
                  <a:pt x="3414" y="4"/>
                </a:cubicBezTo>
                <a:cubicBezTo>
                  <a:pt x="3425" y="1"/>
                  <a:pt x="3457" y="20"/>
                  <a:pt x="3478" y="20"/>
                </a:cubicBezTo>
                <a:cubicBezTo>
                  <a:pt x="3499" y="20"/>
                  <a:pt x="3521" y="0"/>
                  <a:pt x="3540" y="2"/>
                </a:cubicBezTo>
                <a:cubicBezTo>
                  <a:pt x="3559" y="4"/>
                  <a:pt x="3578" y="29"/>
                  <a:pt x="3592" y="32"/>
                </a:cubicBezTo>
                <a:cubicBezTo>
                  <a:pt x="3606" y="35"/>
                  <a:pt x="3605" y="11"/>
                  <a:pt x="3622" y="20"/>
                </a:cubicBezTo>
                <a:cubicBezTo>
                  <a:pt x="3639" y="29"/>
                  <a:pt x="3667" y="49"/>
                  <a:pt x="3694" y="88"/>
                </a:cubicBezTo>
                <a:cubicBezTo>
                  <a:pt x="3721" y="127"/>
                  <a:pt x="3763" y="215"/>
                  <a:pt x="3782" y="252"/>
                </a:cubicBezTo>
                <a:cubicBezTo>
                  <a:pt x="3801" y="289"/>
                  <a:pt x="3801" y="293"/>
                  <a:pt x="3808" y="310"/>
                </a:cubicBezTo>
                <a:cubicBezTo>
                  <a:pt x="3815" y="327"/>
                  <a:pt x="3809" y="347"/>
                  <a:pt x="3824" y="354"/>
                </a:cubicBezTo>
                <a:cubicBezTo>
                  <a:pt x="3839" y="361"/>
                  <a:pt x="3878" y="350"/>
                  <a:pt x="3896" y="354"/>
                </a:cubicBezTo>
                <a:cubicBezTo>
                  <a:pt x="3914" y="358"/>
                  <a:pt x="3923" y="377"/>
                  <a:pt x="3934" y="380"/>
                </a:cubicBezTo>
                <a:cubicBezTo>
                  <a:pt x="3945" y="383"/>
                  <a:pt x="3953" y="367"/>
                  <a:pt x="3960" y="372"/>
                </a:cubicBezTo>
                <a:cubicBezTo>
                  <a:pt x="3967" y="377"/>
                  <a:pt x="3968" y="401"/>
                  <a:pt x="3978" y="408"/>
                </a:cubicBezTo>
                <a:cubicBezTo>
                  <a:pt x="3988" y="415"/>
                  <a:pt x="4010" y="405"/>
                  <a:pt x="4020" y="416"/>
                </a:cubicBezTo>
                <a:cubicBezTo>
                  <a:pt x="4030" y="427"/>
                  <a:pt x="4032" y="455"/>
                  <a:pt x="4040" y="472"/>
                </a:cubicBezTo>
                <a:cubicBezTo>
                  <a:pt x="4048" y="489"/>
                  <a:pt x="4050" y="511"/>
                  <a:pt x="4068" y="516"/>
                </a:cubicBezTo>
                <a:cubicBezTo>
                  <a:pt x="4086" y="521"/>
                  <a:pt x="4108" y="525"/>
                  <a:pt x="4150" y="500"/>
                </a:cubicBezTo>
                <a:cubicBezTo>
                  <a:pt x="4192" y="475"/>
                  <a:pt x="4293" y="379"/>
                  <a:pt x="4318" y="368"/>
                </a:cubicBezTo>
                <a:cubicBezTo>
                  <a:pt x="4343" y="357"/>
                  <a:pt x="4302" y="422"/>
                  <a:pt x="4300" y="436"/>
                </a:cubicBezTo>
                <a:cubicBezTo>
                  <a:pt x="4298" y="450"/>
                  <a:pt x="4305" y="444"/>
                  <a:pt x="4306" y="454"/>
                </a:cubicBezTo>
                <a:cubicBezTo>
                  <a:pt x="4307" y="464"/>
                  <a:pt x="4311" y="485"/>
                  <a:pt x="4308" y="496"/>
                </a:cubicBezTo>
                <a:cubicBezTo>
                  <a:pt x="4305" y="507"/>
                  <a:pt x="4291" y="496"/>
                  <a:pt x="4288" y="518"/>
                </a:cubicBezTo>
                <a:cubicBezTo>
                  <a:pt x="4285" y="540"/>
                  <a:pt x="4291" y="603"/>
                  <a:pt x="4288" y="628"/>
                </a:cubicBezTo>
                <a:cubicBezTo>
                  <a:pt x="4285" y="653"/>
                  <a:pt x="4273" y="653"/>
                  <a:pt x="4270" y="668"/>
                </a:cubicBezTo>
                <a:cubicBezTo>
                  <a:pt x="4267" y="683"/>
                  <a:pt x="4272" y="699"/>
                  <a:pt x="4270" y="718"/>
                </a:cubicBezTo>
                <a:cubicBezTo>
                  <a:pt x="4268" y="737"/>
                  <a:pt x="4276" y="773"/>
                  <a:pt x="4260" y="780"/>
                </a:cubicBezTo>
                <a:cubicBezTo>
                  <a:pt x="4244" y="787"/>
                  <a:pt x="4193" y="759"/>
                  <a:pt x="4176" y="762"/>
                </a:cubicBezTo>
                <a:cubicBezTo>
                  <a:pt x="4159" y="765"/>
                  <a:pt x="4165" y="788"/>
                  <a:pt x="4156" y="798"/>
                </a:cubicBezTo>
                <a:cubicBezTo>
                  <a:pt x="4147" y="808"/>
                  <a:pt x="4126" y="808"/>
                  <a:pt x="4124" y="820"/>
                </a:cubicBezTo>
                <a:cubicBezTo>
                  <a:pt x="4122" y="832"/>
                  <a:pt x="4134" y="840"/>
                  <a:pt x="4142" y="868"/>
                </a:cubicBezTo>
                <a:cubicBezTo>
                  <a:pt x="4150" y="896"/>
                  <a:pt x="4176" y="959"/>
                  <a:pt x="4174" y="988"/>
                </a:cubicBezTo>
                <a:cubicBezTo>
                  <a:pt x="4172" y="1017"/>
                  <a:pt x="4139" y="1030"/>
                  <a:pt x="4132" y="1044"/>
                </a:cubicBezTo>
                <a:cubicBezTo>
                  <a:pt x="4125" y="1058"/>
                  <a:pt x="4135" y="1067"/>
                  <a:pt x="4134" y="1072"/>
                </a:cubicBezTo>
                <a:cubicBezTo>
                  <a:pt x="4133" y="1077"/>
                  <a:pt x="4133" y="1083"/>
                  <a:pt x="4124" y="1076"/>
                </a:cubicBezTo>
                <a:cubicBezTo>
                  <a:pt x="4115" y="1069"/>
                  <a:pt x="4089" y="1026"/>
                  <a:pt x="4080" y="1030"/>
                </a:cubicBezTo>
                <a:cubicBezTo>
                  <a:pt x="4071" y="1034"/>
                  <a:pt x="4075" y="1086"/>
                  <a:pt x="4070" y="1098"/>
                </a:cubicBezTo>
                <a:cubicBezTo>
                  <a:pt x="4065" y="1110"/>
                  <a:pt x="4056" y="1094"/>
                  <a:pt x="4050" y="1102"/>
                </a:cubicBezTo>
                <a:cubicBezTo>
                  <a:pt x="4044" y="1110"/>
                  <a:pt x="4049" y="1134"/>
                  <a:pt x="4036" y="1144"/>
                </a:cubicBezTo>
                <a:cubicBezTo>
                  <a:pt x="4023" y="1154"/>
                  <a:pt x="3978" y="1147"/>
                  <a:pt x="3970" y="1160"/>
                </a:cubicBezTo>
                <a:cubicBezTo>
                  <a:pt x="3962" y="1173"/>
                  <a:pt x="3992" y="1213"/>
                  <a:pt x="3986" y="1224"/>
                </a:cubicBezTo>
                <a:cubicBezTo>
                  <a:pt x="3980" y="1235"/>
                  <a:pt x="3945" y="1230"/>
                  <a:pt x="3932" y="1226"/>
                </a:cubicBezTo>
                <a:cubicBezTo>
                  <a:pt x="3919" y="1222"/>
                  <a:pt x="3919" y="1206"/>
                  <a:pt x="3910" y="1202"/>
                </a:cubicBezTo>
                <a:cubicBezTo>
                  <a:pt x="3901" y="1198"/>
                  <a:pt x="3889" y="1191"/>
                  <a:pt x="3880" y="1204"/>
                </a:cubicBezTo>
                <a:cubicBezTo>
                  <a:pt x="3871" y="1217"/>
                  <a:pt x="3873" y="1255"/>
                  <a:pt x="3854" y="1282"/>
                </a:cubicBezTo>
                <a:cubicBezTo>
                  <a:pt x="3835" y="1309"/>
                  <a:pt x="3791" y="1338"/>
                  <a:pt x="3766" y="1364"/>
                </a:cubicBezTo>
                <a:cubicBezTo>
                  <a:pt x="3741" y="1390"/>
                  <a:pt x="3731" y="1418"/>
                  <a:pt x="3706" y="1438"/>
                </a:cubicBezTo>
                <a:cubicBezTo>
                  <a:pt x="3681" y="1458"/>
                  <a:pt x="3651" y="1457"/>
                  <a:pt x="3616" y="1482"/>
                </a:cubicBezTo>
                <a:cubicBezTo>
                  <a:pt x="3581" y="1507"/>
                  <a:pt x="3518" y="1575"/>
                  <a:pt x="3498" y="1586"/>
                </a:cubicBezTo>
                <a:cubicBezTo>
                  <a:pt x="3478" y="1597"/>
                  <a:pt x="3488" y="1562"/>
                  <a:pt x="3494" y="1550"/>
                </a:cubicBezTo>
                <a:cubicBezTo>
                  <a:pt x="3500" y="1538"/>
                  <a:pt x="3524" y="1536"/>
                  <a:pt x="3532" y="1514"/>
                </a:cubicBezTo>
                <a:cubicBezTo>
                  <a:pt x="3540" y="1492"/>
                  <a:pt x="3541" y="1446"/>
                  <a:pt x="3544" y="1418"/>
                </a:cubicBezTo>
                <a:cubicBezTo>
                  <a:pt x="3547" y="1390"/>
                  <a:pt x="3561" y="1358"/>
                  <a:pt x="3552" y="1344"/>
                </a:cubicBezTo>
                <a:cubicBezTo>
                  <a:pt x="3543" y="1330"/>
                  <a:pt x="3508" y="1324"/>
                  <a:pt x="3488" y="1336"/>
                </a:cubicBezTo>
                <a:cubicBezTo>
                  <a:pt x="3468" y="1348"/>
                  <a:pt x="3452" y="1387"/>
                  <a:pt x="3434" y="1414"/>
                </a:cubicBezTo>
                <a:cubicBezTo>
                  <a:pt x="3416" y="1441"/>
                  <a:pt x="3395" y="1475"/>
                  <a:pt x="3378" y="1500"/>
                </a:cubicBezTo>
                <a:cubicBezTo>
                  <a:pt x="3361" y="1525"/>
                  <a:pt x="3352" y="1551"/>
                  <a:pt x="3332" y="1562"/>
                </a:cubicBezTo>
                <a:cubicBezTo>
                  <a:pt x="3312" y="1573"/>
                  <a:pt x="3274" y="1553"/>
                  <a:pt x="3258" y="1566"/>
                </a:cubicBezTo>
                <a:cubicBezTo>
                  <a:pt x="3242" y="1579"/>
                  <a:pt x="3230" y="1619"/>
                  <a:pt x="3236" y="1638"/>
                </a:cubicBezTo>
                <a:cubicBezTo>
                  <a:pt x="3242" y="1657"/>
                  <a:pt x="3277" y="1674"/>
                  <a:pt x="3296" y="1680"/>
                </a:cubicBezTo>
                <a:cubicBezTo>
                  <a:pt x="3315" y="1686"/>
                  <a:pt x="3334" y="1659"/>
                  <a:pt x="3348" y="1674"/>
                </a:cubicBezTo>
                <a:cubicBezTo>
                  <a:pt x="3362" y="1689"/>
                  <a:pt x="3359" y="1767"/>
                  <a:pt x="3380" y="1770"/>
                </a:cubicBezTo>
                <a:cubicBezTo>
                  <a:pt x="3401" y="1773"/>
                  <a:pt x="3429" y="1703"/>
                  <a:pt x="3474" y="1694"/>
                </a:cubicBezTo>
                <a:cubicBezTo>
                  <a:pt x="3519" y="1685"/>
                  <a:pt x="3621" y="1702"/>
                  <a:pt x="3648" y="1714"/>
                </a:cubicBezTo>
                <a:cubicBezTo>
                  <a:pt x="3675" y="1726"/>
                  <a:pt x="3647" y="1757"/>
                  <a:pt x="3634" y="1766"/>
                </a:cubicBezTo>
                <a:cubicBezTo>
                  <a:pt x="3621" y="1775"/>
                  <a:pt x="3598" y="1757"/>
                  <a:pt x="3572" y="1770"/>
                </a:cubicBezTo>
                <a:cubicBezTo>
                  <a:pt x="3546" y="1783"/>
                  <a:pt x="3502" y="1816"/>
                  <a:pt x="3478" y="1844"/>
                </a:cubicBezTo>
                <a:cubicBezTo>
                  <a:pt x="3454" y="1872"/>
                  <a:pt x="3438" y="1904"/>
                  <a:pt x="3430" y="1940"/>
                </a:cubicBezTo>
                <a:cubicBezTo>
                  <a:pt x="3422" y="1976"/>
                  <a:pt x="3422" y="2038"/>
                  <a:pt x="3432" y="2062"/>
                </a:cubicBezTo>
                <a:cubicBezTo>
                  <a:pt x="3442" y="2086"/>
                  <a:pt x="3469" y="2058"/>
                  <a:pt x="3488" y="2086"/>
                </a:cubicBezTo>
                <a:cubicBezTo>
                  <a:pt x="3507" y="2114"/>
                  <a:pt x="3521" y="2195"/>
                  <a:pt x="3546" y="2232"/>
                </a:cubicBezTo>
                <a:cubicBezTo>
                  <a:pt x="3571" y="2269"/>
                  <a:pt x="3629" y="2293"/>
                  <a:pt x="3638" y="2310"/>
                </a:cubicBezTo>
                <a:cubicBezTo>
                  <a:pt x="3647" y="2327"/>
                  <a:pt x="3597" y="2321"/>
                  <a:pt x="3600" y="2332"/>
                </a:cubicBezTo>
                <a:cubicBezTo>
                  <a:pt x="3603" y="2343"/>
                  <a:pt x="3665" y="2353"/>
                  <a:pt x="3658" y="2378"/>
                </a:cubicBezTo>
                <a:cubicBezTo>
                  <a:pt x="3651" y="2403"/>
                  <a:pt x="3559" y="2463"/>
                  <a:pt x="3556" y="2484"/>
                </a:cubicBezTo>
                <a:cubicBezTo>
                  <a:pt x="3553" y="2505"/>
                  <a:pt x="3616" y="2500"/>
                  <a:pt x="3638" y="2506"/>
                </a:cubicBezTo>
                <a:cubicBezTo>
                  <a:pt x="3660" y="2512"/>
                  <a:pt x="3688" y="2487"/>
                  <a:pt x="3688" y="2520"/>
                </a:cubicBezTo>
                <a:cubicBezTo>
                  <a:pt x="3688" y="2553"/>
                  <a:pt x="3656" y="2666"/>
                  <a:pt x="3640" y="2702"/>
                </a:cubicBezTo>
                <a:cubicBezTo>
                  <a:pt x="3624" y="2738"/>
                  <a:pt x="3602" y="2715"/>
                  <a:pt x="3592" y="2738"/>
                </a:cubicBezTo>
                <a:cubicBezTo>
                  <a:pt x="3582" y="2761"/>
                  <a:pt x="3589" y="2805"/>
                  <a:pt x="3578" y="2840"/>
                </a:cubicBezTo>
                <a:cubicBezTo>
                  <a:pt x="3567" y="2875"/>
                  <a:pt x="3563" y="2894"/>
                  <a:pt x="3526" y="2948"/>
                </a:cubicBezTo>
                <a:cubicBezTo>
                  <a:pt x="3489" y="3002"/>
                  <a:pt x="3394" y="3118"/>
                  <a:pt x="3354" y="3166"/>
                </a:cubicBezTo>
                <a:cubicBezTo>
                  <a:pt x="3314" y="3214"/>
                  <a:pt x="3299" y="3229"/>
                  <a:pt x="3286" y="3234"/>
                </a:cubicBezTo>
                <a:cubicBezTo>
                  <a:pt x="3273" y="3239"/>
                  <a:pt x="3286" y="3186"/>
                  <a:pt x="3278" y="3194"/>
                </a:cubicBezTo>
                <a:cubicBezTo>
                  <a:pt x="3270" y="3202"/>
                  <a:pt x="3271" y="3262"/>
                  <a:pt x="3238" y="3284"/>
                </a:cubicBezTo>
                <a:cubicBezTo>
                  <a:pt x="3205" y="3306"/>
                  <a:pt x="3123" y="3311"/>
                  <a:pt x="3078" y="3326"/>
                </a:cubicBezTo>
                <a:cubicBezTo>
                  <a:pt x="3033" y="3341"/>
                  <a:pt x="2994" y="3357"/>
                  <a:pt x="2968" y="3372"/>
                </a:cubicBezTo>
                <a:cubicBezTo>
                  <a:pt x="2942" y="3387"/>
                  <a:pt x="2937" y="3407"/>
                  <a:pt x="2922" y="3416"/>
                </a:cubicBezTo>
                <a:cubicBezTo>
                  <a:pt x="2907" y="3425"/>
                  <a:pt x="2886" y="3429"/>
                  <a:pt x="2876" y="3428"/>
                </a:cubicBezTo>
                <a:cubicBezTo>
                  <a:pt x="2866" y="3427"/>
                  <a:pt x="2864" y="3406"/>
                  <a:pt x="2860" y="3408"/>
                </a:cubicBezTo>
                <a:cubicBezTo>
                  <a:pt x="2856" y="3410"/>
                  <a:pt x="2860" y="3437"/>
                  <a:pt x="2854" y="3440"/>
                </a:cubicBezTo>
                <a:cubicBezTo>
                  <a:pt x="2848" y="3443"/>
                  <a:pt x="2832" y="3422"/>
                  <a:pt x="2822" y="3424"/>
                </a:cubicBezTo>
                <a:cubicBezTo>
                  <a:pt x="2812" y="3426"/>
                  <a:pt x="2807" y="3447"/>
                  <a:pt x="2796" y="3454"/>
                </a:cubicBezTo>
                <a:cubicBezTo>
                  <a:pt x="2785" y="3461"/>
                  <a:pt x="2770" y="3454"/>
                  <a:pt x="2754" y="3464"/>
                </a:cubicBezTo>
                <a:cubicBezTo>
                  <a:pt x="2738" y="3474"/>
                  <a:pt x="2716" y="3506"/>
                  <a:pt x="2700" y="3514"/>
                </a:cubicBezTo>
                <a:cubicBezTo>
                  <a:pt x="2684" y="3522"/>
                  <a:pt x="2660" y="3507"/>
                  <a:pt x="2656" y="3510"/>
                </a:cubicBezTo>
                <a:cubicBezTo>
                  <a:pt x="2652" y="3513"/>
                  <a:pt x="2674" y="3523"/>
                  <a:pt x="2678" y="3530"/>
                </a:cubicBezTo>
                <a:cubicBezTo>
                  <a:pt x="2682" y="3537"/>
                  <a:pt x="2674" y="3546"/>
                  <a:pt x="2678" y="3554"/>
                </a:cubicBezTo>
                <a:cubicBezTo>
                  <a:pt x="2682" y="3562"/>
                  <a:pt x="2702" y="3571"/>
                  <a:pt x="2704" y="3576"/>
                </a:cubicBezTo>
                <a:cubicBezTo>
                  <a:pt x="2706" y="3581"/>
                  <a:pt x="2696" y="3583"/>
                  <a:pt x="2688" y="3586"/>
                </a:cubicBezTo>
                <a:cubicBezTo>
                  <a:pt x="2680" y="3589"/>
                  <a:pt x="2670" y="3592"/>
                  <a:pt x="2658" y="3594"/>
                </a:cubicBezTo>
                <a:cubicBezTo>
                  <a:pt x="2646" y="3596"/>
                  <a:pt x="2618" y="3602"/>
                  <a:pt x="2614" y="3596"/>
                </a:cubicBezTo>
                <a:cubicBezTo>
                  <a:pt x="2610" y="3590"/>
                  <a:pt x="2634" y="3565"/>
                  <a:pt x="2634" y="3558"/>
                </a:cubicBezTo>
                <a:cubicBezTo>
                  <a:pt x="2634" y="3551"/>
                  <a:pt x="2618" y="3565"/>
                  <a:pt x="2614" y="3556"/>
                </a:cubicBezTo>
                <a:cubicBezTo>
                  <a:pt x="2610" y="3547"/>
                  <a:pt x="2608" y="3521"/>
                  <a:pt x="2610" y="3506"/>
                </a:cubicBezTo>
                <a:cubicBezTo>
                  <a:pt x="2612" y="3491"/>
                  <a:pt x="2626" y="3471"/>
                  <a:pt x="2626" y="3464"/>
                </a:cubicBezTo>
                <a:cubicBezTo>
                  <a:pt x="2626" y="3457"/>
                  <a:pt x="2613" y="3466"/>
                  <a:pt x="2608" y="3462"/>
                </a:cubicBezTo>
                <a:cubicBezTo>
                  <a:pt x="2603" y="3458"/>
                  <a:pt x="2601" y="3442"/>
                  <a:pt x="2598" y="3442"/>
                </a:cubicBezTo>
                <a:cubicBezTo>
                  <a:pt x="2595" y="3442"/>
                  <a:pt x="2602" y="3464"/>
                  <a:pt x="2588" y="3462"/>
                </a:cubicBezTo>
                <a:cubicBezTo>
                  <a:pt x="2574" y="3460"/>
                  <a:pt x="2533" y="3429"/>
                  <a:pt x="2516" y="3428"/>
                </a:cubicBezTo>
                <a:cubicBezTo>
                  <a:pt x="2499" y="3427"/>
                  <a:pt x="2498" y="3451"/>
                  <a:pt x="2484" y="3454"/>
                </a:cubicBezTo>
                <a:cubicBezTo>
                  <a:pt x="2470" y="3457"/>
                  <a:pt x="2452" y="3450"/>
                  <a:pt x="2434" y="3444"/>
                </a:cubicBezTo>
                <a:cubicBezTo>
                  <a:pt x="2416" y="3438"/>
                  <a:pt x="2393" y="3430"/>
                  <a:pt x="2376" y="3418"/>
                </a:cubicBezTo>
                <a:cubicBezTo>
                  <a:pt x="2359" y="3406"/>
                  <a:pt x="2341" y="3387"/>
                  <a:pt x="2334" y="3374"/>
                </a:cubicBezTo>
                <a:cubicBezTo>
                  <a:pt x="2327" y="3361"/>
                  <a:pt x="2333" y="3352"/>
                  <a:pt x="2336" y="3342"/>
                </a:cubicBezTo>
                <a:cubicBezTo>
                  <a:pt x="2339" y="3332"/>
                  <a:pt x="2363" y="3322"/>
                  <a:pt x="2352" y="3314"/>
                </a:cubicBezTo>
                <a:cubicBezTo>
                  <a:pt x="2341" y="3306"/>
                  <a:pt x="2291" y="3305"/>
                  <a:pt x="2270" y="3294"/>
                </a:cubicBezTo>
                <a:cubicBezTo>
                  <a:pt x="2249" y="3283"/>
                  <a:pt x="2244" y="3247"/>
                  <a:pt x="2224" y="3248"/>
                </a:cubicBezTo>
                <a:cubicBezTo>
                  <a:pt x="2204" y="3249"/>
                  <a:pt x="2167" y="3295"/>
                  <a:pt x="2148" y="3302"/>
                </a:cubicBezTo>
                <a:cubicBezTo>
                  <a:pt x="2129" y="3309"/>
                  <a:pt x="2121" y="3288"/>
                  <a:pt x="2112" y="3292"/>
                </a:cubicBezTo>
                <a:cubicBezTo>
                  <a:pt x="2103" y="3296"/>
                  <a:pt x="2097" y="3324"/>
                  <a:pt x="2092" y="3326"/>
                </a:cubicBezTo>
                <a:cubicBezTo>
                  <a:pt x="2087" y="3328"/>
                  <a:pt x="2085" y="3308"/>
                  <a:pt x="2080" y="3306"/>
                </a:cubicBezTo>
                <a:cubicBezTo>
                  <a:pt x="2075" y="3304"/>
                  <a:pt x="2068" y="3316"/>
                  <a:pt x="2062" y="3314"/>
                </a:cubicBezTo>
                <a:cubicBezTo>
                  <a:pt x="2056" y="3312"/>
                  <a:pt x="2051" y="3296"/>
                  <a:pt x="2042" y="3296"/>
                </a:cubicBezTo>
                <a:cubicBezTo>
                  <a:pt x="2033" y="3296"/>
                  <a:pt x="2022" y="3314"/>
                  <a:pt x="2010" y="3312"/>
                </a:cubicBezTo>
                <a:cubicBezTo>
                  <a:pt x="1998" y="3310"/>
                  <a:pt x="1983" y="3283"/>
                  <a:pt x="1968" y="3284"/>
                </a:cubicBezTo>
                <a:cubicBezTo>
                  <a:pt x="1953" y="3285"/>
                  <a:pt x="1938" y="3312"/>
                  <a:pt x="1922" y="3318"/>
                </a:cubicBezTo>
                <a:cubicBezTo>
                  <a:pt x="1906" y="3324"/>
                  <a:pt x="1879" y="3300"/>
                  <a:pt x="1874" y="3318"/>
                </a:cubicBezTo>
                <a:cubicBezTo>
                  <a:pt x="1869" y="3336"/>
                  <a:pt x="1900" y="3408"/>
                  <a:pt x="1894" y="3428"/>
                </a:cubicBezTo>
                <a:cubicBezTo>
                  <a:pt x="1888" y="3448"/>
                  <a:pt x="1848" y="3447"/>
                  <a:pt x="1836" y="3438"/>
                </a:cubicBezTo>
                <a:cubicBezTo>
                  <a:pt x="1824" y="3429"/>
                  <a:pt x="1830" y="3382"/>
                  <a:pt x="1820" y="3376"/>
                </a:cubicBezTo>
                <a:cubicBezTo>
                  <a:pt x="1810" y="3370"/>
                  <a:pt x="1792" y="3400"/>
                  <a:pt x="1776" y="3402"/>
                </a:cubicBezTo>
                <a:cubicBezTo>
                  <a:pt x="1760" y="3404"/>
                  <a:pt x="1733" y="3397"/>
                  <a:pt x="1724" y="3386"/>
                </a:cubicBezTo>
                <a:cubicBezTo>
                  <a:pt x="1715" y="3375"/>
                  <a:pt x="1732" y="3348"/>
                  <a:pt x="1720" y="3336"/>
                </a:cubicBezTo>
                <a:cubicBezTo>
                  <a:pt x="1708" y="3324"/>
                  <a:pt x="1659" y="3328"/>
                  <a:pt x="1652" y="3316"/>
                </a:cubicBezTo>
                <a:cubicBezTo>
                  <a:pt x="1645" y="3304"/>
                  <a:pt x="1671" y="3282"/>
                  <a:pt x="1678" y="3266"/>
                </a:cubicBezTo>
                <a:cubicBezTo>
                  <a:pt x="1685" y="3250"/>
                  <a:pt x="1701" y="3232"/>
                  <a:pt x="1696" y="3220"/>
                </a:cubicBezTo>
                <a:cubicBezTo>
                  <a:pt x="1691" y="3208"/>
                  <a:pt x="1657" y="3211"/>
                  <a:pt x="1646" y="3196"/>
                </a:cubicBezTo>
                <a:cubicBezTo>
                  <a:pt x="1635" y="3181"/>
                  <a:pt x="1631" y="3144"/>
                  <a:pt x="1632" y="3128"/>
                </a:cubicBezTo>
                <a:cubicBezTo>
                  <a:pt x="1633" y="3112"/>
                  <a:pt x="1660" y="3105"/>
                  <a:pt x="1654" y="3100"/>
                </a:cubicBezTo>
                <a:cubicBezTo>
                  <a:pt x="1648" y="3095"/>
                  <a:pt x="1614" y="3097"/>
                  <a:pt x="1594" y="3100"/>
                </a:cubicBezTo>
                <a:cubicBezTo>
                  <a:pt x="1574" y="3103"/>
                  <a:pt x="1542" y="3126"/>
                  <a:pt x="1536" y="3120"/>
                </a:cubicBezTo>
                <a:cubicBezTo>
                  <a:pt x="1530" y="3114"/>
                  <a:pt x="1557" y="3080"/>
                  <a:pt x="1558" y="3066"/>
                </a:cubicBezTo>
                <a:cubicBezTo>
                  <a:pt x="1559" y="3052"/>
                  <a:pt x="1543" y="3045"/>
                  <a:pt x="1544" y="3034"/>
                </a:cubicBezTo>
                <a:cubicBezTo>
                  <a:pt x="1545" y="3023"/>
                  <a:pt x="1563" y="3011"/>
                  <a:pt x="1566" y="3002"/>
                </a:cubicBezTo>
                <a:cubicBezTo>
                  <a:pt x="1569" y="2993"/>
                  <a:pt x="1559" y="2988"/>
                  <a:pt x="1564" y="2982"/>
                </a:cubicBezTo>
                <a:cubicBezTo>
                  <a:pt x="1569" y="2976"/>
                  <a:pt x="1589" y="2975"/>
                  <a:pt x="1596" y="2968"/>
                </a:cubicBezTo>
                <a:cubicBezTo>
                  <a:pt x="1603" y="2961"/>
                  <a:pt x="1599" y="2947"/>
                  <a:pt x="1608" y="2938"/>
                </a:cubicBezTo>
                <a:cubicBezTo>
                  <a:pt x="1617" y="2929"/>
                  <a:pt x="1641" y="2938"/>
                  <a:pt x="1652" y="2916"/>
                </a:cubicBezTo>
                <a:cubicBezTo>
                  <a:pt x="1663" y="2894"/>
                  <a:pt x="1672" y="2835"/>
                  <a:pt x="1676" y="2806"/>
                </a:cubicBezTo>
                <a:cubicBezTo>
                  <a:pt x="1680" y="2777"/>
                  <a:pt x="1682" y="2755"/>
                  <a:pt x="1676" y="2742"/>
                </a:cubicBezTo>
                <a:cubicBezTo>
                  <a:pt x="1670" y="2729"/>
                  <a:pt x="1647" y="2737"/>
                  <a:pt x="1640" y="2726"/>
                </a:cubicBezTo>
                <a:cubicBezTo>
                  <a:pt x="1633" y="2715"/>
                  <a:pt x="1642" y="2691"/>
                  <a:pt x="1636" y="2674"/>
                </a:cubicBezTo>
                <a:cubicBezTo>
                  <a:pt x="1630" y="2657"/>
                  <a:pt x="1611" y="2624"/>
                  <a:pt x="1602" y="2622"/>
                </a:cubicBezTo>
                <a:cubicBezTo>
                  <a:pt x="1593" y="2620"/>
                  <a:pt x="1587" y="2647"/>
                  <a:pt x="1580" y="2660"/>
                </a:cubicBezTo>
                <a:cubicBezTo>
                  <a:pt x="1573" y="2673"/>
                  <a:pt x="1582" y="2705"/>
                  <a:pt x="1562" y="2700"/>
                </a:cubicBezTo>
                <a:cubicBezTo>
                  <a:pt x="1542" y="2695"/>
                  <a:pt x="1489" y="2642"/>
                  <a:pt x="1462" y="2632"/>
                </a:cubicBezTo>
                <a:cubicBezTo>
                  <a:pt x="1435" y="2622"/>
                  <a:pt x="1419" y="2632"/>
                  <a:pt x="1400" y="2640"/>
                </a:cubicBezTo>
                <a:cubicBezTo>
                  <a:pt x="1381" y="2648"/>
                  <a:pt x="1368" y="2671"/>
                  <a:pt x="1350" y="2678"/>
                </a:cubicBezTo>
                <a:cubicBezTo>
                  <a:pt x="1332" y="2685"/>
                  <a:pt x="1311" y="2674"/>
                  <a:pt x="1292" y="2684"/>
                </a:cubicBezTo>
                <a:cubicBezTo>
                  <a:pt x="1273" y="2694"/>
                  <a:pt x="1257" y="2730"/>
                  <a:pt x="1236" y="2736"/>
                </a:cubicBezTo>
                <a:cubicBezTo>
                  <a:pt x="1215" y="2742"/>
                  <a:pt x="1190" y="2726"/>
                  <a:pt x="1168" y="2720"/>
                </a:cubicBezTo>
                <a:cubicBezTo>
                  <a:pt x="1146" y="2714"/>
                  <a:pt x="1115" y="2711"/>
                  <a:pt x="1104" y="2700"/>
                </a:cubicBezTo>
                <a:cubicBezTo>
                  <a:pt x="1093" y="2689"/>
                  <a:pt x="1108" y="2666"/>
                  <a:pt x="1104" y="2654"/>
                </a:cubicBezTo>
                <a:cubicBezTo>
                  <a:pt x="1100" y="2642"/>
                  <a:pt x="1086" y="2641"/>
                  <a:pt x="1082" y="2630"/>
                </a:cubicBezTo>
                <a:cubicBezTo>
                  <a:pt x="1078" y="2619"/>
                  <a:pt x="1086" y="2591"/>
                  <a:pt x="1078" y="2584"/>
                </a:cubicBezTo>
                <a:cubicBezTo>
                  <a:pt x="1070" y="2577"/>
                  <a:pt x="1054" y="2595"/>
                  <a:pt x="1034" y="2586"/>
                </a:cubicBezTo>
                <a:cubicBezTo>
                  <a:pt x="1014" y="2577"/>
                  <a:pt x="981" y="2536"/>
                  <a:pt x="956" y="2532"/>
                </a:cubicBezTo>
                <a:cubicBezTo>
                  <a:pt x="931" y="2528"/>
                  <a:pt x="901" y="2550"/>
                  <a:pt x="886" y="2564"/>
                </a:cubicBezTo>
                <a:cubicBezTo>
                  <a:pt x="871" y="2578"/>
                  <a:pt x="873" y="2613"/>
                  <a:pt x="866" y="2618"/>
                </a:cubicBezTo>
                <a:cubicBezTo>
                  <a:pt x="859" y="2623"/>
                  <a:pt x="846" y="2609"/>
                  <a:pt x="842" y="2594"/>
                </a:cubicBezTo>
                <a:cubicBezTo>
                  <a:pt x="838" y="2579"/>
                  <a:pt x="861" y="2538"/>
                  <a:pt x="842" y="2526"/>
                </a:cubicBezTo>
                <a:cubicBezTo>
                  <a:pt x="823" y="2514"/>
                  <a:pt x="754" y="2531"/>
                  <a:pt x="726" y="2520"/>
                </a:cubicBezTo>
                <a:cubicBezTo>
                  <a:pt x="698" y="2509"/>
                  <a:pt x="688" y="2467"/>
                  <a:pt x="676" y="2462"/>
                </a:cubicBezTo>
                <a:cubicBezTo>
                  <a:pt x="664" y="2457"/>
                  <a:pt x="660" y="2493"/>
                  <a:pt x="654" y="2492"/>
                </a:cubicBezTo>
                <a:cubicBezTo>
                  <a:pt x="648" y="2491"/>
                  <a:pt x="648" y="2457"/>
                  <a:pt x="642" y="2454"/>
                </a:cubicBezTo>
                <a:cubicBezTo>
                  <a:pt x="636" y="2451"/>
                  <a:pt x="622" y="2475"/>
                  <a:pt x="618" y="2472"/>
                </a:cubicBezTo>
                <a:cubicBezTo>
                  <a:pt x="614" y="2469"/>
                  <a:pt x="620" y="2442"/>
                  <a:pt x="616" y="2434"/>
                </a:cubicBezTo>
                <a:cubicBezTo>
                  <a:pt x="612" y="2426"/>
                  <a:pt x="603" y="2429"/>
                  <a:pt x="592" y="2424"/>
                </a:cubicBezTo>
                <a:cubicBezTo>
                  <a:pt x="581" y="2419"/>
                  <a:pt x="555" y="2412"/>
                  <a:pt x="552" y="2404"/>
                </a:cubicBezTo>
                <a:cubicBezTo>
                  <a:pt x="549" y="2396"/>
                  <a:pt x="577" y="2382"/>
                  <a:pt x="572" y="2376"/>
                </a:cubicBezTo>
                <a:cubicBezTo>
                  <a:pt x="567" y="2370"/>
                  <a:pt x="532" y="2379"/>
                  <a:pt x="520" y="2370"/>
                </a:cubicBezTo>
                <a:cubicBezTo>
                  <a:pt x="508" y="2361"/>
                  <a:pt x="507" y="2339"/>
                  <a:pt x="502" y="2324"/>
                </a:cubicBezTo>
                <a:cubicBezTo>
                  <a:pt x="497" y="2309"/>
                  <a:pt x="501" y="2286"/>
                  <a:pt x="492" y="2278"/>
                </a:cubicBezTo>
                <a:cubicBezTo>
                  <a:pt x="483" y="2270"/>
                  <a:pt x="470" y="2302"/>
                  <a:pt x="448" y="2278"/>
                </a:cubicBezTo>
                <a:cubicBezTo>
                  <a:pt x="426" y="2254"/>
                  <a:pt x="378" y="2159"/>
                  <a:pt x="358" y="2132"/>
                </a:cubicBezTo>
                <a:cubicBezTo>
                  <a:pt x="338" y="2105"/>
                  <a:pt x="336" y="2123"/>
                  <a:pt x="328" y="2118"/>
                </a:cubicBezTo>
                <a:cubicBezTo>
                  <a:pt x="320" y="2113"/>
                  <a:pt x="315" y="2101"/>
                  <a:pt x="308" y="2104"/>
                </a:cubicBezTo>
                <a:cubicBezTo>
                  <a:pt x="301" y="2107"/>
                  <a:pt x="302" y="2147"/>
                  <a:pt x="284" y="2136"/>
                </a:cubicBezTo>
                <a:cubicBezTo>
                  <a:pt x="266" y="2125"/>
                  <a:pt x="218" y="2062"/>
                  <a:pt x="202" y="2038"/>
                </a:cubicBezTo>
                <a:cubicBezTo>
                  <a:pt x="186" y="2014"/>
                  <a:pt x="200" y="2006"/>
                  <a:pt x="190" y="1994"/>
                </a:cubicBezTo>
                <a:cubicBezTo>
                  <a:pt x="180" y="1982"/>
                  <a:pt x="149" y="1984"/>
                  <a:pt x="142" y="1964"/>
                </a:cubicBezTo>
                <a:cubicBezTo>
                  <a:pt x="135" y="1944"/>
                  <a:pt x="146" y="1899"/>
                  <a:pt x="146" y="1872"/>
                </a:cubicBezTo>
                <a:cubicBezTo>
                  <a:pt x="146" y="1845"/>
                  <a:pt x="136" y="1817"/>
                  <a:pt x="140" y="1804"/>
                </a:cubicBezTo>
                <a:cubicBezTo>
                  <a:pt x="144" y="1791"/>
                  <a:pt x="166" y="1790"/>
                  <a:pt x="170" y="1796"/>
                </a:cubicBezTo>
                <a:cubicBezTo>
                  <a:pt x="174" y="1802"/>
                  <a:pt x="159" y="1840"/>
                  <a:pt x="166" y="1842"/>
                </a:cubicBezTo>
                <a:cubicBezTo>
                  <a:pt x="173" y="1844"/>
                  <a:pt x="206" y="1834"/>
                  <a:pt x="212" y="1810"/>
                </a:cubicBezTo>
                <a:cubicBezTo>
                  <a:pt x="218" y="1786"/>
                  <a:pt x="205" y="1725"/>
                  <a:pt x="204" y="1700"/>
                </a:cubicBezTo>
                <a:cubicBezTo>
                  <a:pt x="203" y="1675"/>
                  <a:pt x="202" y="1673"/>
                  <a:pt x="208" y="1662"/>
                </a:cubicBezTo>
                <a:cubicBezTo>
                  <a:pt x="214" y="1651"/>
                  <a:pt x="242" y="1647"/>
                  <a:pt x="242" y="1634"/>
                </a:cubicBezTo>
                <a:cubicBezTo>
                  <a:pt x="242" y="1621"/>
                  <a:pt x="212" y="1599"/>
                  <a:pt x="206" y="1586"/>
                </a:cubicBezTo>
                <a:cubicBezTo>
                  <a:pt x="200" y="1573"/>
                  <a:pt x="206" y="1566"/>
                  <a:pt x="206" y="1556"/>
                </a:cubicBezTo>
                <a:cubicBezTo>
                  <a:pt x="206" y="1546"/>
                  <a:pt x="203" y="1535"/>
                  <a:pt x="204" y="1524"/>
                </a:cubicBezTo>
                <a:cubicBezTo>
                  <a:pt x="205" y="1513"/>
                  <a:pt x="225" y="1503"/>
                  <a:pt x="214" y="1492"/>
                </a:cubicBezTo>
                <a:cubicBezTo>
                  <a:pt x="203" y="1481"/>
                  <a:pt x="152" y="1473"/>
                  <a:pt x="136" y="1460"/>
                </a:cubicBezTo>
                <a:cubicBezTo>
                  <a:pt x="120" y="1447"/>
                  <a:pt x="125" y="1420"/>
                  <a:pt x="118" y="1412"/>
                </a:cubicBezTo>
                <a:cubicBezTo>
                  <a:pt x="111" y="1404"/>
                  <a:pt x="100" y="1416"/>
                  <a:pt x="94" y="1410"/>
                </a:cubicBezTo>
                <a:cubicBezTo>
                  <a:pt x="88" y="1404"/>
                  <a:pt x="82" y="1388"/>
                  <a:pt x="82" y="1374"/>
                </a:cubicBezTo>
                <a:cubicBezTo>
                  <a:pt x="82" y="1360"/>
                  <a:pt x="98" y="1344"/>
                  <a:pt x="94" y="1324"/>
                </a:cubicBezTo>
                <a:cubicBezTo>
                  <a:pt x="90" y="1304"/>
                  <a:pt x="70" y="1271"/>
                  <a:pt x="56" y="1256"/>
                </a:cubicBezTo>
                <a:cubicBezTo>
                  <a:pt x="42" y="1241"/>
                  <a:pt x="18" y="1243"/>
                  <a:pt x="10" y="1236"/>
                </a:cubicBezTo>
                <a:cubicBezTo>
                  <a:pt x="2" y="1229"/>
                  <a:pt x="0" y="1219"/>
                  <a:pt x="8" y="1214"/>
                </a:cubicBezTo>
                <a:cubicBezTo>
                  <a:pt x="16" y="1209"/>
                  <a:pt x="45" y="1228"/>
                  <a:pt x="56" y="1206"/>
                </a:cubicBezTo>
                <a:cubicBezTo>
                  <a:pt x="67" y="1184"/>
                  <a:pt x="79" y="1103"/>
                  <a:pt x="72" y="1080"/>
                </a:cubicBezTo>
                <a:cubicBezTo>
                  <a:pt x="65" y="1057"/>
                  <a:pt x="27" y="1076"/>
                  <a:pt x="16" y="1068"/>
                </a:cubicBezTo>
                <a:cubicBezTo>
                  <a:pt x="5" y="1060"/>
                  <a:pt x="2" y="1040"/>
                  <a:pt x="4" y="1032"/>
                </a:cubicBezTo>
                <a:cubicBezTo>
                  <a:pt x="6" y="1024"/>
                  <a:pt x="24" y="1029"/>
                  <a:pt x="26" y="1018"/>
                </a:cubicBezTo>
                <a:cubicBezTo>
                  <a:pt x="28" y="1007"/>
                  <a:pt x="12" y="973"/>
                  <a:pt x="16" y="964"/>
                </a:cubicBezTo>
                <a:cubicBezTo>
                  <a:pt x="20" y="955"/>
                  <a:pt x="40" y="974"/>
                  <a:pt x="50" y="966"/>
                </a:cubicBezTo>
                <a:cubicBezTo>
                  <a:pt x="60" y="958"/>
                  <a:pt x="66" y="924"/>
                  <a:pt x="78" y="916"/>
                </a:cubicBezTo>
                <a:cubicBezTo>
                  <a:pt x="90" y="908"/>
                  <a:pt x="115" y="923"/>
                  <a:pt x="126" y="918"/>
                </a:cubicBezTo>
                <a:cubicBezTo>
                  <a:pt x="137" y="913"/>
                  <a:pt x="136" y="885"/>
                  <a:pt x="144" y="884"/>
                </a:cubicBezTo>
                <a:cubicBezTo>
                  <a:pt x="152" y="883"/>
                  <a:pt x="165" y="909"/>
                  <a:pt x="176" y="912"/>
                </a:cubicBezTo>
                <a:cubicBezTo>
                  <a:pt x="187" y="915"/>
                  <a:pt x="203" y="895"/>
                  <a:pt x="208" y="900"/>
                </a:cubicBezTo>
                <a:cubicBezTo>
                  <a:pt x="213" y="905"/>
                  <a:pt x="197" y="932"/>
                  <a:pt x="206" y="940"/>
                </a:cubicBezTo>
                <a:cubicBezTo>
                  <a:pt x="215" y="948"/>
                  <a:pt x="242" y="954"/>
                  <a:pt x="260" y="948"/>
                </a:cubicBezTo>
                <a:cubicBezTo>
                  <a:pt x="278" y="942"/>
                  <a:pt x="300" y="911"/>
                  <a:pt x="316" y="904"/>
                </a:cubicBezTo>
                <a:cubicBezTo>
                  <a:pt x="332" y="897"/>
                  <a:pt x="342" y="910"/>
                  <a:pt x="356" y="906"/>
                </a:cubicBezTo>
                <a:cubicBezTo>
                  <a:pt x="370" y="902"/>
                  <a:pt x="385" y="882"/>
                  <a:pt x="398" y="880"/>
                </a:cubicBezTo>
                <a:cubicBezTo>
                  <a:pt x="411" y="878"/>
                  <a:pt x="412" y="896"/>
                  <a:pt x="436" y="896"/>
                </a:cubicBezTo>
                <a:cubicBezTo>
                  <a:pt x="460" y="896"/>
                  <a:pt x="519" y="893"/>
                  <a:pt x="544" y="878"/>
                </a:cubicBezTo>
                <a:cubicBezTo>
                  <a:pt x="569" y="863"/>
                  <a:pt x="576" y="817"/>
                  <a:pt x="586" y="804"/>
                </a:cubicBezTo>
                <a:cubicBezTo>
                  <a:pt x="596" y="791"/>
                  <a:pt x="599" y="804"/>
                  <a:pt x="604" y="800"/>
                </a:cubicBezTo>
                <a:cubicBezTo>
                  <a:pt x="609" y="796"/>
                  <a:pt x="610" y="784"/>
                  <a:pt x="616" y="780"/>
                </a:cubicBezTo>
                <a:cubicBezTo>
                  <a:pt x="622" y="776"/>
                  <a:pt x="635" y="799"/>
                  <a:pt x="642" y="776"/>
                </a:cubicBezTo>
                <a:cubicBezTo>
                  <a:pt x="649" y="753"/>
                  <a:pt x="656" y="673"/>
                  <a:pt x="656" y="640"/>
                </a:cubicBezTo>
                <a:cubicBezTo>
                  <a:pt x="656" y="607"/>
                  <a:pt x="623" y="590"/>
                  <a:pt x="642" y="580"/>
                </a:cubicBezTo>
                <a:cubicBezTo>
                  <a:pt x="661" y="570"/>
                  <a:pt x="739" y="577"/>
                  <a:pt x="768" y="580"/>
                </a:cubicBezTo>
                <a:cubicBezTo>
                  <a:pt x="797" y="583"/>
                  <a:pt x="805" y="606"/>
                  <a:pt x="814" y="600"/>
                </a:cubicBezTo>
                <a:cubicBezTo>
                  <a:pt x="823" y="594"/>
                  <a:pt x="810" y="574"/>
                  <a:pt x="826" y="544"/>
                </a:cubicBezTo>
                <a:cubicBezTo>
                  <a:pt x="842" y="514"/>
                  <a:pt x="888" y="435"/>
                  <a:pt x="908" y="418"/>
                </a:cubicBezTo>
                <a:cubicBezTo>
                  <a:pt x="928" y="401"/>
                  <a:pt x="934" y="432"/>
                  <a:pt x="948" y="440"/>
                </a:cubicBezTo>
                <a:cubicBezTo>
                  <a:pt x="962" y="448"/>
                  <a:pt x="971" y="460"/>
                  <a:pt x="992" y="466"/>
                </a:cubicBezTo>
                <a:cubicBezTo>
                  <a:pt x="1013" y="472"/>
                  <a:pt x="1059" y="484"/>
                  <a:pt x="1074" y="474"/>
                </a:cubicBezTo>
                <a:cubicBezTo>
                  <a:pt x="1089" y="464"/>
                  <a:pt x="1078" y="428"/>
                  <a:pt x="1084" y="406"/>
                </a:cubicBezTo>
                <a:cubicBezTo>
                  <a:pt x="1090" y="384"/>
                  <a:pt x="1096" y="354"/>
                  <a:pt x="1110" y="344"/>
                </a:cubicBezTo>
                <a:cubicBezTo>
                  <a:pt x="1124" y="334"/>
                  <a:pt x="1152" y="356"/>
                  <a:pt x="1166" y="348"/>
                </a:cubicBezTo>
                <a:cubicBezTo>
                  <a:pt x="1180" y="340"/>
                  <a:pt x="1180" y="307"/>
                  <a:pt x="1196" y="298"/>
                </a:cubicBezTo>
                <a:close/>
              </a:path>
            </a:pathLst>
          </a:custGeom>
          <a:solidFill>
            <a:srgbClr val="ffff99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3067200" y="3454560"/>
            <a:ext cx="3905280" cy="1639800"/>
          </a:xfrm>
          <a:custGeom>
            <a:avLst/>
            <a:gdLst/>
            <a:ahLst/>
            <a:rect l="l" t="t" r="r" b="b"/>
            <a:pathLst>
              <a:path w="2460" h="1033">
                <a:moveTo>
                  <a:pt x="0" y="80"/>
                </a:moveTo>
                <a:cubicBezTo>
                  <a:pt x="5" y="68"/>
                  <a:pt x="11" y="16"/>
                  <a:pt x="30" y="8"/>
                </a:cubicBezTo>
                <a:cubicBezTo>
                  <a:pt x="49" y="0"/>
                  <a:pt x="90" y="25"/>
                  <a:pt x="114" y="32"/>
                </a:cubicBezTo>
                <a:cubicBezTo>
                  <a:pt x="138" y="39"/>
                  <a:pt x="156" y="47"/>
                  <a:pt x="174" y="50"/>
                </a:cubicBezTo>
                <a:cubicBezTo>
                  <a:pt x="192" y="53"/>
                  <a:pt x="205" y="54"/>
                  <a:pt x="222" y="50"/>
                </a:cubicBezTo>
                <a:cubicBezTo>
                  <a:pt x="239" y="46"/>
                  <a:pt x="258" y="32"/>
                  <a:pt x="276" y="26"/>
                </a:cubicBezTo>
                <a:cubicBezTo>
                  <a:pt x="294" y="20"/>
                  <a:pt x="315" y="12"/>
                  <a:pt x="330" y="14"/>
                </a:cubicBezTo>
                <a:cubicBezTo>
                  <a:pt x="345" y="16"/>
                  <a:pt x="358" y="24"/>
                  <a:pt x="366" y="38"/>
                </a:cubicBezTo>
                <a:cubicBezTo>
                  <a:pt x="374" y="52"/>
                  <a:pt x="366" y="82"/>
                  <a:pt x="378" y="98"/>
                </a:cubicBezTo>
                <a:cubicBezTo>
                  <a:pt x="390" y="114"/>
                  <a:pt x="423" y="121"/>
                  <a:pt x="438" y="134"/>
                </a:cubicBezTo>
                <a:cubicBezTo>
                  <a:pt x="453" y="147"/>
                  <a:pt x="455" y="155"/>
                  <a:pt x="468" y="176"/>
                </a:cubicBezTo>
                <a:cubicBezTo>
                  <a:pt x="481" y="197"/>
                  <a:pt x="497" y="229"/>
                  <a:pt x="516" y="260"/>
                </a:cubicBezTo>
                <a:cubicBezTo>
                  <a:pt x="535" y="291"/>
                  <a:pt x="568" y="330"/>
                  <a:pt x="582" y="362"/>
                </a:cubicBezTo>
                <a:cubicBezTo>
                  <a:pt x="596" y="394"/>
                  <a:pt x="598" y="426"/>
                  <a:pt x="600" y="452"/>
                </a:cubicBezTo>
                <a:cubicBezTo>
                  <a:pt x="602" y="478"/>
                  <a:pt x="595" y="497"/>
                  <a:pt x="594" y="518"/>
                </a:cubicBezTo>
                <a:cubicBezTo>
                  <a:pt x="593" y="539"/>
                  <a:pt x="594" y="555"/>
                  <a:pt x="594" y="578"/>
                </a:cubicBezTo>
                <a:cubicBezTo>
                  <a:pt x="594" y="601"/>
                  <a:pt x="591" y="619"/>
                  <a:pt x="594" y="656"/>
                </a:cubicBezTo>
                <a:cubicBezTo>
                  <a:pt x="597" y="693"/>
                  <a:pt x="605" y="756"/>
                  <a:pt x="612" y="800"/>
                </a:cubicBezTo>
                <a:cubicBezTo>
                  <a:pt x="619" y="844"/>
                  <a:pt x="624" y="915"/>
                  <a:pt x="636" y="920"/>
                </a:cubicBezTo>
                <a:cubicBezTo>
                  <a:pt x="648" y="925"/>
                  <a:pt x="675" y="832"/>
                  <a:pt x="684" y="830"/>
                </a:cubicBezTo>
                <a:cubicBezTo>
                  <a:pt x="693" y="828"/>
                  <a:pt x="690" y="882"/>
                  <a:pt x="690" y="908"/>
                </a:cubicBezTo>
                <a:cubicBezTo>
                  <a:pt x="690" y="934"/>
                  <a:pt x="670" y="975"/>
                  <a:pt x="684" y="986"/>
                </a:cubicBezTo>
                <a:cubicBezTo>
                  <a:pt x="698" y="997"/>
                  <a:pt x="754" y="967"/>
                  <a:pt x="774" y="974"/>
                </a:cubicBezTo>
                <a:cubicBezTo>
                  <a:pt x="794" y="981"/>
                  <a:pt x="793" y="1023"/>
                  <a:pt x="804" y="1028"/>
                </a:cubicBezTo>
                <a:cubicBezTo>
                  <a:pt x="815" y="1033"/>
                  <a:pt x="824" y="1010"/>
                  <a:pt x="840" y="1004"/>
                </a:cubicBezTo>
                <a:cubicBezTo>
                  <a:pt x="856" y="998"/>
                  <a:pt x="890" y="1010"/>
                  <a:pt x="900" y="992"/>
                </a:cubicBezTo>
                <a:cubicBezTo>
                  <a:pt x="910" y="974"/>
                  <a:pt x="892" y="917"/>
                  <a:pt x="900" y="896"/>
                </a:cubicBezTo>
                <a:cubicBezTo>
                  <a:pt x="908" y="875"/>
                  <a:pt x="938" y="880"/>
                  <a:pt x="948" y="866"/>
                </a:cubicBezTo>
                <a:cubicBezTo>
                  <a:pt x="958" y="852"/>
                  <a:pt x="952" y="828"/>
                  <a:pt x="960" y="812"/>
                </a:cubicBezTo>
                <a:cubicBezTo>
                  <a:pt x="968" y="796"/>
                  <a:pt x="982" y="780"/>
                  <a:pt x="996" y="770"/>
                </a:cubicBezTo>
                <a:cubicBezTo>
                  <a:pt x="1010" y="760"/>
                  <a:pt x="1023" y="755"/>
                  <a:pt x="1044" y="752"/>
                </a:cubicBezTo>
                <a:cubicBezTo>
                  <a:pt x="1065" y="749"/>
                  <a:pt x="1098" y="760"/>
                  <a:pt x="1122" y="752"/>
                </a:cubicBezTo>
                <a:cubicBezTo>
                  <a:pt x="1146" y="744"/>
                  <a:pt x="1158" y="721"/>
                  <a:pt x="1188" y="704"/>
                </a:cubicBezTo>
                <a:cubicBezTo>
                  <a:pt x="1218" y="687"/>
                  <a:pt x="1262" y="677"/>
                  <a:pt x="1302" y="650"/>
                </a:cubicBezTo>
                <a:cubicBezTo>
                  <a:pt x="1342" y="623"/>
                  <a:pt x="1382" y="561"/>
                  <a:pt x="1428" y="542"/>
                </a:cubicBezTo>
                <a:cubicBezTo>
                  <a:pt x="1474" y="523"/>
                  <a:pt x="1539" y="524"/>
                  <a:pt x="1578" y="536"/>
                </a:cubicBezTo>
                <a:cubicBezTo>
                  <a:pt x="1617" y="548"/>
                  <a:pt x="1636" y="591"/>
                  <a:pt x="1662" y="614"/>
                </a:cubicBezTo>
                <a:cubicBezTo>
                  <a:pt x="1688" y="637"/>
                  <a:pt x="1713" y="661"/>
                  <a:pt x="1734" y="674"/>
                </a:cubicBezTo>
                <a:cubicBezTo>
                  <a:pt x="1755" y="687"/>
                  <a:pt x="1770" y="695"/>
                  <a:pt x="1788" y="692"/>
                </a:cubicBezTo>
                <a:cubicBezTo>
                  <a:pt x="1806" y="689"/>
                  <a:pt x="1822" y="678"/>
                  <a:pt x="1842" y="656"/>
                </a:cubicBezTo>
                <a:cubicBezTo>
                  <a:pt x="1862" y="634"/>
                  <a:pt x="1881" y="560"/>
                  <a:pt x="1908" y="560"/>
                </a:cubicBezTo>
                <a:cubicBezTo>
                  <a:pt x="1935" y="560"/>
                  <a:pt x="1971" y="652"/>
                  <a:pt x="2004" y="656"/>
                </a:cubicBezTo>
                <a:cubicBezTo>
                  <a:pt x="2037" y="660"/>
                  <a:pt x="2069" y="620"/>
                  <a:pt x="2106" y="584"/>
                </a:cubicBezTo>
                <a:cubicBezTo>
                  <a:pt x="2143" y="548"/>
                  <a:pt x="2200" y="474"/>
                  <a:pt x="2226" y="440"/>
                </a:cubicBezTo>
                <a:cubicBezTo>
                  <a:pt x="2252" y="406"/>
                  <a:pt x="2223" y="383"/>
                  <a:pt x="2262" y="380"/>
                </a:cubicBezTo>
                <a:cubicBezTo>
                  <a:pt x="2301" y="377"/>
                  <a:pt x="2419" y="413"/>
                  <a:pt x="2460" y="422"/>
                </a:cubicBezTo>
              </a:path>
            </a:pathLst>
          </a:custGeom>
          <a:noFill/>
          <a:ln w="507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733920" y="2630520"/>
            <a:ext cx="2819160" cy="1206360"/>
          </a:xfrm>
          <a:custGeom>
            <a:avLst/>
            <a:gdLst/>
            <a:ahLst/>
            <a:rect l="l" t="t" r="r" b="b"/>
            <a:pathLst>
              <a:path w="1776" h="760">
                <a:moveTo>
                  <a:pt x="0" y="551"/>
                </a:moveTo>
                <a:cubicBezTo>
                  <a:pt x="7" y="550"/>
                  <a:pt x="33" y="547"/>
                  <a:pt x="44" y="543"/>
                </a:cubicBezTo>
                <a:cubicBezTo>
                  <a:pt x="55" y="539"/>
                  <a:pt x="59" y="526"/>
                  <a:pt x="68" y="527"/>
                </a:cubicBezTo>
                <a:cubicBezTo>
                  <a:pt x="77" y="528"/>
                  <a:pt x="85" y="546"/>
                  <a:pt x="96" y="551"/>
                </a:cubicBezTo>
                <a:cubicBezTo>
                  <a:pt x="107" y="556"/>
                  <a:pt x="125" y="561"/>
                  <a:pt x="136" y="559"/>
                </a:cubicBezTo>
                <a:cubicBezTo>
                  <a:pt x="147" y="557"/>
                  <a:pt x="152" y="532"/>
                  <a:pt x="160" y="539"/>
                </a:cubicBezTo>
                <a:cubicBezTo>
                  <a:pt x="168" y="546"/>
                  <a:pt x="178" y="584"/>
                  <a:pt x="184" y="599"/>
                </a:cubicBezTo>
                <a:cubicBezTo>
                  <a:pt x="190" y="614"/>
                  <a:pt x="187" y="624"/>
                  <a:pt x="196" y="627"/>
                </a:cubicBezTo>
                <a:cubicBezTo>
                  <a:pt x="205" y="630"/>
                  <a:pt x="230" y="614"/>
                  <a:pt x="236" y="619"/>
                </a:cubicBezTo>
                <a:cubicBezTo>
                  <a:pt x="242" y="624"/>
                  <a:pt x="231" y="646"/>
                  <a:pt x="232" y="659"/>
                </a:cubicBezTo>
                <a:cubicBezTo>
                  <a:pt x="233" y="672"/>
                  <a:pt x="231" y="689"/>
                  <a:pt x="240" y="695"/>
                </a:cubicBezTo>
                <a:cubicBezTo>
                  <a:pt x="249" y="701"/>
                  <a:pt x="275" y="690"/>
                  <a:pt x="288" y="695"/>
                </a:cubicBezTo>
                <a:cubicBezTo>
                  <a:pt x="301" y="700"/>
                  <a:pt x="311" y="721"/>
                  <a:pt x="320" y="723"/>
                </a:cubicBezTo>
                <a:cubicBezTo>
                  <a:pt x="329" y="725"/>
                  <a:pt x="333" y="712"/>
                  <a:pt x="344" y="707"/>
                </a:cubicBezTo>
                <a:cubicBezTo>
                  <a:pt x="355" y="702"/>
                  <a:pt x="373" y="692"/>
                  <a:pt x="384" y="695"/>
                </a:cubicBezTo>
                <a:cubicBezTo>
                  <a:pt x="395" y="698"/>
                  <a:pt x="410" y="724"/>
                  <a:pt x="412" y="727"/>
                </a:cubicBezTo>
                <a:cubicBezTo>
                  <a:pt x="414" y="730"/>
                  <a:pt x="387" y="710"/>
                  <a:pt x="396" y="715"/>
                </a:cubicBezTo>
                <a:cubicBezTo>
                  <a:pt x="405" y="720"/>
                  <a:pt x="450" y="750"/>
                  <a:pt x="464" y="755"/>
                </a:cubicBezTo>
                <a:cubicBezTo>
                  <a:pt x="478" y="760"/>
                  <a:pt x="480" y="752"/>
                  <a:pt x="480" y="743"/>
                </a:cubicBezTo>
                <a:cubicBezTo>
                  <a:pt x="480" y="734"/>
                  <a:pt x="478" y="716"/>
                  <a:pt x="464" y="699"/>
                </a:cubicBezTo>
                <a:cubicBezTo>
                  <a:pt x="450" y="682"/>
                  <a:pt x="415" y="656"/>
                  <a:pt x="396" y="639"/>
                </a:cubicBezTo>
                <a:cubicBezTo>
                  <a:pt x="377" y="622"/>
                  <a:pt x="362" y="614"/>
                  <a:pt x="352" y="599"/>
                </a:cubicBezTo>
                <a:cubicBezTo>
                  <a:pt x="342" y="584"/>
                  <a:pt x="336" y="567"/>
                  <a:pt x="336" y="551"/>
                </a:cubicBezTo>
                <a:cubicBezTo>
                  <a:pt x="336" y="535"/>
                  <a:pt x="345" y="516"/>
                  <a:pt x="352" y="503"/>
                </a:cubicBezTo>
                <a:cubicBezTo>
                  <a:pt x="359" y="490"/>
                  <a:pt x="359" y="475"/>
                  <a:pt x="380" y="471"/>
                </a:cubicBezTo>
                <a:cubicBezTo>
                  <a:pt x="401" y="467"/>
                  <a:pt x="455" y="474"/>
                  <a:pt x="480" y="479"/>
                </a:cubicBezTo>
                <a:cubicBezTo>
                  <a:pt x="505" y="484"/>
                  <a:pt x="512" y="499"/>
                  <a:pt x="528" y="503"/>
                </a:cubicBezTo>
                <a:cubicBezTo>
                  <a:pt x="544" y="507"/>
                  <a:pt x="552" y="511"/>
                  <a:pt x="576" y="503"/>
                </a:cubicBezTo>
                <a:cubicBezTo>
                  <a:pt x="600" y="495"/>
                  <a:pt x="652" y="466"/>
                  <a:pt x="672" y="455"/>
                </a:cubicBezTo>
                <a:cubicBezTo>
                  <a:pt x="692" y="444"/>
                  <a:pt x="696" y="447"/>
                  <a:pt x="696" y="435"/>
                </a:cubicBezTo>
                <a:cubicBezTo>
                  <a:pt x="696" y="423"/>
                  <a:pt x="668" y="396"/>
                  <a:pt x="672" y="383"/>
                </a:cubicBezTo>
                <a:cubicBezTo>
                  <a:pt x="676" y="370"/>
                  <a:pt x="701" y="368"/>
                  <a:pt x="720" y="359"/>
                </a:cubicBezTo>
                <a:cubicBezTo>
                  <a:pt x="739" y="350"/>
                  <a:pt x="765" y="346"/>
                  <a:pt x="784" y="331"/>
                </a:cubicBezTo>
                <a:cubicBezTo>
                  <a:pt x="803" y="316"/>
                  <a:pt x="819" y="294"/>
                  <a:pt x="832" y="267"/>
                </a:cubicBezTo>
                <a:cubicBezTo>
                  <a:pt x="845" y="240"/>
                  <a:pt x="857" y="191"/>
                  <a:pt x="864" y="167"/>
                </a:cubicBezTo>
                <a:cubicBezTo>
                  <a:pt x="871" y="143"/>
                  <a:pt x="874" y="139"/>
                  <a:pt x="876" y="123"/>
                </a:cubicBezTo>
                <a:cubicBezTo>
                  <a:pt x="878" y="107"/>
                  <a:pt x="870" y="88"/>
                  <a:pt x="876" y="71"/>
                </a:cubicBezTo>
                <a:cubicBezTo>
                  <a:pt x="882" y="54"/>
                  <a:pt x="898" y="34"/>
                  <a:pt x="912" y="23"/>
                </a:cubicBezTo>
                <a:cubicBezTo>
                  <a:pt x="926" y="12"/>
                  <a:pt x="944" y="6"/>
                  <a:pt x="960" y="3"/>
                </a:cubicBezTo>
                <a:cubicBezTo>
                  <a:pt x="976" y="0"/>
                  <a:pt x="993" y="1"/>
                  <a:pt x="1008" y="7"/>
                </a:cubicBezTo>
                <a:cubicBezTo>
                  <a:pt x="1023" y="13"/>
                  <a:pt x="1029" y="34"/>
                  <a:pt x="1052" y="39"/>
                </a:cubicBezTo>
                <a:cubicBezTo>
                  <a:pt x="1075" y="44"/>
                  <a:pt x="1123" y="34"/>
                  <a:pt x="1148" y="39"/>
                </a:cubicBezTo>
                <a:cubicBezTo>
                  <a:pt x="1173" y="44"/>
                  <a:pt x="1187" y="59"/>
                  <a:pt x="1200" y="71"/>
                </a:cubicBezTo>
                <a:cubicBezTo>
                  <a:pt x="1213" y="83"/>
                  <a:pt x="1222" y="96"/>
                  <a:pt x="1224" y="111"/>
                </a:cubicBezTo>
                <a:cubicBezTo>
                  <a:pt x="1226" y="126"/>
                  <a:pt x="1222" y="136"/>
                  <a:pt x="1212" y="163"/>
                </a:cubicBezTo>
                <a:cubicBezTo>
                  <a:pt x="1202" y="190"/>
                  <a:pt x="1176" y="248"/>
                  <a:pt x="1164" y="271"/>
                </a:cubicBezTo>
                <a:cubicBezTo>
                  <a:pt x="1152" y="294"/>
                  <a:pt x="1139" y="290"/>
                  <a:pt x="1140" y="303"/>
                </a:cubicBezTo>
                <a:cubicBezTo>
                  <a:pt x="1141" y="316"/>
                  <a:pt x="1167" y="336"/>
                  <a:pt x="1168" y="351"/>
                </a:cubicBezTo>
                <a:cubicBezTo>
                  <a:pt x="1169" y="366"/>
                  <a:pt x="1151" y="378"/>
                  <a:pt x="1148" y="395"/>
                </a:cubicBezTo>
                <a:cubicBezTo>
                  <a:pt x="1145" y="412"/>
                  <a:pt x="1151" y="437"/>
                  <a:pt x="1152" y="455"/>
                </a:cubicBezTo>
                <a:cubicBezTo>
                  <a:pt x="1153" y="473"/>
                  <a:pt x="1152" y="486"/>
                  <a:pt x="1152" y="503"/>
                </a:cubicBezTo>
                <a:cubicBezTo>
                  <a:pt x="1152" y="520"/>
                  <a:pt x="1155" y="544"/>
                  <a:pt x="1152" y="559"/>
                </a:cubicBezTo>
                <a:cubicBezTo>
                  <a:pt x="1149" y="574"/>
                  <a:pt x="1136" y="571"/>
                  <a:pt x="1132" y="591"/>
                </a:cubicBezTo>
                <a:cubicBezTo>
                  <a:pt x="1128" y="611"/>
                  <a:pt x="1117" y="670"/>
                  <a:pt x="1128" y="679"/>
                </a:cubicBezTo>
                <a:cubicBezTo>
                  <a:pt x="1139" y="688"/>
                  <a:pt x="1177" y="658"/>
                  <a:pt x="1200" y="647"/>
                </a:cubicBezTo>
                <a:cubicBezTo>
                  <a:pt x="1223" y="636"/>
                  <a:pt x="1248" y="608"/>
                  <a:pt x="1268" y="611"/>
                </a:cubicBezTo>
                <a:cubicBezTo>
                  <a:pt x="1288" y="614"/>
                  <a:pt x="1299" y="659"/>
                  <a:pt x="1320" y="663"/>
                </a:cubicBezTo>
                <a:cubicBezTo>
                  <a:pt x="1341" y="667"/>
                  <a:pt x="1372" y="638"/>
                  <a:pt x="1392" y="635"/>
                </a:cubicBezTo>
                <a:cubicBezTo>
                  <a:pt x="1412" y="632"/>
                  <a:pt x="1423" y="653"/>
                  <a:pt x="1440" y="647"/>
                </a:cubicBezTo>
                <a:cubicBezTo>
                  <a:pt x="1457" y="641"/>
                  <a:pt x="1473" y="625"/>
                  <a:pt x="1496" y="599"/>
                </a:cubicBezTo>
                <a:cubicBezTo>
                  <a:pt x="1519" y="573"/>
                  <a:pt x="1551" y="525"/>
                  <a:pt x="1580" y="491"/>
                </a:cubicBezTo>
                <a:cubicBezTo>
                  <a:pt x="1609" y="457"/>
                  <a:pt x="1639" y="425"/>
                  <a:pt x="1672" y="395"/>
                </a:cubicBezTo>
                <a:cubicBezTo>
                  <a:pt x="1705" y="365"/>
                  <a:pt x="1754" y="329"/>
                  <a:pt x="1776" y="311"/>
                </a:cubicBezTo>
              </a:path>
            </a:pathLst>
          </a:custGeom>
          <a:noFill/>
          <a:ln w="5724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867280" y="4343400"/>
            <a:ext cx="920880" cy="514440"/>
          </a:xfrm>
          <a:custGeom>
            <a:avLst/>
            <a:gdLst/>
            <a:ahLst/>
            <a:rect l="l" t="t" r="r" b="b"/>
            <a:pathLst>
              <a:path w="580" h="324">
                <a:moveTo>
                  <a:pt x="0" y="324"/>
                </a:moveTo>
                <a:cubicBezTo>
                  <a:pt x="17" y="322"/>
                  <a:pt x="68" y="320"/>
                  <a:pt x="100" y="312"/>
                </a:cubicBezTo>
                <a:cubicBezTo>
                  <a:pt x="132" y="304"/>
                  <a:pt x="169" y="290"/>
                  <a:pt x="192" y="276"/>
                </a:cubicBezTo>
                <a:cubicBezTo>
                  <a:pt x="215" y="262"/>
                  <a:pt x="229" y="233"/>
                  <a:pt x="240" y="228"/>
                </a:cubicBezTo>
                <a:cubicBezTo>
                  <a:pt x="251" y="223"/>
                  <a:pt x="251" y="240"/>
                  <a:pt x="260" y="244"/>
                </a:cubicBezTo>
                <a:cubicBezTo>
                  <a:pt x="269" y="248"/>
                  <a:pt x="277" y="253"/>
                  <a:pt x="292" y="252"/>
                </a:cubicBezTo>
                <a:cubicBezTo>
                  <a:pt x="307" y="251"/>
                  <a:pt x="325" y="247"/>
                  <a:pt x="348" y="240"/>
                </a:cubicBezTo>
                <a:cubicBezTo>
                  <a:pt x="371" y="233"/>
                  <a:pt x="402" y="223"/>
                  <a:pt x="428" y="212"/>
                </a:cubicBezTo>
                <a:cubicBezTo>
                  <a:pt x="454" y="201"/>
                  <a:pt x="481" y="187"/>
                  <a:pt x="504" y="172"/>
                </a:cubicBezTo>
                <a:cubicBezTo>
                  <a:pt x="527" y="157"/>
                  <a:pt x="553" y="135"/>
                  <a:pt x="564" y="124"/>
                </a:cubicBezTo>
                <a:cubicBezTo>
                  <a:pt x="575" y="113"/>
                  <a:pt x="567" y="115"/>
                  <a:pt x="568" y="104"/>
                </a:cubicBezTo>
                <a:cubicBezTo>
                  <a:pt x="569" y="93"/>
                  <a:pt x="570" y="77"/>
                  <a:pt x="572" y="60"/>
                </a:cubicBezTo>
                <a:cubicBezTo>
                  <a:pt x="574" y="43"/>
                  <a:pt x="578" y="12"/>
                  <a:pt x="580" y="0"/>
                </a:cubicBezTo>
              </a:path>
            </a:pathLst>
          </a:custGeom>
          <a:noFill/>
          <a:ln w="63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4952880" y="4800600"/>
            <a:ext cx="984240" cy="236520"/>
          </a:xfrm>
          <a:custGeom>
            <a:avLst/>
            <a:gdLst/>
            <a:ahLst/>
            <a:rect l="l" t="t" r="r" b="b"/>
            <a:pathLst>
              <a:path w="620" h="149">
                <a:moveTo>
                  <a:pt x="0" y="149"/>
                </a:moveTo>
                <a:cubicBezTo>
                  <a:pt x="15" y="145"/>
                  <a:pt x="45" y="148"/>
                  <a:pt x="92" y="129"/>
                </a:cubicBezTo>
                <a:cubicBezTo>
                  <a:pt x="139" y="110"/>
                  <a:pt x="243" y="54"/>
                  <a:pt x="284" y="33"/>
                </a:cubicBezTo>
                <a:cubicBezTo>
                  <a:pt x="325" y="12"/>
                  <a:pt x="323" y="10"/>
                  <a:pt x="340" y="5"/>
                </a:cubicBezTo>
                <a:cubicBezTo>
                  <a:pt x="357" y="0"/>
                  <a:pt x="371" y="0"/>
                  <a:pt x="384" y="5"/>
                </a:cubicBezTo>
                <a:cubicBezTo>
                  <a:pt x="397" y="10"/>
                  <a:pt x="401" y="35"/>
                  <a:pt x="416" y="37"/>
                </a:cubicBezTo>
                <a:cubicBezTo>
                  <a:pt x="431" y="39"/>
                  <a:pt x="450" y="19"/>
                  <a:pt x="476" y="17"/>
                </a:cubicBezTo>
                <a:cubicBezTo>
                  <a:pt x="502" y="15"/>
                  <a:pt x="548" y="22"/>
                  <a:pt x="572" y="25"/>
                </a:cubicBezTo>
                <a:cubicBezTo>
                  <a:pt x="596" y="28"/>
                  <a:pt x="620" y="34"/>
                  <a:pt x="620" y="33"/>
                </a:cubicBezTo>
                <a:cubicBezTo>
                  <a:pt x="620" y="32"/>
                  <a:pt x="596" y="33"/>
                  <a:pt x="572" y="33"/>
                </a:cubicBezTo>
              </a:path>
            </a:pathLst>
          </a:custGeom>
          <a:noFill/>
          <a:ln w="63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5867280" y="2743200"/>
            <a:ext cx="389160" cy="2895480"/>
          </a:xfrm>
          <a:custGeom>
            <a:avLst/>
            <a:gdLst/>
            <a:ahLst/>
            <a:rect l="l" t="t" r="r" b="b"/>
            <a:pathLst>
              <a:path w="245" h="1824">
                <a:moveTo>
                  <a:pt x="245" y="0"/>
                </a:moveTo>
                <a:cubicBezTo>
                  <a:pt x="236" y="14"/>
                  <a:pt x="204" y="63"/>
                  <a:pt x="188" y="87"/>
                </a:cubicBezTo>
                <a:cubicBezTo>
                  <a:pt x="172" y="111"/>
                  <a:pt x="160" y="124"/>
                  <a:pt x="149" y="144"/>
                </a:cubicBezTo>
                <a:cubicBezTo>
                  <a:pt x="138" y="164"/>
                  <a:pt x="130" y="167"/>
                  <a:pt x="122" y="207"/>
                </a:cubicBezTo>
                <a:cubicBezTo>
                  <a:pt x="114" y="247"/>
                  <a:pt x="107" y="331"/>
                  <a:pt x="101" y="384"/>
                </a:cubicBezTo>
                <a:cubicBezTo>
                  <a:pt x="95" y="437"/>
                  <a:pt x="92" y="491"/>
                  <a:pt x="86" y="525"/>
                </a:cubicBezTo>
                <a:cubicBezTo>
                  <a:pt x="80" y="559"/>
                  <a:pt x="64" y="555"/>
                  <a:pt x="65" y="588"/>
                </a:cubicBezTo>
                <a:cubicBezTo>
                  <a:pt x="66" y="621"/>
                  <a:pt x="85" y="670"/>
                  <a:pt x="92" y="723"/>
                </a:cubicBezTo>
                <a:cubicBezTo>
                  <a:pt x="99" y="776"/>
                  <a:pt x="107" y="852"/>
                  <a:pt x="110" y="906"/>
                </a:cubicBezTo>
                <a:cubicBezTo>
                  <a:pt x="113" y="960"/>
                  <a:pt x="113" y="1016"/>
                  <a:pt x="110" y="1050"/>
                </a:cubicBezTo>
                <a:cubicBezTo>
                  <a:pt x="107" y="1084"/>
                  <a:pt x="102" y="1093"/>
                  <a:pt x="92" y="1110"/>
                </a:cubicBezTo>
                <a:cubicBezTo>
                  <a:pt x="82" y="1127"/>
                  <a:pt x="65" y="1136"/>
                  <a:pt x="53" y="1152"/>
                </a:cubicBezTo>
                <a:cubicBezTo>
                  <a:pt x="41" y="1168"/>
                  <a:pt x="25" y="1185"/>
                  <a:pt x="17" y="1209"/>
                </a:cubicBezTo>
                <a:cubicBezTo>
                  <a:pt x="9" y="1233"/>
                  <a:pt x="3" y="1274"/>
                  <a:pt x="5" y="1296"/>
                </a:cubicBezTo>
                <a:cubicBezTo>
                  <a:pt x="7" y="1318"/>
                  <a:pt x="30" y="1326"/>
                  <a:pt x="32" y="1341"/>
                </a:cubicBezTo>
                <a:cubicBezTo>
                  <a:pt x="34" y="1356"/>
                  <a:pt x="24" y="1372"/>
                  <a:pt x="20" y="1389"/>
                </a:cubicBezTo>
                <a:cubicBezTo>
                  <a:pt x="16" y="1406"/>
                  <a:pt x="7" y="1420"/>
                  <a:pt x="5" y="1446"/>
                </a:cubicBezTo>
                <a:cubicBezTo>
                  <a:pt x="3" y="1472"/>
                  <a:pt x="0" y="1514"/>
                  <a:pt x="8" y="1545"/>
                </a:cubicBezTo>
                <a:cubicBezTo>
                  <a:pt x="16" y="1576"/>
                  <a:pt x="46" y="1602"/>
                  <a:pt x="53" y="1632"/>
                </a:cubicBezTo>
                <a:cubicBezTo>
                  <a:pt x="60" y="1662"/>
                  <a:pt x="61" y="1696"/>
                  <a:pt x="53" y="1728"/>
                </a:cubicBezTo>
                <a:cubicBezTo>
                  <a:pt x="45" y="1760"/>
                  <a:pt x="15" y="1804"/>
                  <a:pt x="5" y="1824"/>
                </a:cubicBezTo>
              </a:path>
            </a:pathLst>
          </a:custGeom>
          <a:noFill/>
          <a:ln w="63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6904080" y="5173560"/>
            <a:ext cx="258840" cy="747720"/>
          </a:xfrm>
          <a:custGeom>
            <a:avLst/>
            <a:gdLst/>
            <a:ahLst/>
            <a:rect l="l" t="t" r="r" b="b"/>
            <a:pathLst>
              <a:path w="163" h="471">
                <a:moveTo>
                  <a:pt x="120" y="5"/>
                </a:moveTo>
                <a:cubicBezTo>
                  <a:pt x="130" y="0"/>
                  <a:pt x="130" y="18"/>
                  <a:pt x="135" y="23"/>
                </a:cubicBezTo>
                <a:cubicBezTo>
                  <a:pt x="140" y="28"/>
                  <a:pt x="147" y="33"/>
                  <a:pt x="151" y="37"/>
                </a:cubicBezTo>
                <a:cubicBezTo>
                  <a:pt x="155" y="41"/>
                  <a:pt x="159" y="17"/>
                  <a:pt x="160" y="47"/>
                </a:cubicBezTo>
                <a:cubicBezTo>
                  <a:pt x="161" y="77"/>
                  <a:pt x="163" y="174"/>
                  <a:pt x="156" y="215"/>
                </a:cubicBezTo>
                <a:cubicBezTo>
                  <a:pt x="149" y="256"/>
                  <a:pt x="126" y="272"/>
                  <a:pt x="120" y="293"/>
                </a:cubicBezTo>
                <a:cubicBezTo>
                  <a:pt x="114" y="314"/>
                  <a:pt x="125" y="314"/>
                  <a:pt x="120" y="341"/>
                </a:cubicBezTo>
                <a:cubicBezTo>
                  <a:pt x="115" y="368"/>
                  <a:pt x="102" y="439"/>
                  <a:pt x="92" y="455"/>
                </a:cubicBezTo>
                <a:cubicBezTo>
                  <a:pt x="82" y="471"/>
                  <a:pt x="68" y="450"/>
                  <a:pt x="58" y="439"/>
                </a:cubicBezTo>
                <a:cubicBezTo>
                  <a:pt x="48" y="428"/>
                  <a:pt x="36" y="402"/>
                  <a:pt x="28" y="385"/>
                </a:cubicBezTo>
                <a:cubicBezTo>
                  <a:pt x="20" y="368"/>
                  <a:pt x="11" y="352"/>
                  <a:pt x="10" y="339"/>
                </a:cubicBezTo>
                <a:cubicBezTo>
                  <a:pt x="9" y="326"/>
                  <a:pt x="21" y="320"/>
                  <a:pt x="20" y="309"/>
                </a:cubicBezTo>
                <a:cubicBezTo>
                  <a:pt x="19" y="298"/>
                  <a:pt x="3" y="293"/>
                  <a:pt x="2" y="275"/>
                </a:cubicBezTo>
                <a:cubicBezTo>
                  <a:pt x="1" y="257"/>
                  <a:pt x="0" y="236"/>
                  <a:pt x="12" y="199"/>
                </a:cubicBezTo>
                <a:cubicBezTo>
                  <a:pt x="24" y="162"/>
                  <a:pt x="54" y="85"/>
                  <a:pt x="72" y="53"/>
                </a:cubicBezTo>
                <a:cubicBezTo>
                  <a:pt x="90" y="21"/>
                  <a:pt x="108" y="11"/>
                  <a:pt x="120" y="5"/>
                </a:cubicBez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5256360" y="6159600"/>
            <a:ext cx="315720" cy="263520"/>
          </a:xfrm>
          <a:custGeom>
            <a:avLst/>
            <a:gdLst/>
            <a:ahLst/>
            <a:rect l="l" t="t" r="r" b="b"/>
            <a:pathLst>
              <a:path w="199" h="166">
                <a:moveTo>
                  <a:pt x="55" y="10"/>
                </a:moveTo>
                <a:cubicBezTo>
                  <a:pt x="64" y="6"/>
                  <a:pt x="82" y="8"/>
                  <a:pt x="97" y="8"/>
                </a:cubicBezTo>
                <a:cubicBezTo>
                  <a:pt x="112" y="8"/>
                  <a:pt x="129" y="0"/>
                  <a:pt x="145" y="8"/>
                </a:cubicBezTo>
                <a:cubicBezTo>
                  <a:pt x="161" y="16"/>
                  <a:pt x="187" y="39"/>
                  <a:pt x="193" y="56"/>
                </a:cubicBezTo>
                <a:cubicBezTo>
                  <a:pt x="199" y="73"/>
                  <a:pt x="191" y="98"/>
                  <a:pt x="183" y="114"/>
                </a:cubicBezTo>
                <a:cubicBezTo>
                  <a:pt x="175" y="130"/>
                  <a:pt x="157" y="146"/>
                  <a:pt x="145" y="152"/>
                </a:cubicBezTo>
                <a:cubicBezTo>
                  <a:pt x="133" y="158"/>
                  <a:pt x="121" y="148"/>
                  <a:pt x="111" y="150"/>
                </a:cubicBezTo>
                <a:cubicBezTo>
                  <a:pt x="101" y="152"/>
                  <a:pt x="94" y="162"/>
                  <a:pt x="83" y="164"/>
                </a:cubicBezTo>
                <a:cubicBezTo>
                  <a:pt x="72" y="166"/>
                  <a:pt x="59" y="165"/>
                  <a:pt x="47" y="162"/>
                </a:cubicBezTo>
                <a:cubicBezTo>
                  <a:pt x="35" y="159"/>
                  <a:pt x="21" y="158"/>
                  <a:pt x="13" y="148"/>
                </a:cubicBezTo>
                <a:cubicBezTo>
                  <a:pt x="5" y="138"/>
                  <a:pt x="2" y="118"/>
                  <a:pt x="1" y="104"/>
                </a:cubicBezTo>
                <a:cubicBezTo>
                  <a:pt x="0" y="90"/>
                  <a:pt x="0" y="78"/>
                  <a:pt x="7" y="66"/>
                </a:cubicBezTo>
                <a:cubicBezTo>
                  <a:pt x="14" y="54"/>
                  <a:pt x="35" y="43"/>
                  <a:pt x="43" y="34"/>
                </a:cubicBezTo>
                <a:cubicBezTo>
                  <a:pt x="51" y="25"/>
                  <a:pt x="46" y="14"/>
                  <a:pt x="55" y="10"/>
                </a:cubicBez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5859360" y="2743200"/>
            <a:ext cx="389160" cy="2895480"/>
          </a:xfrm>
          <a:custGeom>
            <a:avLst/>
            <a:gdLst/>
            <a:ahLst/>
            <a:rect l="l" t="t" r="r" b="b"/>
            <a:pathLst>
              <a:path w="245" h="1824">
                <a:moveTo>
                  <a:pt x="245" y="0"/>
                </a:moveTo>
                <a:cubicBezTo>
                  <a:pt x="236" y="14"/>
                  <a:pt x="204" y="63"/>
                  <a:pt x="188" y="87"/>
                </a:cubicBezTo>
                <a:cubicBezTo>
                  <a:pt x="172" y="111"/>
                  <a:pt x="160" y="124"/>
                  <a:pt x="149" y="144"/>
                </a:cubicBezTo>
                <a:cubicBezTo>
                  <a:pt x="138" y="164"/>
                  <a:pt x="130" y="167"/>
                  <a:pt x="122" y="207"/>
                </a:cubicBezTo>
                <a:cubicBezTo>
                  <a:pt x="114" y="247"/>
                  <a:pt x="107" y="331"/>
                  <a:pt x="101" y="384"/>
                </a:cubicBezTo>
                <a:cubicBezTo>
                  <a:pt x="95" y="437"/>
                  <a:pt x="92" y="491"/>
                  <a:pt x="86" y="525"/>
                </a:cubicBezTo>
                <a:cubicBezTo>
                  <a:pt x="80" y="559"/>
                  <a:pt x="64" y="555"/>
                  <a:pt x="65" y="588"/>
                </a:cubicBezTo>
                <a:cubicBezTo>
                  <a:pt x="66" y="621"/>
                  <a:pt x="85" y="670"/>
                  <a:pt x="92" y="723"/>
                </a:cubicBezTo>
                <a:cubicBezTo>
                  <a:pt x="99" y="776"/>
                  <a:pt x="107" y="852"/>
                  <a:pt x="110" y="906"/>
                </a:cubicBezTo>
                <a:cubicBezTo>
                  <a:pt x="113" y="960"/>
                  <a:pt x="113" y="1016"/>
                  <a:pt x="110" y="1050"/>
                </a:cubicBezTo>
                <a:cubicBezTo>
                  <a:pt x="107" y="1084"/>
                  <a:pt x="102" y="1093"/>
                  <a:pt x="92" y="1110"/>
                </a:cubicBezTo>
                <a:cubicBezTo>
                  <a:pt x="82" y="1127"/>
                  <a:pt x="65" y="1136"/>
                  <a:pt x="53" y="1152"/>
                </a:cubicBezTo>
                <a:cubicBezTo>
                  <a:pt x="41" y="1168"/>
                  <a:pt x="25" y="1185"/>
                  <a:pt x="17" y="1209"/>
                </a:cubicBezTo>
                <a:cubicBezTo>
                  <a:pt x="9" y="1233"/>
                  <a:pt x="3" y="1274"/>
                  <a:pt x="5" y="1296"/>
                </a:cubicBezTo>
                <a:cubicBezTo>
                  <a:pt x="7" y="1318"/>
                  <a:pt x="30" y="1326"/>
                  <a:pt x="32" y="1341"/>
                </a:cubicBezTo>
                <a:cubicBezTo>
                  <a:pt x="34" y="1356"/>
                  <a:pt x="24" y="1372"/>
                  <a:pt x="20" y="1389"/>
                </a:cubicBezTo>
                <a:cubicBezTo>
                  <a:pt x="16" y="1406"/>
                  <a:pt x="7" y="1420"/>
                  <a:pt x="5" y="1446"/>
                </a:cubicBezTo>
                <a:cubicBezTo>
                  <a:pt x="3" y="1472"/>
                  <a:pt x="0" y="1514"/>
                  <a:pt x="8" y="1545"/>
                </a:cubicBezTo>
                <a:cubicBezTo>
                  <a:pt x="16" y="1576"/>
                  <a:pt x="46" y="1602"/>
                  <a:pt x="53" y="1632"/>
                </a:cubicBezTo>
                <a:cubicBezTo>
                  <a:pt x="60" y="1662"/>
                  <a:pt x="61" y="1696"/>
                  <a:pt x="53" y="1728"/>
                </a:cubicBezTo>
                <a:cubicBezTo>
                  <a:pt x="45" y="1760"/>
                  <a:pt x="15" y="1804"/>
                  <a:pt x="5" y="1824"/>
                </a:cubicBezTo>
              </a:path>
            </a:pathLst>
          </a:custGeom>
          <a:noFill/>
          <a:ln w="63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4959360" y="4824360"/>
            <a:ext cx="984240" cy="236520"/>
          </a:xfrm>
          <a:custGeom>
            <a:avLst/>
            <a:gdLst/>
            <a:ahLst/>
            <a:rect l="l" t="t" r="r" b="b"/>
            <a:pathLst>
              <a:path w="620" h="149">
                <a:moveTo>
                  <a:pt x="0" y="149"/>
                </a:moveTo>
                <a:cubicBezTo>
                  <a:pt x="15" y="145"/>
                  <a:pt x="45" y="148"/>
                  <a:pt x="92" y="129"/>
                </a:cubicBezTo>
                <a:cubicBezTo>
                  <a:pt x="139" y="110"/>
                  <a:pt x="243" y="54"/>
                  <a:pt x="284" y="33"/>
                </a:cubicBezTo>
                <a:cubicBezTo>
                  <a:pt x="325" y="12"/>
                  <a:pt x="323" y="10"/>
                  <a:pt x="340" y="5"/>
                </a:cubicBezTo>
                <a:cubicBezTo>
                  <a:pt x="357" y="0"/>
                  <a:pt x="371" y="0"/>
                  <a:pt x="384" y="5"/>
                </a:cubicBezTo>
                <a:cubicBezTo>
                  <a:pt x="397" y="10"/>
                  <a:pt x="401" y="35"/>
                  <a:pt x="416" y="37"/>
                </a:cubicBezTo>
                <a:cubicBezTo>
                  <a:pt x="431" y="39"/>
                  <a:pt x="450" y="19"/>
                  <a:pt x="476" y="17"/>
                </a:cubicBezTo>
                <a:cubicBezTo>
                  <a:pt x="502" y="15"/>
                  <a:pt x="548" y="22"/>
                  <a:pt x="572" y="25"/>
                </a:cubicBezTo>
                <a:cubicBezTo>
                  <a:pt x="596" y="28"/>
                  <a:pt x="620" y="34"/>
                  <a:pt x="620" y="33"/>
                </a:cubicBezTo>
                <a:cubicBezTo>
                  <a:pt x="620" y="32"/>
                  <a:pt x="596" y="33"/>
                  <a:pt x="572" y="33"/>
                </a:cubicBezTo>
              </a:path>
            </a:pathLst>
          </a:custGeom>
          <a:noFill/>
          <a:ln w="63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4362480"/>
            <a:ext cx="920880" cy="514440"/>
          </a:xfrm>
          <a:custGeom>
            <a:avLst/>
            <a:gdLst/>
            <a:ahLst/>
            <a:rect l="l" t="t" r="r" b="b"/>
            <a:pathLst>
              <a:path w="580" h="324">
                <a:moveTo>
                  <a:pt x="0" y="324"/>
                </a:moveTo>
                <a:cubicBezTo>
                  <a:pt x="17" y="322"/>
                  <a:pt x="68" y="320"/>
                  <a:pt x="100" y="312"/>
                </a:cubicBezTo>
                <a:cubicBezTo>
                  <a:pt x="132" y="304"/>
                  <a:pt x="169" y="290"/>
                  <a:pt x="192" y="276"/>
                </a:cubicBezTo>
                <a:cubicBezTo>
                  <a:pt x="215" y="262"/>
                  <a:pt x="229" y="233"/>
                  <a:pt x="240" y="228"/>
                </a:cubicBezTo>
                <a:cubicBezTo>
                  <a:pt x="251" y="223"/>
                  <a:pt x="251" y="240"/>
                  <a:pt x="260" y="244"/>
                </a:cubicBezTo>
                <a:cubicBezTo>
                  <a:pt x="269" y="248"/>
                  <a:pt x="277" y="253"/>
                  <a:pt x="292" y="252"/>
                </a:cubicBezTo>
                <a:cubicBezTo>
                  <a:pt x="307" y="251"/>
                  <a:pt x="325" y="247"/>
                  <a:pt x="348" y="240"/>
                </a:cubicBezTo>
                <a:cubicBezTo>
                  <a:pt x="371" y="233"/>
                  <a:pt x="402" y="223"/>
                  <a:pt x="428" y="212"/>
                </a:cubicBezTo>
                <a:cubicBezTo>
                  <a:pt x="454" y="201"/>
                  <a:pt x="481" y="187"/>
                  <a:pt x="504" y="172"/>
                </a:cubicBezTo>
                <a:cubicBezTo>
                  <a:pt x="527" y="157"/>
                  <a:pt x="553" y="135"/>
                  <a:pt x="564" y="124"/>
                </a:cubicBezTo>
                <a:cubicBezTo>
                  <a:pt x="575" y="113"/>
                  <a:pt x="567" y="115"/>
                  <a:pt x="568" y="104"/>
                </a:cubicBezTo>
                <a:cubicBezTo>
                  <a:pt x="569" y="93"/>
                  <a:pt x="570" y="77"/>
                  <a:pt x="572" y="60"/>
                </a:cubicBezTo>
                <a:cubicBezTo>
                  <a:pt x="574" y="43"/>
                  <a:pt x="578" y="12"/>
                  <a:pt x="580" y="0"/>
                </a:cubicBezTo>
              </a:path>
            </a:pathLst>
          </a:custGeom>
          <a:noFill/>
          <a:ln w="63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6012000" y="2637000"/>
            <a:ext cx="304560" cy="304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北京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5638680" y="5486400"/>
            <a:ext cx="304920" cy="304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广州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4800600" y="4876920"/>
            <a:ext cx="304920" cy="304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贵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5715000" y="4724280"/>
            <a:ext cx="304920" cy="304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株洲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629400" y="4343400"/>
            <a:ext cx="304920" cy="304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杭州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5184000" y="3141720"/>
            <a:ext cx="911880" cy="12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京广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5977080" y="4800600"/>
            <a:ext cx="13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浙赣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4427640" y="5105520"/>
            <a:ext cx="124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湘黔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5715000" y="4724280"/>
            <a:ext cx="304920" cy="30492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株洲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067280" y="333360"/>
            <a:ext cx="1218960" cy="70344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株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  <p:timing>
    <p:tnLst>
      <p:par>
        <p:cTn id="701" dur="indefinite" restart="never" nodeType="tmRoot">
          <p:childTnLst>
            <p:seq>
              <p:cTn id="702" dur="indefinite" nodeType="mainSeq">
                <p:childTnLst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7" dur="3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3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3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1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2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33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8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45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5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5e75"/>
            </a:gs>
            <a:gs pos="100000">
              <a:srgbClr val="33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1258920" y="404640"/>
            <a:ext cx="6894360" cy="5718240"/>
          </a:xfrm>
          <a:custGeom>
            <a:avLst/>
            <a:gdLst/>
            <a:ahLst/>
            <a:rect l="l" t="t" r="r" b="b"/>
            <a:pathLst>
              <a:path w="4343" h="3602">
                <a:moveTo>
                  <a:pt x="1196" y="298"/>
                </a:moveTo>
                <a:cubicBezTo>
                  <a:pt x="1214" y="290"/>
                  <a:pt x="1262" y="302"/>
                  <a:pt x="1274" y="302"/>
                </a:cubicBezTo>
                <a:cubicBezTo>
                  <a:pt x="1286" y="302"/>
                  <a:pt x="1270" y="287"/>
                  <a:pt x="1268" y="296"/>
                </a:cubicBezTo>
                <a:cubicBezTo>
                  <a:pt x="1266" y="305"/>
                  <a:pt x="1256" y="334"/>
                  <a:pt x="1262" y="358"/>
                </a:cubicBezTo>
                <a:cubicBezTo>
                  <a:pt x="1268" y="382"/>
                  <a:pt x="1292" y="428"/>
                  <a:pt x="1306" y="442"/>
                </a:cubicBezTo>
                <a:cubicBezTo>
                  <a:pt x="1320" y="456"/>
                  <a:pt x="1340" y="437"/>
                  <a:pt x="1348" y="442"/>
                </a:cubicBezTo>
                <a:cubicBezTo>
                  <a:pt x="1356" y="447"/>
                  <a:pt x="1352" y="468"/>
                  <a:pt x="1356" y="474"/>
                </a:cubicBezTo>
                <a:cubicBezTo>
                  <a:pt x="1360" y="480"/>
                  <a:pt x="1365" y="457"/>
                  <a:pt x="1374" y="476"/>
                </a:cubicBezTo>
                <a:cubicBezTo>
                  <a:pt x="1383" y="495"/>
                  <a:pt x="1407" y="558"/>
                  <a:pt x="1412" y="590"/>
                </a:cubicBezTo>
                <a:cubicBezTo>
                  <a:pt x="1417" y="622"/>
                  <a:pt x="1409" y="641"/>
                  <a:pt x="1402" y="668"/>
                </a:cubicBezTo>
                <a:cubicBezTo>
                  <a:pt x="1395" y="695"/>
                  <a:pt x="1359" y="731"/>
                  <a:pt x="1368" y="752"/>
                </a:cubicBezTo>
                <a:cubicBezTo>
                  <a:pt x="1377" y="773"/>
                  <a:pt x="1422" y="782"/>
                  <a:pt x="1454" y="796"/>
                </a:cubicBezTo>
                <a:cubicBezTo>
                  <a:pt x="1486" y="810"/>
                  <a:pt x="1529" y="816"/>
                  <a:pt x="1558" y="836"/>
                </a:cubicBezTo>
                <a:cubicBezTo>
                  <a:pt x="1587" y="856"/>
                  <a:pt x="1608" y="901"/>
                  <a:pt x="1626" y="914"/>
                </a:cubicBezTo>
                <a:cubicBezTo>
                  <a:pt x="1644" y="927"/>
                  <a:pt x="1655" y="898"/>
                  <a:pt x="1664" y="916"/>
                </a:cubicBezTo>
                <a:cubicBezTo>
                  <a:pt x="1673" y="934"/>
                  <a:pt x="1676" y="998"/>
                  <a:pt x="1682" y="1022"/>
                </a:cubicBezTo>
                <a:cubicBezTo>
                  <a:pt x="1688" y="1046"/>
                  <a:pt x="1695" y="1047"/>
                  <a:pt x="1702" y="1060"/>
                </a:cubicBezTo>
                <a:cubicBezTo>
                  <a:pt x="1709" y="1073"/>
                  <a:pt x="1706" y="1092"/>
                  <a:pt x="1722" y="1100"/>
                </a:cubicBezTo>
                <a:cubicBezTo>
                  <a:pt x="1738" y="1108"/>
                  <a:pt x="1770" y="1102"/>
                  <a:pt x="1798" y="1108"/>
                </a:cubicBezTo>
                <a:cubicBezTo>
                  <a:pt x="1826" y="1114"/>
                  <a:pt x="1858" y="1132"/>
                  <a:pt x="1890" y="1138"/>
                </a:cubicBezTo>
                <a:cubicBezTo>
                  <a:pt x="1922" y="1144"/>
                  <a:pt x="1962" y="1138"/>
                  <a:pt x="1992" y="1142"/>
                </a:cubicBezTo>
                <a:cubicBezTo>
                  <a:pt x="2022" y="1146"/>
                  <a:pt x="2050" y="1152"/>
                  <a:pt x="2070" y="1164"/>
                </a:cubicBezTo>
                <a:cubicBezTo>
                  <a:pt x="2090" y="1176"/>
                  <a:pt x="2097" y="1203"/>
                  <a:pt x="2110" y="1212"/>
                </a:cubicBezTo>
                <a:cubicBezTo>
                  <a:pt x="2123" y="1221"/>
                  <a:pt x="2133" y="1207"/>
                  <a:pt x="2150" y="1216"/>
                </a:cubicBezTo>
                <a:cubicBezTo>
                  <a:pt x="2167" y="1225"/>
                  <a:pt x="2193" y="1256"/>
                  <a:pt x="2214" y="1264"/>
                </a:cubicBezTo>
                <a:cubicBezTo>
                  <a:pt x="2235" y="1272"/>
                  <a:pt x="2259" y="1257"/>
                  <a:pt x="2274" y="1262"/>
                </a:cubicBezTo>
                <a:cubicBezTo>
                  <a:pt x="2289" y="1267"/>
                  <a:pt x="2280" y="1297"/>
                  <a:pt x="2306" y="1292"/>
                </a:cubicBezTo>
                <a:cubicBezTo>
                  <a:pt x="2332" y="1287"/>
                  <a:pt x="2399" y="1247"/>
                  <a:pt x="2428" y="1234"/>
                </a:cubicBezTo>
                <a:cubicBezTo>
                  <a:pt x="2457" y="1221"/>
                  <a:pt x="2465" y="1220"/>
                  <a:pt x="2478" y="1216"/>
                </a:cubicBezTo>
                <a:cubicBezTo>
                  <a:pt x="2491" y="1212"/>
                  <a:pt x="2496" y="1212"/>
                  <a:pt x="2504" y="1212"/>
                </a:cubicBezTo>
                <a:cubicBezTo>
                  <a:pt x="2512" y="1212"/>
                  <a:pt x="2507" y="1217"/>
                  <a:pt x="2528" y="1218"/>
                </a:cubicBezTo>
                <a:cubicBezTo>
                  <a:pt x="2549" y="1219"/>
                  <a:pt x="2602" y="1224"/>
                  <a:pt x="2632" y="1216"/>
                </a:cubicBezTo>
                <a:cubicBezTo>
                  <a:pt x="2662" y="1208"/>
                  <a:pt x="2690" y="1188"/>
                  <a:pt x="2710" y="1172"/>
                </a:cubicBezTo>
                <a:cubicBezTo>
                  <a:pt x="2730" y="1156"/>
                  <a:pt x="2737" y="1135"/>
                  <a:pt x="2754" y="1120"/>
                </a:cubicBezTo>
                <a:cubicBezTo>
                  <a:pt x="2771" y="1105"/>
                  <a:pt x="2810" y="1097"/>
                  <a:pt x="2814" y="1080"/>
                </a:cubicBezTo>
                <a:cubicBezTo>
                  <a:pt x="2818" y="1063"/>
                  <a:pt x="2781" y="1036"/>
                  <a:pt x="2778" y="1016"/>
                </a:cubicBezTo>
                <a:cubicBezTo>
                  <a:pt x="2775" y="996"/>
                  <a:pt x="2788" y="971"/>
                  <a:pt x="2796" y="958"/>
                </a:cubicBezTo>
                <a:cubicBezTo>
                  <a:pt x="2804" y="945"/>
                  <a:pt x="2803" y="932"/>
                  <a:pt x="2824" y="936"/>
                </a:cubicBezTo>
                <a:cubicBezTo>
                  <a:pt x="2845" y="940"/>
                  <a:pt x="2891" y="986"/>
                  <a:pt x="2922" y="980"/>
                </a:cubicBezTo>
                <a:cubicBezTo>
                  <a:pt x="2953" y="974"/>
                  <a:pt x="2985" y="915"/>
                  <a:pt x="3012" y="898"/>
                </a:cubicBezTo>
                <a:cubicBezTo>
                  <a:pt x="3039" y="881"/>
                  <a:pt x="3066" y="896"/>
                  <a:pt x="3086" y="880"/>
                </a:cubicBezTo>
                <a:cubicBezTo>
                  <a:pt x="3106" y="864"/>
                  <a:pt x="3119" y="815"/>
                  <a:pt x="3134" y="800"/>
                </a:cubicBezTo>
                <a:cubicBezTo>
                  <a:pt x="3149" y="785"/>
                  <a:pt x="3168" y="797"/>
                  <a:pt x="3178" y="790"/>
                </a:cubicBezTo>
                <a:cubicBezTo>
                  <a:pt x="3188" y="783"/>
                  <a:pt x="3189" y="765"/>
                  <a:pt x="3196" y="760"/>
                </a:cubicBezTo>
                <a:cubicBezTo>
                  <a:pt x="3203" y="755"/>
                  <a:pt x="3209" y="762"/>
                  <a:pt x="3218" y="760"/>
                </a:cubicBezTo>
                <a:cubicBezTo>
                  <a:pt x="3227" y="758"/>
                  <a:pt x="3244" y="749"/>
                  <a:pt x="3252" y="746"/>
                </a:cubicBezTo>
                <a:cubicBezTo>
                  <a:pt x="3260" y="743"/>
                  <a:pt x="3262" y="743"/>
                  <a:pt x="3268" y="742"/>
                </a:cubicBezTo>
                <a:cubicBezTo>
                  <a:pt x="3274" y="741"/>
                  <a:pt x="3276" y="736"/>
                  <a:pt x="3286" y="740"/>
                </a:cubicBezTo>
                <a:cubicBezTo>
                  <a:pt x="3296" y="744"/>
                  <a:pt x="3316" y="772"/>
                  <a:pt x="3326" y="768"/>
                </a:cubicBezTo>
                <a:cubicBezTo>
                  <a:pt x="3336" y="764"/>
                  <a:pt x="3359" y="745"/>
                  <a:pt x="3344" y="718"/>
                </a:cubicBezTo>
                <a:cubicBezTo>
                  <a:pt x="3329" y="691"/>
                  <a:pt x="3260" y="625"/>
                  <a:pt x="3236" y="608"/>
                </a:cubicBezTo>
                <a:cubicBezTo>
                  <a:pt x="3212" y="591"/>
                  <a:pt x="3206" y="608"/>
                  <a:pt x="3198" y="614"/>
                </a:cubicBezTo>
                <a:cubicBezTo>
                  <a:pt x="3190" y="620"/>
                  <a:pt x="3194" y="639"/>
                  <a:pt x="3188" y="642"/>
                </a:cubicBezTo>
                <a:cubicBezTo>
                  <a:pt x="3182" y="645"/>
                  <a:pt x="3176" y="632"/>
                  <a:pt x="3160" y="632"/>
                </a:cubicBezTo>
                <a:cubicBezTo>
                  <a:pt x="3144" y="632"/>
                  <a:pt x="3108" y="635"/>
                  <a:pt x="3094" y="640"/>
                </a:cubicBezTo>
                <a:cubicBezTo>
                  <a:pt x="3080" y="645"/>
                  <a:pt x="3081" y="665"/>
                  <a:pt x="3074" y="664"/>
                </a:cubicBezTo>
                <a:cubicBezTo>
                  <a:pt x="3067" y="663"/>
                  <a:pt x="3056" y="643"/>
                  <a:pt x="3052" y="632"/>
                </a:cubicBezTo>
                <a:cubicBezTo>
                  <a:pt x="3048" y="621"/>
                  <a:pt x="3045" y="608"/>
                  <a:pt x="3048" y="600"/>
                </a:cubicBezTo>
                <a:cubicBezTo>
                  <a:pt x="3051" y="592"/>
                  <a:pt x="3057" y="614"/>
                  <a:pt x="3068" y="586"/>
                </a:cubicBezTo>
                <a:cubicBezTo>
                  <a:pt x="3079" y="558"/>
                  <a:pt x="3100" y="454"/>
                  <a:pt x="3116" y="430"/>
                </a:cubicBezTo>
                <a:cubicBezTo>
                  <a:pt x="3132" y="406"/>
                  <a:pt x="3143" y="446"/>
                  <a:pt x="3166" y="442"/>
                </a:cubicBezTo>
                <a:cubicBezTo>
                  <a:pt x="3189" y="438"/>
                  <a:pt x="3233" y="416"/>
                  <a:pt x="3252" y="406"/>
                </a:cubicBezTo>
                <a:cubicBezTo>
                  <a:pt x="3271" y="396"/>
                  <a:pt x="3279" y="394"/>
                  <a:pt x="3282" y="384"/>
                </a:cubicBezTo>
                <a:cubicBezTo>
                  <a:pt x="3285" y="374"/>
                  <a:pt x="3265" y="368"/>
                  <a:pt x="3270" y="346"/>
                </a:cubicBezTo>
                <a:cubicBezTo>
                  <a:pt x="3275" y="324"/>
                  <a:pt x="3304" y="276"/>
                  <a:pt x="3312" y="252"/>
                </a:cubicBezTo>
                <a:cubicBezTo>
                  <a:pt x="3320" y="228"/>
                  <a:pt x="3310" y="212"/>
                  <a:pt x="3320" y="204"/>
                </a:cubicBezTo>
                <a:cubicBezTo>
                  <a:pt x="3330" y="196"/>
                  <a:pt x="3361" y="211"/>
                  <a:pt x="3370" y="204"/>
                </a:cubicBezTo>
                <a:cubicBezTo>
                  <a:pt x="3379" y="197"/>
                  <a:pt x="3378" y="172"/>
                  <a:pt x="3376" y="164"/>
                </a:cubicBezTo>
                <a:cubicBezTo>
                  <a:pt x="3374" y="156"/>
                  <a:pt x="3363" y="161"/>
                  <a:pt x="3358" y="154"/>
                </a:cubicBezTo>
                <a:cubicBezTo>
                  <a:pt x="3353" y="147"/>
                  <a:pt x="3353" y="130"/>
                  <a:pt x="3346" y="124"/>
                </a:cubicBezTo>
                <a:cubicBezTo>
                  <a:pt x="3339" y="118"/>
                  <a:pt x="3315" y="132"/>
                  <a:pt x="3314" y="120"/>
                </a:cubicBezTo>
                <a:cubicBezTo>
                  <a:pt x="3313" y="108"/>
                  <a:pt x="3326" y="66"/>
                  <a:pt x="3342" y="52"/>
                </a:cubicBezTo>
                <a:cubicBezTo>
                  <a:pt x="3358" y="38"/>
                  <a:pt x="3400" y="46"/>
                  <a:pt x="3412" y="38"/>
                </a:cubicBezTo>
                <a:cubicBezTo>
                  <a:pt x="3424" y="30"/>
                  <a:pt x="3403" y="7"/>
                  <a:pt x="3414" y="4"/>
                </a:cubicBezTo>
                <a:cubicBezTo>
                  <a:pt x="3425" y="1"/>
                  <a:pt x="3457" y="20"/>
                  <a:pt x="3478" y="20"/>
                </a:cubicBezTo>
                <a:cubicBezTo>
                  <a:pt x="3499" y="20"/>
                  <a:pt x="3521" y="0"/>
                  <a:pt x="3540" y="2"/>
                </a:cubicBezTo>
                <a:cubicBezTo>
                  <a:pt x="3559" y="4"/>
                  <a:pt x="3578" y="29"/>
                  <a:pt x="3592" y="32"/>
                </a:cubicBezTo>
                <a:cubicBezTo>
                  <a:pt x="3606" y="35"/>
                  <a:pt x="3605" y="11"/>
                  <a:pt x="3622" y="20"/>
                </a:cubicBezTo>
                <a:cubicBezTo>
                  <a:pt x="3639" y="29"/>
                  <a:pt x="3667" y="49"/>
                  <a:pt x="3694" y="88"/>
                </a:cubicBezTo>
                <a:cubicBezTo>
                  <a:pt x="3721" y="127"/>
                  <a:pt x="3763" y="215"/>
                  <a:pt x="3782" y="252"/>
                </a:cubicBezTo>
                <a:cubicBezTo>
                  <a:pt x="3801" y="289"/>
                  <a:pt x="3801" y="293"/>
                  <a:pt x="3808" y="310"/>
                </a:cubicBezTo>
                <a:cubicBezTo>
                  <a:pt x="3815" y="327"/>
                  <a:pt x="3809" y="347"/>
                  <a:pt x="3824" y="354"/>
                </a:cubicBezTo>
                <a:cubicBezTo>
                  <a:pt x="3839" y="361"/>
                  <a:pt x="3878" y="350"/>
                  <a:pt x="3896" y="354"/>
                </a:cubicBezTo>
                <a:cubicBezTo>
                  <a:pt x="3914" y="358"/>
                  <a:pt x="3923" y="377"/>
                  <a:pt x="3934" y="380"/>
                </a:cubicBezTo>
                <a:cubicBezTo>
                  <a:pt x="3945" y="383"/>
                  <a:pt x="3953" y="367"/>
                  <a:pt x="3960" y="372"/>
                </a:cubicBezTo>
                <a:cubicBezTo>
                  <a:pt x="3967" y="377"/>
                  <a:pt x="3968" y="401"/>
                  <a:pt x="3978" y="408"/>
                </a:cubicBezTo>
                <a:cubicBezTo>
                  <a:pt x="3988" y="415"/>
                  <a:pt x="4010" y="405"/>
                  <a:pt x="4020" y="416"/>
                </a:cubicBezTo>
                <a:cubicBezTo>
                  <a:pt x="4030" y="427"/>
                  <a:pt x="4032" y="455"/>
                  <a:pt x="4040" y="472"/>
                </a:cubicBezTo>
                <a:cubicBezTo>
                  <a:pt x="4048" y="489"/>
                  <a:pt x="4050" y="511"/>
                  <a:pt x="4068" y="516"/>
                </a:cubicBezTo>
                <a:cubicBezTo>
                  <a:pt x="4086" y="521"/>
                  <a:pt x="4108" y="525"/>
                  <a:pt x="4150" y="500"/>
                </a:cubicBezTo>
                <a:cubicBezTo>
                  <a:pt x="4192" y="475"/>
                  <a:pt x="4293" y="379"/>
                  <a:pt x="4318" y="368"/>
                </a:cubicBezTo>
                <a:cubicBezTo>
                  <a:pt x="4343" y="357"/>
                  <a:pt x="4302" y="422"/>
                  <a:pt x="4300" y="436"/>
                </a:cubicBezTo>
                <a:cubicBezTo>
                  <a:pt x="4298" y="450"/>
                  <a:pt x="4305" y="444"/>
                  <a:pt x="4306" y="454"/>
                </a:cubicBezTo>
                <a:cubicBezTo>
                  <a:pt x="4307" y="464"/>
                  <a:pt x="4311" y="485"/>
                  <a:pt x="4308" y="496"/>
                </a:cubicBezTo>
                <a:cubicBezTo>
                  <a:pt x="4305" y="507"/>
                  <a:pt x="4291" y="496"/>
                  <a:pt x="4288" y="518"/>
                </a:cubicBezTo>
                <a:cubicBezTo>
                  <a:pt x="4285" y="540"/>
                  <a:pt x="4291" y="603"/>
                  <a:pt x="4288" y="628"/>
                </a:cubicBezTo>
                <a:cubicBezTo>
                  <a:pt x="4285" y="653"/>
                  <a:pt x="4273" y="653"/>
                  <a:pt x="4270" y="668"/>
                </a:cubicBezTo>
                <a:cubicBezTo>
                  <a:pt x="4267" y="683"/>
                  <a:pt x="4272" y="699"/>
                  <a:pt x="4270" y="718"/>
                </a:cubicBezTo>
                <a:cubicBezTo>
                  <a:pt x="4268" y="737"/>
                  <a:pt x="4276" y="773"/>
                  <a:pt x="4260" y="780"/>
                </a:cubicBezTo>
                <a:cubicBezTo>
                  <a:pt x="4244" y="787"/>
                  <a:pt x="4193" y="759"/>
                  <a:pt x="4176" y="762"/>
                </a:cubicBezTo>
                <a:cubicBezTo>
                  <a:pt x="4159" y="765"/>
                  <a:pt x="4165" y="788"/>
                  <a:pt x="4156" y="798"/>
                </a:cubicBezTo>
                <a:cubicBezTo>
                  <a:pt x="4147" y="808"/>
                  <a:pt x="4126" y="808"/>
                  <a:pt x="4124" y="820"/>
                </a:cubicBezTo>
                <a:cubicBezTo>
                  <a:pt x="4122" y="832"/>
                  <a:pt x="4134" y="840"/>
                  <a:pt x="4142" y="868"/>
                </a:cubicBezTo>
                <a:cubicBezTo>
                  <a:pt x="4150" y="896"/>
                  <a:pt x="4176" y="959"/>
                  <a:pt x="4174" y="988"/>
                </a:cubicBezTo>
                <a:cubicBezTo>
                  <a:pt x="4172" y="1017"/>
                  <a:pt x="4139" y="1030"/>
                  <a:pt x="4132" y="1044"/>
                </a:cubicBezTo>
                <a:cubicBezTo>
                  <a:pt x="4125" y="1058"/>
                  <a:pt x="4135" y="1067"/>
                  <a:pt x="4134" y="1072"/>
                </a:cubicBezTo>
                <a:cubicBezTo>
                  <a:pt x="4133" y="1077"/>
                  <a:pt x="4133" y="1083"/>
                  <a:pt x="4124" y="1076"/>
                </a:cubicBezTo>
                <a:cubicBezTo>
                  <a:pt x="4115" y="1069"/>
                  <a:pt x="4089" y="1026"/>
                  <a:pt x="4080" y="1030"/>
                </a:cubicBezTo>
                <a:cubicBezTo>
                  <a:pt x="4071" y="1034"/>
                  <a:pt x="4075" y="1086"/>
                  <a:pt x="4070" y="1098"/>
                </a:cubicBezTo>
                <a:cubicBezTo>
                  <a:pt x="4065" y="1110"/>
                  <a:pt x="4056" y="1094"/>
                  <a:pt x="4050" y="1102"/>
                </a:cubicBezTo>
                <a:cubicBezTo>
                  <a:pt x="4044" y="1110"/>
                  <a:pt x="4049" y="1134"/>
                  <a:pt x="4036" y="1144"/>
                </a:cubicBezTo>
                <a:cubicBezTo>
                  <a:pt x="4023" y="1154"/>
                  <a:pt x="3978" y="1147"/>
                  <a:pt x="3970" y="1160"/>
                </a:cubicBezTo>
                <a:cubicBezTo>
                  <a:pt x="3962" y="1173"/>
                  <a:pt x="3992" y="1213"/>
                  <a:pt x="3986" y="1224"/>
                </a:cubicBezTo>
                <a:cubicBezTo>
                  <a:pt x="3980" y="1235"/>
                  <a:pt x="3945" y="1230"/>
                  <a:pt x="3932" y="1226"/>
                </a:cubicBezTo>
                <a:cubicBezTo>
                  <a:pt x="3919" y="1222"/>
                  <a:pt x="3919" y="1206"/>
                  <a:pt x="3910" y="1202"/>
                </a:cubicBezTo>
                <a:cubicBezTo>
                  <a:pt x="3901" y="1198"/>
                  <a:pt x="3889" y="1191"/>
                  <a:pt x="3880" y="1204"/>
                </a:cubicBezTo>
                <a:cubicBezTo>
                  <a:pt x="3871" y="1217"/>
                  <a:pt x="3873" y="1255"/>
                  <a:pt x="3854" y="1282"/>
                </a:cubicBezTo>
                <a:cubicBezTo>
                  <a:pt x="3835" y="1309"/>
                  <a:pt x="3791" y="1338"/>
                  <a:pt x="3766" y="1364"/>
                </a:cubicBezTo>
                <a:cubicBezTo>
                  <a:pt x="3741" y="1390"/>
                  <a:pt x="3731" y="1418"/>
                  <a:pt x="3706" y="1438"/>
                </a:cubicBezTo>
                <a:cubicBezTo>
                  <a:pt x="3681" y="1458"/>
                  <a:pt x="3651" y="1457"/>
                  <a:pt x="3616" y="1482"/>
                </a:cubicBezTo>
                <a:cubicBezTo>
                  <a:pt x="3581" y="1507"/>
                  <a:pt x="3518" y="1575"/>
                  <a:pt x="3498" y="1586"/>
                </a:cubicBezTo>
                <a:cubicBezTo>
                  <a:pt x="3478" y="1597"/>
                  <a:pt x="3488" y="1562"/>
                  <a:pt x="3494" y="1550"/>
                </a:cubicBezTo>
                <a:cubicBezTo>
                  <a:pt x="3500" y="1538"/>
                  <a:pt x="3524" y="1536"/>
                  <a:pt x="3532" y="1514"/>
                </a:cubicBezTo>
                <a:cubicBezTo>
                  <a:pt x="3540" y="1492"/>
                  <a:pt x="3541" y="1446"/>
                  <a:pt x="3544" y="1418"/>
                </a:cubicBezTo>
                <a:cubicBezTo>
                  <a:pt x="3547" y="1390"/>
                  <a:pt x="3561" y="1358"/>
                  <a:pt x="3552" y="1344"/>
                </a:cubicBezTo>
                <a:cubicBezTo>
                  <a:pt x="3543" y="1330"/>
                  <a:pt x="3508" y="1324"/>
                  <a:pt x="3488" y="1336"/>
                </a:cubicBezTo>
                <a:cubicBezTo>
                  <a:pt x="3468" y="1348"/>
                  <a:pt x="3452" y="1387"/>
                  <a:pt x="3434" y="1414"/>
                </a:cubicBezTo>
                <a:cubicBezTo>
                  <a:pt x="3416" y="1441"/>
                  <a:pt x="3395" y="1475"/>
                  <a:pt x="3378" y="1500"/>
                </a:cubicBezTo>
                <a:cubicBezTo>
                  <a:pt x="3361" y="1525"/>
                  <a:pt x="3352" y="1551"/>
                  <a:pt x="3332" y="1562"/>
                </a:cubicBezTo>
                <a:cubicBezTo>
                  <a:pt x="3312" y="1573"/>
                  <a:pt x="3274" y="1553"/>
                  <a:pt x="3258" y="1566"/>
                </a:cubicBezTo>
                <a:cubicBezTo>
                  <a:pt x="3242" y="1579"/>
                  <a:pt x="3230" y="1619"/>
                  <a:pt x="3236" y="1638"/>
                </a:cubicBezTo>
                <a:cubicBezTo>
                  <a:pt x="3242" y="1657"/>
                  <a:pt x="3277" y="1674"/>
                  <a:pt x="3296" y="1680"/>
                </a:cubicBezTo>
                <a:cubicBezTo>
                  <a:pt x="3315" y="1686"/>
                  <a:pt x="3334" y="1659"/>
                  <a:pt x="3348" y="1674"/>
                </a:cubicBezTo>
                <a:cubicBezTo>
                  <a:pt x="3362" y="1689"/>
                  <a:pt x="3359" y="1767"/>
                  <a:pt x="3380" y="1770"/>
                </a:cubicBezTo>
                <a:cubicBezTo>
                  <a:pt x="3401" y="1773"/>
                  <a:pt x="3429" y="1703"/>
                  <a:pt x="3474" y="1694"/>
                </a:cubicBezTo>
                <a:cubicBezTo>
                  <a:pt x="3519" y="1685"/>
                  <a:pt x="3621" y="1702"/>
                  <a:pt x="3648" y="1714"/>
                </a:cubicBezTo>
                <a:cubicBezTo>
                  <a:pt x="3675" y="1726"/>
                  <a:pt x="3647" y="1757"/>
                  <a:pt x="3634" y="1766"/>
                </a:cubicBezTo>
                <a:cubicBezTo>
                  <a:pt x="3621" y="1775"/>
                  <a:pt x="3598" y="1757"/>
                  <a:pt x="3572" y="1770"/>
                </a:cubicBezTo>
                <a:cubicBezTo>
                  <a:pt x="3546" y="1783"/>
                  <a:pt x="3502" y="1816"/>
                  <a:pt x="3478" y="1844"/>
                </a:cubicBezTo>
                <a:cubicBezTo>
                  <a:pt x="3454" y="1872"/>
                  <a:pt x="3438" y="1904"/>
                  <a:pt x="3430" y="1940"/>
                </a:cubicBezTo>
                <a:cubicBezTo>
                  <a:pt x="3422" y="1976"/>
                  <a:pt x="3422" y="2038"/>
                  <a:pt x="3432" y="2062"/>
                </a:cubicBezTo>
                <a:cubicBezTo>
                  <a:pt x="3442" y="2086"/>
                  <a:pt x="3469" y="2058"/>
                  <a:pt x="3488" y="2086"/>
                </a:cubicBezTo>
                <a:cubicBezTo>
                  <a:pt x="3507" y="2114"/>
                  <a:pt x="3521" y="2195"/>
                  <a:pt x="3546" y="2232"/>
                </a:cubicBezTo>
                <a:cubicBezTo>
                  <a:pt x="3571" y="2269"/>
                  <a:pt x="3629" y="2293"/>
                  <a:pt x="3638" y="2310"/>
                </a:cubicBezTo>
                <a:cubicBezTo>
                  <a:pt x="3647" y="2327"/>
                  <a:pt x="3597" y="2321"/>
                  <a:pt x="3600" y="2332"/>
                </a:cubicBezTo>
                <a:cubicBezTo>
                  <a:pt x="3603" y="2343"/>
                  <a:pt x="3665" y="2353"/>
                  <a:pt x="3658" y="2378"/>
                </a:cubicBezTo>
                <a:cubicBezTo>
                  <a:pt x="3651" y="2403"/>
                  <a:pt x="3559" y="2463"/>
                  <a:pt x="3556" y="2484"/>
                </a:cubicBezTo>
                <a:cubicBezTo>
                  <a:pt x="3553" y="2505"/>
                  <a:pt x="3616" y="2500"/>
                  <a:pt x="3638" y="2506"/>
                </a:cubicBezTo>
                <a:cubicBezTo>
                  <a:pt x="3660" y="2512"/>
                  <a:pt x="3688" y="2487"/>
                  <a:pt x="3688" y="2520"/>
                </a:cubicBezTo>
                <a:cubicBezTo>
                  <a:pt x="3688" y="2553"/>
                  <a:pt x="3656" y="2666"/>
                  <a:pt x="3640" y="2702"/>
                </a:cubicBezTo>
                <a:cubicBezTo>
                  <a:pt x="3624" y="2738"/>
                  <a:pt x="3602" y="2715"/>
                  <a:pt x="3592" y="2738"/>
                </a:cubicBezTo>
                <a:cubicBezTo>
                  <a:pt x="3582" y="2761"/>
                  <a:pt x="3589" y="2805"/>
                  <a:pt x="3578" y="2840"/>
                </a:cubicBezTo>
                <a:cubicBezTo>
                  <a:pt x="3567" y="2875"/>
                  <a:pt x="3563" y="2894"/>
                  <a:pt x="3526" y="2948"/>
                </a:cubicBezTo>
                <a:cubicBezTo>
                  <a:pt x="3489" y="3002"/>
                  <a:pt x="3394" y="3118"/>
                  <a:pt x="3354" y="3166"/>
                </a:cubicBezTo>
                <a:cubicBezTo>
                  <a:pt x="3314" y="3214"/>
                  <a:pt x="3299" y="3229"/>
                  <a:pt x="3286" y="3234"/>
                </a:cubicBezTo>
                <a:cubicBezTo>
                  <a:pt x="3273" y="3239"/>
                  <a:pt x="3286" y="3186"/>
                  <a:pt x="3278" y="3194"/>
                </a:cubicBezTo>
                <a:cubicBezTo>
                  <a:pt x="3270" y="3202"/>
                  <a:pt x="3271" y="3262"/>
                  <a:pt x="3238" y="3284"/>
                </a:cubicBezTo>
                <a:cubicBezTo>
                  <a:pt x="3205" y="3306"/>
                  <a:pt x="3123" y="3311"/>
                  <a:pt x="3078" y="3326"/>
                </a:cubicBezTo>
                <a:cubicBezTo>
                  <a:pt x="3033" y="3341"/>
                  <a:pt x="2994" y="3357"/>
                  <a:pt x="2968" y="3372"/>
                </a:cubicBezTo>
                <a:cubicBezTo>
                  <a:pt x="2942" y="3387"/>
                  <a:pt x="2937" y="3407"/>
                  <a:pt x="2922" y="3416"/>
                </a:cubicBezTo>
                <a:cubicBezTo>
                  <a:pt x="2907" y="3425"/>
                  <a:pt x="2886" y="3429"/>
                  <a:pt x="2876" y="3428"/>
                </a:cubicBezTo>
                <a:cubicBezTo>
                  <a:pt x="2866" y="3427"/>
                  <a:pt x="2864" y="3406"/>
                  <a:pt x="2860" y="3408"/>
                </a:cubicBezTo>
                <a:cubicBezTo>
                  <a:pt x="2856" y="3410"/>
                  <a:pt x="2860" y="3437"/>
                  <a:pt x="2854" y="3440"/>
                </a:cubicBezTo>
                <a:cubicBezTo>
                  <a:pt x="2848" y="3443"/>
                  <a:pt x="2832" y="3422"/>
                  <a:pt x="2822" y="3424"/>
                </a:cubicBezTo>
                <a:cubicBezTo>
                  <a:pt x="2812" y="3426"/>
                  <a:pt x="2807" y="3447"/>
                  <a:pt x="2796" y="3454"/>
                </a:cubicBezTo>
                <a:cubicBezTo>
                  <a:pt x="2785" y="3461"/>
                  <a:pt x="2770" y="3454"/>
                  <a:pt x="2754" y="3464"/>
                </a:cubicBezTo>
                <a:cubicBezTo>
                  <a:pt x="2738" y="3474"/>
                  <a:pt x="2716" y="3506"/>
                  <a:pt x="2700" y="3514"/>
                </a:cubicBezTo>
                <a:cubicBezTo>
                  <a:pt x="2684" y="3522"/>
                  <a:pt x="2660" y="3507"/>
                  <a:pt x="2656" y="3510"/>
                </a:cubicBezTo>
                <a:cubicBezTo>
                  <a:pt x="2652" y="3513"/>
                  <a:pt x="2674" y="3523"/>
                  <a:pt x="2678" y="3530"/>
                </a:cubicBezTo>
                <a:cubicBezTo>
                  <a:pt x="2682" y="3537"/>
                  <a:pt x="2674" y="3546"/>
                  <a:pt x="2678" y="3554"/>
                </a:cubicBezTo>
                <a:cubicBezTo>
                  <a:pt x="2682" y="3562"/>
                  <a:pt x="2702" y="3571"/>
                  <a:pt x="2704" y="3576"/>
                </a:cubicBezTo>
                <a:cubicBezTo>
                  <a:pt x="2706" y="3581"/>
                  <a:pt x="2696" y="3583"/>
                  <a:pt x="2688" y="3586"/>
                </a:cubicBezTo>
                <a:cubicBezTo>
                  <a:pt x="2680" y="3589"/>
                  <a:pt x="2670" y="3592"/>
                  <a:pt x="2658" y="3594"/>
                </a:cubicBezTo>
                <a:cubicBezTo>
                  <a:pt x="2646" y="3596"/>
                  <a:pt x="2618" y="3602"/>
                  <a:pt x="2614" y="3596"/>
                </a:cubicBezTo>
                <a:cubicBezTo>
                  <a:pt x="2610" y="3590"/>
                  <a:pt x="2634" y="3565"/>
                  <a:pt x="2634" y="3558"/>
                </a:cubicBezTo>
                <a:cubicBezTo>
                  <a:pt x="2634" y="3551"/>
                  <a:pt x="2618" y="3565"/>
                  <a:pt x="2614" y="3556"/>
                </a:cubicBezTo>
                <a:cubicBezTo>
                  <a:pt x="2610" y="3547"/>
                  <a:pt x="2608" y="3521"/>
                  <a:pt x="2610" y="3506"/>
                </a:cubicBezTo>
                <a:cubicBezTo>
                  <a:pt x="2612" y="3491"/>
                  <a:pt x="2626" y="3471"/>
                  <a:pt x="2626" y="3464"/>
                </a:cubicBezTo>
                <a:cubicBezTo>
                  <a:pt x="2626" y="3457"/>
                  <a:pt x="2613" y="3466"/>
                  <a:pt x="2608" y="3462"/>
                </a:cubicBezTo>
                <a:cubicBezTo>
                  <a:pt x="2603" y="3458"/>
                  <a:pt x="2601" y="3442"/>
                  <a:pt x="2598" y="3442"/>
                </a:cubicBezTo>
                <a:cubicBezTo>
                  <a:pt x="2595" y="3442"/>
                  <a:pt x="2602" y="3464"/>
                  <a:pt x="2588" y="3462"/>
                </a:cubicBezTo>
                <a:cubicBezTo>
                  <a:pt x="2574" y="3460"/>
                  <a:pt x="2533" y="3429"/>
                  <a:pt x="2516" y="3428"/>
                </a:cubicBezTo>
                <a:cubicBezTo>
                  <a:pt x="2499" y="3427"/>
                  <a:pt x="2498" y="3451"/>
                  <a:pt x="2484" y="3454"/>
                </a:cubicBezTo>
                <a:cubicBezTo>
                  <a:pt x="2470" y="3457"/>
                  <a:pt x="2452" y="3450"/>
                  <a:pt x="2434" y="3444"/>
                </a:cubicBezTo>
                <a:cubicBezTo>
                  <a:pt x="2416" y="3438"/>
                  <a:pt x="2393" y="3430"/>
                  <a:pt x="2376" y="3418"/>
                </a:cubicBezTo>
                <a:cubicBezTo>
                  <a:pt x="2359" y="3406"/>
                  <a:pt x="2341" y="3387"/>
                  <a:pt x="2334" y="3374"/>
                </a:cubicBezTo>
                <a:cubicBezTo>
                  <a:pt x="2327" y="3361"/>
                  <a:pt x="2333" y="3352"/>
                  <a:pt x="2336" y="3342"/>
                </a:cubicBezTo>
                <a:cubicBezTo>
                  <a:pt x="2339" y="3332"/>
                  <a:pt x="2363" y="3322"/>
                  <a:pt x="2352" y="3314"/>
                </a:cubicBezTo>
                <a:cubicBezTo>
                  <a:pt x="2341" y="3306"/>
                  <a:pt x="2291" y="3305"/>
                  <a:pt x="2270" y="3294"/>
                </a:cubicBezTo>
                <a:cubicBezTo>
                  <a:pt x="2249" y="3283"/>
                  <a:pt x="2244" y="3247"/>
                  <a:pt x="2224" y="3248"/>
                </a:cubicBezTo>
                <a:cubicBezTo>
                  <a:pt x="2204" y="3249"/>
                  <a:pt x="2167" y="3295"/>
                  <a:pt x="2148" y="3302"/>
                </a:cubicBezTo>
                <a:cubicBezTo>
                  <a:pt x="2129" y="3309"/>
                  <a:pt x="2121" y="3288"/>
                  <a:pt x="2112" y="3292"/>
                </a:cubicBezTo>
                <a:cubicBezTo>
                  <a:pt x="2103" y="3296"/>
                  <a:pt x="2097" y="3324"/>
                  <a:pt x="2092" y="3326"/>
                </a:cubicBezTo>
                <a:cubicBezTo>
                  <a:pt x="2087" y="3328"/>
                  <a:pt x="2085" y="3308"/>
                  <a:pt x="2080" y="3306"/>
                </a:cubicBezTo>
                <a:cubicBezTo>
                  <a:pt x="2075" y="3304"/>
                  <a:pt x="2068" y="3316"/>
                  <a:pt x="2062" y="3314"/>
                </a:cubicBezTo>
                <a:cubicBezTo>
                  <a:pt x="2056" y="3312"/>
                  <a:pt x="2051" y="3296"/>
                  <a:pt x="2042" y="3296"/>
                </a:cubicBezTo>
                <a:cubicBezTo>
                  <a:pt x="2033" y="3296"/>
                  <a:pt x="2022" y="3314"/>
                  <a:pt x="2010" y="3312"/>
                </a:cubicBezTo>
                <a:cubicBezTo>
                  <a:pt x="1998" y="3310"/>
                  <a:pt x="1983" y="3283"/>
                  <a:pt x="1968" y="3284"/>
                </a:cubicBezTo>
                <a:cubicBezTo>
                  <a:pt x="1953" y="3285"/>
                  <a:pt x="1938" y="3312"/>
                  <a:pt x="1922" y="3318"/>
                </a:cubicBezTo>
                <a:cubicBezTo>
                  <a:pt x="1906" y="3324"/>
                  <a:pt x="1879" y="3300"/>
                  <a:pt x="1874" y="3318"/>
                </a:cubicBezTo>
                <a:cubicBezTo>
                  <a:pt x="1869" y="3336"/>
                  <a:pt x="1900" y="3408"/>
                  <a:pt x="1894" y="3428"/>
                </a:cubicBezTo>
                <a:cubicBezTo>
                  <a:pt x="1888" y="3448"/>
                  <a:pt x="1848" y="3447"/>
                  <a:pt x="1836" y="3438"/>
                </a:cubicBezTo>
                <a:cubicBezTo>
                  <a:pt x="1824" y="3429"/>
                  <a:pt x="1830" y="3382"/>
                  <a:pt x="1820" y="3376"/>
                </a:cubicBezTo>
                <a:cubicBezTo>
                  <a:pt x="1810" y="3370"/>
                  <a:pt x="1792" y="3400"/>
                  <a:pt x="1776" y="3402"/>
                </a:cubicBezTo>
                <a:cubicBezTo>
                  <a:pt x="1760" y="3404"/>
                  <a:pt x="1733" y="3397"/>
                  <a:pt x="1724" y="3386"/>
                </a:cubicBezTo>
                <a:cubicBezTo>
                  <a:pt x="1715" y="3375"/>
                  <a:pt x="1732" y="3348"/>
                  <a:pt x="1720" y="3336"/>
                </a:cubicBezTo>
                <a:cubicBezTo>
                  <a:pt x="1708" y="3324"/>
                  <a:pt x="1659" y="3328"/>
                  <a:pt x="1652" y="3316"/>
                </a:cubicBezTo>
                <a:cubicBezTo>
                  <a:pt x="1645" y="3304"/>
                  <a:pt x="1671" y="3282"/>
                  <a:pt x="1678" y="3266"/>
                </a:cubicBezTo>
                <a:cubicBezTo>
                  <a:pt x="1685" y="3250"/>
                  <a:pt x="1701" y="3232"/>
                  <a:pt x="1696" y="3220"/>
                </a:cubicBezTo>
                <a:cubicBezTo>
                  <a:pt x="1691" y="3208"/>
                  <a:pt x="1657" y="3211"/>
                  <a:pt x="1646" y="3196"/>
                </a:cubicBezTo>
                <a:cubicBezTo>
                  <a:pt x="1635" y="3181"/>
                  <a:pt x="1631" y="3144"/>
                  <a:pt x="1632" y="3128"/>
                </a:cubicBezTo>
                <a:cubicBezTo>
                  <a:pt x="1633" y="3112"/>
                  <a:pt x="1660" y="3105"/>
                  <a:pt x="1654" y="3100"/>
                </a:cubicBezTo>
                <a:cubicBezTo>
                  <a:pt x="1648" y="3095"/>
                  <a:pt x="1614" y="3097"/>
                  <a:pt x="1594" y="3100"/>
                </a:cubicBezTo>
                <a:cubicBezTo>
                  <a:pt x="1574" y="3103"/>
                  <a:pt x="1542" y="3126"/>
                  <a:pt x="1536" y="3120"/>
                </a:cubicBezTo>
                <a:cubicBezTo>
                  <a:pt x="1530" y="3114"/>
                  <a:pt x="1557" y="3080"/>
                  <a:pt x="1558" y="3066"/>
                </a:cubicBezTo>
                <a:cubicBezTo>
                  <a:pt x="1559" y="3052"/>
                  <a:pt x="1543" y="3045"/>
                  <a:pt x="1544" y="3034"/>
                </a:cubicBezTo>
                <a:cubicBezTo>
                  <a:pt x="1545" y="3023"/>
                  <a:pt x="1563" y="3011"/>
                  <a:pt x="1566" y="3002"/>
                </a:cubicBezTo>
                <a:cubicBezTo>
                  <a:pt x="1569" y="2993"/>
                  <a:pt x="1559" y="2988"/>
                  <a:pt x="1564" y="2982"/>
                </a:cubicBezTo>
                <a:cubicBezTo>
                  <a:pt x="1569" y="2976"/>
                  <a:pt x="1589" y="2975"/>
                  <a:pt x="1596" y="2968"/>
                </a:cubicBezTo>
                <a:cubicBezTo>
                  <a:pt x="1603" y="2961"/>
                  <a:pt x="1599" y="2947"/>
                  <a:pt x="1608" y="2938"/>
                </a:cubicBezTo>
                <a:cubicBezTo>
                  <a:pt x="1617" y="2929"/>
                  <a:pt x="1641" y="2938"/>
                  <a:pt x="1652" y="2916"/>
                </a:cubicBezTo>
                <a:cubicBezTo>
                  <a:pt x="1663" y="2894"/>
                  <a:pt x="1672" y="2835"/>
                  <a:pt x="1676" y="2806"/>
                </a:cubicBezTo>
                <a:cubicBezTo>
                  <a:pt x="1680" y="2777"/>
                  <a:pt x="1682" y="2755"/>
                  <a:pt x="1676" y="2742"/>
                </a:cubicBezTo>
                <a:cubicBezTo>
                  <a:pt x="1670" y="2729"/>
                  <a:pt x="1647" y="2737"/>
                  <a:pt x="1640" y="2726"/>
                </a:cubicBezTo>
                <a:cubicBezTo>
                  <a:pt x="1633" y="2715"/>
                  <a:pt x="1642" y="2691"/>
                  <a:pt x="1636" y="2674"/>
                </a:cubicBezTo>
                <a:cubicBezTo>
                  <a:pt x="1630" y="2657"/>
                  <a:pt x="1611" y="2624"/>
                  <a:pt x="1602" y="2622"/>
                </a:cubicBezTo>
                <a:cubicBezTo>
                  <a:pt x="1593" y="2620"/>
                  <a:pt x="1587" y="2647"/>
                  <a:pt x="1580" y="2660"/>
                </a:cubicBezTo>
                <a:cubicBezTo>
                  <a:pt x="1573" y="2673"/>
                  <a:pt x="1582" y="2705"/>
                  <a:pt x="1562" y="2700"/>
                </a:cubicBezTo>
                <a:cubicBezTo>
                  <a:pt x="1542" y="2695"/>
                  <a:pt x="1489" y="2642"/>
                  <a:pt x="1462" y="2632"/>
                </a:cubicBezTo>
                <a:cubicBezTo>
                  <a:pt x="1435" y="2622"/>
                  <a:pt x="1419" y="2632"/>
                  <a:pt x="1400" y="2640"/>
                </a:cubicBezTo>
                <a:cubicBezTo>
                  <a:pt x="1381" y="2648"/>
                  <a:pt x="1368" y="2671"/>
                  <a:pt x="1350" y="2678"/>
                </a:cubicBezTo>
                <a:cubicBezTo>
                  <a:pt x="1332" y="2685"/>
                  <a:pt x="1311" y="2674"/>
                  <a:pt x="1292" y="2684"/>
                </a:cubicBezTo>
                <a:cubicBezTo>
                  <a:pt x="1273" y="2694"/>
                  <a:pt x="1257" y="2730"/>
                  <a:pt x="1236" y="2736"/>
                </a:cubicBezTo>
                <a:cubicBezTo>
                  <a:pt x="1215" y="2742"/>
                  <a:pt x="1190" y="2726"/>
                  <a:pt x="1168" y="2720"/>
                </a:cubicBezTo>
                <a:cubicBezTo>
                  <a:pt x="1146" y="2714"/>
                  <a:pt x="1115" y="2711"/>
                  <a:pt x="1104" y="2700"/>
                </a:cubicBezTo>
                <a:cubicBezTo>
                  <a:pt x="1093" y="2689"/>
                  <a:pt x="1108" y="2666"/>
                  <a:pt x="1104" y="2654"/>
                </a:cubicBezTo>
                <a:cubicBezTo>
                  <a:pt x="1100" y="2642"/>
                  <a:pt x="1086" y="2641"/>
                  <a:pt x="1082" y="2630"/>
                </a:cubicBezTo>
                <a:cubicBezTo>
                  <a:pt x="1078" y="2619"/>
                  <a:pt x="1086" y="2591"/>
                  <a:pt x="1078" y="2584"/>
                </a:cubicBezTo>
                <a:cubicBezTo>
                  <a:pt x="1070" y="2577"/>
                  <a:pt x="1054" y="2595"/>
                  <a:pt x="1034" y="2586"/>
                </a:cubicBezTo>
                <a:cubicBezTo>
                  <a:pt x="1014" y="2577"/>
                  <a:pt x="981" y="2536"/>
                  <a:pt x="956" y="2532"/>
                </a:cubicBezTo>
                <a:cubicBezTo>
                  <a:pt x="931" y="2528"/>
                  <a:pt x="901" y="2550"/>
                  <a:pt x="886" y="2564"/>
                </a:cubicBezTo>
                <a:cubicBezTo>
                  <a:pt x="871" y="2578"/>
                  <a:pt x="873" y="2613"/>
                  <a:pt x="866" y="2618"/>
                </a:cubicBezTo>
                <a:cubicBezTo>
                  <a:pt x="859" y="2623"/>
                  <a:pt x="846" y="2609"/>
                  <a:pt x="842" y="2594"/>
                </a:cubicBezTo>
                <a:cubicBezTo>
                  <a:pt x="838" y="2579"/>
                  <a:pt x="861" y="2538"/>
                  <a:pt x="842" y="2526"/>
                </a:cubicBezTo>
                <a:cubicBezTo>
                  <a:pt x="823" y="2514"/>
                  <a:pt x="754" y="2531"/>
                  <a:pt x="726" y="2520"/>
                </a:cubicBezTo>
                <a:cubicBezTo>
                  <a:pt x="698" y="2509"/>
                  <a:pt x="688" y="2467"/>
                  <a:pt x="676" y="2462"/>
                </a:cubicBezTo>
                <a:cubicBezTo>
                  <a:pt x="664" y="2457"/>
                  <a:pt x="660" y="2493"/>
                  <a:pt x="654" y="2492"/>
                </a:cubicBezTo>
                <a:cubicBezTo>
                  <a:pt x="648" y="2491"/>
                  <a:pt x="648" y="2457"/>
                  <a:pt x="642" y="2454"/>
                </a:cubicBezTo>
                <a:cubicBezTo>
                  <a:pt x="636" y="2451"/>
                  <a:pt x="622" y="2475"/>
                  <a:pt x="618" y="2472"/>
                </a:cubicBezTo>
                <a:cubicBezTo>
                  <a:pt x="614" y="2469"/>
                  <a:pt x="620" y="2442"/>
                  <a:pt x="616" y="2434"/>
                </a:cubicBezTo>
                <a:cubicBezTo>
                  <a:pt x="612" y="2426"/>
                  <a:pt x="603" y="2429"/>
                  <a:pt x="592" y="2424"/>
                </a:cubicBezTo>
                <a:cubicBezTo>
                  <a:pt x="581" y="2419"/>
                  <a:pt x="555" y="2412"/>
                  <a:pt x="552" y="2404"/>
                </a:cubicBezTo>
                <a:cubicBezTo>
                  <a:pt x="549" y="2396"/>
                  <a:pt x="577" y="2382"/>
                  <a:pt x="572" y="2376"/>
                </a:cubicBezTo>
                <a:cubicBezTo>
                  <a:pt x="567" y="2370"/>
                  <a:pt x="532" y="2379"/>
                  <a:pt x="520" y="2370"/>
                </a:cubicBezTo>
                <a:cubicBezTo>
                  <a:pt x="508" y="2361"/>
                  <a:pt x="507" y="2339"/>
                  <a:pt x="502" y="2324"/>
                </a:cubicBezTo>
                <a:cubicBezTo>
                  <a:pt x="497" y="2309"/>
                  <a:pt x="501" y="2286"/>
                  <a:pt x="492" y="2278"/>
                </a:cubicBezTo>
                <a:cubicBezTo>
                  <a:pt x="483" y="2270"/>
                  <a:pt x="470" y="2302"/>
                  <a:pt x="448" y="2278"/>
                </a:cubicBezTo>
                <a:cubicBezTo>
                  <a:pt x="426" y="2254"/>
                  <a:pt x="378" y="2159"/>
                  <a:pt x="358" y="2132"/>
                </a:cubicBezTo>
                <a:cubicBezTo>
                  <a:pt x="338" y="2105"/>
                  <a:pt x="336" y="2123"/>
                  <a:pt x="328" y="2118"/>
                </a:cubicBezTo>
                <a:cubicBezTo>
                  <a:pt x="320" y="2113"/>
                  <a:pt x="315" y="2101"/>
                  <a:pt x="308" y="2104"/>
                </a:cubicBezTo>
                <a:cubicBezTo>
                  <a:pt x="301" y="2107"/>
                  <a:pt x="302" y="2147"/>
                  <a:pt x="284" y="2136"/>
                </a:cubicBezTo>
                <a:cubicBezTo>
                  <a:pt x="266" y="2125"/>
                  <a:pt x="218" y="2062"/>
                  <a:pt x="202" y="2038"/>
                </a:cubicBezTo>
                <a:cubicBezTo>
                  <a:pt x="186" y="2014"/>
                  <a:pt x="200" y="2006"/>
                  <a:pt x="190" y="1994"/>
                </a:cubicBezTo>
                <a:cubicBezTo>
                  <a:pt x="180" y="1982"/>
                  <a:pt x="149" y="1984"/>
                  <a:pt x="142" y="1964"/>
                </a:cubicBezTo>
                <a:cubicBezTo>
                  <a:pt x="135" y="1944"/>
                  <a:pt x="146" y="1899"/>
                  <a:pt x="146" y="1872"/>
                </a:cubicBezTo>
                <a:cubicBezTo>
                  <a:pt x="146" y="1845"/>
                  <a:pt x="136" y="1817"/>
                  <a:pt x="140" y="1804"/>
                </a:cubicBezTo>
                <a:cubicBezTo>
                  <a:pt x="144" y="1791"/>
                  <a:pt x="166" y="1790"/>
                  <a:pt x="170" y="1796"/>
                </a:cubicBezTo>
                <a:cubicBezTo>
                  <a:pt x="174" y="1802"/>
                  <a:pt x="159" y="1840"/>
                  <a:pt x="166" y="1842"/>
                </a:cubicBezTo>
                <a:cubicBezTo>
                  <a:pt x="173" y="1844"/>
                  <a:pt x="206" y="1834"/>
                  <a:pt x="212" y="1810"/>
                </a:cubicBezTo>
                <a:cubicBezTo>
                  <a:pt x="218" y="1786"/>
                  <a:pt x="205" y="1725"/>
                  <a:pt x="204" y="1700"/>
                </a:cubicBezTo>
                <a:cubicBezTo>
                  <a:pt x="203" y="1675"/>
                  <a:pt x="202" y="1673"/>
                  <a:pt x="208" y="1662"/>
                </a:cubicBezTo>
                <a:cubicBezTo>
                  <a:pt x="214" y="1651"/>
                  <a:pt x="242" y="1647"/>
                  <a:pt x="242" y="1634"/>
                </a:cubicBezTo>
                <a:cubicBezTo>
                  <a:pt x="242" y="1621"/>
                  <a:pt x="212" y="1599"/>
                  <a:pt x="206" y="1586"/>
                </a:cubicBezTo>
                <a:cubicBezTo>
                  <a:pt x="200" y="1573"/>
                  <a:pt x="206" y="1566"/>
                  <a:pt x="206" y="1556"/>
                </a:cubicBezTo>
                <a:cubicBezTo>
                  <a:pt x="206" y="1546"/>
                  <a:pt x="203" y="1535"/>
                  <a:pt x="204" y="1524"/>
                </a:cubicBezTo>
                <a:cubicBezTo>
                  <a:pt x="205" y="1513"/>
                  <a:pt x="225" y="1503"/>
                  <a:pt x="214" y="1492"/>
                </a:cubicBezTo>
                <a:cubicBezTo>
                  <a:pt x="203" y="1481"/>
                  <a:pt x="152" y="1473"/>
                  <a:pt x="136" y="1460"/>
                </a:cubicBezTo>
                <a:cubicBezTo>
                  <a:pt x="120" y="1447"/>
                  <a:pt x="125" y="1420"/>
                  <a:pt x="118" y="1412"/>
                </a:cubicBezTo>
                <a:cubicBezTo>
                  <a:pt x="111" y="1404"/>
                  <a:pt x="100" y="1416"/>
                  <a:pt x="94" y="1410"/>
                </a:cubicBezTo>
                <a:cubicBezTo>
                  <a:pt x="88" y="1404"/>
                  <a:pt x="82" y="1388"/>
                  <a:pt x="82" y="1374"/>
                </a:cubicBezTo>
                <a:cubicBezTo>
                  <a:pt x="82" y="1360"/>
                  <a:pt x="98" y="1344"/>
                  <a:pt x="94" y="1324"/>
                </a:cubicBezTo>
                <a:cubicBezTo>
                  <a:pt x="90" y="1304"/>
                  <a:pt x="70" y="1271"/>
                  <a:pt x="56" y="1256"/>
                </a:cubicBezTo>
                <a:cubicBezTo>
                  <a:pt x="42" y="1241"/>
                  <a:pt x="18" y="1243"/>
                  <a:pt x="10" y="1236"/>
                </a:cubicBezTo>
                <a:cubicBezTo>
                  <a:pt x="2" y="1229"/>
                  <a:pt x="0" y="1219"/>
                  <a:pt x="8" y="1214"/>
                </a:cubicBezTo>
                <a:cubicBezTo>
                  <a:pt x="16" y="1209"/>
                  <a:pt x="45" y="1228"/>
                  <a:pt x="56" y="1206"/>
                </a:cubicBezTo>
                <a:cubicBezTo>
                  <a:pt x="67" y="1184"/>
                  <a:pt x="79" y="1103"/>
                  <a:pt x="72" y="1080"/>
                </a:cubicBezTo>
                <a:cubicBezTo>
                  <a:pt x="65" y="1057"/>
                  <a:pt x="27" y="1076"/>
                  <a:pt x="16" y="1068"/>
                </a:cubicBezTo>
                <a:cubicBezTo>
                  <a:pt x="5" y="1060"/>
                  <a:pt x="2" y="1040"/>
                  <a:pt x="4" y="1032"/>
                </a:cubicBezTo>
                <a:cubicBezTo>
                  <a:pt x="6" y="1024"/>
                  <a:pt x="24" y="1029"/>
                  <a:pt x="26" y="1018"/>
                </a:cubicBezTo>
                <a:cubicBezTo>
                  <a:pt x="28" y="1007"/>
                  <a:pt x="12" y="973"/>
                  <a:pt x="16" y="964"/>
                </a:cubicBezTo>
                <a:cubicBezTo>
                  <a:pt x="20" y="955"/>
                  <a:pt x="40" y="974"/>
                  <a:pt x="50" y="966"/>
                </a:cubicBezTo>
                <a:cubicBezTo>
                  <a:pt x="60" y="958"/>
                  <a:pt x="66" y="924"/>
                  <a:pt x="78" y="916"/>
                </a:cubicBezTo>
                <a:cubicBezTo>
                  <a:pt x="90" y="908"/>
                  <a:pt x="115" y="923"/>
                  <a:pt x="126" y="918"/>
                </a:cubicBezTo>
                <a:cubicBezTo>
                  <a:pt x="137" y="913"/>
                  <a:pt x="136" y="885"/>
                  <a:pt x="144" y="884"/>
                </a:cubicBezTo>
                <a:cubicBezTo>
                  <a:pt x="152" y="883"/>
                  <a:pt x="165" y="909"/>
                  <a:pt x="176" y="912"/>
                </a:cubicBezTo>
                <a:cubicBezTo>
                  <a:pt x="187" y="915"/>
                  <a:pt x="203" y="895"/>
                  <a:pt x="208" y="900"/>
                </a:cubicBezTo>
                <a:cubicBezTo>
                  <a:pt x="213" y="905"/>
                  <a:pt x="197" y="932"/>
                  <a:pt x="206" y="940"/>
                </a:cubicBezTo>
                <a:cubicBezTo>
                  <a:pt x="215" y="948"/>
                  <a:pt x="242" y="954"/>
                  <a:pt x="260" y="948"/>
                </a:cubicBezTo>
                <a:cubicBezTo>
                  <a:pt x="278" y="942"/>
                  <a:pt x="300" y="911"/>
                  <a:pt x="316" y="904"/>
                </a:cubicBezTo>
                <a:cubicBezTo>
                  <a:pt x="332" y="897"/>
                  <a:pt x="342" y="910"/>
                  <a:pt x="356" y="906"/>
                </a:cubicBezTo>
                <a:cubicBezTo>
                  <a:pt x="370" y="902"/>
                  <a:pt x="385" y="882"/>
                  <a:pt x="398" y="880"/>
                </a:cubicBezTo>
                <a:cubicBezTo>
                  <a:pt x="411" y="878"/>
                  <a:pt x="412" y="896"/>
                  <a:pt x="436" y="896"/>
                </a:cubicBezTo>
                <a:cubicBezTo>
                  <a:pt x="460" y="896"/>
                  <a:pt x="519" y="893"/>
                  <a:pt x="544" y="878"/>
                </a:cubicBezTo>
                <a:cubicBezTo>
                  <a:pt x="569" y="863"/>
                  <a:pt x="576" y="817"/>
                  <a:pt x="586" y="804"/>
                </a:cubicBezTo>
                <a:cubicBezTo>
                  <a:pt x="596" y="791"/>
                  <a:pt x="599" y="804"/>
                  <a:pt x="604" y="800"/>
                </a:cubicBezTo>
                <a:cubicBezTo>
                  <a:pt x="609" y="796"/>
                  <a:pt x="610" y="784"/>
                  <a:pt x="616" y="780"/>
                </a:cubicBezTo>
                <a:cubicBezTo>
                  <a:pt x="622" y="776"/>
                  <a:pt x="635" y="799"/>
                  <a:pt x="642" y="776"/>
                </a:cubicBezTo>
                <a:cubicBezTo>
                  <a:pt x="649" y="753"/>
                  <a:pt x="656" y="673"/>
                  <a:pt x="656" y="640"/>
                </a:cubicBezTo>
                <a:cubicBezTo>
                  <a:pt x="656" y="607"/>
                  <a:pt x="623" y="590"/>
                  <a:pt x="642" y="580"/>
                </a:cubicBezTo>
                <a:cubicBezTo>
                  <a:pt x="661" y="570"/>
                  <a:pt x="739" y="577"/>
                  <a:pt x="768" y="580"/>
                </a:cubicBezTo>
                <a:cubicBezTo>
                  <a:pt x="797" y="583"/>
                  <a:pt x="805" y="606"/>
                  <a:pt x="814" y="600"/>
                </a:cubicBezTo>
                <a:cubicBezTo>
                  <a:pt x="823" y="594"/>
                  <a:pt x="810" y="574"/>
                  <a:pt x="826" y="544"/>
                </a:cubicBezTo>
                <a:cubicBezTo>
                  <a:pt x="842" y="514"/>
                  <a:pt x="888" y="435"/>
                  <a:pt x="908" y="418"/>
                </a:cubicBezTo>
                <a:cubicBezTo>
                  <a:pt x="928" y="401"/>
                  <a:pt x="934" y="432"/>
                  <a:pt x="948" y="440"/>
                </a:cubicBezTo>
                <a:cubicBezTo>
                  <a:pt x="962" y="448"/>
                  <a:pt x="971" y="460"/>
                  <a:pt x="992" y="466"/>
                </a:cubicBezTo>
                <a:cubicBezTo>
                  <a:pt x="1013" y="472"/>
                  <a:pt x="1059" y="484"/>
                  <a:pt x="1074" y="474"/>
                </a:cubicBezTo>
                <a:cubicBezTo>
                  <a:pt x="1089" y="464"/>
                  <a:pt x="1078" y="428"/>
                  <a:pt x="1084" y="406"/>
                </a:cubicBezTo>
                <a:cubicBezTo>
                  <a:pt x="1090" y="384"/>
                  <a:pt x="1096" y="354"/>
                  <a:pt x="1110" y="344"/>
                </a:cubicBezTo>
                <a:cubicBezTo>
                  <a:pt x="1124" y="334"/>
                  <a:pt x="1152" y="356"/>
                  <a:pt x="1166" y="348"/>
                </a:cubicBezTo>
                <a:cubicBezTo>
                  <a:pt x="1180" y="340"/>
                  <a:pt x="1180" y="307"/>
                  <a:pt x="1196" y="298"/>
                </a:cubicBezTo>
                <a:close/>
              </a:path>
            </a:pathLst>
          </a:custGeom>
          <a:solidFill>
            <a:srgbClr val="ffff99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067200" y="3454560"/>
            <a:ext cx="3905280" cy="1639800"/>
          </a:xfrm>
          <a:custGeom>
            <a:avLst/>
            <a:gdLst/>
            <a:ahLst/>
            <a:rect l="l" t="t" r="r" b="b"/>
            <a:pathLst>
              <a:path w="2460" h="1033">
                <a:moveTo>
                  <a:pt x="0" y="80"/>
                </a:moveTo>
                <a:cubicBezTo>
                  <a:pt x="5" y="68"/>
                  <a:pt x="11" y="16"/>
                  <a:pt x="30" y="8"/>
                </a:cubicBezTo>
                <a:cubicBezTo>
                  <a:pt x="49" y="0"/>
                  <a:pt x="90" y="25"/>
                  <a:pt x="114" y="32"/>
                </a:cubicBezTo>
                <a:cubicBezTo>
                  <a:pt x="138" y="39"/>
                  <a:pt x="156" y="47"/>
                  <a:pt x="174" y="50"/>
                </a:cubicBezTo>
                <a:cubicBezTo>
                  <a:pt x="192" y="53"/>
                  <a:pt x="205" y="54"/>
                  <a:pt x="222" y="50"/>
                </a:cubicBezTo>
                <a:cubicBezTo>
                  <a:pt x="239" y="46"/>
                  <a:pt x="258" y="32"/>
                  <a:pt x="276" y="26"/>
                </a:cubicBezTo>
                <a:cubicBezTo>
                  <a:pt x="294" y="20"/>
                  <a:pt x="315" y="12"/>
                  <a:pt x="330" y="14"/>
                </a:cubicBezTo>
                <a:cubicBezTo>
                  <a:pt x="345" y="16"/>
                  <a:pt x="358" y="24"/>
                  <a:pt x="366" y="38"/>
                </a:cubicBezTo>
                <a:cubicBezTo>
                  <a:pt x="374" y="52"/>
                  <a:pt x="366" y="82"/>
                  <a:pt x="378" y="98"/>
                </a:cubicBezTo>
                <a:cubicBezTo>
                  <a:pt x="390" y="114"/>
                  <a:pt x="423" y="121"/>
                  <a:pt x="438" y="134"/>
                </a:cubicBezTo>
                <a:cubicBezTo>
                  <a:pt x="453" y="147"/>
                  <a:pt x="455" y="155"/>
                  <a:pt x="468" y="176"/>
                </a:cubicBezTo>
                <a:cubicBezTo>
                  <a:pt x="481" y="197"/>
                  <a:pt x="497" y="229"/>
                  <a:pt x="516" y="260"/>
                </a:cubicBezTo>
                <a:cubicBezTo>
                  <a:pt x="535" y="291"/>
                  <a:pt x="568" y="330"/>
                  <a:pt x="582" y="362"/>
                </a:cubicBezTo>
                <a:cubicBezTo>
                  <a:pt x="596" y="394"/>
                  <a:pt x="598" y="426"/>
                  <a:pt x="600" y="452"/>
                </a:cubicBezTo>
                <a:cubicBezTo>
                  <a:pt x="602" y="478"/>
                  <a:pt x="595" y="497"/>
                  <a:pt x="594" y="518"/>
                </a:cubicBezTo>
                <a:cubicBezTo>
                  <a:pt x="593" y="539"/>
                  <a:pt x="594" y="555"/>
                  <a:pt x="594" y="578"/>
                </a:cubicBezTo>
                <a:cubicBezTo>
                  <a:pt x="594" y="601"/>
                  <a:pt x="591" y="619"/>
                  <a:pt x="594" y="656"/>
                </a:cubicBezTo>
                <a:cubicBezTo>
                  <a:pt x="597" y="693"/>
                  <a:pt x="605" y="756"/>
                  <a:pt x="612" y="800"/>
                </a:cubicBezTo>
                <a:cubicBezTo>
                  <a:pt x="619" y="844"/>
                  <a:pt x="624" y="915"/>
                  <a:pt x="636" y="920"/>
                </a:cubicBezTo>
                <a:cubicBezTo>
                  <a:pt x="648" y="925"/>
                  <a:pt x="675" y="832"/>
                  <a:pt x="684" y="830"/>
                </a:cubicBezTo>
                <a:cubicBezTo>
                  <a:pt x="693" y="828"/>
                  <a:pt x="690" y="882"/>
                  <a:pt x="690" y="908"/>
                </a:cubicBezTo>
                <a:cubicBezTo>
                  <a:pt x="690" y="934"/>
                  <a:pt x="670" y="975"/>
                  <a:pt x="684" y="986"/>
                </a:cubicBezTo>
                <a:cubicBezTo>
                  <a:pt x="698" y="997"/>
                  <a:pt x="754" y="967"/>
                  <a:pt x="774" y="974"/>
                </a:cubicBezTo>
                <a:cubicBezTo>
                  <a:pt x="794" y="981"/>
                  <a:pt x="793" y="1023"/>
                  <a:pt x="804" y="1028"/>
                </a:cubicBezTo>
                <a:cubicBezTo>
                  <a:pt x="815" y="1033"/>
                  <a:pt x="824" y="1010"/>
                  <a:pt x="840" y="1004"/>
                </a:cubicBezTo>
                <a:cubicBezTo>
                  <a:pt x="856" y="998"/>
                  <a:pt x="890" y="1010"/>
                  <a:pt x="900" y="992"/>
                </a:cubicBezTo>
                <a:cubicBezTo>
                  <a:pt x="910" y="974"/>
                  <a:pt x="892" y="917"/>
                  <a:pt x="900" y="896"/>
                </a:cubicBezTo>
                <a:cubicBezTo>
                  <a:pt x="908" y="875"/>
                  <a:pt x="938" y="880"/>
                  <a:pt x="948" y="866"/>
                </a:cubicBezTo>
                <a:cubicBezTo>
                  <a:pt x="958" y="852"/>
                  <a:pt x="952" y="828"/>
                  <a:pt x="960" y="812"/>
                </a:cubicBezTo>
                <a:cubicBezTo>
                  <a:pt x="968" y="796"/>
                  <a:pt x="982" y="780"/>
                  <a:pt x="996" y="770"/>
                </a:cubicBezTo>
                <a:cubicBezTo>
                  <a:pt x="1010" y="760"/>
                  <a:pt x="1023" y="755"/>
                  <a:pt x="1044" y="752"/>
                </a:cubicBezTo>
                <a:cubicBezTo>
                  <a:pt x="1065" y="749"/>
                  <a:pt x="1098" y="760"/>
                  <a:pt x="1122" y="752"/>
                </a:cubicBezTo>
                <a:cubicBezTo>
                  <a:pt x="1146" y="744"/>
                  <a:pt x="1158" y="721"/>
                  <a:pt x="1188" y="704"/>
                </a:cubicBezTo>
                <a:cubicBezTo>
                  <a:pt x="1218" y="687"/>
                  <a:pt x="1262" y="677"/>
                  <a:pt x="1302" y="650"/>
                </a:cubicBezTo>
                <a:cubicBezTo>
                  <a:pt x="1342" y="623"/>
                  <a:pt x="1382" y="561"/>
                  <a:pt x="1428" y="542"/>
                </a:cubicBezTo>
                <a:cubicBezTo>
                  <a:pt x="1474" y="523"/>
                  <a:pt x="1539" y="524"/>
                  <a:pt x="1578" y="536"/>
                </a:cubicBezTo>
                <a:cubicBezTo>
                  <a:pt x="1617" y="548"/>
                  <a:pt x="1636" y="591"/>
                  <a:pt x="1662" y="614"/>
                </a:cubicBezTo>
                <a:cubicBezTo>
                  <a:pt x="1688" y="637"/>
                  <a:pt x="1713" y="661"/>
                  <a:pt x="1734" y="674"/>
                </a:cubicBezTo>
                <a:cubicBezTo>
                  <a:pt x="1755" y="687"/>
                  <a:pt x="1770" y="695"/>
                  <a:pt x="1788" y="692"/>
                </a:cubicBezTo>
                <a:cubicBezTo>
                  <a:pt x="1806" y="689"/>
                  <a:pt x="1822" y="678"/>
                  <a:pt x="1842" y="656"/>
                </a:cubicBezTo>
                <a:cubicBezTo>
                  <a:pt x="1862" y="634"/>
                  <a:pt x="1881" y="560"/>
                  <a:pt x="1908" y="560"/>
                </a:cubicBezTo>
                <a:cubicBezTo>
                  <a:pt x="1935" y="560"/>
                  <a:pt x="1971" y="652"/>
                  <a:pt x="2004" y="656"/>
                </a:cubicBezTo>
                <a:cubicBezTo>
                  <a:pt x="2037" y="660"/>
                  <a:pt x="2069" y="620"/>
                  <a:pt x="2106" y="584"/>
                </a:cubicBezTo>
                <a:cubicBezTo>
                  <a:pt x="2143" y="548"/>
                  <a:pt x="2200" y="474"/>
                  <a:pt x="2226" y="440"/>
                </a:cubicBezTo>
                <a:cubicBezTo>
                  <a:pt x="2252" y="406"/>
                  <a:pt x="2223" y="383"/>
                  <a:pt x="2262" y="380"/>
                </a:cubicBezTo>
                <a:cubicBezTo>
                  <a:pt x="2301" y="377"/>
                  <a:pt x="2419" y="413"/>
                  <a:pt x="2460" y="422"/>
                </a:cubicBezTo>
              </a:path>
            </a:pathLst>
          </a:custGeom>
          <a:noFill/>
          <a:ln w="507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3733920" y="2630520"/>
            <a:ext cx="2819160" cy="1206360"/>
          </a:xfrm>
          <a:custGeom>
            <a:avLst/>
            <a:gdLst/>
            <a:ahLst/>
            <a:rect l="l" t="t" r="r" b="b"/>
            <a:pathLst>
              <a:path w="1776" h="760">
                <a:moveTo>
                  <a:pt x="0" y="551"/>
                </a:moveTo>
                <a:cubicBezTo>
                  <a:pt x="7" y="550"/>
                  <a:pt x="33" y="547"/>
                  <a:pt x="44" y="543"/>
                </a:cubicBezTo>
                <a:cubicBezTo>
                  <a:pt x="55" y="539"/>
                  <a:pt x="59" y="526"/>
                  <a:pt x="68" y="527"/>
                </a:cubicBezTo>
                <a:cubicBezTo>
                  <a:pt x="77" y="528"/>
                  <a:pt x="85" y="546"/>
                  <a:pt x="96" y="551"/>
                </a:cubicBezTo>
                <a:cubicBezTo>
                  <a:pt x="107" y="556"/>
                  <a:pt x="125" y="561"/>
                  <a:pt x="136" y="559"/>
                </a:cubicBezTo>
                <a:cubicBezTo>
                  <a:pt x="147" y="557"/>
                  <a:pt x="152" y="532"/>
                  <a:pt x="160" y="539"/>
                </a:cubicBezTo>
                <a:cubicBezTo>
                  <a:pt x="168" y="546"/>
                  <a:pt x="178" y="584"/>
                  <a:pt x="184" y="599"/>
                </a:cubicBezTo>
                <a:cubicBezTo>
                  <a:pt x="190" y="614"/>
                  <a:pt x="187" y="624"/>
                  <a:pt x="196" y="627"/>
                </a:cubicBezTo>
                <a:cubicBezTo>
                  <a:pt x="205" y="630"/>
                  <a:pt x="230" y="614"/>
                  <a:pt x="236" y="619"/>
                </a:cubicBezTo>
                <a:cubicBezTo>
                  <a:pt x="242" y="624"/>
                  <a:pt x="231" y="646"/>
                  <a:pt x="232" y="659"/>
                </a:cubicBezTo>
                <a:cubicBezTo>
                  <a:pt x="233" y="672"/>
                  <a:pt x="231" y="689"/>
                  <a:pt x="240" y="695"/>
                </a:cubicBezTo>
                <a:cubicBezTo>
                  <a:pt x="249" y="701"/>
                  <a:pt x="275" y="690"/>
                  <a:pt x="288" y="695"/>
                </a:cubicBezTo>
                <a:cubicBezTo>
                  <a:pt x="301" y="700"/>
                  <a:pt x="311" y="721"/>
                  <a:pt x="320" y="723"/>
                </a:cubicBezTo>
                <a:cubicBezTo>
                  <a:pt x="329" y="725"/>
                  <a:pt x="333" y="712"/>
                  <a:pt x="344" y="707"/>
                </a:cubicBezTo>
                <a:cubicBezTo>
                  <a:pt x="355" y="702"/>
                  <a:pt x="373" y="692"/>
                  <a:pt x="384" y="695"/>
                </a:cubicBezTo>
                <a:cubicBezTo>
                  <a:pt x="395" y="698"/>
                  <a:pt x="410" y="724"/>
                  <a:pt x="412" y="727"/>
                </a:cubicBezTo>
                <a:cubicBezTo>
                  <a:pt x="414" y="730"/>
                  <a:pt x="387" y="710"/>
                  <a:pt x="396" y="715"/>
                </a:cubicBezTo>
                <a:cubicBezTo>
                  <a:pt x="405" y="720"/>
                  <a:pt x="450" y="750"/>
                  <a:pt x="464" y="755"/>
                </a:cubicBezTo>
                <a:cubicBezTo>
                  <a:pt x="478" y="760"/>
                  <a:pt x="480" y="752"/>
                  <a:pt x="480" y="743"/>
                </a:cubicBezTo>
                <a:cubicBezTo>
                  <a:pt x="480" y="734"/>
                  <a:pt x="478" y="716"/>
                  <a:pt x="464" y="699"/>
                </a:cubicBezTo>
                <a:cubicBezTo>
                  <a:pt x="450" y="682"/>
                  <a:pt x="415" y="656"/>
                  <a:pt x="396" y="639"/>
                </a:cubicBezTo>
                <a:cubicBezTo>
                  <a:pt x="377" y="622"/>
                  <a:pt x="362" y="614"/>
                  <a:pt x="352" y="599"/>
                </a:cubicBezTo>
                <a:cubicBezTo>
                  <a:pt x="342" y="584"/>
                  <a:pt x="336" y="567"/>
                  <a:pt x="336" y="551"/>
                </a:cubicBezTo>
                <a:cubicBezTo>
                  <a:pt x="336" y="535"/>
                  <a:pt x="345" y="516"/>
                  <a:pt x="352" y="503"/>
                </a:cubicBezTo>
                <a:cubicBezTo>
                  <a:pt x="359" y="490"/>
                  <a:pt x="359" y="475"/>
                  <a:pt x="380" y="471"/>
                </a:cubicBezTo>
                <a:cubicBezTo>
                  <a:pt x="401" y="467"/>
                  <a:pt x="455" y="474"/>
                  <a:pt x="480" y="479"/>
                </a:cubicBezTo>
                <a:cubicBezTo>
                  <a:pt x="505" y="484"/>
                  <a:pt x="512" y="499"/>
                  <a:pt x="528" y="503"/>
                </a:cubicBezTo>
                <a:cubicBezTo>
                  <a:pt x="544" y="507"/>
                  <a:pt x="552" y="511"/>
                  <a:pt x="576" y="503"/>
                </a:cubicBezTo>
                <a:cubicBezTo>
                  <a:pt x="600" y="495"/>
                  <a:pt x="652" y="466"/>
                  <a:pt x="672" y="455"/>
                </a:cubicBezTo>
                <a:cubicBezTo>
                  <a:pt x="692" y="444"/>
                  <a:pt x="696" y="447"/>
                  <a:pt x="696" y="435"/>
                </a:cubicBezTo>
                <a:cubicBezTo>
                  <a:pt x="696" y="423"/>
                  <a:pt x="668" y="396"/>
                  <a:pt x="672" y="383"/>
                </a:cubicBezTo>
                <a:cubicBezTo>
                  <a:pt x="676" y="370"/>
                  <a:pt x="701" y="368"/>
                  <a:pt x="720" y="359"/>
                </a:cubicBezTo>
                <a:cubicBezTo>
                  <a:pt x="739" y="350"/>
                  <a:pt x="765" y="346"/>
                  <a:pt x="784" y="331"/>
                </a:cubicBezTo>
                <a:cubicBezTo>
                  <a:pt x="803" y="316"/>
                  <a:pt x="819" y="294"/>
                  <a:pt x="832" y="267"/>
                </a:cubicBezTo>
                <a:cubicBezTo>
                  <a:pt x="845" y="240"/>
                  <a:pt x="857" y="191"/>
                  <a:pt x="864" y="167"/>
                </a:cubicBezTo>
                <a:cubicBezTo>
                  <a:pt x="871" y="143"/>
                  <a:pt x="874" y="139"/>
                  <a:pt x="876" y="123"/>
                </a:cubicBezTo>
                <a:cubicBezTo>
                  <a:pt x="878" y="107"/>
                  <a:pt x="870" y="88"/>
                  <a:pt x="876" y="71"/>
                </a:cubicBezTo>
                <a:cubicBezTo>
                  <a:pt x="882" y="54"/>
                  <a:pt x="898" y="34"/>
                  <a:pt x="912" y="23"/>
                </a:cubicBezTo>
                <a:cubicBezTo>
                  <a:pt x="926" y="12"/>
                  <a:pt x="944" y="6"/>
                  <a:pt x="960" y="3"/>
                </a:cubicBezTo>
                <a:cubicBezTo>
                  <a:pt x="976" y="0"/>
                  <a:pt x="993" y="1"/>
                  <a:pt x="1008" y="7"/>
                </a:cubicBezTo>
                <a:cubicBezTo>
                  <a:pt x="1023" y="13"/>
                  <a:pt x="1029" y="34"/>
                  <a:pt x="1052" y="39"/>
                </a:cubicBezTo>
                <a:cubicBezTo>
                  <a:pt x="1075" y="44"/>
                  <a:pt x="1123" y="34"/>
                  <a:pt x="1148" y="39"/>
                </a:cubicBezTo>
                <a:cubicBezTo>
                  <a:pt x="1173" y="44"/>
                  <a:pt x="1187" y="59"/>
                  <a:pt x="1200" y="71"/>
                </a:cubicBezTo>
                <a:cubicBezTo>
                  <a:pt x="1213" y="83"/>
                  <a:pt x="1222" y="96"/>
                  <a:pt x="1224" y="111"/>
                </a:cubicBezTo>
                <a:cubicBezTo>
                  <a:pt x="1226" y="126"/>
                  <a:pt x="1222" y="136"/>
                  <a:pt x="1212" y="163"/>
                </a:cubicBezTo>
                <a:cubicBezTo>
                  <a:pt x="1202" y="190"/>
                  <a:pt x="1176" y="248"/>
                  <a:pt x="1164" y="271"/>
                </a:cubicBezTo>
                <a:cubicBezTo>
                  <a:pt x="1152" y="294"/>
                  <a:pt x="1139" y="290"/>
                  <a:pt x="1140" y="303"/>
                </a:cubicBezTo>
                <a:cubicBezTo>
                  <a:pt x="1141" y="316"/>
                  <a:pt x="1167" y="336"/>
                  <a:pt x="1168" y="351"/>
                </a:cubicBezTo>
                <a:cubicBezTo>
                  <a:pt x="1169" y="366"/>
                  <a:pt x="1151" y="378"/>
                  <a:pt x="1148" y="395"/>
                </a:cubicBezTo>
                <a:cubicBezTo>
                  <a:pt x="1145" y="412"/>
                  <a:pt x="1151" y="437"/>
                  <a:pt x="1152" y="455"/>
                </a:cubicBezTo>
                <a:cubicBezTo>
                  <a:pt x="1153" y="473"/>
                  <a:pt x="1152" y="486"/>
                  <a:pt x="1152" y="503"/>
                </a:cubicBezTo>
                <a:cubicBezTo>
                  <a:pt x="1152" y="520"/>
                  <a:pt x="1155" y="544"/>
                  <a:pt x="1152" y="559"/>
                </a:cubicBezTo>
                <a:cubicBezTo>
                  <a:pt x="1149" y="574"/>
                  <a:pt x="1136" y="571"/>
                  <a:pt x="1132" y="591"/>
                </a:cubicBezTo>
                <a:cubicBezTo>
                  <a:pt x="1128" y="611"/>
                  <a:pt x="1117" y="670"/>
                  <a:pt x="1128" y="679"/>
                </a:cubicBezTo>
                <a:cubicBezTo>
                  <a:pt x="1139" y="688"/>
                  <a:pt x="1177" y="658"/>
                  <a:pt x="1200" y="647"/>
                </a:cubicBezTo>
                <a:cubicBezTo>
                  <a:pt x="1223" y="636"/>
                  <a:pt x="1248" y="608"/>
                  <a:pt x="1268" y="611"/>
                </a:cubicBezTo>
                <a:cubicBezTo>
                  <a:pt x="1288" y="614"/>
                  <a:pt x="1299" y="659"/>
                  <a:pt x="1320" y="663"/>
                </a:cubicBezTo>
                <a:cubicBezTo>
                  <a:pt x="1341" y="667"/>
                  <a:pt x="1372" y="638"/>
                  <a:pt x="1392" y="635"/>
                </a:cubicBezTo>
                <a:cubicBezTo>
                  <a:pt x="1412" y="632"/>
                  <a:pt x="1423" y="653"/>
                  <a:pt x="1440" y="647"/>
                </a:cubicBezTo>
                <a:cubicBezTo>
                  <a:pt x="1457" y="641"/>
                  <a:pt x="1473" y="625"/>
                  <a:pt x="1496" y="599"/>
                </a:cubicBezTo>
                <a:cubicBezTo>
                  <a:pt x="1519" y="573"/>
                  <a:pt x="1551" y="525"/>
                  <a:pt x="1580" y="491"/>
                </a:cubicBezTo>
                <a:cubicBezTo>
                  <a:pt x="1609" y="457"/>
                  <a:pt x="1639" y="425"/>
                  <a:pt x="1672" y="395"/>
                </a:cubicBezTo>
                <a:cubicBezTo>
                  <a:pt x="1705" y="365"/>
                  <a:pt x="1754" y="329"/>
                  <a:pt x="1776" y="311"/>
                </a:cubicBezTo>
              </a:path>
            </a:pathLst>
          </a:custGeom>
          <a:noFill/>
          <a:ln w="5724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4724280" y="3429000"/>
            <a:ext cx="1928880" cy="330120"/>
          </a:xfrm>
          <a:custGeom>
            <a:avLst/>
            <a:gdLst/>
            <a:ahLst/>
            <a:rect l="l" t="t" r="r" b="b"/>
            <a:pathLst>
              <a:path w="1215" h="208">
                <a:moveTo>
                  <a:pt x="0" y="0"/>
                </a:moveTo>
                <a:cubicBezTo>
                  <a:pt x="10" y="6"/>
                  <a:pt x="48" y="22"/>
                  <a:pt x="60" y="36"/>
                </a:cubicBezTo>
                <a:cubicBezTo>
                  <a:pt x="72" y="50"/>
                  <a:pt x="73" y="70"/>
                  <a:pt x="75" y="84"/>
                </a:cubicBezTo>
                <a:cubicBezTo>
                  <a:pt x="77" y="98"/>
                  <a:pt x="72" y="109"/>
                  <a:pt x="75" y="120"/>
                </a:cubicBezTo>
                <a:cubicBezTo>
                  <a:pt x="78" y="131"/>
                  <a:pt x="63" y="137"/>
                  <a:pt x="96" y="150"/>
                </a:cubicBezTo>
                <a:cubicBezTo>
                  <a:pt x="129" y="163"/>
                  <a:pt x="220" y="194"/>
                  <a:pt x="276" y="201"/>
                </a:cubicBezTo>
                <a:cubicBezTo>
                  <a:pt x="332" y="208"/>
                  <a:pt x="391" y="196"/>
                  <a:pt x="432" y="192"/>
                </a:cubicBezTo>
                <a:cubicBezTo>
                  <a:pt x="473" y="188"/>
                  <a:pt x="482" y="183"/>
                  <a:pt x="522" y="177"/>
                </a:cubicBezTo>
                <a:cubicBezTo>
                  <a:pt x="562" y="171"/>
                  <a:pt x="630" y="158"/>
                  <a:pt x="672" y="156"/>
                </a:cubicBezTo>
                <a:cubicBezTo>
                  <a:pt x="714" y="154"/>
                  <a:pt x="731" y="163"/>
                  <a:pt x="774" y="162"/>
                </a:cubicBezTo>
                <a:cubicBezTo>
                  <a:pt x="817" y="161"/>
                  <a:pt x="891" y="149"/>
                  <a:pt x="930" y="150"/>
                </a:cubicBezTo>
                <a:cubicBezTo>
                  <a:pt x="969" y="151"/>
                  <a:pt x="984" y="165"/>
                  <a:pt x="1008" y="168"/>
                </a:cubicBezTo>
                <a:cubicBezTo>
                  <a:pt x="1032" y="171"/>
                  <a:pt x="1040" y="171"/>
                  <a:pt x="1074" y="168"/>
                </a:cubicBezTo>
                <a:cubicBezTo>
                  <a:pt x="1108" y="165"/>
                  <a:pt x="1186" y="154"/>
                  <a:pt x="1215" y="150"/>
                </a:cubicBezTo>
              </a:path>
            </a:pathLst>
          </a:custGeom>
          <a:noFill/>
          <a:ln w="63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724280" y="2556000"/>
            <a:ext cx="736560" cy="873000"/>
          </a:xfrm>
          <a:custGeom>
            <a:avLst/>
            <a:gdLst/>
            <a:ahLst/>
            <a:rect l="l" t="t" r="r" b="b"/>
            <a:pathLst>
              <a:path w="464" h="550">
                <a:moveTo>
                  <a:pt x="464" y="55"/>
                </a:moveTo>
                <a:cubicBezTo>
                  <a:pt x="459" y="53"/>
                  <a:pt x="443" y="49"/>
                  <a:pt x="431" y="43"/>
                </a:cubicBezTo>
                <a:cubicBezTo>
                  <a:pt x="419" y="37"/>
                  <a:pt x="408" y="29"/>
                  <a:pt x="392" y="22"/>
                </a:cubicBezTo>
                <a:cubicBezTo>
                  <a:pt x="376" y="15"/>
                  <a:pt x="347" y="0"/>
                  <a:pt x="332" y="1"/>
                </a:cubicBezTo>
                <a:cubicBezTo>
                  <a:pt x="317" y="2"/>
                  <a:pt x="309" y="11"/>
                  <a:pt x="302" y="28"/>
                </a:cubicBezTo>
                <a:cubicBezTo>
                  <a:pt x="295" y="45"/>
                  <a:pt x="299" y="72"/>
                  <a:pt x="290" y="103"/>
                </a:cubicBezTo>
                <a:cubicBezTo>
                  <a:pt x="281" y="134"/>
                  <a:pt x="265" y="181"/>
                  <a:pt x="248" y="214"/>
                </a:cubicBezTo>
                <a:cubicBezTo>
                  <a:pt x="231" y="247"/>
                  <a:pt x="200" y="278"/>
                  <a:pt x="185" y="301"/>
                </a:cubicBezTo>
                <a:cubicBezTo>
                  <a:pt x="170" y="324"/>
                  <a:pt x="176" y="340"/>
                  <a:pt x="155" y="355"/>
                </a:cubicBezTo>
                <a:cubicBezTo>
                  <a:pt x="134" y="370"/>
                  <a:pt x="83" y="370"/>
                  <a:pt x="59" y="394"/>
                </a:cubicBezTo>
                <a:cubicBezTo>
                  <a:pt x="35" y="418"/>
                  <a:pt x="16" y="476"/>
                  <a:pt x="8" y="502"/>
                </a:cubicBezTo>
                <a:cubicBezTo>
                  <a:pt x="0" y="528"/>
                  <a:pt x="4" y="538"/>
                  <a:pt x="8" y="550"/>
                </a:cubicBezTo>
              </a:path>
            </a:pathLst>
          </a:custGeom>
          <a:noFill/>
          <a:ln w="63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3048120" y="1757520"/>
            <a:ext cx="1695240" cy="1671480"/>
          </a:xfrm>
          <a:custGeom>
            <a:avLst/>
            <a:gdLst/>
            <a:ahLst/>
            <a:rect l="l" t="t" r="r" b="b"/>
            <a:pathLst>
              <a:path w="1068" h="1053">
                <a:moveTo>
                  <a:pt x="1068" y="1052"/>
                </a:moveTo>
                <a:cubicBezTo>
                  <a:pt x="1063" y="1048"/>
                  <a:pt x="1047" y="1053"/>
                  <a:pt x="1036" y="1028"/>
                </a:cubicBezTo>
                <a:cubicBezTo>
                  <a:pt x="1025" y="1003"/>
                  <a:pt x="1016" y="939"/>
                  <a:pt x="1004" y="904"/>
                </a:cubicBezTo>
                <a:cubicBezTo>
                  <a:pt x="992" y="869"/>
                  <a:pt x="978" y="839"/>
                  <a:pt x="964" y="816"/>
                </a:cubicBezTo>
                <a:cubicBezTo>
                  <a:pt x="950" y="793"/>
                  <a:pt x="943" y="785"/>
                  <a:pt x="920" y="768"/>
                </a:cubicBezTo>
                <a:cubicBezTo>
                  <a:pt x="897" y="751"/>
                  <a:pt x="867" y="743"/>
                  <a:pt x="828" y="716"/>
                </a:cubicBezTo>
                <a:cubicBezTo>
                  <a:pt x="789" y="689"/>
                  <a:pt x="736" y="648"/>
                  <a:pt x="688" y="608"/>
                </a:cubicBezTo>
                <a:cubicBezTo>
                  <a:pt x="640" y="568"/>
                  <a:pt x="580" y="525"/>
                  <a:pt x="540" y="476"/>
                </a:cubicBezTo>
                <a:cubicBezTo>
                  <a:pt x="500" y="427"/>
                  <a:pt x="472" y="352"/>
                  <a:pt x="448" y="312"/>
                </a:cubicBezTo>
                <a:cubicBezTo>
                  <a:pt x="424" y="272"/>
                  <a:pt x="412" y="259"/>
                  <a:pt x="396" y="236"/>
                </a:cubicBezTo>
                <a:cubicBezTo>
                  <a:pt x="380" y="213"/>
                  <a:pt x="376" y="188"/>
                  <a:pt x="352" y="172"/>
                </a:cubicBezTo>
                <a:cubicBezTo>
                  <a:pt x="328" y="156"/>
                  <a:pt x="285" y="145"/>
                  <a:pt x="252" y="140"/>
                </a:cubicBezTo>
                <a:cubicBezTo>
                  <a:pt x="219" y="135"/>
                  <a:pt x="188" y="149"/>
                  <a:pt x="156" y="140"/>
                </a:cubicBezTo>
                <a:cubicBezTo>
                  <a:pt x="124" y="131"/>
                  <a:pt x="86" y="107"/>
                  <a:pt x="60" y="84"/>
                </a:cubicBezTo>
                <a:cubicBezTo>
                  <a:pt x="34" y="61"/>
                  <a:pt x="12" y="17"/>
                  <a:pt x="0" y="0"/>
                </a:cubicBezTo>
              </a:path>
            </a:pathLst>
          </a:custGeom>
          <a:noFill/>
          <a:ln w="63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6904080" y="5173560"/>
            <a:ext cx="258840" cy="747720"/>
          </a:xfrm>
          <a:custGeom>
            <a:avLst/>
            <a:gdLst/>
            <a:ahLst/>
            <a:rect l="l" t="t" r="r" b="b"/>
            <a:pathLst>
              <a:path w="163" h="471">
                <a:moveTo>
                  <a:pt x="120" y="5"/>
                </a:moveTo>
                <a:cubicBezTo>
                  <a:pt x="130" y="0"/>
                  <a:pt x="130" y="18"/>
                  <a:pt x="135" y="23"/>
                </a:cubicBezTo>
                <a:cubicBezTo>
                  <a:pt x="140" y="28"/>
                  <a:pt x="147" y="33"/>
                  <a:pt x="151" y="37"/>
                </a:cubicBezTo>
                <a:cubicBezTo>
                  <a:pt x="155" y="41"/>
                  <a:pt x="159" y="17"/>
                  <a:pt x="160" y="47"/>
                </a:cubicBezTo>
                <a:cubicBezTo>
                  <a:pt x="161" y="77"/>
                  <a:pt x="163" y="174"/>
                  <a:pt x="156" y="215"/>
                </a:cubicBezTo>
                <a:cubicBezTo>
                  <a:pt x="149" y="256"/>
                  <a:pt x="126" y="272"/>
                  <a:pt x="120" y="293"/>
                </a:cubicBezTo>
                <a:cubicBezTo>
                  <a:pt x="114" y="314"/>
                  <a:pt x="125" y="314"/>
                  <a:pt x="120" y="341"/>
                </a:cubicBezTo>
                <a:cubicBezTo>
                  <a:pt x="115" y="368"/>
                  <a:pt x="102" y="439"/>
                  <a:pt x="92" y="455"/>
                </a:cubicBezTo>
                <a:cubicBezTo>
                  <a:pt x="82" y="471"/>
                  <a:pt x="68" y="450"/>
                  <a:pt x="58" y="439"/>
                </a:cubicBezTo>
                <a:cubicBezTo>
                  <a:pt x="48" y="428"/>
                  <a:pt x="36" y="402"/>
                  <a:pt x="28" y="385"/>
                </a:cubicBezTo>
                <a:cubicBezTo>
                  <a:pt x="20" y="368"/>
                  <a:pt x="11" y="352"/>
                  <a:pt x="10" y="339"/>
                </a:cubicBezTo>
                <a:cubicBezTo>
                  <a:pt x="9" y="326"/>
                  <a:pt x="21" y="320"/>
                  <a:pt x="20" y="309"/>
                </a:cubicBezTo>
                <a:cubicBezTo>
                  <a:pt x="19" y="298"/>
                  <a:pt x="3" y="293"/>
                  <a:pt x="2" y="275"/>
                </a:cubicBezTo>
                <a:cubicBezTo>
                  <a:pt x="1" y="257"/>
                  <a:pt x="0" y="236"/>
                  <a:pt x="12" y="199"/>
                </a:cubicBezTo>
                <a:cubicBezTo>
                  <a:pt x="24" y="162"/>
                  <a:pt x="54" y="85"/>
                  <a:pt x="72" y="53"/>
                </a:cubicBezTo>
                <a:cubicBezTo>
                  <a:pt x="90" y="21"/>
                  <a:pt x="108" y="11"/>
                  <a:pt x="120" y="5"/>
                </a:cubicBez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256360" y="6159600"/>
            <a:ext cx="315720" cy="263520"/>
          </a:xfrm>
          <a:custGeom>
            <a:avLst/>
            <a:gdLst/>
            <a:ahLst/>
            <a:rect l="l" t="t" r="r" b="b"/>
            <a:pathLst>
              <a:path w="199" h="166">
                <a:moveTo>
                  <a:pt x="55" y="10"/>
                </a:moveTo>
                <a:cubicBezTo>
                  <a:pt x="64" y="6"/>
                  <a:pt x="82" y="8"/>
                  <a:pt x="97" y="8"/>
                </a:cubicBezTo>
                <a:cubicBezTo>
                  <a:pt x="112" y="8"/>
                  <a:pt x="129" y="0"/>
                  <a:pt x="145" y="8"/>
                </a:cubicBezTo>
                <a:cubicBezTo>
                  <a:pt x="161" y="16"/>
                  <a:pt x="187" y="39"/>
                  <a:pt x="193" y="56"/>
                </a:cubicBezTo>
                <a:cubicBezTo>
                  <a:pt x="199" y="73"/>
                  <a:pt x="191" y="98"/>
                  <a:pt x="183" y="114"/>
                </a:cubicBezTo>
                <a:cubicBezTo>
                  <a:pt x="175" y="130"/>
                  <a:pt x="157" y="146"/>
                  <a:pt x="145" y="152"/>
                </a:cubicBezTo>
                <a:cubicBezTo>
                  <a:pt x="133" y="158"/>
                  <a:pt x="121" y="148"/>
                  <a:pt x="111" y="150"/>
                </a:cubicBezTo>
                <a:cubicBezTo>
                  <a:pt x="101" y="152"/>
                  <a:pt x="94" y="162"/>
                  <a:pt x="83" y="164"/>
                </a:cubicBezTo>
                <a:cubicBezTo>
                  <a:pt x="72" y="166"/>
                  <a:pt x="59" y="165"/>
                  <a:pt x="47" y="162"/>
                </a:cubicBezTo>
                <a:cubicBezTo>
                  <a:pt x="35" y="159"/>
                  <a:pt x="21" y="158"/>
                  <a:pt x="13" y="148"/>
                </a:cubicBezTo>
                <a:cubicBezTo>
                  <a:pt x="5" y="138"/>
                  <a:pt x="2" y="118"/>
                  <a:pt x="1" y="104"/>
                </a:cubicBezTo>
                <a:cubicBezTo>
                  <a:pt x="0" y="90"/>
                  <a:pt x="0" y="78"/>
                  <a:pt x="7" y="66"/>
                </a:cubicBezTo>
                <a:cubicBezTo>
                  <a:pt x="14" y="54"/>
                  <a:pt x="35" y="43"/>
                  <a:pt x="43" y="34"/>
                </a:cubicBezTo>
                <a:cubicBezTo>
                  <a:pt x="51" y="25"/>
                  <a:pt x="46" y="14"/>
                  <a:pt x="55" y="10"/>
                </a:cubicBez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4711680" y="2556000"/>
            <a:ext cx="736560" cy="873000"/>
          </a:xfrm>
          <a:custGeom>
            <a:avLst/>
            <a:gdLst/>
            <a:ahLst/>
            <a:rect l="l" t="t" r="r" b="b"/>
            <a:pathLst>
              <a:path w="464" h="550">
                <a:moveTo>
                  <a:pt x="464" y="55"/>
                </a:moveTo>
                <a:cubicBezTo>
                  <a:pt x="459" y="53"/>
                  <a:pt x="443" y="49"/>
                  <a:pt x="431" y="43"/>
                </a:cubicBezTo>
                <a:cubicBezTo>
                  <a:pt x="419" y="37"/>
                  <a:pt x="408" y="29"/>
                  <a:pt x="392" y="22"/>
                </a:cubicBezTo>
                <a:cubicBezTo>
                  <a:pt x="376" y="15"/>
                  <a:pt x="347" y="0"/>
                  <a:pt x="332" y="1"/>
                </a:cubicBezTo>
                <a:cubicBezTo>
                  <a:pt x="317" y="2"/>
                  <a:pt x="309" y="11"/>
                  <a:pt x="302" y="28"/>
                </a:cubicBezTo>
                <a:cubicBezTo>
                  <a:pt x="295" y="45"/>
                  <a:pt x="299" y="72"/>
                  <a:pt x="290" y="103"/>
                </a:cubicBezTo>
                <a:cubicBezTo>
                  <a:pt x="281" y="134"/>
                  <a:pt x="265" y="181"/>
                  <a:pt x="248" y="214"/>
                </a:cubicBezTo>
                <a:cubicBezTo>
                  <a:pt x="231" y="247"/>
                  <a:pt x="200" y="278"/>
                  <a:pt x="185" y="301"/>
                </a:cubicBezTo>
                <a:cubicBezTo>
                  <a:pt x="170" y="324"/>
                  <a:pt x="176" y="340"/>
                  <a:pt x="155" y="355"/>
                </a:cubicBezTo>
                <a:cubicBezTo>
                  <a:pt x="134" y="370"/>
                  <a:pt x="83" y="370"/>
                  <a:pt x="59" y="394"/>
                </a:cubicBezTo>
                <a:cubicBezTo>
                  <a:pt x="35" y="418"/>
                  <a:pt x="16" y="476"/>
                  <a:pt x="8" y="502"/>
                </a:cubicBezTo>
                <a:cubicBezTo>
                  <a:pt x="0" y="528"/>
                  <a:pt x="4" y="538"/>
                  <a:pt x="8" y="550"/>
                </a:cubicBezTo>
              </a:path>
            </a:pathLst>
          </a:custGeom>
          <a:noFill/>
          <a:ln w="63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724280" y="3429000"/>
            <a:ext cx="1928880" cy="330120"/>
          </a:xfrm>
          <a:custGeom>
            <a:avLst/>
            <a:gdLst/>
            <a:ahLst/>
            <a:rect l="l" t="t" r="r" b="b"/>
            <a:pathLst>
              <a:path w="1215" h="208">
                <a:moveTo>
                  <a:pt x="0" y="0"/>
                </a:moveTo>
                <a:cubicBezTo>
                  <a:pt x="10" y="6"/>
                  <a:pt x="48" y="22"/>
                  <a:pt x="60" y="36"/>
                </a:cubicBezTo>
                <a:cubicBezTo>
                  <a:pt x="72" y="50"/>
                  <a:pt x="73" y="70"/>
                  <a:pt x="75" y="84"/>
                </a:cubicBezTo>
                <a:cubicBezTo>
                  <a:pt x="77" y="98"/>
                  <a:pt x="72" y="109"/>
                  <a:pt x="75" y="120"/>
                </a:cubicBezTo>
                <a:cubicBezTo>
                  <a:pt x="78" y="131"/>
                  <a:pt x="63" y="137"/>
                  <a:pt x="96" y="150"/>
                </a:cubicBezTo>
                <a:cubicBezTo>
                  <a:pt x="129" y="163"/>
                  <a:pt x="220" y="194"/>
                  <a:pt x="276" y="201"/>
                </a:cubicBezTo>
                <a:cubicBezTo>
                  <a:pt x="332" y="208"/>
                  <a:pt x="391" y="196"/>
                  <a:pt x="432" y="192"/>
                </a:cubicBezTo>
                <a:cubicBezTo>
                  <a:pt x="473" y="188"/>
                  <a:pt x="482" y="183"/>
                  <a:pt x="522" y="177"/>
                </a:cubicBezTo>
                <a:cubicBezTo>
                  <a:pt x="562" y="171"/>
                  <a:pt x="630" y="158"/>
                  <a:pt x="672" y="156"/>
                </a:cubicBezTo>
                <a:cubicBezTo>
                  <a:pt x="714" y="154"/>
                  <a:pt x="731" y="163"/>
                  <a:pt x="774" y="162"/>
                </a:cubicBezTo>
                <a:cubicBezTo>
                  <a:pt x="817" y="161"/>
                  <a:pt x="891" y="149"/>
                  <a:pt x="930" y="150"/>
                </a:cubicBezTo>
                <a:cubicBezTo>
                  <a:pt x="969" y="151"/>
                  <a:pt x="984" y="165"/>
                  <a:pt x="1008" y="168"/>
                </a:cubicBezTo>
                <a:cubicBezTo>
                  <a:pt x="1032" y="171"/>
                  <a:pt x="1040" y="171"/>
                  <a:pt x="1074" y="168"/>
                </a:cubicBezTo>
                <a:cubicBezTo>
                  <a:pt x="1108" y="165"/>
                  <a:pt x="1186" y="154"/>
                  <a:pt x="1215" y="150"/>
                </a:cubicBezTo>
              </a:path>
            </a:pathLst>
          </a:custGeom>
          <a:noFill/>
          <a:ln w="63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029040" y="1758960"/>
            <a:ext cx="1695240" cy="1671480"/>
          </a:xfrm>
          <a:custGeom>
            <a:avLst/>
            <a:gdLst/>
            <a:ahLst/>
            <a:rect l="l" t="t" r="r" b="b"/>
            <a:pathLst>
              <a:path w="1068" h="1053">
                <a:moveTo>
                  <a:pt x="1068" y="1052"/>
                </a:moveTo>
                <a:cubicBezTo>
                  <a:pt x="1063" y="1048"/>
                  <a:pt x="1047" y="1053"/>
                  <a:pt x="1036" y="1028"/>
                </a:cubicBezTo>
                <a:cubicBezTo>
                  <a:pt x="1025" y="1003"/>
                  <a:pt x="1016" y="939"/>
                  <a:pt x="1004" y="904"/>
                </a:cubicBezTo>
                <a:cubicBezTo>
                  <a:pt x="992" y="869"/>
                  <a:pt x="978" y="839"/>
                  <a:pt x="964" y="816"/>
                </a:cubicBezTo>
                <a:cubicBezTo>
                  <a:pt x="950" y="793"/>
                  <a:pt x="943" y="785"/>
                  <a:pt x="920" y="768"/>
                </a:cubicBezTo>
                <a:cubicBezTo>
                  <a:pt x="897" y="751"/>
                  <a:pt x="867" y="743"/>
                  <a:pt x="828" y="716"/>
                </a:cubicBezTo>
                <a:cubicBezTo>
                  <a:pt x="789" y="689"/>
                  <a:pt x="736" y="648"/>
                  <a:pt x="688" y="608"/>
                </a:cubicBezTo>
                <a:cubicBezTo>
                  <a:pt x="640" y="568"/>
                  <a:pt x="580" y="525"/>
                  <a:pt x="540" y="476"/>
                </a:cubicBezTo>
                <a:cubicBezTo>
                  <a:pt x="500" y="427"/>
                  <a:pt x="472" y="352"/>
                  <a:pt x="448" y="312"/>
                </a:cubicBezTo>
                <a:cubicBezTo>
                  <a:pt x="424" y="272"/>
                  <a:pt x="412" y="259"/>
                  <a:pt x="396" y="236"/>
                </a:cubicBezTo>
                <a:cubicBezTo>
                  <a:pt x="380" y="213"/>
                  <a:pt x="376" y="188"/>
                  <a:pt x="352" y="172"/>
                </a:cubicBezTo>
                <a:cubicBezTo>
                  <a:pt x="328" y="156"/>
                  <a:pt x="285" y="145"/>
                  <a:pt x="252" y="140"/>
                </a:cubicBezTo>
                <a:cubicBezTo>
                  <a:pt x="219" y="135"/>
                  <a:pt x="188" y="149"/>
                  <a:pt x="156" y="140"/>
                </a:cubicBezTo>
                <a:cubicBezTo>
                  <a:pt x="124" y="131"/>
                  <a:pt x="86" y="107"/>
                  <a:pt x="60" y="84"/>
                </a:cubicBezTo>
                <a:cubicBezTo>
                  <a:pt x="34" y="61"/>
                  <a:pt x="12" y="17"/>
                  <a:pt x="0" y="0"/>
                </a:cubicBezTo>
              </a:path>
            </a:pathLst>
          </a:custGeom>
          <a:noFill/>
          <a:ln w="63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5334120" y="2362320"/>
            <a:ext cx="304560" cy="304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包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572000" y="3276720"/>
            <a:ext cx="304920" cy="304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兰州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2819520" y="1676520"/>
            <a:ext cx="304560" cy="304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乌鲁木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6588000" y="3429000"/>
            <a:ext cx="395280" cy="358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连云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4209480" y="1916280"/>
            <a:ext cx="911880" cy="11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包兰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148360" y="3860640"/>
            <a:ext cx="12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陇海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556000" y="2590920"/>
            <a:ext cx="136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兰新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4572000" y="3276720"/>
            <a:ext cx="304920" cy="30456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兰州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3995640" y="333360"/>
            <a:ext cx="1219320" cy="70344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兰州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  <p:timing>
    <p:tnLst>
      <p:par>
        <p:cTn id="753" dur="indefinite" restart="never" nodeType="tmRoot">
          <p:childTnLst>
            <p:seq>
              <p:cTn id="754" dur="indefinite" nodeType="mainSeq">
                <p:childTnLst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9" dur="3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3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5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3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8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85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0" dur="5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1" dur="5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7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2" dur="500" fill="hold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3" dur="500" fill="hold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8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5e75"/>
            </a:gs>
            <a:gs pos="100000">
              <a:srgbClr val="33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/>
          </p:nvPr>
        </p:nvSpPr>
        <p:spPr>
          <a:xfrm>
            <a:off x="468000" y="2205000"/>
            <a:ext cx="8675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武汉和青岛同是交通枢纽，它们各自有什么特点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提示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：</a:t>
            </a:r>
            <a:r>
              <a:rPr b="0" lang="zh-CN" sz="3200" spc="-1" strike="noStrike">
                <a:solidFill>
                  <a:srgbClr val="ffff00"/>
                </a:solidFill>
                <a:latin typeface="Arial"/>
              </a:rPr>
              <a:t>武汉是湖北省省会，又位于我国中南部，所以必是人流、货流的聚集地，再加上长江从这里经过，因此成为铁路、公路、航空和水运等多种交通运输方式的枢纽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Arial"/>
              </a:rPr>
              <a:t>青岛位于我国东部沿海地带，可以发展海上运输，已成为铁路、航空、水运的交通枢纽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1258920" y="189000"/>
            <a:ext cx="2160720" cy="1485720"/>
          </a:xfrm>
          <a:prstGeom prst="cloudCallout">
            <a:avLst>
              <a:gd name="adj1" fmla="val -48750"/>
              <a:gd name="adj2" fmla="val 7510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思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805" dur="indefinite" restart="never" nodeType="tmRoot">
          <p:childTnLst>
            <p:seq>
              <p:cTn id="806" dur="indefinite" nodeType="mainSeq">
                <p:childTnLst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11" dur="1000"/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14" dur="1000"/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5e75"/>
            </a:gs>
            <a:gs pos="100000">
              <a:srgbClr val="33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250920" y="212760"/>
            <a:ext cx="85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读“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0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年北京－苏州、上海、杭州”的部分列车时刻表，回答下列问题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-92160" y="1492200"/>
            <a:ext cx="914400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3" name=""/>
          <p:cNvGraphicFramePr/>
          <p:nvPr/>
        </p:nvGraphicFramePr>
        <p:xfrm>
          <a:off x="1992240" y="2276640"/>
          <a:ext cx="4975200" cy="2449440"/>
        </p:xfrm>
        <a:graphic>
          <a:graphicData uri="http://schemas.openxmlformats.org/drawingml/2006/table">
            <a:tbl>
              <a:tblPr/>
              <a:tblGrid>
                <a:gridCol w="995400"/>
                <a:gridCol w="714240"/>
                <a:gridCol w="714600"/>
                <a:gridCol w="847800"/>
                <a:gridCol w="1052280"/>
                <a:gridCol w="6508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44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54" name=""/>
          <p:cNvSpPr/>
          <p:nvPr/>
        </p:nvSpPr>
        <p:spPr>
          <a:xfrm>
            <a:off x="0" y="533844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第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次列车的始发站是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终点站是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它与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次列车的始发站和终点站相同；两次列车相比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次列车快，为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5" name=""/>
          <p:cNvGraphicFramePr/>
          <p:nvPr/>
        </p:nvGraphicFramePr>
        <p:xfrm>
          <a:off x="395280" y="907920"/>
          <a:ext cx="8112240" cy="4233960"/>
        </p:xfrm>
        <a:graphic>
          <a:graphicData uri="http://schemas.openxmlformats.org/drawingml/2006/table">
            <a:tbl>
              <a:tblPr/>
              <a:tblGrid>
                <a:gridCol w="1352520"/>
                <a:gridCol w="1351080"/>
                <a:gridCol w="1352520"/>
                <a:gridCol w="1352520"/>
                <a:gridCol w="1351080"/>
                <a:gridCol w="13525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8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6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车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北京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↓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苏州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北京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↓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杭州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北京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↓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上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北京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↓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上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自北京起千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站名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3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: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:3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:4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: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: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: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:5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: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↓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: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: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↓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↓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↓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: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↓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: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↓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: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:2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↓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↓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↓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↓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: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: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: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: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: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: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:5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: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↓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: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7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3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7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5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6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北京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德州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济南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蚌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南京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无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苏州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上海西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上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56" name=""/>
          <p:cNvSpPr/>
          <p:nvPr/>
        </p:nvSpPr>
        <p:spPr>
          <a:xfrm>
            <a:off x="3851280" y="5229360"/>
            <a:ext cx="115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隶书"/>
              </a:rPr>
              <a:t>北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7020000" y="5229360"/>
            <a:ext cx="122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隶书"/>
              </a:rPr>
              <a:t>上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39640" y="5661000"/>
            <a:ext cx="13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隶书"/>
              </a:rPr>
              <a:t>146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1403280" y="6165720"/>
            <a:ext cx="12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隶书"/>
              </a:rPr>
              <a:t>T2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1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6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1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6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5e75"/>
            </a:gs>
            <a:gs pos="100000">
              <a:srgbClr val="33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/>
          </p:nvPr>
        </p:nvSpPr>
        <p:spPr>
          <a:xfrm>
            <a:off x="611280" y="2636640"/>
            <a:ext cx="822960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苏州园林——京广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秦始皇陵兵马俑——陇海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黄山——京九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泰山——胶济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755640" y="404640"/>
            <a:ext cx="2160720" cy="1484640"/>
          </a:xfrm>
          <a:prstGeom prst="cloudCallout">
            <a:avLst>
              <a:gd name="adj1" fmla="val -45152"/>
              <a:gd name="adj2" fmla="val 879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7200" spc="-1" strike="noStrike">
                <a:solidFill>
                  <a:srgbClr val="ff0000"/>
                </a:solidFill>
                <a:latin typeface="Arial"/>
              </a:rPr>
              <a:t>？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916360" y="765000"/>
            <a:ext cx="540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判断下列旅游胜地与其附近铁路组合正确的是（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524720" y="1341360"/>
            <a:ext cx="43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837" dur="indefinite" restart="never" nodeType="tmRoot">
          <p:childTnLst>
            <p:seq>
              <p:cTn id="838" dur="indefinite" nodeType="mainSeq">
                <p:childTnLst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3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5e75"/>
            </a:gs>
            <a:gs pos="100000">
              <a:srgbClr val="33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课堂总结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6080" y="1557360"/>
            <a:ext cx="103356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逐步完善的交通运输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1258920" y="1341360"/>
            <a:ext cx="217440" cy="5256360"/>
          </a:xfrm>
          <a:custGeom>
            <a:avLst/>
            <a:gdLst>
              <a:gd name="textAreaLeft" fmla="*/ 138960 w 217440"/>
              <a:gd name="textAreaRight" fmla="*/ 217800 w 217440"/>
              <a:gd name="textAreaTop" fmla="*/ 136800 h 5256360"/>
              <a:gd name="textAreaBottom" fmla="*/ 5119560 h 525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1547640" y="148428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交通运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2987640" y="1341360"/>
            <a:ext cx="71640" cy="792360"/>
          </a:xfrm>
          <a:custGeom>
            <a:avLst/>
            <a:gdLst>
              <a:gd name="textAreaLeft" fmla="*/ 45720 w 71640"/>
              <a:gd name="textAreaRight" fmla="*/ 72000 w 71640"/>
              <a:gd name="textAreaTop" fmla="*/ 20520 h 792360"/>
              <a:gd name="textAreaBottom" fmla="*/ 771840 h 7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3132000" y="1197000"/>
            <a:ext cx="10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概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132000" y="1844640"/>
            <a:ext cx="345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经济发展的“先行官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195640" y="1989000"/>
            <a:ext cx="0" cy="165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1619280" y="378936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交通运输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3419640" y="3141720"/>
            <a:ext cx="144360" cy="1942920"/>
          </a:xfrm>
          <a:custGeom>
            <a:avLst/>
            <a:gdLst>
              <a:gd name="textAreaLeft" fmla="*/ 92160 w 144360"/>
              <a:gd name="textAreaRight" fmla="*/ 144360 w 144360"/>
              <a:gd name="textAreaTop" fmla="*/ 50400 h 1942920"/>
              <a:gd name="textAreaBottom" fmla="*/ 1892520 h 1942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3708360" y="2997360"/>
            <a:ext cx="31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经济发展的“生命线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3635280" y="3789360"/>
            <a:ext cx="273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分布——东密西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940360" y="3573360"/>
            <a:ext cx="71640" cy="1008000"/>
          </a:xfrm>
          <a:custGeom>
            <a:avLst/>
            <a:gdLst>
              <a:gd name="textAreaLeft" fmla="*/ 45720 w 71640"/>
              <a:gd name="textAreaRight" fmla="*/ 72000 w 7164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6012000" y="3500280"/>
            <a:ext cx="31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社会经济条件——必要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6012000" y="4149720"/>
            <a:ext cx="262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自然条件——可行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3635280" y="4869000"/>
            <a:ext cx="144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铁路运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4859280" y="4797360"/>
            <a:ext cx="144360" cy="719280"/>
          </a:xfrm>
          <a:custGeom>
            <a:avLst/>
            <a:gdLst>
              <a:gd name="textAreaLeft" fmla="*/ 92160 w 144360"/>
              <a:gd name="textAreaRight" fmla="*/ 144360 w 144360"/>
              <a:gd name="textAreaTop" fmla="*/ 18720 h 719280"/>
              <a:gd name="textAreaBottom" fmla="*/ 700560 h 71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7974"/>
                </a:lnTo>
                <a:cubicBezTo>
                  <a:pt x="10800" y="8874"/>
                  <a:pt x="5400" y="9774"/>
                  <a:pt x="0" y="9774"/>
                </a:cubicBezTo>
                <a:cubicBezTo>
                  <a:pt x="5400" y="9774"/>
                  <a:pt x="10800" y="10674"/>
                  <a:pt x="10800" y="11574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5219640" y="4724280"/>
            <a:ext cx="32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我国最重要的运输方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148360" y="5300640"/>
            <a:ext cx="251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五纵和三横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2195640" y="4292640"/>
            <a:ext cx="0" cy="144144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1547640" y="6021360"/>
            <a:ext cx="23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交通运输枢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708360" y="5877000"/>
            <a:ext cx="144360" cy="863640"/>
          </a:xfrm>
          <a:custGeom>
            <a:avLst/>
            <a:gdLst>
              <a:gd name="textAreaLeft" fmla="*/ 92160 w 144360"/>
              <a:gd name="textAreaRight" fmla="*/ 144360 w 144360"/>
              <a:gd name="textAreaTop" fmla="*/ 22320 h 863640"/>
              <a:gd name="textAreaBottom" fmla="*/ 841320 h 86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924360" y="5805360"/>
            <a:ext cx="23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作用——机动灵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3924360" y="6381720"/>
            <a:ext cx="24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类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5e75"/>
            </a:gs>
            <a:gs pos="100000">
              <a:srgbClr val="33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53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课标要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在新的课程标准中，对本节课的要求是学生学会比较不同交通运输方式的特点；运用地图说出我国交通运输网络的大致分布格局。培养学生树立遵守交通法规的观念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教学目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知识与技能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：能够举例说明交通运输在生活和生产中的重要作用；记住我国主要的铁路线及主要的铁路枢纽 ；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过程与方法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：能够运用地图说出我国交通运输网络的分布格局，学会使用列车时刻表；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情感态度与价值观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：培养学生树立遵守交通规则、爱护交通设施、注意交通安全的观念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5e75"/>
            </a:gs>
            <a:gs pos="100000">
              <a:srgbClr val="33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课堂巩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9144000" cy="595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历史上，我国著名的四大“米市”的运输方式都是（  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公路运输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水路运输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人力搬运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D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牲畜驮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结束了“蜀道难，难于上青天”历史的铁路是（  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宝成铁路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大秦铁路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宝中铁路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D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南昆铁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下列铁路干线中，属于东西铁路干线的是（  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京哈—京广线  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宝成—成昆线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陇海—兰新线  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D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京沪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青藏铁路指的是（  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西宁—拉萨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兰州—拉萨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西宁—格尔木 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D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格尔木—拉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京沪线、京广线与陇海线相交的铁路枢纽分别是（  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郑州、株洲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郑州、徐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徐州、郑州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D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徐州、株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7236000" y="90792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659640" y="177336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6372360" y="263700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2987640" y="400536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236000" y="530064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844" dur="indefinite" restart="never" nodeType="tmRoot">
          <p:childTnLst>
            <p:seq>
              <p:cTn id="845" dur="indefinite" nodeType="mainSeq">
                <p:childTnLst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0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5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0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5" dur="500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0" dur="500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5e75"/>
            </a:gs>
            <a:gs pos="100000">
              <a:srgbClr val="33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/>
          <p:nvPr/>
        </p:nvSpPr>
        <p:spPr>
          <a:xfrm>
            <a:off x="1665000" y="-720"/>
            <a:ext cx="542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读“我国主要铁路干线分布图”，回答下列问题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6" name="" descr=""/>
          <p:cNvPicPr/>
          <p:nvPr/>
        </p:nvPicPr>
        <p:blipFill>
          <a:blip r:embed="rId1"/>
          <a:stretch/>
        </p:blipFill>
        <p:spPr>
          <a:xfrm>
            <a:off x="0" y="692280"/>
            <a:ext cx="5364000" cy="6165720"/>
          </a:xfrm>
          <a:prstGeom prst="rect">
            <a:avLst/>
          </a:prstGeom>
          <a:ln w="0">
            <a:noFill/>
          </a:ln>
        </p:spPr>
      </p:pic>
      <p:sp>
        <p:nvSpPr>
          <p:cNvPr id="397" name=""/>
          <p:cNvSpPr/>
          <p:nvPr/>
        </p:nvSpPr>
        <p:spPr>
          <a:xfrm>
            <a:off x="5292720" y="980280"/>
            <a:ext cx="38512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把下列铁路枢纽名称填到图中的相应位置上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兰州、徐州、株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填出图中数码所代表的铁路线名称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__________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线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__________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线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③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__________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线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④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__________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线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6588000" y="35002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084720" y="350028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隶书"/>
              </a:rPr>
              <a:t>兰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6156360" y="4508640"/>
            <a:ext cx="144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156360" y="3716280"/>
            <a:ext cx="144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6732720" y="4149720"/>
            <a:ext cx="1439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020000" y="4363920"/>
            <a:ext cx="1439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6156360" y="486900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隶书"/>
              </a:rPr>
              <a:t>京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6156360" y="3500280"/>
            <a:ext cx="180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6084720" y="4221000"/>
            <a:ext cx="11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隶书"/>
              </a:rPr>
              <a:t>成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156360" y="5661000"/>
            <a:ext cx="151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隶书"/>
              </a:rPr>
              <a:t>浙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95640" y="2924280"/>
            <a:ext cx="1081080" cy="433440"/>
          </a:xfrm>
          <a:prstGeom prst="wedgeRectCallout">
            <a:avLst>
              <a:gd name="adj1" fmla="val -38837"/>
              <a:gd name="adj2" fmla="val 10641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徐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987640" y="5300640"/>
            <a:ext cx="576360" cy="865080"/>
          </a:xfrm>
          <a:prstGeom prst="wedgeRectCallout">
            <a:avLst>
              <a:gd name="adj1" fmla="val 47796"/>
              <a:gd name="adj2" fmla="val -9862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株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1258920" y="2421000"/>
            <a:ext cx="936720" cy="503280"/>
          </a:xfrm>
          <a:prstGeom prst="wedgeRectCallout">
            <a:avLst>
              <a:gd name="adj1" fmla="val 56949"/>
              <a:gd name="adj2" fmla="val 12507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兰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871" dur="indefinite" restart="never" nodeType="tmRoot">
          <p:childTnLst>
            <p:seq>
              <p:cTn id="872" dur="indefinite" nodeType="mainSeq">
                <p:childTnLst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7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2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7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92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97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02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07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5e75"/>
            </a:gs>
            <a:gs pos="100000">
              <a:srgbClr val="33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/>
          </p:nvPr>
        </p:nvSpPr>
        <p:spPr>
          <a:xfrm>
            <a:off x="179280" y="2060640"/>
            <a:ext cx="896472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995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年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月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日，是一个值得载入史册的日子。从这一天开始，由塔克拉玛干沙漠北缘的库尔勒至南缘的民丰，路程缩短了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876.5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千米的塔里木沙漠公路全线通车。新疆南部地区各族人民长期以来的梦想终于实现了。塔里木沙漠公路，北起轮南，南止民丰，全长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52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千米，其中沙漠路段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466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千米。沙漠公路起点处矗立了一块巨大的“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OK”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碑，在滚滚黄沙中格外引人注目。它向全世界宣告：地球上第一条长距离、上等级的沙漠公路诞生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826920" y="115920"/>
            <a:ext cx="2160720" cy="1628640"/>
          </a:xfrm>
          <a:prstGeom prst="cloudCallout">
            <a:avLst>
              <a:gd name="adj1" fmla="val -50953"/>
              <a:gd name="adj2" fmla="val 67935"/>
            </a:avLst>
          </a:prstGeom>
          <a:solidFill>
            <a:srgbClr val="bbe0e3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课外阅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2556000" y="189000"/>
            <a:ext cx="612144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Arial"/>
                <a:ea typeface="黑体"/>
              </a:rPr>
              <a:t>举世瞩目的我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Arial"/>
                <a:ea typeface="黑体"/>
              </a:rPr>
              <a:t>第一条沙漠公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5e75"/>
            </a:gs>
            <a:gs pos="100000">
              <a:srgbClr val="33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 txBox="1"/>
          <p:nvPr/>
        </p:nvSpPr>
        <p:spPr>
          <a:xfrm>
            <a:off x="2556000" y="1989000"/>
            <a:ext cx="4103640" cy="152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39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1" strike="noStrike">
                <a:ln w="2556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感谢指导</a:t>
            </a:r>
            <a:endParaRPr b="0" i="1" lang="en-US" sz="1800" spc="1" strike="noStrike">
              <a:ln w="25560">
                <a:solidFill>
                  <a:srgbClr val="ffff00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 spd="slow"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5e75"/>
            </a:gs>
            <a:gs pos="100000">
              <a:srgbClr val="33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教学重点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我国交通运输网络地区分布特点；我国主要铁路线的名称及应用 ；我国主要的铁路枢纽 。</a:t>
            </a:r>
            <a:br>
              <a:rPr sz="3600"/>
            </a:b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教学难点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我国主要铁路干线的分布；列车时刻表的应用。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5e75"/>
            </a:gs>
            <a:gs pos="100000">
              <a:srgbClr val="33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68360" y="2133720"/>
            <a:ext cx="822960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根据实际生活来谈对交通运输作用的体会，总结交通运输的概念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zh-CN" sz="4000" spc="-1" strike="noStrike">
                <a:solidFill>
                  <a:srgbClr val="ffff00"/>
                </a:solidFill>
                <a:latin typeface="Arial"/>
              </a:rPr>
              <a:t>交通运输：利用交通工具把人和物从一个地方运送到另一个地方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68360" y="476280"/>
            <a:ext cx="316872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99cc00"/>
                  </a:solidFill>
                  <a:miter/>
                </a:ln>
                <a:solidFill>
                  <a:srgbClr val="d60093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开放思维</a:t>
            </a:r>
            <a:endParaRPr b="0" lang="en-US" sz="1800" spc="1" strike="noStrike">
              <a:ln w="9360">
                <a:solidFill>
                  <a:srgbClr val="99cc00"/>
                </a:solidFill>
                <a:miter/>
              </a:ln>
              <a:solidFill>
                <a:srgbClr val="d60093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>
    <p:checker dir="horz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" dur="10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5e75"/>
            </a:gs>
            <a:gs pos="100000">
              <a:srgbClr val="33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5e75"/>
            </a:gs>
            <a:gs pos="100000">
              <a:srgbClr val="33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684360" y="115920"/>
            <a:ext cx="2158920" cy="1368360"/>
          </a:xfrm>
          <a:prstGeom prst="cloudCallout">
            <a:avLst>
              <a:gd name="adj1" fmla="val -35810"/>
              <a:gd name="adj2" fmla="val 6577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思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395280" y="162828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三个阶段的交通工具相比，哪个阶段对环境的影响最大？这说明了什么？应该怎样解决这个问题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现代交通工具对环境影响最大，主要是利用燃料做动力，应大力植树造林或者开发新能源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horz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" dur="10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5e75"/>
            </a:gs>
            <a:gs pos="100000">
              <a:srgbClr val="33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518472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我国著名的“四大米市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4581360"/>
            <a:ext cx="9144000" cy="21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提示：既然是米市，米从哪里来？米又卖给谁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Arial"/>
              </a:rPr>
              <a:t>提示：雨热同期的季风气候适宜稻米生产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Arial"/>
              </a:rPr>
              <a:t>           </a:t>
            </a:r>
            <a:r>
              <a:rPr b="0" lang="zh-CN" sz="2800" spc="-1" strike="noStrike">
                <a:solidFill>
                  <a:srgbClr val="ffff00"/>
                </a:solidFill>
                <a:latin typeface="Arial"/>
              </a:rPr>
              <a:t>长江干支流与京杭运河交汇，水运便利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Arial"/>
              </a:rPr>
              <a:t>          </a:t>
            </a:r>
            <a:r>
              <a:rPr b="0" lang="zh-CN" sz="2800" spc="-1" strike="noStrike">
                <a:solidFill>
                  <a:srgbClr val="ffff00"/>
                </a:solidFill>
                <a:latin typeface="Arial"/>
              </a:rPr>
              <a:t>人口集中，市场广阔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692280"/>
            <a:ext cx="9144000" cy="371628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5e75"/>
            </a:gs>
            <a:gs pos="100000">
              <a:srgbClr val="33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0" y="836280"/>
            <a:ext cx="896472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总结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d60093"/>
                </a:solidFill>
                <a:latin typeface="Arial"/>
              </a:rPr>
              <a:t>交通运输在国民经济中的重要作用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d60093"/>
                </a:solidFill>
                <a:latin typeface="Arial"/>
              </a:rPr>
              <a:t>  </a:t>
            </a:r>
            <a:r>
              <a:rPr b="1" lang="zh-CN" sz="4400" spc="-1" strike="noStrike">
                <a:solidFill>
                  <a:srgbClr val="d60093"/>
                </a:solidFill>
                <a:latin typeface="Arial"/>
              </a:rPr>
              <a:t>交通运输是联系工业与农业、城市与乡村、生产与消费、地域与地域之间的桥梁与纽带，被称为经济发展的“先行官”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10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3T12:59:20Z</dcterms:created>
  <dc:creator>微软中国</dc:creator>
  <dc:description/>
  <dc:language>en-US</dc:language>
  <cp:lastModifiedBy>y</cp:lastModifiedBy>
  <dcterms:modified xsi:type="dcterms:W3CDTF">2008-04-22T08:13:19Z</dcterms:modified>
  <cp:revision>62</cp:revision>
  <dc:subject/>
  <dc:title>幻灯片 1</dc:title>
</cp:coreProperties>
</file>